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566-4EA6-4473-9D28-81DC2FEA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E7C-AFD5-4A3F-90EA-523B2A00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28D-F558-4F42-BECF-48A9440E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38A-6F29-447E-9AC3-B4790C09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08E-42C2-463B-B809-4D284EF4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659-94C7-47F8-84BF-DD5C0E6F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B08-236F-43BD-B9AB-731D1591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419-345D-480C-842C-9E2348A6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FA4-A96B-4C9B-9C3C-57558E5B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8DA-1A80-4EF9-9BDE-630F8365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118-FB5B-4246-ADEA-D26A5FF5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8D7-0A19-4652-88B4-CF9096CB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ADEB-CE31-4EDD-A439-91FD3189A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风水墨兰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69760" y="3886200"/>
            <a:ext cx="51433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1D2-DBC9-46E3-A3C9-D3752525E5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3:00:25Z</dcterms:created>
  <dc:creator>Administrator</dc:creator>
  <dc:description/>
  <dc:language>en-US</dc:language>
  <cp:lastModifiedBy/>
  <dcterms:modified xsi:type="dcterms:W3CDTF">2015-07-04T06:15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