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474-443A-4082-B8FE-EE20387B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FBF-4938-4D31-8CC6-72E29BDE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83F-8B5B-4620-87A5-0FB5D18E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1AD-5CFD-4BC6-A6E6-DEFEEE08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33B5-BF0F-45DA-A2AB-DD91F652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5A61-7FB1-4462-B8E1-F57204FF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F88C-F38E-4FBC-9B63-549F317C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D586-0CB5-4527-9DE5-88FCC306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B4AE-CE5C-40DB-847C-7C7F1401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A50E-28BD-42AD-93D3-E99D166B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4F8F-6FC6-4F62-87A7-4F852558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FA8-D53B-40C8-8E28-AD0D87C7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5B69-D4C5-4C84-A726-9EA569D6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79A7-2A78-4E0B-BAD9-817DB433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2944-2C74-46AF-BE6C-F661355D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1585-2C05-449B-86EB-725ADF7C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4C07-DF2D-45A6-A94F-36B05F76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3DC04-97A5-46BB-ACFA-1DE83F7F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1CA3E-1AB0-4234-9826-3F7B6DF0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48856-2433-4FDD-B891-2D44B65F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18469-45AC-435B-A6D7-9CD672E7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D85D-C542-49F0-A232-6BF7FB53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208-D44C-46FF-855C-FE2AA5DF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5DD48-1B80-4805-95EC-C35A822A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1A34-861C-4638-B86B-E677087D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AE63-184F-49AF-BC61-B760B558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984B1-2A7F-4E8A-8CE2-8B4E289C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8004-0743-40A9-8191-A9167CC6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BE68-E2B0-4ADE-A59E-45E66FA0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2997-577F-416C-AD93-AEF35A83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48E5F-D524-4FF3-87E0-31581EC0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D6AE0-FC8F-4BF3-A5D7-C1A07656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80463-06BA-45BB-9659-93631DDB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EA8-915E-48AA-94DD-5A3EDE2D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127BD-B34C-4A6B-A80A-055B9BAF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48C2F-D9F5-49B5-94D6-2E81FE06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9486F-2E3C-4880-AAE0-EF7F6E28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E2BBD-AF72-40A9-82E2-B111609C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859CC-9F53-4023-A1AF-C82C53DC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55481-4A83-406B-97DA-488985E2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37219-6110-44E7-AB09-28E31061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FDA1-1706-4979-93D1-B9832444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0140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883840" y="129492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1896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10140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883840" y="3396240"/>
            <a:ext cx="264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12465-48D7-4D3E-B453-313173B6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0BF-E90E-43F5-94BD-DBF590B0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FEF-81AE-441E-B237-5BE1DDC6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082-ECA3-4ED9-ADBB-2CE177A6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6000" y="339624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F0C8-F0B1-4A90-B6FF-BED5A58C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6000" y="1294920"/>
            <a:ext cx="40158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18960" y="3396240"/>
            <a:ext cx="8229600" cy="19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853-73D2-46F1-A1DD-AAD03AC7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791320"/>
            <a:ext cx="28958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12D1-5413-4896-9E60-2AF2327DA527}" type="slidenum"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797960" y="76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rcRect l="26151" t="28126" r="42945" b="55469"/>
          <a:stretch/>
        </p:blipFill>
        <p:spPr>
          <a:xfrm>
            <a:off x="-69840" y="-31680"/>
            <a:ext cx="1974960" cy="15937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115040" y="3352680"/>
            <a:ext cx="20289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1905120"/>
            <a:ext cx="6934320" cy="2743200"/>
            <a:chOff x="0" y="1905120"/>
            <a:chExt cx="6934320" cy="2743200"/>
          </a:xfrm>
        </p:grpSpPr>
        <p:sp>
          <p:nvSpPr>
            <p:cNvPr id="46" name=""/>
            <p:cNvSpPr/>
            <p:nvPr/>
          </p:nvSpPr>
          <p:spPr>
            <a:xfrm>
              <a:off x="0" y="1905120"/>
              <a:ext cx="419112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2280" y="1905120"/>
              <a:ext cx="6782040" cy="2743200"/>
            </a:xfrm>
            <a:prstGeom prst="flowChartAlternate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64008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5715000"/>
            <a:ext cx="2133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5715000"/>
            <a:ext cx="28958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5715000"/>
            <a:ext cx="2133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720D-2CAF-456B-8FD4-B8BEF7C7E42A}" type="slidenum"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28255" t="39380" r="47658" b="23779"/>
          <a:stretch/>
        </p:blipFill>
        <p:spPr>
          <a:xfrm rot="2737200">
            <a:off x="2673360" y="755280"/>
            <a:ext cx="2349360" cy="2362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28255" t="39380" r="60809" b="30911"/>
          <a:stretch/>
        </p:blipFill>
        <p:spPr>
          <a:xfrm rot="2395200">
            <a:off x="926640" y="4038480"/>
            <a:ext cx="106704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28255" t="59587" r="47658" b="23779"/>
          <a:stretch/>
        </p:blipFill>
        <p:spPr>
          <a:xfrm rot="10489800">
            <a:off x="3504960" y="152280"/>
            <a:ext cx="2349360" cy="106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 rot="1034400">
            <a:off x="5522760" y="284796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3505320" y="1905120"/>
            <a:ext cx="2028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543800" y="228600"/>
            <a:ext cx="533520" cy="53352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69080" y="673200"/>
            <a:ext cx="380880" cy="380880"/>
          </a:xfrm>
          <a:custGeom>
            <a:avLst/>
            <a:gdLst>
              <a:gd name="textAreaLeft" fmla="*/ 156960 w 380880"/>
              <a:gd name="textAreaRight" fmla="*/ 223920 w 3808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762120"/>
            <a:ext cx="380880" cy="380880"/>
          </a:xfrm>
          <a:custGeom>
            <a:avLst/>
            <a:gdLst>
              <a:gd name="textAreaLeft" fmla="*/ 156960 w 380880"/>
              <a:gd name="textAreaRight" fmla="*/ 223920 w 3808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425960"/>
            <a:ext cx="822924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5791320"/>
            <a:ext cx="28958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D6FC-74EA-425C-A765-94B5A2DA342F}" type="slidenum"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899480" y="21600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26151" t="28126" r="42945" b="55469"/>
          <a:stretch/>
        </p:blipFill>
        <p:spPr>
          <a:xfrm>
            <a:off x="-69840" y="-69840"/>
            <a:ext cx="1974960" cy="1593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115040" y="3352680"/>
            <a:ext cx="20289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5791320"/>
            <a:ext cx="28958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2720" y="579132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135A-E563-4B13-AC87-D69E9F041F2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rcRect l="26151" t="28126" r="42945" b="55469"/>
          <a:stretch/>
        </p:blipFill>
        <p:spPr>
          <a:xfrm>
            <a:off x="-69840" y="-69840"/>
            <a:ext cx="1974960" cy="1593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 rot="850200">
            <a:off x="7608960" y="289080"/>
            <a:ext cx="1305000" cy="1304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7115040" y="3352680"/>
            <a:ext cx="202896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64008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中国风扇艺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28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8960" y="12949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68120"/>
            <a:ext cx="82072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128600"/>
            <a:ext cx="892800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297000"/>
            <a:ext cx="1388880" cy="309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AE7D5-7EFD-4EF8-92D7-8892268B2E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09:16:12Z</dcterms:created>
  <dc:creator/>
  <dc:description/>
  <dc:language>en-US</dc:language>
  <cp:lastModifiedBy>QC0506001</cp:lastModifiedBy>
  <dcterms:modified xsi:type="dcterms:W3CDTF">2015-07-04T06:16:20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