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71E-CFF0-4284-8DFE-7266BFDB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711-B42F-43A7-B2E2-D396BFC1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B02-BE0F-42D8-BF22-A10CBDFE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380-9CBD-4DEC-BEDD-FDB06185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7962-4E1A-456F-8B90-860A499F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A948-E0EE-4BE3-BFA6-5162C393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E109-9B73-470D-84BE-9CCB265C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B89D-B961-4B4B-B7F0-E651B9C2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3451-BA48-4178-882A-F13D3038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DC19-97AE-42B6-A774-69730EDF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EEC5-00ED-4B60-A2BD-4D942C59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FBD-3CE7-49AD-A0AB-528EB3C1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ED6F-8917-4D25-ADCD-D02C372D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95B4-E164-45C2-85A6-A99CF98B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FEDE-FBB9-4EE5-B314-F6DD4B2A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46D-47D1-4328-BC2B-6B23B177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FA31-547E-4E94-A182-078ED17A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3CC-ABD9-47B4-B16E-B4C10657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ACE-CBC4-4835-828F-521845CF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EE4-BE2C-4366-B78D-C4FDB875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1E4-4957-44F3-936E-880DF115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43D-30F9-4D06-BE8F-18FB55BD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7CD-3B81-4EF8-B09B-D98A7321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B56-0BD8-4214-A73A-1C67DA22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AA69-ABDE-48DD-A1DE-F6137C3FCF01}" type="slidenum"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080" y="371520"/>
            <a:ext cx="5180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21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B04A-54A2-43AF-981A-7E1BF3912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21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00000" y="189000"/>
            <a:ext cx="12970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6F5-35D4-4286-A5A0-6549C27D28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6:10:44Z</dcterms:created>
  <dc:creator>Administrator</dc:creator>
  <dc:description/>
  <dc:language>en-US</dc:language>
  <cp:lastModifiedBy/>
  <dcterms:modified xsi:type="dcterms:W3CDTF">2015-07-04T06:13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