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42756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5740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0072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4460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0072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94460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5F6-45B5-4F38-A1A4-94220148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1FE-C1E1-46DA-86BC-7BD6C15D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08B-2A57-40E3-AB0F-E43B4C71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A56-E933-4ACA-B3D0-E9AF5E44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57A-0764-462A-86BE-2BE70BB8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524720" y="6803280"/>
            <a:ext cx="1162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5F2-26F3-4EA9-82B2-E29D3CDF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CAB-0A86-42A8-91A6-F3B052AA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5740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B14-6056-4136-B5C3-C3E44C2D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12C-1B1E-4510-A3C5-3B15AA89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42756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F0E-A089-43A3-ABF3-4D552DC7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5740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613-1C21-48B6-A5C1-EBAC48BB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0072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4460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70072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94460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451-92AB-4FAA-933E-212EB6C4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24720" y="6803280"/>
            <a:ext cx="1162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5740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6840" y="342756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385740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072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460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684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270072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494460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524720" y="6803280"/>
            <a:ext cx="1162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5740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840" y="342756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5740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0072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4460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684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270072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494460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524720" y="6803280"/>
            <a:ext cx="1162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5740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342756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5740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24720" y="6803280"/>
            <a:ext cx="1162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0072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44600" y="47628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0072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44600" y="3427560"/>
            <a:ext cx="21366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57400" y="342756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57400" y="476280"/>
            <a:ext cx="323820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427560"/>
            <a:ext cx="6635880" cy="269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92720" y="260280"/>
            <a:ext cx="1796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08CF-9526-4283-A736-391E2618C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476280"/>
            <a:ext cx="6635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24720" y="477720"/>
            <a:ext cx="1162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中国风竹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80000" y="333360"/>
            <a:ext cx="15937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33336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4720" y="4025880"/>
            <a:ext cx="76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风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2:22:02Z</dcterms:created>
  <dc:creator/>
  <dc:description/>
  <dc:language>en-US</dc:language>
  <cp:lastModifiedBy>User</cp:lastModifiedBy>
  <dcterms:modified xsi:type="dcterms:W3CDTF">2015-07-04T06:13:21Z</dcterms:modified>
  <cp:revision>1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