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952-FB28-4ADC-A1E7-808B9244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94A-851E-41E8-A719-0376F1B1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304-E7C4-4610-BCB9-5FBC06DD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EEC-CD09-4D8B-90D4-2BCA1F1A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8278-C6DF-4434-94B0-A632247E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0544-2F2D-4859-8419-429F5712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D09D-5F3E-4587-8F0E-40AEFBE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A2D8-26C2-49DA-BE44-FBBDE3CC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7246-2358-4ECD-9743-72D184AF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0798-741A-48F8-8489-D3B291D0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4B20-04E0-498D-BF78-B1DFE0D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8CC-814F-4D32-B882-BBF7FAF0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F874-E908-4EA0-AD63-5E1491CC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0B9D-3FD2-415A-A1E1-C6077B1D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38F6-F39C-41F3-BA3E-60D170EB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9EA6-0EEE-4586-834A-B1D60478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CF47-F580-479E-90EC-37FAB0A1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847-E60A-48F6-A316-824BBC37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EC4-52ED-47D7-85FF-1A97B86F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C82-2C1D-406B-B432-83202FF5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DFC-71B1-4C99-8B35-AB1D2E12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076-C1CB-4F58-94F9-3E892B0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C58-58CD-4764-864D-7A030866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2F3-22B5-4014-9136-86DF283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ABE6-009E-4247-BA41-67CE05F16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6B81-2DE8-4CD5-A6E3-E6A5490B1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211428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中国水墨竹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3105000"/>
            <a:ext cx="5029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华文行楷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华文行楷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552920"/>
            <a:ext cx="682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320040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781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迷你简柏青"/>
                <a:ea typeface="迷你简柏青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E1E-680F-4B60-B341-831C2ED2E8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5:29:46Z</dcterms:created>
  <dc:creator/>
  <dc:description/>
  <dc:language>en-US</dc:language>
  <cp:lastModifiedBy>Administrator</cp:lastModifiedBy>
  <dcterms:modified xsi:type="dcterms:W3CDTF">2015-07-04T06:11:04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