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6CA-7A3A-4FAC-B07A-0354977D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0FA-FD17-4A2A-BBBE-DE9ABF4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242-A3F8-4B1A-94AD-9BC65B1B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2A4-7A43-4C20-BFC0-102F4373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54E-33E6-4EEA-A028-4C01074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294-91B0-42F8-9D0B-9CF9811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F9C-F6BB-47A9-81AF-27FEE4E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C71-66E0-48EC-B784-7D45629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EB0-17DE-414A-A479-E0BF02CF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C32-C68E-4DB0-8B7E-6023022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2DB-597D-452C-ADD2-16EC272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489-390F-4FA2-AD90-5BF3ECE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538B-04F4-4B91-8207-55A9178ADE2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中国园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3080" y="1630440"/>
            <a:ext cx="58323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1427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1427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9E5-16CD-49BA-BDB5-44F0A40FF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59:36Z</dcterms:created>
  <dc:creator>Admin</dc:creator>
  <dc:description/>
  <dc:language>en-US</dc:language>
  <cp:lastModifiedBy>a</cp:lastModifiedBy>
  <dcterms:modified xsi:type="dcterms:W3CDTF">2015-07-04T06:09:30Z</dcterms:modified>
  <cp:revision>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