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14F-FA00-4136-8197-90C40883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EAE-CFBC-4D4E-B5AD-54C4F72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78-A77B-43FB-A8AB-05CA0232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2A-83DA-40BF-9194-E2D272F1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B11-82FE-480D-B8D2-43AAFEF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AF0-A65D-46DB-A915-D1D8CBD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A57-8AA5-43D6-A01A-99D63D7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2DE-3B04-4097-B051-F53BB26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A0B-ED23-480D-9DBC-1B36954B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8C-70AA-45AF-99B7-4BB4CA6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FBF-C602-4A00-A295-07DC760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6A3-9214-462B-B2D3-9EBA113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7212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7212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2BEC-3CFA-42B3-8959-AC9CA1992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www.eeppt.com/moban/jingpi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14240" y="4911840"/>
            <a:ext cx="7786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紫红色高档大气质感</a:t>
            </a: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"/>
          <p:cNvSpPr/>
          <p:nvPr/>
        </p:nvSpPr>
        <p:spPr>
          <a:xfrm>
            <a:off x="871560" y="5622840"/>
            <a:ext cx="55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目   录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AutoShape 144"/>
          <p:cNvSpPr/>
          <p:nvPr/>
        </p:nvSpPr>
        <p:spPr>
          <a:xfrm>
            <a:off x="1785960" y="1714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4"/>
          <p:cNvSpPr/>
          <p:nvPr/>
        </p:nvSpPr>
        <p:spPr>
          <a:xfrm>
            <a:off x="1785960" y="2452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4"/>
          <p:cNvSpPr/>
          <p:nvPr/>
        </p:nvSpPr>
        <p:spPr>
          <a:xfrm>
            <a:off x="1785960" y="31924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4"/>
          <p:cNvSpPr/>
          <p:nvPr/>
        </p:nvSpPr>
        <p:spPr>
          <a:xfrm>
            <a:off x="1785960" y="393048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4"/>
          <p:cNvSpPr/>
          <p:nvPr/>
        </p:nvSpPr>
        <p:spPr>
          <a:xfrm>
            <a:off x="1785960" y="4668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89080" y="1714680"/>
            <a:ext cx="655200" cy="547560"/>
            <a:chOff x="1189080" y="1714680"/>
            <a:chExt cx="655200" cy="547560"/>
          </a:xfrm>
        </p:grpSpPr>
        <p:grpSp>
          <p:nvGrpSpPr>
            <p:cNvPr id="88" name=""/>
            <p:cNvGrpSpPr/>
            <p:nvPr/>
          </p:nvGrpSpPr>
          <p:grpSpPr>
            <a:xfrm>
              <a:off x="1189080" y="1714680"/>
              <a:ext cx="653400" cy="547560"/>
              <a:chOff x="1189080" y="1714680"/>
              <a:chExt cx="653400" cy="54756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1189080" y="1714680"/>
                <a:ext cx="65340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1189080" y="171828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1194840" y="171828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Freeform 12"/>
            <p:cNvSpPr/>
            <p:nvPr/>
          </p:nvSpPr>
          <p:spPr>
            <a:xfrm flipH="1">
              <a:off x="1780920" y="172080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9080" y="2452680"/>
            <a:ext cx="655200" cy="547560"/>
            <a:chOff x="1189080" y="2452680"/>
            <a:chExt cx="655200" cy="547560"/>
          </a:xfrm>
        </p:grpSpPr>
        <p:grpSp>
          <p:nvGrpSpPr>
            <p:cNvPr id="94" name=""/>
            <p:cNvGrpSpPr/>
            <p:nvPr/>
          </p:nvGrpSpPr>
          <p:grpSpPr>
            <a:xfrm>
              <a:off x="1189080" y="2452680"/>
              <a:ext cx="653400" cy="547560"/>
              <a:chOff x="1189080" y="2452680"/>
              <a:chExt cx="653400" cy="547560"/>
            </a:xfrm>
          </p:grpSpPr>
          <p:sp>
            <p:nvSpPr>
              <p:cNvPr id="95" name="Rectangle 7"/>
              <p:cNvSpPr/>
              <p:nvPr/>
            </p:nvSpPr>
            <p:spPr>
              <a:xfrm>
                <a:off x="1189080" y="2452680"/>
                <a:ext cx="65340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>
                <a:off x="1189080" y="245628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>
                <a:off x="1194840" y="245628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12"/>
            <p:cNvSpPr/>
            <p:nvPr/>
          </p:nvSpPr>
          <p:spPr>
            <a:xfrm flipH="1">
              <a:off x="1780920" y="245880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177920" y="3193920"/>
            <a:ext cx="653760" cy="549360"/>
            <a:chOff x="1177920" y="3193920"/>
            <a:chExt cx="653760" cy="549360"/>
          </a:xfrm>
        </p:grpSpPr>
        <p:grpSp>
          <p:nvGrpSpPr>
            <p:cNvPr id="100" name=""/>
            <p:cNvGrpSpPr/>
            <p:nvPr/>
          </p:nvGrpSpPr>
          <p:grpSpPr>
            <a:xfrm>
              <a:off x="1177920" y="3193920"/>
              <a:ext cx="651960" cy="549360"/>
              <a:chOff x="1177920" y="3193920"/>
              <a:chExt cx="651960" cy="54936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1177920" y="3193920"/>
                <a:ext cx="651960" cy="5493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"/>
              <p:cNvSpPr/>
              <p:nvPr/>
            </p:nvSpPr>
            <p:spPr>
              <a:xfrm>
                <a:off x="1177920" y="3197520"/>
                <a:ext cx="63000" cy="5432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3"/>
              <p:cNvSpPr/>
              <p:nvPr/>
            </p:nvSpPr>
            <p:spPr>
              <a:xfrm>
                <a:off x="1183680" y="3197520"/>
                <a:ext cx="646200" cy="13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Freeform 12"/>
            <p:cNvSpPr/>
            <p:nvPr/>
          </p:nvSpPr>
          <p:spPr>
            <a:xfrm flipH="1">
              <a:off x="1768320" y="3200040"/>
              <a:ext cx="63000" cy="5432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62080" y="3922560"/>
            <a:ext cx="655200" cy="547920"/>
            <a:chOff x="1162080" y="3922560"/>
            <a:chExt cx="655200" cy="547920"/>
          </a:xfrm>
        </p:grpSpPr>
        <p:grpSp>
          <p:nvGrpSpPr>
            <p:cNvPr id="106" name=""/>
            <p:cNvGrpSpPr/>
            <p:nvPr/>
          </p:nvGrpSpPr>
          <p:grpSpPr>
            <a:xfrm>
              <a:off x="1162080" y="3922560"/>
              <a:ext cx="653400" cy="547920"/>
              <a:chOff x="1162080" y="3922560"/>
              <a:chExt cx="653400" cy="547920"/>
            </a:xfrm>
          </p:grpSpPr>
          <p:sp>
            <p:nvSpPr>
              <p:cNvPr id="107" name="Rectangle 7"/>
              <p:cNvSpPr/>
              <p:nvPr/>
            </p:nvSpPr>
            <p:spPr>
              <a:xfrm>
                <a:off x="1162080" y="3922560"/>
                <a:ext cx="653400" cy="54792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1162080" y="3926160"/>
                <a:ext cx="63000" cy="54180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1167840" y="392616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12"/>
            <p:cNvSpPr/>
            <p:nvPr/>
          </p:nvSpPr>
          <p:spPr>
            <a:xfrm flipH="1">
              <a:off x="1753920" y="3928680"/>
              <a:ext cx="63000" cy="54180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79360" y="4667400"/>
            <a:ext cx="653760" cy="547560"/>
            <a:chOff x="1179360" y="4667400"/>
            <a:chExt cx="653760" cy="547560"/>
          </a:xfrm>
        </p:grpSpPr>
        <p:grpSp>
          <p:nvGrpSpPr>
            <p:cNvPr id="112" name=""/>
            <p:cNvGrpSpPr/>
            <p:nvPr/>
          </p:nvGrpSpPr>
          <p:grpSpPr>
            <a:xfrm>
              <a:off x="1179360" y="4667400"/>
              <a:ext cx="651960" cy="547560"/>
              <a:chOff x="1179360" y="4667400"/>
              <a:chExt cx="651960" cy="547560"/>
            </a:xfrm>
          </p:grpSpPr>
          <p:sp>
            <p:nvSpPr>
              <p:cNvPr id="113" name="Rectangle 7"/>
              <p:cNvSpPr/>
              <p:nvPr/>
            </p:nvSpPr>
            <p:spPr>
              <a:xfrm>
                <a:off x="1179360" y="4667400"/>
                <a:ext cx="65196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1179360" y="467100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1185120" y="4671000"/>
                <a:ext cx="64620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12"/>
            <p:cNvSpPr/>
            <p:nvPr/>
          </p:nvSpPr>
          <p:spPr>
            <a:xfrm flipH="1">
              <a:off x="1769760" y="467352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20280" y="1535040"/>
            <a:ext cx="4239360" cy="4209480"/>
            <a:chOff x="4220280" y="1535040"/>
            <a:chExt cx="4239360" cy="4209480"/>
          </a:xfrm>
        </p:grpSpPr>
        <p:sp>
          <p:nvSpPr>
            <p:cNvPr id="119" name="空心弧 3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6e6e6e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4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6e6e6e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5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6e6e6e"/>
                </a:gs>
              </a:gsLst>
              <a:lin ang="81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6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6e6e6e"/>
                </a:gs>
              </a:gsLst>
              <a:lin ang="108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792400" y="4647600"/>
              <a:ext cx="1096920" cy="1096920"/>
              <a:chOff x="5792400" y="4647600"/>
              <a:chExt cx="1096920" cy="109692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792400" y="4647600"/>
                <a:ext cx="1096920" cy="1096920"/>
                <a:chOff x="5792400" y="4647600"/>
                <a:chExt cx="1096920" cy="1096920"/>
              </a:xfrm>
            </p:grpSpPr>
            <p:sp>
              <p:nvSpPr>
                <p:cNvPr id="125" name="椭圆 37"/>
                <p:cNvSpPr/>
                <p:nvPr/>
              </p:nvSpPr>
              <p:spPr>
                <a:xfrm rot="21397200">
                  <a:off x="5821920" y="467712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38"/>
                <p:cNvSpPr/>
                <p:nvPr/>
              </p:nvSpPr>
              <p:spPr>
                <a:xfrm rot="21397200">
                  <a:off x="5941440" y="467316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TextBox 36"/>
              <p:cNvSpPr/>
              <p:nvPr/>
            </p:nvSpPr>
            <p:spPr>
              <a:xfrm>
                <a:off x="5977080" y="503352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220280" y="3071160"/>
              <a:ext cx="1096920" cy="1096920"/>
              <a:chOff x="4220280" y="3071160"/>
              <a:chExt cx="1096920" cy="10969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4220280" y="3071160"/>
                <a:ext cx="1096920" cy="1096920"/>
                <a:chOff x="4220280" y="3071160"/>
                <a:chExt cx="1096920" cy="1096920"/>
              </a:xfrm>
            </p:grpSpPr>
            <p:sp>
              <p:nvSpPr>
                <p:cNvPr id="130" name="椭圆 33"/>
                <p:cNvSpPr/>
                <p:nvPr/>
              </p:nvSpPr>
              <p:spPr>
                <a:xfrm rot="21397200">
                  <a:off x="4249800" y="310068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34"/>
                <p:cNvSpPr/>
                <p:nvPr/>
              </p:nvSpPr>
              <p:spPr>
                <a:xfrm rot="21397200">
                  <a:off x="4369320" y="309672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32"/>
              <p:cNvSpPr/>
              <p:nvPr/>
            </p:nvSpPr>
            <p:spPr>
              <a:xfrm>
                <a:off x="4404960" y="345708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06880" y="1535040"/>
              <a:ext cx="1049040" cy="856440"/>
              <a:chOff x="5906880" y="1535040"/>
              <a:chExt cx="1049040" cy="856440"/>
            </a:xfrm>
          </p:grpSpPr>
          <p:sp>
            <p:nvSpPr>
              <p:cNvPr id="134" name="椭圆 6"/>
              <p:cNvSpPr/>
              <p:nvPr/>
            </p:nvSpPr>
            <p:spPr>
              <a:xfrm>
                <a:off x="5970240" y="1535040"/>
                <a:ext cx="768240" cy="662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3"/>
              <p:cNvSpPr/>
              <p:nvPr/>
            </p:nvSpPr>
            <p:spPr>
              <a:xfrm>
                <a:off x="5906880" y="1916640"/>
                <a:ext cx="1049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362720" y="3072600"/>
              <a:ext cx="1096920" cy="1098360"/>
              <a:chOff x="7362720" y="3072600"/>
              <a:chExt cx="1096920" cy="10983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362720" y="3072600"/>
                <a:ext cx="1096920" cy="1098360"/>
                <a:chOff x="7362720" y="3072600"/>
                <a:chExt cx="1096920" cy="1098360"/>
              </a:xfrm>
            </p:grpSpPr>
            <p:sp>
              <p:nvSpPr>
                <p:cNvPr id="138" name="椭圆 27"/>
                <p:cNvSpPr/>
                <p:nvPr/>
              </p:nvSpPr>
              <p:spPr>
                <a:xfrm rot="21397200">
                  <a:off x="7392240" y="3102120"/>
                  <a:ext cx="1037520" cy="103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24"/>
                <p:cNvSpPr/>
                <p:nvPr/>
              </p:nvSpPr>
              <p:spPr>
                <a:xfrm rot="21397200">
                  <a:off x="7511400" y="3096720"/>
                  <a:ext cx="771120" cy="66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Box 26"/>
              <p:cNvSpPr/>
              <p:nvPr/>
            </p:nvSpPr>
            <p:spPr>
              <a:xfrm>
                <a:off x="7547400" y="34599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37600" y="2921040"/>
              <a:ext cx="1537200" cy="1496160"/>
              <a:chOff x="5637600" y="2921040"/>
              <a:chExt cx="1537200" cy="1496160"/>
            </a:xfrm>
          </p:grpSpPr>
          <p:pic>
            <p:nvPicPr>
              <p:cNvPr id="142" name="Picture 15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5803560" y="4208400"/>
                <a:ext cx="1102320" cy="208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" name=""/>
              <p:cNvGrpSpPr/>
              <p:nvPr/>
            </p:nvGrpSpPr>
            <p:grpSpPr>
              <a:xfrm>
                <a:off x="5637600" y="2921040"/>
                <a:ext cx="1537200" cy="1416600"/>
                <a:chOff x="5637600" y="2921040"/>
                <a:chExt cx="1537200" cy="1416600"/>
              </a:xfrm>
            </p:grpSpPr>
            <p:sp>
              <p:nvSpPr>
                <p:cNvPr id="144" name="椭圆 9"/>
                <p:cNvSpPr/>
                <p:nvPr/>
              </p:nvSpPr>
              <p:spPr>
                <a:xfrm>
                  <a:off x="5637600" y="2925360"/>
                  <a:ext cx="14104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0038"/>
                    </a:gs>
                    <a:gs pos="100000">
                      <a:srgbClr val="db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10"/>
                <p:cNvSpPr/>
                <p:nvPr/>
              </p:nvSpPr>
              <p:spPr>
                <a:xfrm>
                  <a:off x="5827680" y="2921040"/>
                  <a:ext cx="105048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Box 8"/>
                <p:cNvSpPr/>
                <p:nvPr/>
              </p:nvSpPr>
              <p:spPr>
                <a:xfrm>
                  <a:off x="5739840" y="3442680"/>
                  <a:ext cx="14349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Box 6"/>
                <p:cNvSpPr/>
                <p:nvPr/>
              </p:nvSpPr>
              <p:spPr>
                <a:xfrm>
                  <a:off x="5855760" y="33447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400" spc="-1" strike="noStrike">
                      <a:solidFill>
                        <a:srgbClr val="ffffff"/>
                      </a:solidFill>
                      <a:latin typeface="华文细黑"/>
                      <a:ea typeface="华文细黑"/>
                    </a:rPr>
                    <a:t>项目文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5838480" y="1542240"/>
              <a:ext cx="1096920" cy="1096920"/>
              <a:chOff x="5838480" y="1542240"/>
              <a:chExt cx="1096920" cy="1096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5838480" y="1542240"/>
                <a:ext cx="1096920" cy="1096920"/>
                <a:chOff x="5838480" y="1542240"/>
                <a:chExt cx="1096920" cy="1096920"/>
              </a:xfrm>
            </p:grpSpPr>
            <p:sp>
              <p:nvSpPr>
                <p:cNvPr id="150" name="椭圆 15"/>
                <p:cNvSpPr/>
                <p:nvPr/>
              </p:nvSpPr>
              <p:spPr>
                <a:xfrm rot="21397200">
                  <a:off x="5868000" y="157176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16"/>
                <p:cNvSpPr/>
                <p:nvPr/>
              </p:nvSpPr>
              <p:spPr>
                <a:xfrm rot="21397200">
                  <a:off x="5987520" y="156780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Box 14"/>
              <p:cNvSpPr/>
              <p:nvPr/>
            </p:nvSpPr>
            <p:spPr>
              <a:xfrm>
                <a:off x="6023160" y="19281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928800" y="1571760"/>
            <a:ext cx="3000240" cy="3813120"/>
            <a:chOff x="928800" y="1571760"/>
            <a:chExt cx="3000240" cy="3813120"/>
          </a:xfrm>
        </p:grpSpPr>
        <p:sp>
          <p:nvSpPr>
            <p:cNvPr id="154" name="圆角矩形 39"/>
            <p:cNvSpPr/>
            <p:nvPr/>
          </p:nvSpPr>
          <p:spPr>
            <a:xfrm>
              <a:off x="928800" y="2098800"/>
              <a:ext cx="3000240" cy="3286080"/>
            </a:xfrm>
            <a:custGeom>
              <a:avLst/>
              <a:gdLst>
                <a:gd name="textAreaLeft" fmla="*/ 6120 w 3000240"/>
                <a:gd name="textAreaRight" fmla="*/ 2994120 w 3000240"/>
                <a:gd name="textAreaTop" fmla="*/ 6120 h 3286080"/>
                <a:gd name="textAreaBottom" fmla="*/ 3279960 h 3286080"/>
              </a:gdLst>
              <a:ahLst/>
              <a:rect l="textAreaLeft" t="textAreaTop" r="textAreaRight" b="textAreaBottom"/>
              <a:pathLst>
                <a:path w="21600" h="23658">
                  <a:moveTo>
                    <a:pt x="151" y="0"/>
                  </a:moveTo>
                  <a:arcTo wR="151" hR="151" stAng="16200000" swAng="-5400000"/>
                  <a:lnTo>
                    <a:pt x="0" y="23507"/>
                  </a:lnTo>
                  <a:arcTo wR="151" hR="151" stAng="10800000" swAng="-5400000"/>
                  <a:lnTo>
                    <a:pt x="21449" y="23658"/>
                  </a:lnTo>
                  <a:arcTo wR="151" hR="151" stAng="5400000" swAng="-5400000"/>
                  <a:lnTo>
                    <a:pt x="21600" y="151"/>
                  </a:lnTo>
                  <a:arcTo wR="151" hR="151" stAng="0" swAng="-5400000"/>
                  <a:close/>
                </a:path>
              </a:pathLst>
            </a:cu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00000"/>
                </a:lnSpc>
                <a:buClr>
                  <a:srgbClr val="0662b4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40"/>
            <p:cNvSpPr/>
            <p:nvPr/>
          </p:nvSpPr>
          <p:spPr>
            <a:xfrm>
              <a:off x="928800" y="1571760"/>
              <a:ext cx="3000240" cy="49032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7f0038"/>
                </a:gs>
                <a:gs pos="100000">
                  <a:srgbClr val="db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圆角矩形 8"/>
          <p:cNvSpPr/>
          <p:nvPr/>
        </p:nvSpPr>
        <p:spPr>
          <a:xfrm>
            <a:off x="349236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9"/>
          <p:cNvSpPr/>
          <p:nvPr/>
        </p:nvSpPr>
        <p:spPr>
          <a:xfrm>
            <a:off x="603252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7"/>
          <p:cNvSpPr/>
          <p:nvPr/>
        </p:nvSpPr>
        <p:spPr>
          <a:xfrm>
            <a:off x="94788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70120" y="1428840"/>
            <a:ext cx="2286000" cy="1190520"/>
            <a:chOff x="870120" y="1428840"/>
            <a:chExt cx="2286000" cy="1190520"/>
          </a:xfrm>
        </p:grpSpPr>
        <p:sp>
          <p:nvSpPr>
            <p:cNvPr id="161" name="圆角矩形 4"/>
            <p:cNvSpPr/>
            <p:nvPr/>
          </p:nvSpPr>
          <p:spPr>
            <a:xfrm>
              <a:off x="870120" y="1428840"/>
              <a:ext cx="2278080" cy="993600"/>
            </a:xfrm>
            <a:prstGeom prst="roundRect">
              <a:avLst>
                <a:gd name="adj" fmla="val 0"/>
              </a:avLst>
            </a:prstGeom>
            <a:solidFill>
              <a:srgbClr val="64003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884160" y="2413440"/>
              <a:ext cx="2271960" cy="205920"/>
              <a:chOff x="884160" y="2413440"/>
              <a:chExt cx="2271960" cy="205920"/>
            </a:xfrm>
          </p:grpSpPr>
          <p:pic>
            <p:nvPicPr>
              <p:cNvPr id="163" name="任意多边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84160" y="2413440"/>
                <a:ext cx="2271960" cy="20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887400" y="2416320"/>
                <a:ext cx="22604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392640" y="1428840"/>
            <a:ext cx="2287440" cy="1189080"/>
            <a:chOff x="3392640" y="1428840"/>
            <a:chExt cx="2287440" cy="1189080"/>
          </a:xfrm>
        </p:grpSpPr>
        <p:sp>
          <p:nvSpPr>
            <p:cNvPr id="166" name="圆角矩形 5"/>
            <p:cNvSpPr/>
            <p:nvPr/>
          </p:nvSpPr>
          <p:spPr>
            <a:xfrm>
              <a:off x="3392640" y="1428840"/>
              <a:ext cx="2285280" cy="997200"/>
            </a:xfrm>
            <a:prstGeom prst="roundRect">
              <a:avLst>
                <a:gd name="adj" fmla="val 0"/>
              </a:avLst>
            </a:prstGeom>
            <a:solidFill>
              <a:srgbClr val="a20051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400920" y="2411280"/>
              <a:ext cx="2279160" cy="206640"/>
              <a:chOff x="3400920" y="2411280"/>
              <a:chExt cx="2279160" cy="206640"/>
            </a:xfrm>
          </p:grpSpPr>
          <p:pic>
            <p:nvPicPr>
              <p:cNvPr id="168" name="任意多边形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0920" y="2411280"/>
                <a:ext cx="227916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3408120" y="2417760"/>
                <a:ext cx="226728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929200" y="1428840"/>
            <a:ext cx="2286000" cy="1189080"/>
            <a:chOff x="5929200" y="1428840"/>
            <a:chExt cx="2286000" cy="1189080"/>
          </a:xfrm>
        </p:grpSpPr>
        <p:sp>
          <p:nvSpPr>
            <p:cNvPr id="171" name="圆角矩形 6"/>
            <p:cNvSpPr/>
            <p:nvPr/>
          </p:nvSpPr>
          <p:spPr>
            <a:xfrm>
              <a:off x="5929200" y="1428840"/>
              <a:ext cx="2284200" cy="997200"/>
            </a:xfrm>
            <a:prstGeom prst="roundRect">
              <a:avLst>
                <a:gd name="adj" fmla="val 0"/>
              </a:avLst>
            </a:prstGeom>
            <a:solidFill>
              <a:srgbClr val="cc0066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937120" y="2411280"/>
              <a:ext cx="2278080" cy="206640"/>
              <a:chOff x="5937120" y="2411280"/>
              <a:chExt cx="2278080" cy="206640"/>
            </a:xfrm>
          </p:grpSpPr>
          <p:pic>
            <p:nvPicPr>
              <p:cNvPr id="173" name="任意多边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937120" y="2411280"/>
                <a:ext cx="227808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5945040" y="2417760"/>
                <a:ext cx="226620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 5"/>
          <p:cNvSpPr/>
          <p:nvPr/>
        </p:nvSpPr>
        <p:spPr>
          <a:xfrm>
            <a:off x="2684520" y="2482920"/>
            <a:ext cx="5643360" cy="8269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7"/>
          <p:cNvSpPr/>
          <p:nvPr/>
        </p:nvSpPr>
        <p:spPr>
          <a:xfrm>
            <a:off x="2684520" y="353844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2684520" y="459576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3"/>
          <p:cNvSpPr/>
          <p:nvPr/>
        </p:nvSpPr>
        <p:spPr>
          <a:xfrm>
            <a:off x="2684520" y="1428840"/>
            <a:ext cx="5643360" cy="8287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5880" y="4600440"/>
            <a:ext cx="1928880" cy="900360"/>
            <a:chOff x="785880" y="4600440"/>
            <a:chExt cx="1928880" cy="900360"/>
          </a:xfrm>
        </p:grpSpPr>
        <p:sp>
          <p:nvSpPr>
            <p:cNvPr id="181" name="圆角矩形 8"/>
            <p:cNvSpPr/>
            <p:nvPr/>
          </p:nvSpPr>
          <p:spPr>
            <a:xfrm>
              <a:off x="791280" y="4600440"/>
              <a:ext cx="1923480" cy="825480"/>
            </a:xfrm>
            <a:prstGeom prst="roundRect">
              <a:avLst>
                <a:gd name="adj" fmla="val 0"/>
              </a:avLst>
            </a:prstGeom>
            <a:solidFill>
              <a:srgbClr val="ff2994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5880" y="5421960"/>
              <a:ext cx="1914840" cy="78840"/>
              <a:chOff x="785880" y="5421960"/>
              <a:chExt cx="1914840" cy="78840"/>
            </a:xfrm>
          </p:grpSpPr>
          <p:pic>
            <p:nvPicPr>
              <p:cNvPr id="183" name="任意多边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785880" y="542196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791280" y="542556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85880" y="3541680"/>
            <a:ext cx="1928880" cy="897120"/>
            <a:chOff x="785880" y="3541680"/>
            <a:chExt cx="1928880" cy="897120"/>
          </a:xfrm>
        </p:grpSpPr>
        <p:sp>
          <p:nvSpPr>
            <p:cNvPr id="186" name="圆角矩形 6"/>
            <p:cNvSpPr/>
            <p:nvPr/>
          </p:nvSpPr>
          <p:spPr>
            <a:xfrm>
              <a:off x="791280" y="3541680"/>
              <a:ext cx="1923480" cy="823680"/>
            </a:xfrm>
            <a:prstGeom prst="roundRect">
              <a:avLst>
                <a:gd name="adj" fmla="val 0"/>
              </a:avLst>
            </a:prstGeom>
            <a:solidFill>
              <a:srgbClr val="cc0066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85880" y="4354200"/>
              <a:ext cx="1914840" cy="84600"/>
              <a:chOff x="785880" y="4354200"/>
              <a:chExt cx="1914840" cy="84600"/>
            </a:xfrm>
          </p:grpSpPr>
          <p:pic>
            <p:nvPicPr>
              <p:cNvPr id="188" name="任意多边形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4354200"/>
                <a:ext cx="191484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791280" y="4362480"/>
                <a:ext cx="190296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85880" y="2484360"/>
            <a:ext cx="1928880" cy="901800"/>
            <a:chOff x="785880" y="2484360"/>
            <a:chExt cx="1928880" cy="901800"/>
          </a:xfrm>
        </p:grpSpPr>
        <p:sp>
          <p:nvSpPr>
            <p:cNvPr id="191" name="圆角矩形 4"/>
            <p:cNvSpPr/>
            <p:nvPr/>
          </p:nvSpPr>
          <p:spPr>
            <a:xfrm>
              <a:off x="791280" y="2484360"/>
              <a:ext cx="1923480" cy="825120"/>
            </a:xfrm>
            <a:prstGeom prst="roundRect">
              <a:avLst>
                <a:gd name="adj" fmla="val 0"/>
              </a:avLst>
            </a:prstGeom>
            <a:solidFill>
              <a:srgbClr val="a20051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85880" y="3307320"/>
              <a:ext cx="1914840" cy="78840"/>
              <a:chOff x="785880" y="3307320"/>
              <a:chExt cx="1914840" cy="78840"/>
            </a:xfrm>
          </p:grpSpPr>
          <p:pic>
            <p:nvPicPr>
              <p:cNvPr id="193" name="任意多边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330732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791280" y="331164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85880" y="1428840"/>
            <a:ext cx="1928880" cy="895320"/>
            <a:chOff x="785880" y="1428840"/>
            <a:chExt cx="1928880" cy="895320"/>
          </a:xfrm>
        </p:grpSpPr>
        <p:sp>
          <p:nvSpPr>
            <p:cNvPr id="196" name="圆角矩形 3"/>
            <p:cNvSpPr/>
            <p:nvPr/>
          </p:nvSpPr>
          <p:spPr>
            <a:xfrm>
              <a:off x="791280" y="1428840"/>
              <a:ext cx="1923480" cy="824040"/>
            </a:xfrm>
            <a:prstGeom prst="roundRect">
              <a:avLst>
                <a:gd name="adj" fmla="val 0"/>
              </a:avLst>
            </a:prstGeom>
            <a:solidFill>
              <a:srgbClr val="64003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85880" y="2245320"/>
              <a:ext cx="1914840" cy="78840"/>
              <a:chOff x="785880" y="2245320"/>
              <a:chExt cx="1914840" cy="78840"/>
            </a:xfrm>
          </p:grpSpPr>
          <p:pic>
            <p:nvPicPr>
              <p:cNvPr id="198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880" y="224532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791280" y="224820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下箭头 10"/>
          <p:cNvSpPr/>
          <p:nvPr/>
        </p:nvSpPr>
        <p:spPr>
          <a:xfrm>
            <a:off x="1519200" y="2214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下箭头 11"/>
          <p:cNvSpPr/>
          <p:nvPr/>
        </p:nvSpPr>
        <p:spPr>
          <a:xfrm>
            <a:off x="1519200" y="326556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2"/>
          <p:cNvSpPr/>
          <p:nvPr/>
        </p:nvSpPr>
        <p:spPr>
          <a:xfrm>
            <a:off x="1519200" y="43164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60944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70"/>
          <p:cNvSpPr/>
          <p:nvPr/>
        </p:nvSpPr>
        <p:spPr>
          <a:xfrm rot="252600">
            <a:off x="488520" y="1459080"/>
            <a:ext cx="2281320" cy="17427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 rot="252600">
            <a:off x="3819240" y="5606640"/>
            <a:ext cx="309600" cy="2574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 rot="252600">
            <a:off x="3824280" y="5619240"/>
            <a:ext cx="291960" cy="2318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7"/>
          <p:cNvSpPr/>
          <p:nvPr/>
        </p:nvSpPr>
        <p:spPr>
          <a:xfrm rot="252600">
            <a:off x="3981600" y="4919760"/>
            <a:ext cx="901440" cy="690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8"/>
          <p:cNvSpPr/>
          <p:nvPr/>
        </p:nvSpPr>
        <p:spPr>
          <a:xfrm rot="252600">
            <a:off x="2568240" y="4329000"/>
            <a:ext cx="1011240" cy="10843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 rot="252600">
            <a:off x="3405240" y="4782960"/>
            <a:ext cx="860400" cy="6429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0"/>
          <p:cNvSpPr/>
          <p:nvPr/>
        </p:nvSpPr>
        <p:spPr>
          <a:xfrm rot="252600">
            <a:off x="5241600" y="4896000"/>
            <a:ext cx="206280" cy="474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1"/>
          <p:cNvSpPr/>
          <p:nvPr/>
        </p:nvSpPr>
        <p:spPr>
          <a:xfrm rot="252600">
            <a:off x="5249520" y="4908240"/>
            <a:ext cx="189000" cy="4460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2"/>
          <p:cNvSpPr/>
          <p:nvPr/>
        </p:nvSpPr>
        <p:spPr>
          <a:xfrm rot="252600">
            <a:off x="4772160" y="4521240"/>
            <a:ext cx="477720" cy="6253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53"/>
          <p:cNvSpPr/>
          <p:nvPr/>
        </p:nvSpPr>
        <p:spPr>
          <a:xfrm rot="252600">
            <a:off x="3321000" y="4367160"/>
            <a:ext cx="693720" cy="611280"/>
          </a:xfrm>
          <a:prstGeom prst="pi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4"/>
          <p:cNvSpPr/>
          <p:nvPr/>
        </p:nvSpPr>
        <p:spPr>
          <a:xfrm rot="252600">
            <a:off x="3914640" y="4273200"/>
            <a:ext cx="621000" cy="7412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5"/>
          <p:cNvSpPr/>
          <p:nvPr/>
        </p:nvSpPr>
        <p:spPr>
          <a:xfrm rot="252600">
            <a:off x="4471560" y="4274640"/>
            <a:ext cx="544680" cy="7686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6"/>
          <p:cNvSpPr/>
          <p:nvPr/>
        </p:nvSpPr>
        <p:spPr>
          <a:xfrm rot="252600">
            <a:off x="2665080" y="3668760"/>
            <a:ext cx="1122480" cy="11095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7"/>
          <p:cNvSpPr/>
          <p:nvPr/>
        </p:nvSpPr>
        <p:spPr>
          <a:xfrm rot="252600">
            <a:off x="601560" y="3088800"/>
            <a:ext cx="2256120" cy="137808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8"/>
          <p:cNvSpPr/>
          <p:nvPr/>
        </p:nvSpPr>
        <p:spPr>
          <a:xfrm rot="252600">
            <a:off x="4987440" y="4218120"/>
            <a:ext cx="422280" cy="4269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9"/>
          <p:cNvSpPr/>
          <p:nvPr/>
        </p:nvSpPr>
        <p:spPr>
          <a:xfrm rot="252600">
            <a:off x="3556080" y="3963960"/>
            <a:ext cx="531720" cy="5652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0"/>
          <p:cNvSpPr/>
          <p:nvPr/>
        </p:nvSpPr>
        <p:spPr>
          <a:xfrm rot="252600">
            <a:off x="3901680" y="3887280"/>
            <a:ext cx="868320" cy="53820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1"/>
          <p:cNvSpPr/>
          <p:nvPr/>
        </p:nvSpPr>
        <p:spPr>
          <a:xfrm rot="252600">
            <a:off x="4627080" y="3679920"/>
            <a:ext cx="536760" cy="66204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2"/>
          <p:cNvSpPr/>
          <p:nvPr/>
        </p:nvSpPr>
        <p:spPr>
          <a:xfrm rot="252600">
            <a:off x="4768920" y="3604680"/>
            <a:ext cx="636480" cy="6192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3"/>
          <p:cNvSpPr/>
          <p:nvPr/>
        </p:nvSpPr>
        <p:spPr>
          <a:xfrm rot="252600">
            <a:off x="4143240" y="3452760"/>
            <a:ext cx="641520" cy="6224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4"/>
          <p:cNvSpPr/>
          <p:nvPr/>
        </p:nvSpPr>
        <p:spPr>
          <a:xfrm rot="252600">
            <a:off x="3646080" y="3007800"/>
            <a:ext cx="566640" cy="10224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5"/>
          <p:cNvSpPr/>
          <p:nvPr/>
        </p:nvSpPr>
        <p:spPr>
          <a:xfrm rot="252600">
            <a:off x="1909440" y="2895480"/>
            <a:ext cx="1433520" cy="103680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6"/>
          <p:cNvSpPr/>
          <p:nvPr/>
        </p:nvSpPr>
        <p:spPr>
          <a:xfrm rot="252600">
            <a:off x="4138560" y="2881440"/>
            <a:ext cx="392040" cy="785520"/>
          </a:xfrm>
          <a:prstGeom prst="pi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7"/>
          <p:cNvSpPr/>
          <p:nvPr/>
        </p:nvSpPr>
        <p:spPr>
          <a:xfrm rot="252600">
            <a:off x="4640400" y="3211560"/>
            <a:ext cx="736560" cy="4921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8"/>
          <p:cNvSpPr/>
          <p:nvPr/>
        </p:nvSpPr>
        <p:spPr>
          <a:xfrm rot="252600">
            <a:off x="3504960" y="3024000"/>
            <a:ext cx="318960" cy="5220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9"/>
          <p:cNvSpPr/>
          <p:nvPr/>
        </p:nvSpPr>
        <p:spPr>
          <a:xfrm rot="252600">
            <a:off x="4471560" y="2589120"/>
            <a:ext cx="615960" cy="9003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1"/>
          <p:cNvSpPr/>
          <p:nvPr/>
        </p:nvSpPr>
        <p:spPr>
          <a:xfrm rot="252600">
            <a:off x="2914200" y="1160640"/>
            <a:ext cx="2511360" cy="21477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72"/>
          <p:cNvSpPr/>
          <p:nvPr/>
        </p:nvSpPr>
        <p:spPr>
          <a:xfrm rot="252600">
            <a:off x="4643280" y="2827080"/>
            <a:ext cx="271800" cy="3031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3"/>
          <p:cNvSpPr/>
          <p:nvPr/>
        </p:nvSpPr>
        <p:spPr>
          <a:xfrm rot="252600">
            <a:off x="4995360" y="2463480"/>
            <a:ext cx="679680" cy="6350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74"/>
          <p:cNvSpPr/>
          <p:nvPr/>
        </p:nvSpPr>
        <p:spPr>
          <a:xfrm rot="252600">
            <a:off x="5157720" y="2112480"/>
            <a:ext cx="981000" cy="630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5"/>
          <p:cNvSpPr/>
          <p:nvPr/>
        </p:nvSpPr>
        <p:spPr>
          <a:xfrm rot="252600">
            <a:off x="5011200" y="1206000"/>
            <a:ext cx="1285920" cy="1149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6"/>
          <p:cNvSpPr/>
          <p:nvPr/>
        </p:nvSpPr>
        <p:spPr>
          <a:xfrm rot="252600">
            <a:off x="2324160" y="2476440"/>
            <a:ext cx="1633320" cy="13971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5846760" y="4305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4"/>
          <p:cNvSpPr/>
          <p:nvPr/>
        </p:nvSpPr>
        <p:spPr>
          <a:xfrm>
            <a:off x="5891040" y="4695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5"/>
          <p:cNvSpPr/>
          <p:nvPr/>
        </p:nvSpPr>
        <p:spPr>
          <a:xfrm>
            <a:off x="5786280" y="4695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2"/>
          <p:cNvSpPr/>
          <p:nvPr/>
        </p:nvSpPr>
        <p:spPr>
          <a:xfrm>
            <a:off x="5835600" y="3006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77"/>
          <p:cNvSpPr/>
          <p:nvPr/>
        </p:nvSpPr>
        <p:spPr>
          <a:xfrm>
            <a:off x="5880240" y="339732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8"/>
          <p:cNvSpPr/>
          <p:nvPr/>
        </p:nvSpPr>
        <p:spPr>
          <a:xfrm>
            <a:off x="5775480" y="33973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4240" y="4517640"/>
            <a:ext cx="7786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2:59:00Z</dcterms:created>
  <dc:creator>IdeaPPT</dc:creator>
  <dc:description/>
  <dc:language>en-US</dc:language>
  <cp:lastModifiedBy>User</cp:lastModifiedBy>
  <dcterms:modified xsi:type="dcterms:W3CDTF">2015-07-04T06:04:01Z</dcterms:modified>
  <cp:revision>15</cp:revision>
  <dc:subject/>
  <dc:title>魔力紫晕-windo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