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9FCC-3D91-415B-8D0B-9847FD62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EAC5-78E7-46E1-B327-3614EA55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0100-93F4-41B3-AD78-EEADEABD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8131-B74C-4E97-AC1E-49090C0F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6648-1AF3-4707-879E-3557F23E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A218-C2B2-486F-B6CE-D0CF063C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F687-31DF-4B4F-9D36-FD9A581E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7F28-6BE3-454A-8C00-8EF681E0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053F-C6FF-4E56-8A2B-7AAC2742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0494-4BEE-4ACA-9EFC-BDA04EA1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00B3-E3AC-46A2-9CB0-AC80A8EC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E02-CAF5-4707-AE6F-B43D9A49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2DE7-68F6-47B7-A299-98D5C428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4AED-3A51-4E75-83C4-2D314240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D64F-6D2C-42CF-876A-61C93720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037F-B57F-4A21-90D5-EE16B013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D41D-8384-45C5-B9DE-1F7536B7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CE35-5043-4F17-A444-2B5BCD0D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5F49-5A8B-4EB9-B2C9-5AB69886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B6D1-B33C-4C55-AA0D-333A1997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ECFD-F731-4EB2-8941-C10C11CA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179D-B1DB-4257-83E3-F9A6C7D7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F319-597B-45CB-BB75-1251F945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144C-4214-47C5-A94F-05FCCDD5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DF0D-BD19-4439-AF40-619CC58FF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46864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46864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46864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E67B-B5A3-4972-9F09-913CCFE2B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8"/>
          <p:cNvSpPr/>
          <p:nvPr/>
        </p:nvSpPr>
        <p:spPr>
          <a:xfrm>
            <a:off x="838080" y="2801880"/>
            <a:ext cx="5334120" cy="70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金梅浪漫空心體"/>
                <a:ea typeface="方正兰亭粗黑简体"/>
              </a:rPr>
              <a:t>炫蓝艺术</a:t>
            </a:r>
            <a:r>
              <a:rPr b="0" lang="zh-CN" sz="4000" spc="-1" strike="noStrike">
                <a:solidFill>
                  <a:srgbClr val="000000"/>
                </a:solidFill>
                <a:latin typeface="金梅浪漫空心體"/>
                <a:ea typeface="方正兰亭粗黑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金梅浪漫空心體"/>
                <a:ea typeface="方正兰亭粗黑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3508200"/>
            <a:ext cx="48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952200"/>
            <a:ext cx="89280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250920"/>
            <a:ext cx="1388880" cy="261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34B6-53C3-4587-A4AB-6B36E6C15D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06:54:30Z</dcterms:created>
  <dc:creator/>
  <dc:description/>
  <dc:language>en-US</dc:language>
  <cp:lastModifiedBy>yk</cp:lastModifiedBy>
  <dcterms:modified xsi:type="dcterms:W3CDTF">2015-07-04T07:12:0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