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90.jpeg" ContentType="image/jpeg"/>
  <Override PartName="/ppt/media/image22.png" ContentType="image/png"/>
  <Override PartName="/ppt/media/image59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21.png" ContentType="image/png"/>
  <Override PartName="/ppt/media/image89.jpeg" ContentType="image/jpeg"/>
  <Override PartName="/ppt/media/image6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538-6119-41F0-A4BF-B4B0FEF0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D84-7A26-4DAF-A9E9-663A9E9B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539-F95E-438E-9227-9F7C0AFE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07A-FFDC-420C-A1AA-367E4A02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3A2-07D0-4EED-89F2-1B9A8F18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0F0-174C-4010-9281-950D4BA5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34E-0BC9-4C0C-B63F-95CF5A98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445-F975-43D4-83E3-82438BAD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0F1-18AB-4251-B281-0DC9BC7F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71E-1193-4635-89F9-68CABBBE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6B3-B7A5-40D1-9734-19068C2F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9CF-2E37-464F-9B75-EA79940D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5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20.png"/><Relationship Id="rId28" Type="http://schemas.openxmlformats.org/officeDocument/2006/relationships/image" Target="../media/image9.png"/><Relationship Id="rId29" Type="http://schemas.openxmlformats.org/officeDocument/2006/relationships/image" Target="../media/image21.png"/><Relationship Id="rId30" Type="http://schemas.openxmlformats.org/officeDocument/2006/relationships/image" Target="../media/image11.png"/><Relationship Id="rId31" Type="http://schemas.openxmlformats.org/officeDocument/2006/relationships/image" Target="../media/image22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5.png"/><Relationship Id="rId37" Type="http://schemas.openxmlformats.org/officeDocument/2006/relationships/image" Target="../media/image26.png"/><Relationship Id="rId38" Type="http://schemas.openxmlformats.org/officeDocument/2006/relationships/image" Target="../media/image27.png"/><Relationship Id="rId39" Type="http://schemas.openxmlformats.org/officeDocument/2006/relationships/image" Target="../media/image28.png"/><Relationship Id="rId40" Type="http://schemas.openxmlformats.org/officeDocument/2006/relationships/image" Target="../media/image29.png"/><Relationship Id="rId41" Type="http://schemas.openxmlformats.org/officeDocument/2006/relationships/image" Target="../media/image30.png"/><Relationship Id="rId42" Type="http://schemas.openxmlformats.org/officeDocument/2006/relationships/image" Target="../media/image31.png"/><Relationship Id="rId43" Type="http://schemas.openxmlformats.org/officeDocument/2006/relationships/image" Target="../media/image32.png"/><Relationship Id="rId44" Type="http://schemas.openxmlformats.org/officeDocument/2006/relationships/image" Target="../media/image33.png"/><Relationship Id="rId45" Type="http://schemas.openxmlformats.org/officeDocument/2006/relationships/image" Target="../media/image32.png"/><Relationship Id="rId46" Type="http://schemas.openxmlformats.org/officeDocument/2006/relationships/image" Target="../media/image34.png"/><Relationship Id="rId47" Type="http://schemas.openxmlformats.org/officeDocument/2006/relationships/image" Target="../media/image34.png"/><Relationship Id="rId48" Type="http://schemas.openxmlformats.org/officeDocument/2006/relationships/image" Target="../media/image35.png"/><Relationship Id="rId49" Type="http://schemas.openxmlformats.org/officeDocument/2006/relationships/image" Target="../media/image36.png"/><Relationship Id="rId50" Type="http://schemas.openxmlformats.org/officeDocument/2006/relationships/image" Target="../media/image34.png"/><Relationship Id="rId51" Type="http://schemas.openxmlformats.org/officeDocument/2006/relationships/image" Target="../media/image34.png"/><Relationship Id="rId52" Type="http://schemas.openxmlformats.org/officeDocument/2006/relationships/image" Target="../media/image34.png"/><Relationship Id="rId53" Type="http://schemas.openxmlformats.org/officeDocument/2006/relationships/image" Target="../media/image37.png"/><Relationship Id="rId54" Type="http://schemas.openxmlformats.org/officeDocument/2006/relationships/image" Target="../media/image22.png"/><Relationship Id="rId55" Type="http://schemas.openxmlformats.org/officeDocument/2006/relationships/image" Target="../media/image38.png"/><Relationship Id="rId56" Type="http://schemas.openxmlformats.org/officeDocument/2006/relationships/image" Target="../media/image39.png"/><Relationship Id="rId57" Type="http://schemas.openxmlformats.org/officeDocument/2006/relationships/slideLayout" Target="../slideLayouts/slideLayout1.xml"/><Relationship Id="rId58" Type="http://schemas.openxmlformats.org/officeDocument/2006/relationships/slideLayout" Target="../slideLayouts/slideLayout2.xml"/><Relationship Id="rId59" Type="http://schemas.openxmlformats.org/officeDocument/2006/relationships/slideLayout" Target="../slideLayouts/slideLayout3.xml"/><Relationship Id="rId60" Type="http://schemas.openxmlformats.org/officeDocument/2006/relationships/slideLayout" Target="../slideLayouts/slideLayout4.xml"/><Relationship Id="rId61" Type="http://schemas.openxmlformats.org/officeDocument/2006/relationships/slideLayout" Target="../slideLayouts/slideLayout5.xml"/><Relationship Id="rId62" Type="http://schemas.openxmlformats.org/officeDocument/2006/relationships/slideLayout" Target="../slideLayouts/slideLayout6.xml"/><Relationship Id="rId63" Type="http://schemas.openxmlformats.org/officeDocument/2006/relationships/slideLayout" Target="../slideLayouts/slideLayout7.xml"/><Relationship Id="rId64" Type="http://schemas.openxmlformats.org/officeDocument/2006/relationships/slideLayout" Target="../slideLayouts/slideLayout8.xml"/><Relationship Id="rId65" Type="http://schemas.openxmlformats.org/officeDocument/2006/relationships/slideLayout" Target="../slideLayouts/slideLayout9.xml"/><Relationship Id="rId66" Type="http://schemas.openxmlformats.org/officeDocument/2006/relationships/slideLayout" Target="../slideLayouts/slideLayout10.xml"/><Relationship Id="rId67" Type="http://schemas.openxmlformats.org/officeDocument/2006/relationships/slideLayout" Target="../slideLayouts/slideLayout11.xml"/><Relationship Id="rId6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0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0.png"/><Relationship Id="rId15" Type="http://schemas.openxmlformats.org/officeDocument/2006/relationships/image" Target="../media/image47.png"/><Relationship Id="rId16" Type="http://schemas.openxmlformats.org/officeDocument/2006/relationships/image" Target="../media/image48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image" Target="../media/image51.png"/><Relationship Id="rId20" Type="http://schemas.openxmlformats.org/officeDocument/2006/relationships/image" Target="../media/image52.png"/><Relationship Id="rId21" Type="http://schemas.openxmlformats.org/officeDocument/2006/relationships/image" Target="../media/image53.png"/><Relationship Id="rId22" Type="http://schemas.openxmlformats.org/officeDocument/2006/relationships/image" Target="../media/image54.png"/><Relationship Id="rId23" Type="http://schemas.openxmlformats.org/officeDocument/2006/relationships/image" Target="../media/image55.png"/><Relationship Id="rId24" Type="http://schemas.openxmlformats.org/officeDocument/2006/relationships/image" Target="../media/image56.png"/><Relationship Id="rId25" Type="http://schemas.openxmlformats.org/officeDocument/2006/relationships/image" Target="../media/image57.png"/><Relationship Id="rId26" Type="http://schemas.openxmlformats.org/officeDocument/2006/relationships/image" Target="../media/image58.png"/><Relationship Id="rId27" Type="http://schemas.openxmlformats.org/officeDocument/2006/relationships/image" Target="../media/image59.png"/><Relationship Id="rId28" Type="http://schemas.openxmlformats.org/officeDocument/2006/relationships/image" Target="../media/image60.png"/><Relationship Id="rId29" Type="http://schemas.openxmlformats.org/officeDocument/2006/relationships/image" Target="../media/image43.png"/><Relationship Id="rId30" Type="http://schemas.openxmlformats.org/officeDocument/2006/relationships/image" Target="../media/image61.png"/><Relationship Id="rId31" Type="http://schemas.openxmlformats.org/officeDocument/2006/relationships/image" Target="../media/image62.png"/><Relationship Id="rId32" Type="http://schemas.openxmlformats.org/officeDocument/2006/relationships/image" Target="../media/image63.png"/><Relationship Id="rId33" Type="http://schemas.openxmlformats.org/officeDocument/2006/relationships/image" Target="../media/image64.png"/><Relationship Id="rId34" Type="http://schemas.openxmlformats.org/officeDocument/2006/relationships/image" Target="../media/image65.png"/><Relationship Id="rId35" Type="http://schemas.openxmlformats.org/officeDocument/2006/relationships/image" Target="../media/image66.png"/><Relationship Id="rId36" Type="http://schemas.openxmlformats.org/officeDocument/2006/relationships/image" Target="../media/image67.png"/><Relationship Id="rId37" Type="http://schemas.openxmlformats.org/officeDocument/2006/relationships/image" Target="../media/image68.png"/><Relationship Id="rId38" Type="http://schemas.openxmlformats.org/officeDocument/2006/relationships/image" Target="../media/image69.png"/><Relationship Id="rId39" Type="http://schemas.openxmlformats.org/officeDocument/2006/relationships/image" Target="../media/image70.png"/><Relationship Id="rId40" Type="http://schemas.openxmlformats.org/officeDocument/2006/relationships/image" Target="../media/image71.png"/><Relationship Id="rId41" Type="http://schemas.openxmlformats.org/officeDocument/2006/relationships/image" Target="../media/image72.png"/><Relationship Id="rId42" Type="http://schemas.openxmlformats.org/officeDocument/2006/relationships/image" Target="../media/image73.png"/><Relationship Id="rId43" Type="http://schemas.openxmlformats.org/officeDocument/2006/relationships/image" Target="../media/image74.png"/><Relationship Id="rId44" Type="http://schemas.openxmlformats.org/officeDocument/2006/relationships/image" Target="../media/image75.png"/><Relationship Id="rId45" Type="http://schemas.openxmlformats.org/officeDocument/2006/relationships/image" Target="../media/image74.png"/><Relationship Id="rId46" Type="http://schemas.openxmlformats.org/officeDocument/2006/relationships/image" Target="../media/image76.png"/><Relationship Id="rId47" Type="http://schemas.openxmlformats.org/officeDocument/2006/relationships/image" Target="../media/image74.png"/><Relationship Id="rId48" Type="http://schemas.openxmlformats.org/officeDocument/2006/relationships/image" Target="../media/image77.png"/><Relationship Id="rId49" Type="http://schemas.openxmlformats.org/officeDocument/2006/relationships/image" Target="../media/image36.png"/><Relationship Id="rId50" Type="http://schemas.openxmlformats.org/officeDocument/2006/relationships/image" Target="../media/image76.png"/><Relationship Id="rId51" Type="http://schemas.openxmlformats.org/officeDocument/2006/relationships/image" Target="../media/image78.png"/><Relationship Id="rId52" Type="http://schemas.openxmlformats.org/officeDocument/2006/relationships/image" Target="../media/image79.png"/><Relationship Id="rId53" Type="http://schemas.openxmlformats.org/officeDocument/2006/relationships/image" Target="../media/image40.png"/><Relationship Id="rId54" Type="http://schemas.openxmlformats.org/officeDocument/2006/relationships/image" Target="../media/image58.png"/><Relationship Id="rId55" Type="http://schemas.openxmlformats.org/officeDocument/2006/relationships/image" Target="../media/image80.png"/><Relationship Id="rId56" Type="http://schemas.openxmlformats.org/officeDocument/2006/relationships/image" Target="../media/image48.png"/><Relationship Id="rId57" Type="http://schemas.openxmlformats.org/officeDocument/2006/relationships/image" Target="../media/image48.png"/><Relationship Id="rId58" Type="http://schemas.openxmlformats.org/officeDocument/2006/relationships/image" Target="../media/image78.png"/><Relationship Id="rId59" Type="http://schemas.openxmlformats.org/officeDocument/2006/relationships/image" Target="../media/image42.png"/><Relationship Id="rId60" Type="http://schemas.openxmlformats.org/officeDocument/2006/relationships/image" Target="../media/image64.png"/><Relationship Id="rId61" Type="http://schemas.openxmlformats.org/officeDocument/2006/relationships/image" Target="../media/image65.png"/><Relationship Id="rId62" Type="http://schemas.openxmlformats.org/officeDocument/2006/relationships/image" Target="../media/image77.png"/><Relationship Id="rId63" Type="http://schemas.openxmlformats.org/officeDocument/2006/relationships/image" Target="../media/image81.png"/><Relationship Id="rId64" Type="http://schemas.openxmlformats.org/officeDocument/2006/relationships/image" Target="../media/image61.png"/><Relationship Id="rId65" Type="http://schemas.openxmlformats.org/officeDocument/2006/relationships/image" Target="../media/image40.png"/><Relationship Id="rId66" Type="http://schemas.openxmlformats.org/officeDocument/2006/relationships/image" Target="../media/image44.png"/><Relationship Id="rId67" Type="http://schemas.openxmlformats.org/officeDocument/2006/relationships/image" Target="../media/image60.png"/><Relationship Id="rId68" Type="http://schemas.openxmlformats.org/officeDocument/2006/relationships/image" Target="../media/image48.png"/><Relationship Id="rId69" Type="http://schemas.openxmlformats.org/officeDocument/2006/relationships/image" Target="../media/image82.png"/><Relationship Id="rId70" Type="http://schemas.openxmlformats.org/officeDocument/2006/relationships/image" Target="../media/image83.png"/><Relationship Id="rId71" Type="http://schemas.openxmlformats.org/officeDocument/2006/relationships/image" Target="../media/image55.png"/><Relationship Id="rId72" Type="http://schemas.openxmlformats.org/officeDocument/2006/relationships/image" Target="../media/image65.png"/><Relationship Id="rId73" Type="http://schemas.openxmlformats.org/officeDocument/2006/relationships/image" Target="../media/image84.png"/><Relationship Id="rId74" Type="http://schemas.openxmlformats.org/officeDocument/2006/relationships/image" Target="../media/image85.png"/><Relationship Id="rId75" Type="http://schemas.openxmlformats.org/officeDocument/2006/relationships/image" Target="../media/image86.png"/><Relationship Id="rId76" Type="http://schemas.openxmlformats.org/officeDocument/2006/relationships/image" Target="../media/image78.png"/><Relationship Id="rId77" Type="http://schemas.openxmlformats.org/officeDocument/2006/relationships/slideLayout" Target="../slideLayouts/slideLayout13.xml"/><Relationship Id="rId78" Type="http://schemas.openxmlformats.org/officeDocument/2006/relationships/slideLayout" Target="../slideLayouts/slideLayout14.xml"/><Relationship Id="rId79" Type="http://schemas.openxmlformats.org/officeDocument/2006/relationships/slideLayout" Target="../slideLayouts/slideLayout15.xml"/><Relationship Id="rId80" Type="http://schemas.openxmlformats.org/officeDocument/2006/relationships/slideLayout" Target="../slideLayouts/slideLayout16.xml"/><Relationship Id="rId81" Type="http://schemas.openxmlformats.org/officeDocument/2006/relationships/slideLayout" Target="../slideLayouts/slideLayout17.xml"/><Relationship Id="rId82" Type="http://schemas.openxmlformats.org/officeDocument/2006/relationships/slideLayout" Target="../slideLayouts/slideLayout18.xml"/><Relationship Id="rId83" Type="http://schemas.openxmlformats.org/officeDocument/2006/relationships/slideLayout" Target="../slideLayouts/slideLayout19.xml"/><Relationship Id="rId84" Type="http://schemas.openxmlformats.org/officeDocument/2006/relationships/slideLayout" Target="../slideLayouts/slideLayout20.xml"/><Relationship Id="rId85" Type="http://schemas.openxmlformats.org/officeDocument/2006/relationships/slideLayout" Target="../slideLayouts/slideLayout21.xml"/><Relationship Id="rId86" Type="http://schemas.openxmlformats.org/officeDocument/2006/relationships/slideLayout" Target="../slideLayouts/slideLayout22.xml"/><Relationship Id="rId87" Type="http://schemas.openxmlformats.org/officeDocument/2006/relationships/slideLayout" Target="../slideLayouts/slideLayout23.xml"/><Relationship Id="rId8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718240"/>
            <a:chOff x="0" y="0"/>
            <a:chExt cx="9144000" cy="5718240"/>
          </a:xfrm>
        </p:grpSpPr>
        <p:pic>
          <p:nvPicPr>
            <p:cNvPr id="1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7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0" y="0"/>
            <a:ext cx="9144000" cy="4943520"/>
            <a:chOff x="0" y="0"/>
            <a:chExt cx="9144000" cy="4943520"/>
          </a:xfrm>
        </p:grpSpPr>
        <p:pic>
          <p:nvPicPr>
            <p:cNvPr id="4" name="椭圆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49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1339920" y="723960"/>
              <a:ext cx="6464160" cy="34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324000" y="480960"/>
            <a:ext cx="8570880" cy="3309840"/>
            <a:chOff x="324000" y="480960"/>
            <a:chExt cx="8570880" cy="3309840"/>
          </a:xfrm>
        </p:grpSpPr>
        <p:pic>
          <p:nvPicPr>
            <p:cNvPr id="7" name="椭圆 8" descr=""/>
            <p:cNvPicPr/>
            <p:nvPr/>
          </p:nvPicPr>
          <p:blipFill>
            <a:blip r:embed="rId4"/>
            <a:stretch/>
          </p:blipFill>
          <p:spPr>
            <a:xfrm>
              <a:off x="324000" y="480960"/>
              <a:ext cx="8570880" cy="33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1578240" y="966600"/>
              <a:ext cx="6059520" cy="23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9" name="椭圆 9" descr=""/>
          <p:cNvPicPr/>
          <p:nvPr/>
        </p:nvPicPr>
        <p:blipFill>
          <a:blip r:embed="rId5"/>
          <a:stretch/>
        </p:blipFill>
        <p:spPr>
          <a:xfrm>
            <a:off x="2401920" y="195120"/>
            <a:ext cx="3979800" cy="7925040"/>
          </a:xfrm>
          <a:prstGeom prst="rect">
            <a:avLst/>
          </a:prstGeom>
          <a:ln w="0">
            <a:noFill/>
          </a:ln>
        </p:spPr>
      </p:pic>
      <p:grpSp>
        <p:nvGrpSpPr>
          <p:cNvPr id="10" name=""/>
          <p:cNvGrpSpPr/>
          <p:nvPr/>
        </p:nvGrpSpPr>
        <p:grpSpPr>
          <a:xfrm>
            <a:off x="6229440" y="628560"/>
            <a:ext cx="360360" cy="358920"/>
            <a:chOff x="6229440" y="628560"/>
            <a:chExt cx="360360" cy="358920"/>
          </a:xfrm>
        </p:grpSpPr>
        <p:pic>
          <p:nvPicPr>
            <p:cNvPr id="11" name="椭圆 10" descr=""/>
            <p:cNvPicPr/>
            <p:nvPr/>
          </p:nvPicPr>
          <p:blipFill>
            <a:blip r:embed="rId6"/>
            <a:stretch/>
          </p:blipFill>
          <p:spPr>
            <a:xfrm>
              <a:off x="6229440" y="628560"/>
              <a:ext cx="36036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6280200" y="677880"/>
              <a:ext cx="2556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950160" y="1054080"/>
            <a:ext cx="646200" cy="652320"/>
            <a:chOff x="6950160" y="1054080"/>
            <a:chExt cx="646200" cy="652320"/>
          </a:xfrm>
        </p:grpSpPr>
        <p:pic>
          <p:nvPicPr>
            <p:cNvPr id="14" name="椭圆 11" descr=""/>
            <p:cNvPicPr/>
            <p:nvPr/>
          </p:nvPicPr>
          <p:blipFill>
            <a:blip r:embed="rId7"/>
            <a:stretch/>
          </p:blipFill>
          <p:spPr>
            <a:xfrm>
              <a:off x="6950160" y="1054080"/>
              <a:ext cx="6462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7043760" y="11523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6802560" y="334800"/>
            <a:ext cx="506160" cy="506520"/>
            <a:chOff x="6802560" y="334800"/>
            <a:chExt cx="506160" cy="506520"/>
          </a:xfrm>
        </p:grpSpPr>
        <p:pic>
          <p:nvPicPr>
            <p:cNvPr id="17" name="椭圆 12" descr=""/>
            <p:cNvPicPr/>
            <p:nvPr/>
          </p:nvPicPr>
          <p:blipFill>
            <a:blip r:embed="rId8"/>
            <a:stretch/>
          </p:blipFill>
          <p:spPr>
            <a:xfrm>
              <a:off x="6802560" y="33480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" name=""/>
            <p:cNvSpPr/>
            <p:nvPr/>
          </p:nvSpPr>
          <p:spPr>
            <a:xfrm>
              <a:off x="6878520" y="411120"/>
              <a:ext cx="3549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1262160" y="268200"/>
            <a:ext cx="500040" cy="500040"/>
            <a:chOff x="1262160" y="268200"/>
            <a:chExt cx="500040" cy="500040"/>
          </a:xfrm>
        </p:grpSpPr>
        <p:pic>
          <p:nvPicPr>
            <p:cNvPr id="20" name="椭圆 13" descr=""/>
            <p:cNvPicPr/>
            <p:nvPr/>
          </p:nvPicPr>
          <p:blipFill>
            <a:blip r:embed="rId9"/>
            <a:stretch/>
          </p:blipFill>
          <p:spPr>
            <a:xfrm>
              <a:off x="1262160" y="26820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" name=""/>
            <p:cNvSpPr/>
            <p:nvPr/>
          </p:nvSpPr>
          <p:spPr>
            <a:xfrm>
              <a:off x="1333440" y="3394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" name=""/>
          <p:cNvGrpSpPr/>
          <p:nvPr/>
        </p:nvGrpSpPr>
        <p:grpSpPr>
          <a:xfrm>
            <a:off x="1908000" y="268200"/>
            <a:ext cx="506520" cy="500040"/>
            <a:chOff x="1908000" y="268200"/>
            <a:chExt cx="506520" cy="500040"/>
          </a:xfrm>
        </p:grpSpPr>
        <p:pic>
          <p:nvPicPr>
            <p:cNvPr id="23" name="椭圆 14" descr=""/>
            <p:cNvPicPr/>
            <p:nvPr/>
          </p:nvPicPr>
          <p:blipFill>
            <a:blip r:embed="rId10"/>
            <a:stretch/>
          </p:blipFill>
          <p:spPr>
            <a:xfrm>
              <a:off x="1908000" y="268200"/>
              <a:ext cx="5065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" name=""/>
            <p:cNvSpPr/>
            <p:nvPr/>
          </p:nvSpPr>
          <p:spPr>
            <a:xfrm>
              <a:off x="1981080" y="339480"/>
              <a:ext cx="3571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8174160" y="841320"/>
            <a:ext cx="360360" cy="358920"/>
            <a:chOff x="8174160" y="841320"/>
            <a:chExt cx="360360" cy="358920"/>
          </a:xfrm>
        </p:grpSpPr>
        <p:pic>
          <p:nvPicPr>
            <p:cNvPr id="26" name="椭圆 15" descr=""/>
            <p:cNvPicPr/>
            <p:nvPr/>
          </p:nvPicPr>
          <p:blipFill>
            <a:blip r:embed="rId11"/>
            <a:stretch/>
          </p:blipFill>
          <p:spPr>
            <a:xfrm>
              <a:off x="8174160" y="841320"/>
              <a:ext cx="36036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" name=""/>
            <p:cNvSpPr/>
            <p:nvPr/>
          </p:nvSpPr>
          <p:spPr>
            <a:xfrm>
              <a:off x="8224920" y="893880"/>
              <a:ext cx="2556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" name=""/>
          <p:cNvGrpSpPr/>
          <p:nvPr/>
        </p:nvGrpSpPr>
        <p:grpSpPr>
          <a:xfrm>
            <a:off x="7815240" y="695160"/>
            <a:ext cx="646200" cy="652320"/>
            <a:chOff x="7815240" y="695160"/>
            <a:chExt cx="646200" cy="652320"/>
          </a:xfrm>
        </p:grpSpPr>
        <p:pic>
          <p:nvPicPr>
            <p:cNvPr id="29" name="椭圆 16" descr=""/>
            <p:cNvPicPr/>
            <p:nvPr/>
          </p:nvPicPr>
          <p:blipFill>
            <a:blip r:embed="rId12"/>
            <a:stretch/>
          </p:blipFill>
          <p:spPr>
            <a:xfrm>
              <a:off x="7815240" y="695160"/>
              <a:ext cx="6462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" name=""/>
            <p:cNvSpPr/>
            <p:nvPr/>
          </p:nvSpPr>
          <p:spPr>
            <a:xfrm>
              <a:off x="7907400" y="792000"/>
              <a:ext cx="4586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6877080" y="407880"/>
            <a:ext cx="792000" cy="792000"/>
            <a:chOff x="6877080" y="407880"/>
            <a:chExt cx="792000" cy="792000"/>
          </a:xfrm>
        </p:grpSpPr>
        <p:pic>
          <p:nvPicPr>
            <p:cNvPr id="32" name="椭圆 17" descr=""/>
            <p:cNvPicPr/>
            <p:nvPr/>
          </p:nvPicPr>
          <p:blipFill>
            <a:blip r:embed="rId13"/>
            <a:stretch/>
          </p:blipFill>
          <p:spPr>
            <a:xfrm>
              <a:off x="6877080" y="40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" name=""/>
            <p:cNvSpPr/>
            <p:nvPr/>
          </p:nvSpPr>
          <p:spPr>
            <a:xfrm>
              <a:off x="6993000" y="525240"/>
              <a:ext cx="5587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" name=""/>
          <p:cNvGrpSpPr/>
          <p:nvPr/>
        </p:nvGrpSpPr>
        <p:grpSpPr>
          <a:xfrm>
            <a:off x="2627280" y="407880"/>
            <a:ext cx="792000" cy="792000"/>
            <a:chOff x="2627280" y="407880"/>
            <a:chExt cx="792000" cy="792000"/>
          </a:xfrm>
        </p:grpSpPr>
        <p:pic>
          <p:nvPicPr>
            <p:cNvPr id="35" name="椭圆 18" descr=""/>
            <p:cNvPicPr/>
            <p:nvPr/>
          </p:nvPicPr>
          <p:blipFill>
            <a:blip r:embed="rId14"/>
            <a:stretch/>
          </p:blipFill>
          <p:spPr>
            <a:xfrm>
              <a:off x="2627280" y="40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" name=""/>
            <p:cNvSpPr/>
            <p:nvPr/>
          </p:nvSpPr>
          <p:spPr>
            <a:xfrm>
              <a:off x="2743200" y="525240"/>
              <a:ext cx="5605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" name=""/>
          <p:cNvGrpSpPr/>
          <p:nvPr/>
        </p:nvGrpSpPr>
        <p:grpSpPr>
          <a:xfrm>
            <a:off x="969840" y="1054080"/>
            <a:ext cx="1084320" cy="1085760"/>
            <a:chOff x="969840" y="1054080"/>
            <a:chExt cx="1084320" cy="1085760"/>
          </a:xfrm>
        </p:grpSpPr>
        <p:pic>
          <p:nvPicPr>
            <p:cNvPr id="38" name="椭圆 19" descr=""/>
            <p:cNvPicPr/>
            <p:nvPr/>
          </p:nvPicPr>
          <p:blipFill>
            <a:blip r:embed="rId15"/>
            <a:stretch/>
          </p:blipFill>
          <p:spPr>
            <a:xfrm>
              <a:off x="969840" y="1054080"/>
              <a:ext cx="10843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" name=""/>
            <p:cNvSpPr/>
            <p:nvPr/>
          </p:nvSpPr>
          <p:spPr>
            <a:xfrm>
              <a:off x="1130040" y="1216080"/>
              <a:ext cx="7635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" name=""/>
          <p:cNvGrpSpPr/>
          <p:nvPr/>
        </p:nvGrpSpPr>
        <p:grpSpPr>
          <a:xfrm>
            <a:off x="1835280" y="914400"/>
            <a:ext cx="358560" cy="360360"/>
            <a:chOff x="1835280" y="914400"/>
            <a:chExt cx="358560" cy="360360"/>
          </a:xfrm>
        </p:grpSpPr>
        <p:pic>
          <p:nvPicPr>
            <p:cNvPr id="41" name="椭圆 20" descr=""/>
            <p:cNvPicPr/>
            <p:nvPr/>
          </p:nvPicPr>
          <p:blipFill>
            <a:blip r:embed="rId16"/>
            <a:stretch/>
          </p:blipFill>
          <p:spPr>
            <a:xfrm>
              <a:off x="1835280" y="914400"/>
              <a:ext cx="3585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1888920" y="966960"/>
              <a:ext cx="2534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" name=""/>
          <p:cNvGrpSpPr/>
          <p:nvPr/>
        </p:nvGrpSpPr>
        <p:grpSpPr>
          <a:xfrm>
            <a:off x="5651640" y="334800"/>
            <a:ext cx="792000" cy="792000"/>
            <a:chOff x="5651640" y="334800"/>
            <a:chExt cx="792000" cy="792000"/>
          </a:xfrm>
        </p:grpSpPr>
        <p:pic>
          <p:nvPicPr>
            <p:cNvPr id="44" name="椭圆 21" descr=""/>
            <p:cNvPicPr/>
            <p:nvPr/>
          </p:nvPicPr>
          <p:blipFill>
            <a:blip r:embed="rId17"/>
            <a:stretch/>
          </p:blipFill>
          <p:spPr>
            <a:xfrm>
              <a:off x="5651640" y="33480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767560" y="452160"/>
              <a:ext cx="5605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443640" y="554040"/>
            <a:ext cx="792000" cy="793800"/>
            <a:chOff x="6443640" y="554040"/>
            <a:chExt cx="792000" cy="793800"/>
          </a:xfrm>
        </p:grpSpPr>
        <p:pic>
          <p:nvPicPr>
            <p:cNvPr id="47" name="椭圆 22" descr=""/>
            <p:cNvPicPr/>
            <p:nvPr/>
          </p:nvPicPr>
          <p:blipFill>
            <a:blip r:embed="rId18"/>
            <a:stretch/>
          </p:blipFill>
          <p:spPr>
            <a:xfrm>
              <a:off x="6443640" y="554040"/>
              <a:ext cx="7920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559560" y="669960"/>
              <a:ext cx="5605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7381800" y="480960"/>
            <a:ext cx="792000" cy="793800"/>
            <a:chOff x="7381800" y="480960"/>
            <a:chExt cx="792000" cy="793800"/>
          </a:xfrm>
        </p:grpSpPr>
        <p:pic>
          <p:nvPicPr>
            <p:cNvPr id="50" name="椭圆 23" descr=""/>
            <p:cNvPicPr/>
            <p:nvPr/>
          </p:nvPicPr>
          <p:blipFill>
            <a:blip r:embed="rId19"/>
            <a:stretch/>
          </p:blipFill>
          <p:spPr>
            <a:xfrm>
              <a:off x="7381800" y="480960"/>
              <a:ext cx="7920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496280" y="596880"/>
              <a:ext cx="5601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7448400" y="195120"/>
            <a:ext cx="506520" cy="500040"/>
            <a:chOff x="7448400" y="195120"/>
            <a:chExt cx="506520" cy="500040"/>
          </a:xfrm>
        </p:grpSpPr>
        <p:pic>
          <p:nvPicPr>
            <p:cNvPr id="53" name="椭圆 24" descr=""/>
            <p:cNvPicPr/>
            <p:nvPr/>
          </p:nvPicPr>
          <p:blipFill>
            <a:blip r:embed="rId20"/>
            <a:stretch/>
          </p:blipFill>
          <p:spPr>
            <a:xfrm>
              <a:off x="7448400" y="195120"/>
              <a:ext cx="5065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26160" y="26640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083280" y="1054080"/>
            <a:ext cx="1079640" cy="1085760"/>
            <a:chOff x="6083280" y="1054080"/>
            <a:chExt cx="1079640" cy="1085760"/>
          </a:xfrm>
        </p:grpSpPr>
        <p:pic>
          <p:nvPicPr>
            <p:cNvPr id="56" name="椭圆 25" descr=""/>
            <p:cNvPicPr/>
            <p:nvPr/>
          </p:nvPicPr>
          <p:blipFill>
            <a:blip r:embed="rId21"/>
            <a:stretch/>
          </p:blipFill>
          <p:spPr>
            <a:xfrm>
              <a:off x="6083280" y="1054080"/>
              <a:ext cx="10796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242040" y="1216080"/>
              <a:ext cx="7635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120760" y="987480"/>
            <a:ext cx="579600" cy="573120"/>
            <a:chOff x="2120760" y="987480"/>
            <a:chExt cx="579600" cy="573120"/>
          </a:xfrm>
        </p:grpSpPr>
        <p:pic>
          <p:nvPicPr>
            <p:cNvPr id="59" name="椭圆 26" descr=""/>
            <p:cNvPicPr/>
            <p:nvPr/>
          </p:nvPicPr>
          <p:blipFill>
            <a:blip r:embed="rId22"/>
            <a:stretch/>
          </p:blipFill>
          <p:spPr>
            <a:xfrm>
              <a:off x="2120760" y="987480"/>
              <a:ext cx="5796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208240" y="1069920"/>
              <a:ext cx="407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133800" y="407880"/>
            <a:ext cx="573120" cy="579600"/>
            <a:chOff x="3133800" y="407880"/>
            <a:chExt cx="573120" cy="579600"/>
          </a:xfrm>
        </p:grpSpPr>
        <p:pic>
          <p:nvPicPr>
            <p:cNvPr id="62" name="椭圆 27" descr=""/>
            <p:cNvPicPr/>
            <p:nvPr/>
          </p:nvPicPr>
          <p:blipFill>
            <a:blip r:embed="rId23"/>
            <a:stretch/>
          </p:blipFill>
          <p:spPr>
            <a:xfrm>
              <a:off x="3133800" y="407880"/>
              <a:ext cx="5731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216240" y="493560"/>
              <a:ext cx="4082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7669080" y="914400"/>
            <a:ext cx="431640" cy="433440"/>
            <a:chOff x="7669080" y="914400"/>
            <a:chExt cx="431640" cy="433440"/>
          </a:xfrm>
        </p:grpSpPr>
        <p:pic>
          <p:nvPicPr>
            <p:cNvPr id="65" name="椭圆 28" descr=""/>
            <p:cNvPicPr/>
            <p:nvPr/>
          </p:nvPicPr>
          <p:blipFill>
            <a:blip r:embed="rId24"/>
            <a:stretch/>
          </p:blipFill>
          <p:spPr>
            <a:xfrm>
              <a:off x="7669080" y="914400"/>
              <a:ext cx="4316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731000" y="976320"/>
              <a:ext cx="30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8461440" y="334800"/>
            <a:ext cx="433440" cy="433440"/>
            <a:chOff x="8461440" y="334800"/>
            <a:chExt cx="433440" cy="433440"/>
          </a:xfrm>
        </p:grpSpPr>
        <p:pic>
          <p:nvPicPr>
            <p:cNvPr id="68" name="椭圆 29" descr=""/>
            <p:cNvPicPr/>
            <p:nvPr/>
          </p:nvPicPr>
          <p:blipFill>
            <a:blip r:embed="rId25"/>
            <a:stretch/>
          </p:blipFill>
          <p:spPr>
            <a:xfrm>
              <a:off x="8461440" y="3348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8523360" y="399960"/>
              <a:ext cx="30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547640" y="914400"/>
            <a:ext cx="646200" cy="646200"/>
            <a:chOff x="1547640" y="914400"/>
            <a:chExt cx="646200" cy="646200"/>
          </a:xfrm>
        </p:grpSpPr>
        <p:pic>
          <p:nvPicPr>
            <p:cNvPr id="71" name="椭圆 30" descr=""/>
            <p:cNvPicPr/>
            <p:nvPr/>
          </p:nvPicPr>
          <p:blipFill>
            <a:blip r:embed="rId26"/>
            <a:stretch/>
          </p:blipFill>
          <p:spPr>
            <a:xfrm>
              <a:off x="1547640" y="914400"/>
              <a:ext cx="646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43040" y="1008000"/>
              <a:ext cx="45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09480" y="841320"/>
            <a:ext cx="865080" cy="865080"/>
            <a:chOff x="609480" y="841320"/>
            <a:chExt cx="865080" cy="865080"/>
          </a:xfrm>
        </p:grpSpPr>
        <p:pic>
          <p:nvPicPr>
            <p:cNvPr id="74" name="椭圆 31" descr=""/>
            <p:cNvPicPr/>
            <p:nvPr/>
          </p:nvPicPr>
          <p:blipFill>
            <a:blip r:embed="rId27"/>
            <a:stretch/>
          </p:blipFill>
          <p:spPr>
            <a:xfrm>
              <a:off x="609480" y="84132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38000" y="968400"/>
              <a:ext cx="6112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042920" y="628560"/>
            <a:ext cx="504720" cy="498600"/>
            <a:chOff x="1042920" y="628560"/>
            <a:chExt cx="504720" cy="498600"/>
          </a:xfrm>
        </p:grpSpPr>
        <p:pic>
          <p:nvPicPr>
            <p:cNvPr id="77" name="椭圆 32" descr=""/>
            <p:cNvPicPr/>
            <p:nvPr/>
          </p:nvPicPr>
          <p:blipFill>
            <a:blip r:embed="rId28"/>
            <a:stretch/>
          </p:blipFill>
          <p:spPr>
            <a:xfrm>
              <a:off x="1042920" y="628560"/>
              <a:ext cx="5047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117440" y="6984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835280" y="628560"/>
            <a:ext cx="285480" cy="285840"/>
            <a:chOff x="1835280" y="628560"/>
            <a:chExt cx="285480" cy="285840"/>
          </a:xfrm>
        </p:grpSpPr>
        <p:pic>
          <p:nvPicPr>
            <p:cNvPr id="80" name="椭圆 33" descr=""/>
            <p:cNvPicPr/>
            <p:nvPr/>
          </p:nvPicPr>
          <p:blipFill>
            <a:blip r:embed="rId29"/>
            <a:stretch/>
          </p:blipFill>
          <p:spPr>
            <a:xfrm>
              <a:off x="1835280" y="628560"/>
              <a:ext cx="2854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877760" y="666720"/>
              <a:ext cx="2030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262160" y="407880"/>
            <a:ext cx="792000" cy="792000"/>
            <a:chOff x="1262160" y="407880"/>
            <a:chExt cx="792000" cy="792000"/>
          </a:xfrm>
        </p:grpSpPr>
        <p:pic>
          <p:nvPicPr>
            <p:cNvPr id="83" name="椭圆 34" descr=""/>
            <p:cNvPicPr/>
            <p:nvPr/>
          </p:nvPicPr>
          <p:blipFill>
            <a:blip r:embed="rId30"/>
            <a:stretch/>
          </p:blipFill>
          <p:spPr>
            <a:xfrm>
              <a:off x="1262160" y="40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376640" y="525240"/>
              <a:ext cx="5587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25840" y="-160200"/>
            <a:ext cx="1084320" cy="1074600"/>
            <a:chOff x="4425840" y="-160200"/>
            <a:chExt cx="1084320" cy="1074600"/>
          </a:xfrm>
        </p:grpSpPr>
        <p:pic>
          <p:nvPicPr>
            <p:cNvPr id="86" name="椭圆 35" descr=""/>
            <p:cNvPicPr/>
            <p:nvPr/>
          </p:nvPicPr>
          <p:blipFill>
            <a:blip r:embed="rId31"/>
            <a:stretch/>
          </p:blipFill>
          <p:spPr>
            <a:xfrm>
              <a:off x="4425840" y="-160200"/>
              <a:ext cx="108432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586040" y="-3600"/>
              <a:ext cx="7635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364000" y="122400"/>
            <a:ext cx="506520" cy="506160"/>
            <a:chOff x="5364000" y="122400"/>
            <a:chExt cx="506520" cy="506160"/>
          </a:xfrm>
        </p:grpSpPr>
        <p:pic>
          <p:nvPicPr>
            <p:cNvPr id="89" name="椭圆 36" descr=""/>
            <p:cNvPicPr/>
            <p:nvPr/>
          </p:nvPicPr>
          <p:blipFill>
            <a:blip r:embed="rId32"/>
            <a:stretch/>
          </p:blipFill>
          <p:spPr>
            <a:xfrm>
              <a:off x="5364000" y="122400"/>
              <a:ext cx="50652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437080" y="195120"/>
              <a:ext cx="3571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419640" y="122400"/>
            <a:ext cx="506160" cy="506160"/>
            <a:chOff x="3419640" y="122400"/>
            <a:chExt cx="506160" cy="506160"/>
          </a:xfrm>
        </p:grpSpPr>
        <p:pic>
          <p:nvPicPr>
            <p:cNvPr id="92" name="椭圆 37" descr=""/>
            <p:cNvPicPr/>
            <p:nvPr/>
          </p:nvPicPr>
          <p:blipFill>
            <a:blip r:embed="rId33"/>
            <a:stretch/>
          </p:blipFill>
          <p:spPr>
            <a:xfrm>
              <a:off x="3419640" y="122400"/>
              <a:ext cx="50616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493800" y="19512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448400" y="1200240"/>
            <a:ext cx="433440" cy="433440"/>
            <a:chOff x="7448400" y="1200240"/>
            <a:chExt cx="433440" cy="433440"/>
          </a:xfrm>
        </p:grpSpPr>
        <p:pic>
          <p:nvPicPr>
            <p:cNvPr id="95" name="椭圆 38" descr=""/>
            <p:cNvPicPr/>
            <p:nvPr/>
          </p:nvPicPr>
          <p:blipFill>
            <a:blip r:embed="rId34"/>
            <a:stretch/>
          </p:blipFill>
          <p:spPr>
            <a:xfrm>
              <a:off x="7448400" y="120024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515000" y="126540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308720" y="1347840"/>
            <a:ext cx="287280" cy="285840"/>
            <a:chOff x="7308720" y="1347840"/>
            <a:chExt cx="287280" cy="285840"/>
          </a:xfrm>
        </p:grpSpPr>
        <p:pic>
          <p:nvPicPr>
            <p:cNvPr id="98" name="椭圆 39" descr=""/>
            <p:cNvPicPr/>
            <p:nvPr/>
          </p:nvPicPr>
          <p:blipFill>
            <a:blip r:embed="rId35"/>
            <a:stretch/>
          </p:blipFill>
          <p:spPr>
            <a:xfrm>
              <a:off x="7308720" y="134784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350120" y="1387440"/>
              <a:ext cx="2048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73440" y="334800"/>
            <a:ext cx="573120" cy="579600"/>
            <a:chOff x="2773440" y="334800"/>
            <a:chExt cx="573120" cy="579600"/>
          </a:xfrm>
        </p:grpSpPr>
        <p:pic>
          <p:nvPicPr>
            <p:cNvPr id="101" name="椭圆 40" descr=""/>
            <p:cNvPicPr/>
            <p:nvPr/>
          </p:nvPicPr>
          <p:blipFill>
            <a:blip r:embed="rId36"/>
            <a:stretch/>
          </p:blipFill>
          <p:spPr>
            <a:xfrm>
              <a:off x="2773440" y="334800"/>
              <a:ext cx="5731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855880" y="422280"/>
              <a:ext cx="4082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133800" y="195120"/>
            <a:ext cx="358560" cy="358920"/>
            <a:chOff x="3133800" y="195120"/>
            <a:chExt cx="358560" cy="358920"/>
          </a:xfrm>
        </p:grpSpPr>
        <p:pic>
          <p:nvPicPr>
            <p:cNvPr id="104" name="椭圆 41" descr=""/>
            <p:cNvPicPr/>
            <p:nvPr/>
          </p:nvPicPr>
          <p:blipFill>
            <a:blip r:embed="rId37"/>
            <a:stretch/>
          </p:blipFill>
          <p:spPr>
            <a:xfrm>
              <a:off x="3133800" y="195120"/>
              <a:ext cx="35856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184200" y="245880"/>
              <a:ext cx="2538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620720" y="334800"/>
            <a:ext cx="646200" cy="652320"/>
            <a:chOff x="1620720" y="334800"/>
            <a:chExt cx="646200" cy="652320"/>
          </a:xfrm>
        </p:grpSpPr>
        <p:pic>
          <p:nvPicPr>
            <p:cNvPr id="107" name="椭圆 42" descr=""/>
            <p:cNvPicPr/>
            <p:nvPr/>
          </p:nvPicPr>
          <p:blipFill>
            <a:blip r:embed="rId38"/>
            <a:stretch/>
          </p:blipFill>
          <p:spPr>
            <a:xfrm>
              <a:off x="1620720" y="334800"/>
              <a:ext cx="6462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714320" y="431640"/>
              <a:ext cx="459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28720" y="628560"/>
            <a:ext cx="433440" cy="425520"/>
            <a:chOff x="828720" y="628560"/>
            <a:chExt cx="433440" cy="425520"/>
          </a:xfrm>
        </p:grpSpPr>
        <p:pic>
          <p:nvPicPr>
            <p:cNvPr id="110" name="椭圆 43" descr=""/>
            <p:cNvPicPr/>
            <p:nvPr/>
          </p:nvPicPr>
          <p:blipFill>
            <a:blip r:embed="rId39"/>
            <a:stretch/>
          </p:blipFill>
          <p:spPr>
            <a:xfrm>
              <a:off x="828720" y="628560"/>
              <a:ext cx="43344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0640" y="68904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10200" y="268200"/>
            <a:ext cx="579600" cy="573120"/>
            <a:chOff x="6010200" y="268200"/>
            <a:chExt cx="579600" cy="573120"/>
          </a:xfrm>
        </p:grpSpPr>
        <p:pic>
          <p:nvPicPr>
            <p:cNvPr id="113" name="椭圆 44" descr=""/>
            <p:cNvPicPr/>
            <p:nvPr/>
          </p:nvPicPr>
          <p:blipFill>
            <a:blip r:embed="rId40"/>
            <a:stretch/>
          </p:blipFill>
          <p:spPr>
            <a:xfrm>
              <a:off x="6010200" y="268200"/>
              <a:ext cx="5796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095880" y="349200"/>
              <a:ext cx="4078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802560" y="1054080"/>
            <a:ext cx="360360" cy="366840"/>
            <a:chOff x="6802560" y="1054080"/>
            <a:chExt cx="360360" cy="366840"/>
          </a:xfrm>
        </p:grpSpPr>
        <p:pic>
          <p:nvPicPr>
            <p:cNvPr id="116" name="椭圆 45" descr=""/>
            <p:cNvPicPr/>
            <p:nvPr/>
          </p:nvPicPr>
          <p:blipFill>
            <a:blip r:embed="rId41"/>
            <a:stretch/>
          </p:blipFill>
          <p:spPr>
            <a:xfrm>
              <a:off x="6802560" y="1054080"/>
              <a:ext cx="36036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856560" y="1109520"/>
              <a:ext cx="255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8601120" y="768240"/>
            <a:ext cx="293760" cy="285840"/>
            <a:chOff x="8601120" y="768240"/>
            <a:chExt cx="293760" cy="285840"/>
          </a:xfrm>
        </p:grpSpPr>
        <p:pic>
          <p:nvPicPr>
            <p:cNvPr id="119" name="椭圆 46" descr=""/>
            <p:cNvPicPr/>
            <p:nvPr/>
          </p:nvPicPr>
          <p:blipFill>
            <a:blip r:embed="rId42"/>
            <a:stretch/>
          </p:blipFill>
          <p:spPr>
            <a:xfrm>
              <a:off x="8601120" y="768240"/>
              <a:ext cx="29376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647200" y="81108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815240" y="1560600"/>
            <a:ext cx="139680" cy="145800"/>
            <a:chOff x="7815240" y="1560600"/>
            <a:chExt cx="139680" cy="145800"/>
          </a:xfrm>
        </p:grpSpPr>
        <p:pic>
          <p:nvPicPr>
            <p:cNvPr id="122" name="椭圆 47" descr=""/>
            <p:cNvPicPr/>
            <p:nvPr/>
          </p:nvPicPr>
          <p:blipFill>
            <a:blip r:embed="rId43"/>
            <a:stretch/>
          </p:blipFill>
          <p:spPr>
            <a:xfrm>
              <a:off x="7815240" y="1560600"/>
              <a:ext cx="139680" cy="14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832880" y="1582560"/>
              <a:ext cx="102960" cy="1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266920" y="695160"/>
            <a:ext cx="147600" cy="146160"/>
            <a:chOff x="2266920" y="695160"/>
            <a:chExt cx="147600" cy="146160"/>
          </a:xfrm>
        </p:grpSpPr>
        <p:pic>
          <p:nvPicPr>
            <p:cNvPr id="125" name="椭圆 48" descr=""/>
            <p:cNvPicPr/>
            <p:nvPr/>
          </p:nvPicPr>
          <p:blipFill>
            <a:blip r:embed="rId44"/>
            <a:stretch/>
          </p:blipFill>
          <p:spPr>
            <a:xfrm>
              <a:off x="2266920" y="695160"/>
              <a:ext cx="14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289240" y="71892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054160" y="841320"/>
            <a:ext cx="139680" cy="146160"/>
            <a:chOff x="2054160" y="841320"/>
            <a:chExt cx="139680" cy="146160"/>
          </a:xfrm>
        </p:grpSpPr>
        <p:pic>
          <p:nvPicPr>
            <p:cNvPr id="128" name="椭圆 49" descr=""/>
            <p:cNvPicPr/>
            <p:nvPr/>
          </p:nvPicPr>
          <p:blipFill>
            <a:blip r:embed="rId45"/>
            <a:stretch/>
          </p:blipFill>
          <p:spPr>
            <a:xfrm>
              <a:off x="2054160" y="841320"/>
              <a:ext cx="13968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073240" y="861840"/>
              <a:ext cx="101520" cy="1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401840" y="334800"/>
            <a:ext cx="145800" cy="146160"/>
            <a:chOff x="1401840" y="334800"/>
            <a:chExt cx="145800" cy="146160"/>
          </a:xfrm>
        </p:grpSpPr>
        <p:pic>
          <p:nvPicPr>
            <p:cNvPr id="131" name="椭圆 50" descr=""/>
            <p:cNvPicPr/>
            <p:nvPr/>
          </p:nvPicPr>
          <p:blipFill>
            <a:blip r:embed="rId46"/>
            <a:stretch/>
          </p:blipFill>
          <p:spPr>
            <a:xfrm>
              <a:off x="1401840" y="334800"/>
              <a:ext cx="1458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423800" y="358560"/>
              <a:ext cx="10260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9480" y="480960"/>
            <a:ext cx="146160" cy="147600"/>
            <a:chOff x="609480" y="480960"/>
            <a:chExt cx="146160" cy="147600"/>
          </a:xfrm>
        </p:grpSpPr>
        <p:pic>
          <p:nvPicPr>
            <p:cNvPr id="134" name="椭圆 51" descr=""/>
            <p:cNvPicPr/>
            <p:nvPr/>
          </p:nvPicPr>
          <p:blipFill>
            <a:blip r:embed="rId47"/>
            <a:stretch/>
          </p:blipFill>
          <p:spPr>
            <a:xfrm>
              <a:off x="609480" y="480960"/>
              <a:ext cx="14616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33240" y="501480"/>
              <a:ext cx="101520" cy="1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89080" y="695160"/>
            <a:ext cx="139680" cy="146160"/>
            <a:chOff x="1189080" y="695160"/>
            <a:chExt cx="139680" cy="146160"/>
          </a:xfrm>
        </p:grpSpPr>
        <p:pic>
          <p:nvPicPr>
            <p:cNvPr id="137" name="椭圆 52" descr=""/>
            <p:cNvPicPr/>
            <p:nvPr/>
          </p:nvPicPr>
          <p:blipFill>
            <a:blip r:embed="rId48"/>
            <a:stretch/>
          </p:blipFill>
          <p:spPr>
            <a:xfrm>
              <a:off x="1189080" y="695160"/>
              <a:ext cx="13968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208160" y="718920"/>
              <a:ext cx="1033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981080" y="1706400"/>
            <a:ext cx="73080" cy="73080"/>
            <a:chOff x="1981080" y="1706400"/>
            <a:chExt cx="73080" cy="73080"/>
          </a:xfrm>
        </p:grpSpPr>
        <p:pic>
          <p:nvPicPr>
            <p:cNvPr id="140" name="椭圆 53" descr=""/>
            <p:cNvPicPr/>
            <p:nvPr/>
          </p:nvPicPr>
          <p:blipFill>
            <a:blip r:embed="rId49"/>
            <a:stretch/>
          </p:blipFill>
          <p:spPr>
            <a:xfrm>
              <a:off x="1981080" y="1706400"/>
              <a:ext cx="7308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990440" y="1715760"/>
              <a:ext cx="5112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145120" y="407880"/>
            <a:ext cx="146160" cy="146160"/>
            <a:chOff x="5145120" y="407880"/>
            <a:chExt cx="146160" cy="146160"/>
          </a:xfrm>
        </p:grpSpPr>
        <p:pic>
          <p:nvPicPr>
            <p:cNvPr id="143" name="椭圆 54" descr=""/>
            <p:cNvPicPr/>
            <p:nvPr/>
          </p:nvPicPr>
          <p:blipFill>
            <a:blip r:embed="rId50"/>
            <a:stretch/>
          </p:blipFill>
          <p:spPr>
            <a:xfrm>
              <a:off x="5145120" y="407880"/>
              <a:ext cx="14616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168880" y="43020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297480" y="841320"/>
            <a:ext cx="146160" cy="146160"/>
            <a:chOff x="6297480" y="841320"/>
            <a:chExt cx="146160" cy="146160"/>
          </a:xfrm>
        </p:grpSpPr>
        <p:pic>
          <p:nvPicPr>
            <p:cNvPr id="146" name="椭圆 55" descr=""/>
            <p:cNvPicPr/>
            <p:nvPr/>
          </p:nvPicPr>
          <p:blipFill>
            <a:blip r:embed="rId51"/>
            <a:stretch/>
          </p:blipFill>
          <p:spPr>
            <a:xfrm>
              <a:off x="6297480" y="841320"/>
              <a:ext cx="14616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321240" y="861840"/>
              <a:ext cx="101520" cy="1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877080" y="1487520"/>
            <a:ext cx="146160" cy="146160"/>
            <a:chOff x="6877080" y="1487520"/>
            <a:chExt cx="146160" cy="146160"/>
          </a:xfrm>
        </p:grpSpPr>
        <p:pic>
          <p:nvPicPr>
            <p:cNvPr id="149" name="椭圆 56" descr=""/>
            <p:cNvPicPr/>
            <p:nvPr/>
          </p:nvPicPr>
          <p:blipFill>
            <a:blip r:embed="rId52"/>
            <a:stretch/>
          </p:blipFill>
          <p:spPr>
            <a:xfrm>
              <a:off x="6877080" y="1487520"/>
              <a:ext cx="14616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897600" y="1509840"/>
              <a:ext cx="101880" cy="1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881840" y="628560"/>
            <a:ext cx="73080" cy="66600"/>
            <a:chOff x="7881840" y="628560"/>
            <a:chExt cx="73080" cy="66600"/>
          </a:xfrm>
        </p:grpSpPr>
        <p:pic>
          <p:nvPicPr>
            <p:cNvPr id="152" name="椭圆 57" descr=""/>
            <p:cNvPicPr/>
            <p:nvPr/>
          </p:nvPicPr>
          <p:blipFill>
            <a:blip r:embed="rId53"/>
            <a:stretch/>
          </p:blipFill>
          <p:spPr>
            <a:xfrm>
              <a:off x="7881840" y="628560"/>
              <a:ext cx="7308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894440" y="636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62200" y="1347840"/>
            <a:ext cx="1084320" cy="1077840"/>
            <a:chOff x="1762200" y="1347840"/>
            <a:chExt cx="1084320" cy="1077840"/>
          </a:xfrm>
        </p:grpSpPr>
        <p:pic>
          <p:nvPicPr>
            <p:cNvPr id="155" name="椭圆 58" descr=""/>
            <p:cNvPicPr/>
            <p:nvPr/>
          </p:nvPicPr>
          <p:blipFill>
            <a:blip r:embed="rId54"/>
            <a:stretch/>
          </p:blipFill>
          <p:spPr>
            <a:xfrm>
              <a:off x="1762200" y="1347840"/>
              <a:ext cx="108432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922400" y="1503360"/>
              <a:ext cx="7635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877080" y="1633680"/>
            <a:ext cx="719280" cy="718920"/>
            <a:chOff x="6877080" y="1633680"/>
            <a:chExt cx="719280" cy="718920"/>
          </a:xfrm>
        </p:grpSpPr>
        <p:pic>
          <p:nvPicPr>
            <p:cNvPr id="158" name="椭圆 59" descr=""/>
            <p:cNvPicPr/>
            <p:nvPr/>
          </p:nvPicPr>
          <p:blipFill>
            <a:blip r:embed="rId55"/>
            <a:stretch/>
          </p:blipFill>
          <p:spPr>
            <a:xfrm>
              <a:off x="6877080" y="1633680"/>
              <a:ext cx="719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981840" y="1738080"/>
              <a:ext cx="5097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-19080" y="4505400"/>
            <a:ext cx="9139320" cy="1218960"/>
            <a:chOff x="-19080" y="4505400"/>
            <a:chExt cx="9139320" cy="1218960"/>
          </a:xfrm>
        </p:grpSpPr>
        <p:pic>
          <p:nvPicPr>
            <p:cNvPr id="161" name="饼形 60" descr=""/>
            <p:cNvPicPr/>
            <p:nvPr/>
          </p:nvPicPr>
          <p:blipFill>
            <a:blip r:embed="rId56"/>
            <a:stretch/>
          </p:blipFill>
          <p:spPr>
            <a:xfrm>
              <a:off x="-19080" y="4505400"/>
              <a:ext cx="91393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 rot="5400000">
              <a:off x="4036320" y="1987920"/>
              <a:ext cx="1011960" cy="64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7"/>
    <p:sldLayoutId id="2147483650" r:id="rId58"/>
    <p:sldLayoutId id="2147483651" r:id="rId59"/>
    <p:sldLayoutId id="2147483652" r:id="rId60"/>
    <p:sldLayoutId id="2147483653" r:id="rId61"/>
    <p:sldLayoutId id="2147483654" r:id="rId62"/>
    <p:sldLayoutId id="2147483655" r:id="rId63"/>
    <p:sldLayoutId id="2147483656" r:id="rId64"/>
    <p:sldLayoutId id="2147483657" r:id="rId65"/>
    <p:sldLayoutId id="2147483658" r:id="rId66"/>
    <p:sldLayoutId id="2147483659" r:id="rId67"/>
    <p:sldLayoutId id="2147483660" r:id="rId6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44000" cy="5718240"/>
            <a:chOff x="0" y="0"/>
            <a:chExt cx="9144000" cy="5718240"/>
          </a:xfrm>
        </p:grpSpPr>
        <p:pic>
          <p:nvPicPr>
            <p:cNvPr id="202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7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0" y="0"/>
              <a:ext cx="914400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0" y="0"/>
            <a:ext cx="9144000" cy="4943520"/>
            <a:chOff x="0" y="0"/>
            <a:chExt cx="9144000" cy="4943520"/>
          </a:xfrm>
        </p:grpSpPr>
        <p:pic>
          <p:nvPicPr>
            <p:cNvPr id="205" name="椭圆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49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339920" y="723960"/>
              <a:ext cx="6464160" cy="34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029360" y="785880"/>
            <a:ext cx="249120" cy="250920"/>
            <a:chOff x="7029360" y="785880"/>
            <a:chExt cx="249120" cy="250920"/>
          </a:xfrm>
        </p:grpSpPr>
        <p:pic>
          <p:nvPicPr>
            <p:cNvPr id="208" name="椭圆 8" descr=""/>
            <p:cNvPicPr/>
            <p:nvPr/>
          </p:nvPicPr>
          <p:blipFill>
            <a:blip r:embed="rId4"/>
            <a:stretch/>
          </p:blipFill>
          <p:spPr>
            <a:xfrm>
              <a:off x="7029360" y="785880"/>
              <a:ext cx="24912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064280" y="822240"/>
              <a:ext cx="17784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527960" y="1085760"/>
            <a:ext cx="323640" cy="328680"/>
            <a:chOff x="7527960" y="1085760"/>
            <a:chExt cx="323640" cy="328680"/>
          </a:xfrm>
        </p:grpSpPr>
        <p:pic>
          <p:nvPicPr>
            <p:cNvPr id="211" name="椭圆 9" descr=""/>
            <p:cNvPicPr/>
            <p:nvPr/>
          </p:nvPicPr>
          <p:blipFill>
            <a:blip r:embed="rId5"/>
            <a:stretch/>
          </p:blipFill>
          <p:spPr>
            <a:xfrm>
              <a:off x="7527960" y="108576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575120" y="1133280"/>
              <a:ext cx="23148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431120" y="585720"/>
            <a:ext cx="347760" cy="347760"/>
            <a:chOff x="7431120" y="585720"/>
            <a:chExt cx="347760" cy="347760"/>
          </a:xfrm>
        </p:grpSpPr>
        <p:pic>
          <p:nvPicPr>
            <p:cNvPr id="214" name="椭圆 10" descr=""/>
            <p:cNvPicPr/>
            <p:nvPr/>
          </p:nvPicPr>
          <p:blipFill>
            <a:blip r:embed="rId6"/>
            <a:stretch/>
          </p:blipFill>
          <p:spPr>
            <a:xfrm>
              <a:off x="7431120" y="585720"/>
              <a:ext cx="3477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480440" y="636480"/>
              <a:ext cx="2458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28560" y="420840"/>
            <a:ext cx="352440" cy="353880"/>
            <a:chOff x="628560" y="420840"/>
            <a:chExt cx="352440" cy="353880"/>
          </a:xfrm>
        </p:grpSpPr>
        <p:pic>
          <p:nvPicPr>
            <p:cNvPr id="217" name="椭圆 11" descr=""/>
            <p:cNvPicPr/>
            <p:nvPr/>
          </p:nvPicPr>
          <p:blipFill>
            <a:blip r:embed="rId7"/>
            <a:stretch/>
          </p:blipFill>
          <p:spPr>
            <a:xfrm>
              <a:off x="628560" y="420840"/>
              <a:ext cx="35244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81120" y="473400"/>
              <a:ext cx="24732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79640" y="420840"/>
            <a:ext cx="352440" cy="353880"/>
            <a:chOff x="1079640" y="420840"/>
            <a:chExt cx="352440" cy="353880"/>
          </a:xfrm>
        </p:grpSpPr>
        <p:pic>
          <p:nvPicPr>
            <p:cNvPr id="220" name="椭圆 12" descr=""/>
            <p:cNvPicPr/>
            <p:nvPr/>
          </p:nvPicPr>
          <p:blipFill>
            <a:blip r:embed="rId8"/>
            <a:stretch/>
          </p:blipFill>
          <p:spPr>
            <a:xfrm>
              <a:off x="1079640" y="420840"/>
              <a:ext cx="35244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130400" y="473400"/>
              <a:ext cx="2476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8375760" y="933480"/>
            <a:ext cx="250560" cy="249120"/>
            <a:chOff x="8375760" y="933480"/>
            <a:chExt cx="250560" cy="249120"/>
          </a:xfrm>
        </p:grpSpPr>
        <p:pic>
          <p:nvPicPr>
            <p:cNvPr id="223" name="椭圆 13" descr=""/>
            <p:cNvPicPr/>
            <p:nvPr/>
          </p:nvPicPr>
          <p:blipFill>
            <a:blip r:embed="rId9"/>
            <a:stretch/>
          </p:blipFill>
          <p:spPr>
            <a:xfrm>
              <a:off x="8375760" y="933480"/>
              <a:ext cx="25056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415000" y="971640"/>
              <a:ext cx="1760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8126280" y="835200"/>
            <a:ext cx="450720" cy="450720"/>
            <a:chOff x="8126280" y="835200"/>
            <a:chExt cx="450720" cy="450720"/>
          </a:xfrm>
        </p:grpSpPr>
        <p:pic>
          <p:nvPicPr>
            <p:cNvPr id="226" name="椭圆 14" descr=""/>
            <p:cNvPicPr/>
            <p:nvPr/>
          </p:nvPicPr>
          <p:blipFill>
            <a:blip r:embed="rId10"/>
            <a:stretch/>
          </p:blipFill>
          <p:spPr>
            <a:xfrm>
              <a:off x="8126280" y="835200"/>
              <a:ext cx="4507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8194680" y="901800"/>
              <a:ext cx="317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480440" y="633240"/>
            <a:ext cx="547560" cy="549360"/>
            <a:chOff x="7480440" y="633240"/>
            <a:chExt cx="547560" cy="549360"/>
          </a:xfrm>
        </p:grpSpPr>
        <p:pic>
          <p:nvPicPr>
            <p:cNvPr id="229" name="椭圆 15" descr=""/>
            <p:cNvPicPr/>
            <p:nvPr/>
          </p:nvPicPr>
          <p:blipFill>
            <a:blip r:embed="rId11"/>
            <a:stretch/>
          </p:blipFill>
          <p:spPr>
            <a:xfrm>
              <a:off x="7480440" y="633240"/>
              <a:ext cx="547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558200" y="715680"/>
              <a:ext cx="3906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579680" y="523800"/>
            <a:ext cx="547560" cy="549360"/>
            <a:chOff x="1579680" y="523800"/>
            <a:chExt cx="547560" cy="549360"/>
          </a:xfrm>
        </p:grpSpPr>
        <p:pic>
          <p:nvPicPr>
            <p:cNvPr id="232" name="椭圆 16" descr=""/>
            <p:cNvPicPr/>
            <p:nvPr/>
          </p:nvPicPr>
          <p:blipFill>
            <a:blip r:embed="rId12"/>
            <a:stretch/>
          </p:blipFill>
          <p:spPr>
            <a:xfrm>
              <a:off x="1579680" y="523800"/>
              <a:ext cx="547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660680" y="601560"/>
              <a:ext cx="388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69800" y="1200240"/>
            <a:ext cx="749160" cy="750960"/>
            <a:chOff x="469800" y="1200240"/>
            <a:chExt cx="749160" cy="750960"/>
          </a:xfrm>
        </p:grpSpPr>
        <p:pic>
          <p:nvPicPr>
            <p:cNvPr id="235" name="椭圆 17" descr=""/>
            <p:cNvPicPr/>
            <p:nvPr/>
          </p:nvPicPr>
          <p:blipFill>
            <a:blip r:embed="rId13"/>
            <a:stretch/>
          </p:blipFill>
          <p:spPr>
            <a:xfrm>
              <a:off x="469800" y="1200240"/>
              <a:ext cx="7491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77800" y="1311480"/>
              <a:ext cx="5302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030320" y="871560"/>
            <a:ext cx="249120" cy="250920"/>
            <a:chOff x="1030320" y="871560"/>
            <a:chExt cx="249120" cy="250920"/>
          </a:xfrm>
        </p:grpSpPr>
        <p:pic>
          <p:nvPicPr>
            <p:cNvPr id="238" name="椭圆 18" descr=""/>
            <p:cNvPicPr/>
            <p:nvPr/>
          </p:nvPicPr>
          <p:blipFill>
            <a:blip r:embed="rId14"/>
            <a:stretch/>
          </p:blipFill>
          <p:spPr>
            <a:xfrm>
              <a:off x="1030320" y="871560"/>
              <a:ext cx="24912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66680" y="907920"/>
              <a:ext cx="1764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626160" y="585720"/>
            <a:ext cx="555480" cy="547560"/>
            <a:chOff x="6626160" y="585720"/>
            <a:chExt cx="555480" cy="547560"/>
          </a:xfrm>
        </p:grpSpPr>
        <p:pic>
          <p:nvPicPr>
            <p:cNvPr id="241" name="椭圆 19" descr=""/>
            <p:cNvPicPr/>
            <p:nvPr/>
          </p:nvPicPr>
          <p:blipFill>
            <a:blip r:embed="rId15"/>
            <a:stretch/>
          </p:blipFill>
          <p:spPr>
            <a:xfrm>
              <a:off x="6626160" y="585720"/>
              <a:ext cx="5554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708600" y="664920"/>
              <a:ext cx="3891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182000" y="738360"/>
            <a:ext cx="547560" cy="547560"/>
            <a:chOff x="7182000" y="738360"/>
            <a:chExt cx="547560" cy="547560"/>
          </a:xfrm>
        </p:grpSpPr>
        <p:pic>
          <p:nvPicPr>
            <p:cNvPr id="244" name="椭圆 20" descr=""/>
            <p:cNvPicPr/>
            <p:nvPr/>
          </p:nvPicPr>
          <p:blipFill>
            <a:blip r:embed="rId16"/>
            <a:stretch/>
          </p:blipFill>
          <p:spPr>
            <a:xfrm>
              <a:off x="7182000" y="738360"/>
              <a:ext cx="547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259760" y="816120"/>
              <a:ext cx="388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827840" y="682560"/>
            <a:ext cx="547560" cy="555480"/>
            <a:chOff x="7827840" y="682560"/>
            <a:chExt cx="547560" cy="555480"/>
          </a:xfrm>
        </p:grpSpPr>
        <p:pic>
          <p:nvPicPr>
            <p:cNvPr id="247" name="椭圆 21" descr=""/>
            <p:cNvPicPr/>
            <p:nvPr/>
          </p:nvPicPr>
          <p:blipFill>
            <a:blip r:embed="rId17"/>
            <a:stretch/>
          </p:blipFill>
          <p:spPr>
            <a:xfrm>
              <a:off x="7827840" y="682560"/>
              <a:ext cx="5475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7908840" y="765000"/>
              <a:ext cx="3888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875720" y="487440"/>
            <a:ext cx="353880" cy="347760"/>
            <a:chOff x="7875720" y="487440"/>
            <a:chExt cx="353880" cy="347760"/>
          </a:xfrm>
        </p:grpSpPr>
        <p:pic>
          <p:nvPicPr>
            <p:cNvPr id="250" name="椭圆 22" descr=""/>
            <p:cNvPicPr/>
            <p:nvPr/>
          </p:nvPicPr>
          <p:blipFill>
            <a:blip r:embed="rId18"/>
            <a:stretch/>
          </p:blipFill>
          <p:spPr>
            <a:xfrm>
              <a:off x="7875720" y="487440"/>
              <a:ext cx="35388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7929720" y="536760"/>
              <a:ext cx="247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931080" y="1085760"/>
            <a:ext cx="542880" cy="541440"/>
            <a:chOff x="6931080" y="1085760"/>
            <a:chExt cx="542880" cy="541440"/>
          </a:xfrm>
        </p:grpSpPr>
        <p:pic>
          <p:nvPicPr>
            <p:cNvPr id="253" name="椭圆 23" descr=""/>
            <p:cNvPicPr/>
            <p:nvPr/>
          </p:nvPicPr>
          <p:blipFill>
            <a:blip r:embed="rId19"/>
            <a:stretch/>
          </p:blipFill>
          <p:spPr>
            <a:xfrm>
              <a:off x="6931080" y="1085760"/>
              <a:ext cx="5428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7007400" y="1164960"/>
              <a:ext cx="38556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231920" y="920880"/>
            <a:ext cx="395280" cy="401400"/>
            <a:chOff x="1231920" y="920880"/>
            <a:chExt cx="395280" cy="401400"/>
          </a:xfrm>
        </p:grpSpPr>
        <p:pic>
          <p:nvPicPr>
            <p:cNvPr id="256" name="椭圆 24" descr=""/>
            <p:cNvPicPr/>
            <p:nvPr/>
          </p:nvPicPr>
          <p:blipFill>
            <a:blip r:embed="rId20"/>
            <a:stretch/>
          </p:blipFill>
          <p:spPr>
            <a:xfrm>
              <a:off x="1231920" y="920880"/>
              <a:ext cx="39528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287360" y="979200"/>
              <a:ext cx="28440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932120" y="523800"/>
            <a:ext cx="396720" cy="396720"/>
            <a:chOff x="1932120" y="523800"/>
            <a:chExt cx="396720" cy="396720"/>
          </a:xfrm>
        </p:grpSpPr>
        <p:pic>
          <p:nvPicPr>
            <p:cNvPr id="259" name="椭圆 25" descr=""/>
            <p:cNvPicPr/>
            <p:nvPr/>
          </p:nvPicPr>
          <p:blipFill>
            <a:blip r:embed="rId21"/>
            <a:stretch/>
          </p:blipFill>
          <p:spPr>
            <a:xfrm>
              <a:off x="1932120" y="523800"/>
              <a:ext cx="396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987560" y="579240"/>
              <a:ext cx="2844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8028000" y="987480"/>
            <a:ext cx="220680" cy="212760"/>
            <a:chOff x="8028000" y="987480"/>
            <a:chExt cx="220680" cy="212760"/>
          </a:xfrm>
        </p:grpSpPr>
        <p:pic>
          <p:nvPicPr>
            <p:cNvPr id="262" name="椭圆 26" descr=""/>
            <p:cNvPicPr/>
            <p:nvPr/>
          </p:nvPicPr>
          <p:blipFill>
            <a:blip r:embed="rId22"/>
            <a:stretch/>
          </p:blipFill>
          <p:spPr>
            <a:xfrm>
              <a:off x="8028000" y="987480"/>
              <a:ext cx="2206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8059680" y="1017720"/>
              <a:ext cx="15408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8577360" y="585720"/>
            <a:ext cx="298440" cy="298440"/>
            <a:chOff x="8577360" y="585720"/>
            <a:chExt cx="298440" cy="298440"/>
          </a:xfrm>
        </p:grpSpPr>
        <p:pic>
          <p:nvPicPr>
            <p:cNvPr id="265" name="椭圆 27" descr=""/>
            <p:cNvPicPr/>
            <p:nvPr/>
          </p:nvPicPr>
          <p:blipFill>
            <a:blip r:embed="rId23"/>
            <a:stretch/>
          </p:blipFill>
          <p:spPr>
            <a:xfrm>
              <a:off x="8577360" y="58572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621640" y="628560"/>
              <a:ext cx="212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28720" y="871560"/>
            <a:ext cx="450720" cy="450720"/>
            <a:chOff x="828720" y="871560"/>
            <a:chExt cx="450720" cy="450720"/>
          </a:xfrm>
        </p:grpSpPr>
        <p:pic>
          <p:nvPicPr>
            <p:cNvPr id="268" name="椭圆 28" descr=""/>
            <p:cNvPicPr/>
            <p:nvPr/>
          </p:nvPicPr>
          <p:blipFill>
            <a:blip r:embed="rId24"/>
            <a:stretch/>
          </p:blipFill>
          <p:spPr>
            <a:xfrm>
              <a:off x="828720" y="871560"/>
              <a:ext cx="4507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95320" y="936720"/>
              <a:ext cx="3193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76040" y="822240"/>
            <a:ext cx="604800" cy="598320"/>
            <a:chOff x="176040" y="822240"/>
            <a:chExt cx="604800" cy="598320"/>
          </a:xfrm>
        </p:grpSpPr>
        <p:pic>
          <p:nvPicPr>
            <p:cNvPr id="271" name="椭圆 29" descr=""/>
            <p:cNvPicPr/>
            <p:nvPr/>
          </p:nvPicPr>
          <p:blipFill>
            <a:blip r:embed="rId25"/>
            <a:stretch/>
          </p:blipFill>
          <p:spPr>
            <a:xfrm>
              <a:off x="176040" y="822240"/>
              <a:ext cx="6048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66400" y="909720"/>
              <a:ext cx="42552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80960" y="669960"/>
            <a:ext cx="347760" cy="353880"/>
            <a:chOff x="480960" y="669960"/>
            <a:chExt cx="347760" cy="353880"/>
          </a:xfrm>
        </p:grpSpPr>
        <p:pic>
          <p:nvPicPr>
            <p:cNvPr id="274" name="椭圆 30" descr=""/>
            <p:cNvPicPr/>
            <p:nvPr/>
          </p:nvPicPr>
          <p:blipFill>
            <a:blip r:embed="rId26"/>
            <a:stretch/>
          </p:blipFill>
          <p:spPr>
            <a:xfrm>
              <a:off x="480960" y="669960"/>
              <a:ext cx="34776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30280" y="722520"/>
              <a:ext cx="2476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030320" y="669960"/>
            <a:ext cx="201600" cy="201600"/>
            <a:chOff x="1030320" y="669960"/>
            <a:chExt cx="201600" cy="201600"/>
          </a:xfrm>
        </p:grpSpPr>
        <p:pic>
          <p:nvPicPr>
            <p:cNvPr id="277" name="椭圆 31" descr=""/>
            <p:cNvPicPr/>
            <p:nvPr/>
          </p:nvPicPr>
          <p:blipFill>
            <a:blip r:embed="rId27"/>
            <a:stretch/>
          </p:blipFill>
          <p:spPr>
            <a:xfrm>
              <a:off x="1030320" y="66996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058760" y="70020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28560" y="523800"/>
            <a:ext cx="554040" cy="549360"/>
            <a:chOff x="628560" y="523800"/>
            <a:chExt cx="554040" cy="549360"/>
          </a:xfrm>
        </p:grpSpPr>
        <p:pic>
          <p:nvPicPr>
            <p:cNvPr id="280" name="椭圆 32" descr=""/>
            <p:cNvPicPr/>
            <p:nvPr/>
          </p:nvPicPr>
          <p:blipFill>
            <a:blip r:embed="rId28"/>
            <a:stretch/>
          </p:blipFill>
          <p:spPr>
            <a:xfrm>
              <a:off x="628560" y="523800"/>
              <a:ext cx="5540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09560" y="601560"/>
              <a:ext cx="388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424560" y="433440"/>
            <a:ext cx="353880" cy="352440"/>
            <a:chOff x="6424560" y="433440"/>
            <a:chExt cx="353880" cy="352440"/>
          </a:xfrm>
        </p:grpSpPr>
        <p:pic>
          <p:nvPicPr>
            <p:cNvPr id="283" name="椭圆 33" descr=""/>
            <p:cNvPicPr/>
            <p:nvPr/>
          </p:nvPicPr>
          <p:blipFill>
            <a:blip r:embed="rId29"/>
            <a:stretch/>
          </p:blipFill>
          <p:spPr>
            <a:xfrm>
              <a:off x="6424560" y="433440"/>
              <a:ext cx="35388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480000" y="486000"/>
              <a:ext cx="2462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127240" y="324000"/>
            <a:ext cx="353880" cy="345960"/>
            <a:chOff x="2127240" y="324000"/>
            <a:chExt cx="353880" cy="345960"/>
          </a:xfrm>
        </p:grpSpPr>
        <p:pic>
          <p:nvPicPr>
            <p:cNvPr id="286" name="椭圆 34" descr=""/>
            <p:cNvPicPr/>
            <p:nvPr/>
          </p:nvPicPr>
          <p:blipFill>
            <a:blip r:embed="rId30"/>
            <a:stretch/>
          </p:blipFill>
          <p:spPr>
            <a:xfrm>
              <a:off x="2127240" y="324000"/>
              <a:ext cx="35388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181240" y="373320"/>
              <a:ext cx="247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875720" y="1182600"/>
            <a:ext cx="220680" cy="219240"/>
            <a:chOff x="7875720" y="1182600"/>
            <a:chExt cx="220680" cy="219240"/>
          </a:xfrm>
        </p:grpSpPr>
        <p:pic>
          <p:nvPicPr>
            <p:cNvPr id="289" name="椭圆 35" descr=""/>
            <p:cNvPicPr/>
            <p:nvPr/>
          </p:nvPicPr>
          <p:blipFill>
            <a:blip r:embed="rId31"/>
            <a:stretch/>
          </p:blipFill>
          <p:spPr>
            <a:xfrm>
              <a:off x="7875720" y="1182600"/>
              <a:ext cx="22068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7910640" y="1217520"/>
              <a:ext cx="15408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778880" y="1285920"/>
            <a:ext cx="145800" cy="146160"/>
            <a:chOff x="7778880" y="1285920"/>
            <a:chExt cx="145800" cy="146160"/>
          </a:xfrm>
        </p:grpSpPr>
        <p:pic>
          <p:nvPicPr>
            <p:cNvPr id="292" name="椭圆 36" descr=""/>
            <p:cNvPicPr/>
            <p:nvPr/>
          </p:nvPicPr>
          <p:blipFill>
            <a:blip r:embed="rId32"/>
            <a:stretch/>
          </p:blipFill>
          <p:spPr>
            <a:xfrm>
              <a:off x="7778880" y="1285920"/>
              <a:ext cx="1458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799040" y="1306440"/>
              <a:ext cx="102960" cy="1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682640" y="469800"/>
            <a:ext cx="395280" cy="401760"/>
            <a:chOff x="1682640" y="469800"/>
            <a:chExt cx="395280" cy="401760"/>
          </a:xfrm>
        </p:grpSpPr>
        <p:pic>
          <p:nvPicPr>
            <p:cNvPr id="295" name="椭圆 37" descr=""/>
            <p:cNvPicPr/>
            <p:nvPr/>
          </p:nvPicPr>
          <p:blipFill>
            <a:blip r:embed="rId33"/>
            <a:stretch/>
          </p:blipFill>
          <p:spPr>
            <a:xfrm>
              <a:off x="1682640" y="469800"/>
              <a:ext cx="3952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738080" y="530280"/>
              <a:ext cx="2826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932120" y="371520"/>
            <a:ext cx="250560" cy="250920"/>
            <a:chOff x="1932120" y="371520"/>
            <a:chExt cx="250560" cy="250920"/>
          </a:xfrm>
        </p:grpSpPr>
        <p:pic>
          <p:nvPicPr>
            <p:cNvPr id="298" name="椭圆 38" descr=""/>
            <p:cNvPicPr/>
            <p:nvPr/>
          </p:nvPicPr>
          <p:blipFill>
            <a:blip r:embed="rId34"/>
            <a:stretch/>
          </p:blipFill>
          <p:spPr>
            <a:xfrm>
              <a:off x="1932120" y="37152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966680" y="407880"/>
              <a:ext cx="17568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878040" y="469800"/>
            <a:ext cx="450720" cy="450720"/>
            <a:chOff x="878040" y="469800"/>
            <a:chExt cx="450720" cy="450720"/>
          </a:xfrm>
        </p:grpSpPr>
        <p:pic>
          <p:nvPicPr>
            <p:cNvPr id="301" name="椭圆 39" descr=""/>
            <p:cNvPicPr/>
            <p:nvPr/>
          </p:nvPicPr>
          <p:blipFill>
            <a:blip r:embed="rId35"/>
            <a:stretch/>
          </p:blipFill>
          <p:spPr>
            <a:xfrm>
              <a:off x="878040" y="469800"/>
              <a:ext cx="4507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946440" y="53640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28680" y="669960"/>
            <a:ext cx="299880" cy="299880"/>
            <a:chOff x="328680" y="669960"/>
            <a:chExt cx="299880" cy="299880"/>
          </a:xfrm>
        </p:grpSpPr>
        <p:pic>
          <p:nvPicPr>
            <p:cNvPr id="304" name="椭圆 40" descr=""/>
            <p:cNvPicPr/>
            <p:nvPr/>
          </p:nvPicPr>
          <p:blipFill>
            <a:blip r:embed="rId36"/>
            <a:stretch/>
          </p:blipFill>
          <p:spPr>
            <a:xfrm>
              <a:off x="328680" y="669960"/>
              <a:ext cx="29988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72960" y="716040"/>
              <a:ext cx="2127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877080" y="536400"/>
            <a:ext cx="401760" cy="396720"/>
            <a:chOff x="6877080" y="536400"/>
            <a:chExt cx="401760" cy="396720"/>
          </a:xfrm>
        </p:grpSpPr>
        <p:pic>
          <p:nvPicPr>
            <p:cNvPr id="307" name="椭圆 41" descr=""/>
            <p:cNvPicPr/>
            <p:nvPr/>
          </p:nvPicPr>
          <p:blipFill>
            <a:blip r:embed="rId37"/>
            <a:stretch/>
          </p:blipFill>
          <p:spPr>
            <a:xfrm>
              <a:off x="6877080" y="536400"/>
              <a:ext cx="4017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937560" y="593640"/>
              <a:ext cx="2826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431120" y="1085760"/>
            <a:ext cx="176040" cy="182520"/>
            <a:chOff x="7431120" y="1085760"/>
            <a:chExt cx="176040" cy="182520"/>
          </a:xfrm>
        </p:grpSpPr>
        <p:pic>
          <p:nvPicPr>
            <p:cNvPr id="310" name="椭圆 42" descr=""/>
            <p:cNvPicPr/>
            <p:nvPr/>
          </p:nvPicPr>
          <p:blipFill>
            <a:blip r:embed="rId38"/>
            <a:stretch/>
          </p:blipFill>
          <p:spPr>
            <a:xfrm>
              <a:off x="7431120" y="1085760"/>
              <a:ext cx="1760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454880" y="1111320"/>
              <a:ext cx="1285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680320" y="884160"/>
            <a:ext cx="195120" cy="201600"/>
            <a:chOff x="8680320" y="884160"/>
            <a:chExt cx="195120" cy="201600"/>
          </a:xfrm>
        </p:grpSpPr>
        <p:pic>
          <p:nvPicPr>
            <p:cNvPr id="313" name="椭圆 43" descr=""/>
            <p:cNvPicPr/>
            <p:nvPr/>
          </p:nvPicPr>
          <p:blipFill>
            <a:blip r:embed="rId39"/>
            <a:stretch/>
          </p:blipFill>
          <p:spPr>
            <a:xfrm>
              <a:off x="8680320" y="884160"/>
              <a:ext cx="19512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8707320" y="914400"/>
              <a:ext cx="141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236080" y="1432080"/>
            <a:ext cx="72720" cy="72720"/>
            <a:chOff x="8236080" y="1432080"/>
            <a:chExt cx="72720" cy="72720"/>
          </a:xfrm>
        </p:grpSpPr>
        <p:pic>
          <p:nvPicPr>
            <p:cNvPr id="316" name="椭圆 44" descr=""/>
            <p:cNvPicPr/>
            <p:nvPr/>
          </p:nvPicPr>
          <p:blipFill>
            <a:blip r:embed="rId40"/>
            <a:stretch/>
          </p:blipFill>
          <p:spPr>
            <a:xfrm>
              <a:off x="8236080" y="1432080"/>
              <a:ext cx="72720" cy="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8248320" y="1446120"/>
              <a:ext cx="50400" cy="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328760" y="719280"/>
            <a:ext cx="103320" cy="102960"/>
            <a:chOff x="1328760" y="719280"/>
            <a:chExt cx="103320" cy="102960"/>
          </a:xfrm>
        </p:grpSpPr>
        <p:pic>
          <p:nvPicPr>
            <p:cNvPr id="319" name="椭圆 45" descr=""/>
            <p:cNvPicPr/>
            <p:nvPr/>
          </p:nvPicPr>
          <p:blipFill>
            <a:blip r:embed="rId41"/>
            <a:stretch/>
          </p:blipFill>
          <p:spPr>
            <a:xfrm>
              <a:off x="1328760" y="719280"/>
              <a:ext cx="103320" cy="10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344600" y="736560"/>
              <a:ext cx="69840" cy="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82600" y="822240"/>
            <a:ext cx="96840" cy="98280"/>
            <a:chOff x="1182600" y="822240"/>
            <a:chExt cx="96840" cy="98280"/>
          </a:xfrm>
        </p:grpSpPr>
        <p:pic>
          <p:nvPicPr>
            <p:cNvPr id="322" name="椭圆 46" descr=""/>
            <p:cNvPicPr/>
            <p:nvPr/>
          </p:nvPicPr>
          <p:blipFill>
            <a:blip r:embed="rId42"/>
            <a:stretch/>
          </p:blipFill>
          <p:spPr>
            <a:xfrm>
              <a:off x="1182600" y="822240"/>
              <a:ext cx="96840" cy="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193760" y="836640"/>
              <a:ext cx="712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31880" y="469800"/>
            <a:ext cx="96840" cy="103320"/>
            <a:chOff x="731880" y="469800"/>
            <a:chExt cx="96840" cy="103320"/>
          </a:xfrm>
        </p:grpSpPr>
        <p:pic>
          <p:nvPicPr>
            <p:cNvPr id="325" name="椭圆 47" descr=""/>
            <p:cNvPicPr/>
            <p:nvPr/>
          </p:nvPicPr>
          <p:blipFill>
            <a:blip r:embed="rId43"/>
            <a:stretch/>
          </p:blipFill>
          <p:spPr>
            <a:xfrm>
              <a:off x="731880" y="469800"/>
              <a:ext cx="9684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44480" y="485640"/>
              <a:ext cx="698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76040" y="573120"/>
            <a:ext cx="104760" cy="96840"/>
            <a:chOff x="176040" y="573120"/>
            <a:chExt cx="104760" cy="96840"/>
          </a:xfrm>
        </p:grpSpPr>
        <p:pic>
          <p:nvPicPr>
            <p:cNvPr id="328" name="椭圆 48" descr=""/>
            <p:cNvPicPr/>
            <p:nvPr/>
          </p:nvPicPr>
          <p:blipFill>
            <a:blip r:embed="rId44"/>
            <a:stretch/>
          </p:blipFill>
          <p:spPr>
            <a:xfrm>
              <a:off x="176040" y="573120"/>
              <a:ext cx="104760" cy="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93680" y="585720"/>
              <a:ext cx="712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600" y="719280"/>
            <a:ext cx="96840" cy="102960"/>
            <a:chOff x="579600" y="719280"/>
            <a:chExt cx="96840" cy="102960"/>
          </a:xfrm>
        </p:grpSpPr>
        <p:pic>
          <p:nvPicPr>
            <p:cNvPr id="331" name="椭圆 49" descr=""/>
            <p:cNvPicPr/>
            <p:nvPr/>
          </p:nvPicPr>
          <p:blipFill>
            <a:blip r:embed="rId45"/>
            <a:stretch/>
          </p:blipFill>
          <p:spPr>
            <a:xfrm>
              <a:off x="579600" y="719280"/>
              <a:ext cx="96840" cy="10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94000" y="736560"/>
              <a:ext cx="71280" cy="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127160" y="1420920"/>
            <a:ext cx="49320" cy="47520"/>
            <a:chOff x="1127160" y="1420920"/>
            <a:chExt cx="49320" cy="47520"/>
          </a:xfrm>
        </p:grpSpPr>
        <p:pic>
          <p:nvPicPr>
            <p:cNvPr id="334" name="椭圆 50" descr=""/>
            <p:cNvPicPr/>
            <p:nvPr/>
          </p:nvPicPr>
          <p:blipFill>
            <a:blip r:embed="rId46"/>
            <a:stretch/>
          </p:blipFill>
          <p:spPr>
            <a:xfrm>
              <a:off x="1127160" y="1420920"/>
              <a:ext cx="49320" cy="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136520" y="1428840"/>
              <a:ext cx="3204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278400" y="633240"/>
            <a:ext cx="98280" cy="104760"/>
            <a:chOff x="6278400" y="633240"/>
            <a:chExt cx="98280" cy="104760"/>
          </a:xfrm>
        </p:grpSpPr>
        <p:pic>
          <p:nvPicPr>
            <p:cNvPr id="337" name="椭圆 51" descr=""/>
            <p:cNvPicPr/>
            <p:nvPr/>
          </p:nvPicPr>
          <p:blipFill>
            <a:blip r:embed="rId47"/>
            <a:stretch/>
          </p:blipFill>
          <p:spPr>
            <a:xfrm>
              <a:off x="6278400" y="633240"/>
              <a:ext cx="982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292800" y="649080"/>
              <a:ext cx="712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077240" y="933480"/>
            <a:ext cx="104760" cy="103320"/>
            <a:chOff x="7077240" y="933480"/>
            <a:chExt cx="104760" cy="103320"/>
          </a:xfrm>
        </p:grpSpPr>
        <p:pic>
          <p:nvPicPr>
            <p:cNvPr id="340" name="椭圆 52" descr=""/>
            <p:cNvPicPr/>
            <p:nvPr/>
          </p:nvPicPr>
          <p:blipFill>
            <a:blip r:embed="rId48"/>
            <a:stretch/>
          </p:blipFill>
          <p:spPr>
            <a:xfrm>
              <a:off x="7077240" y="933480"/>
              <a:ext cx="10476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093080" y="949320"/>
              <a:ext cx="716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480440" y="1384200"/>
            <a:ext cx="72720" cy="73080"/>
            <a:chOff x="7480440" y="1384200"/>
            <a:chExt cx="72720" cy="73080"/>
          </a:xfrm>
        </p:grpSpPr>
        <p:pic>
          <p:nvPicPr>
            <p:cNvPr id="343" name="椭圆 53" descr=""/>
            <p:cNvPicPr/>
            <p:nvPr/>
          </p:nvPicPr>
          <p:blipFill>
            <a:blip r:embed="rId49"/>
            <a:stretch/>
          </p:blipFill>
          <p:spPr>
            <a:xfrm>
              <a:off x="7480440" y="1384200"/>
              <a:ext cx="7272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488000" y="1395360"/>
              <a:ext cx="52200" cy="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180280" y="785880"/>
            <a:ext cx="49320" cy="49320"/>
            <a:chOff x="8180280" y="785880"/>
            <a:chExt cx="49320" cy="49320"/>
          </a:xfrm>
        </p:grpSpPr>
        <p:pic>
          <p:nvPicPr>
            <p:cNvPr id="346" name="椭圆 54" descr=""/>
            <p:cNvPicPr/>
            <p:nvPr/>
          </p:nvPicPr>
          <p:blipFill>
            <a:blip r:embed="rId50"/>
            <a:stretch/>
          </p:blipFill>
          <p:spPr>
            <a:xfrm>
              <a:off x="8180280" y="785880"/>
              <a:ext cx="4932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8184960" y="792360"/>
              <a:ext cx="36720" cy="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81000" y="1170000"/>
            <a:ext cx="750960" cy="750960"/>
            <a:chOff x="981000" y="1170000"/>
            <a:chExt cx="750960" cy="750960"/>
          </a:xfrm>
        </p:grpSpPr>
        <p:pic>
          <p:nvPicPr>
            <p:cNvPr id="349" name="椭圆 55" descr=""/>
            <p:cNvPicPr/>
            <p:nvPr/>
          </p:nvPicPr>
          <p:blipFill>
            <a:blip r:embed="rId51"/>
            <a:stretch/>
          </p:blipFill>
          <p:spPr>
            <a:xfrm>
              <a:off x="981000" y="1170000"/>
              <a:ext cx="7509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1089000" y="1281240"/>
              <a:ext cx="5302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589880" y="1487520"/>
            <a:ext cx="358560" cy="360360"/>
            <a:chOff x="7589880" y="1487520"/>
            <a:chExt cx="358560" cy="360360"/>
          </a:xfrm>
        </p:grpSpPr>
        <p:pic>
          <p:nvPicPr>
            <p:cNvPr id="352" name="椭圆 56" descr=""/>
            <p:cNvPicPr/>
            <p:nvPr/>
          </p:nvPicPr>
          <p:blipFill>
            <a:blip r:embed="rId52"/>
            <a:stretch/>
          </p:blipFill>
          <p:spPr>
            <a:xfrm>
              <a:off x="7589880" y="1487520"/>
              <a:ext cx="3585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640280" y="1538280"/>
              <a:ext cx="255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376440" y="609480"/>
            <a:ext cx="250920" cy="249120"/>
            <a:chOff x="3376440" y="609480"/>
            <a:chExt cx="250920" cy="249120"/>
          </a:xfrm>
        </p:grpSpPr>
        <p:pic>
          <p:nvPicPr>
            <p:cNvPr id="355" name="椭圆 57" descr=""/>
            <p:cNvPicPr/>
            <p:nvPr/>
          </p:nvPicPr>
          <p:blipFill>
            <a:blip r:embed="rId53"/>
            <a:stretch/>
          </p:blipFill>
          <p:spPr>
            <a:xfrm>
              <a:off x="3376440" y="609480"/>
              <a:ext cx="25092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416040" y="645840"/>
              <a:ext cx="1764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780000" y="407880"/>
            <a:ext cx="347400" cy="353880"/>
            <a:chOff x="3780000" y="407880"/>
            <a:chExt cx="347400" cy="353880"/>
          </a:xfrm>
        </p:grpSpPr>
        <p:pic>
          <p:nvPicPr>
            <p:cNvPr id="358" name="椭圆 58" descr=""/>
            <p:cNvPicPr/>
            <p:nvPr/>
          </p:nvPicPr>
          <p:blipFill>
            <a:blip r:embed="rId54"/>
            <a:stretch/>
          </p:blipFill>
          <p:spPr>
            <a:xfrm>
              <a:off x="3780000" y="407880"/>
              <a:ext cx="34740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3830400" y="460440"/>
              <a:ext cx="24732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28960" y="457200"/>
            <a:ext cx="554040" cy="554040"/>
            <a:chOff x="3828960" y="457200"/>
            <a:chExt cx="554040" cy="554040"/>
          </a:xfrm>
        </p:grpSpPr>
        <p:pic>
          <p:nvPicPr>
            <p:cNvPr id="361" name="椭圆 59" descr=""/>
            <p:cNvPicPr/>
            <p:nvPr/>
          </p:nvPicPr>
          <p:blipFill>
            <a:blip r:embed="rId55"/>
            <a:stretch/>
          </p:blipFill>
          <p:spPr>
            <a:xfrm>
              <a:off x="3828960" y="457200"/>
              <a:ext cx="5540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09960" y="539640"/>
              <a:ext cx="3888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981160" y="407880"/>
            <a:ext cx="547560" cy="549360"/>
            <a:chOff x="2981160" y="407880"/>
            <a:chExt cx="547560" cy="549360"/>
          </a:xfrm>
        </p:grpSpPr>
        <p:pic>
          <p:nvPicPr>
            <p:cNvPr id="364" name="椭圆 60" descr=""/>
            <p:cNvPicPr/>
            <p:nvPr/>
          </p:nvPicPr>
          <p:blipFill>
            <a:blip r:embed="rId56"/>
            <a:stretch/>
          </p:blipFill>
          <p:spPr>
            <a:xfrm>
              <a:off x="2981160" y="407880"/>
              <a:ext cx="547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060360" y="490320"/>
              <a:ext cx="3891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529080" y="560520"/>
            <a:ext cx="549360" cy="549000"/>
            <a:chOff x="3529080" y="560520"/>
            <a:chExt cx="549360" cy="549000"/>
          </a:xfrm>
        </p:grpSpPr>
        <p:pic>
          <p:nvPicPr>
            <p:cNvPr id="367" name="椭圆 61" descr=""/>
            <p:cNvPicPr/>
            <p:nvPr/>
          </p:nvPicPr>
          <p:blipFill>
            <a:blip r:embed="rId57"/>
            <a:stretch/>
          </p:blipFill>
          <p:spPr>
            <a:xfrm>
              <a:off x="3529080" y="560520"/>
              <a:ext cx="54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610080" y="639360"/>
              <a:ext cx="388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620720" y="334800"/>
            <a:ext cx="750960" cy="750960"/>
            <a:chOff x="1620720" y="334800"/>
            <a:chExt cx="750960" cy="750960"/>
          </a:xfrm>
        </p:grpSpPr>
        <p:pic>
          <p:nvPicPr>
            <p:cNvPr id="370" name="椭圆 62" descr=""/>
            <p:cNvPicPr/>
            <p:nvPr/>
          </p:nvPicPr>
          <p:blipFill>
            <a:blip r:embed="rId58"/>
            <a:stretch/>
          </p:blipFill>
          <p:spPr>
            <a:xfrm>
              <a:off x="1620720" y="334800"/>
              <a:ext cx="7509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728720" y="447480"/>
              <a:ext cx="531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779560" y="262080"/>
            <a:ext cx="347760" cy="347400"/>
            <a:chOff x="2779560" y="262080"/>
            <a:chExt cx="347760" cy="347400"/>
          </a:xfrm>
        </p:grpSpPr>
        <p:pic>
          <p:nvPicPr>
            <p:cNvPr id="373" name="椭圆 63" descr=""/>
            <p:cNvPicPr/>
            <p:nvPr/>
          </p:nvPicPr>
          <p:blipFill>
            <a:blip r:embed="rId59"/>
            <a:stretch/>
          </p:blipFill>
          <p:spPr>
            <a:xfrm>
              <a:off x="2779560" y="262080"/>
              <a:ext cx="34776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830320" y="311040"/>
              <a:ext cx="24768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30640" y="360360"/>
            <a:ext cx="396720" cy="401760"/>
            <a:chOff x="3230640" y="360360"/>
            <a:chExt cx="396720" cy="401760"/>
          </a:xfrm>
        </p:grpSpPr>
        <p:pic>
          <p:nvPicPr>
            <p:cNvPr id="376" name="椭圆 64" descr=""/>
            <p:cNvPicPr/>
            <p:nvPr/>
          </p:nvPicPr>
          <p:blipFill>
            <a:blip r:embed="rId60"/>
            <a:stretch/>
          </p:blipFill>
          <p:spPr>
            <a:xfrm>
              <a:off x="3230640" y="360360"/>
              <a:ext cx="3967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287880" y="417600"/>
              <a:ext cx="2840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780000" y="907920"/>
            <a:ext cx="249120" cy="250920"/>
            <a:chOff x="3780000" y="907920"/>
            <a:chExt cx="249120" cy="250920"/>
          </a:xfrm>
        </p:grpSpPr>
        <p:pic>
          <p:nvPicPr>
            <p:cNvPr id="379" name="椭圆 65" descr=""/>
            <p:cNvPicPr/>
            <p:nvPr/>
          </p:nvPicPr>
          <p:blipFill>
            <a:blip r:embed="rId61"/>
            <a:stretch/>
          </p:blipFill>
          <p:spPr>
            <a:xfrm>
              <a:off x="3780000" y="907920"/>
              <a:ext cx="24912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816360" y="946080"/>
              <a:ext cx="1764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627280" y="457200"/>
            <a:ext cx="103320" cy="103320"/>
            <a:chOff x="2627280" y="457200"/>
            <a:chExt cx="103320" cy="103320"/>
          </a:xfrm>
        </p:grpSpPr>
        <p:pic>
          <p:nvPicPr>
            <p:cNvPr id="382" name="椭圆 66" descr=""/>
            <p:cNvPicPr/>
            <p:nvPr/>
          </p:nvPicPr>
          <p:blipFill>
            <a:blip r:embed="rId62"/>
            <a:stretch/>
          </p:blipFill>
          <p:spPr>
            <a:xfrm>
              <a:off x="2627280" y="457200"/>
              <a:ext cx="10332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644920" y="474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432240" y="762120"/>
            <a:ext cx="96840" cy="96840"/>
            <a:chOff x="3432240" y="762120"/>
            <a:chExt cx="96840" cy="96840"/>
          </a:xfrm>
        </p:grpSpPr>
        <p:pic>
          <p:nvPicPr>
            <p:cNvPr id="385" name="椭圆 67" descr=""/>
            <p:cNvPicPr/>
            <p:nvPr/>
          </p:nvPicPr>
          <p:blipFill>
            <a:blip r:embed="rId63"/>
            <a:stretch/>
          </p:blipFill>
          <p:spPr>
            <a:xfrm>
              <a:off x="3432240" y="762120"/>
              <a:ext cx="96840" cy="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3444840" y="774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591080" y="304920"/>
            <a:ext cx="352440" cy="347400"/>
            <a:chOff x="4591080" y="304920"/>
            <a:chExt cx="352440" cy="347400"/>
          </a:xfrm>
        </p:grpSpPr>
        <p:pic>
          <p:nvPicPr>
            <p:cNvPr id="388" name="椭圆 68" descr=""/>
            <p:cNvPicPr/>
            <p:nvPr/>
          </p:nvPicPr>
          <p:blipFill>
            <a:blip r:embed="rId64"/>
            <a:stretch/>
          </p:blipFill>
          <p:spPr>
            <a:xfrm>
              <a:off x="4591080" y="304920"/>
              <a:ext cx="35244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643640" y="353880"/>
              <a:ext cx="24732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541840" y="652320"/>
            <a:ext cx="249120" cy="249120"/>
            <a:chOff x="5541840" y="652320"/>
            <a:chExt cx="249120" cy="249120"/>
          </a:xfrm>
        </p:grpSpPr>
        <p:pic>
          <p:nvPicPr>
            <p:cNvPr id="391" name="椭圆 69" descr=""/>
            <p:cNvPicPr/>
            <p:nvPr/>
          </p:nvPicPr>
          <p:blipFill>
            <a:blip r:embed="rId65"/>
            <a:stretch/>
          </p:blipFill>
          <p:spPr>
            <a:xfrm>
              <a:off x="5541840" y="652320"/>
              <a:ext cx="24912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578200" y="690480"/>
              <a:ext cx="17784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291280" y="554040"/>
            <a:ext cx="450720" cy="452520"/>
            <a:chOff x="5291280" y="554040"/>
            <a:chExt cx="450720" cy="452520"/>
          </a:xfrm>
        </p:grpSpPr>
        <p:pic>
          <p:nvPicPr>
            <p:cNvPr id="394" name="椭圆 70" descr=""/>
            <p:cNvPicPr/>
            <p:nvPr/>
          </p:nvPicPr>
          <p:blipFill>
            <a:blip r:embed="rId66"/>
            <a:stretch/>
          </p:blipFill>
          <p:spPr>
            <a:xfrm>
              <a:off x="5291280" y="554040"/>
              <a:ext cx="45072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357880" y="619200"/>
              <a:ext cx="3193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38600" y="353880"/>
            <a:ext cx="555480" cy="547560"/>
            <a:chOff x="4638600" y="353880"/>
            <a:chExt cx="555480" cy="547560"/>
          </a:xfrm>
        </p:grpSpPr>
        <p:pic>
          <p:nvPicPr>
            <p:cNvPr id="397" name="椭圆 71" descr=""/>
            <p:cNvPicPr/>
            <p:nvPr/>
          </p:nvPicPr>
          <p:blipFill>
            <a:blip r:embed="rId67"/>
            <a:stretch/>
          </p:blipFill>
          <p:spPr>
            <a:xfrm>
              <a:off x="4638600" y="353880"/>
              <a:ext cx="5554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4722840" y="433080"/>
              <a:ext cx="3888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992840" y="401760"/>
            <a:ext cx="549000" cy="549000"/>
            <a:chOff x="4992840" y="401760"/>
            <a:chExt cx="549000" cy="549000"/>
          </a:xfrm>
        </p:grpSpPr>
        <p:pic>
          <p:nvPicPr>
            <p:cNvPr id="400" name="椭圆 72" descr=""/>
            <p:cNvPicPr/>
            <p:nvPr/>
          </p:nvPicPr>
          <p:blipFill>
            <a:blip r:embed="rId68"/>
            <a:stretch/>
          </p:blipFill>
          <p:spPr>
            <a:xfrm>
              <a:off x="4992840" y="401760"/>
              <a:ext cx="5490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071680" y="483840"/>
              <a:ext cx="388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041800" y="201600"/>
            <a:ext cx="352440" cy="352440"/>
            <a:chOff x="5041800" y="201600"/>
            <a:chExt cx="352440" cy="352440"/>
          </a:xfrm>
        </p:grpSpPr>
        <p:pic>
          <p:nvPicPr>
            <p:cNvPr id="403" name="椭圆 73" descr=""/>
            <p:cNvPicPr/>
            <p:nvPr/>
          </p:nvPicPr>
          <p:blipFill>
            <a:blip r:embed="rId69"/>
            <a:stretch/>
          </p:blipFill>
          <p:spPr>
            <a:xfrm>
              <a:off x="5041800" y="201600"/>
              <a:ext cx="35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092560" y="254160"/>
              <a:ext cx="2476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194440" y="701640"/>
            <a:ext cx="298440" cy="304920"/>
            <a:chOff x="5194440" y="701640"/>
            <a:chExt cx="298440" cy="304920"/>
          </a:xfrm>
        </p:grpSpPr>
        <p:pic>
          <p:nvPicPr>
            <p:cNvPr id="406" name="椭圆 74" descr=""/>
            <p:cNvPicPr/>
            <p:nvPr/>
          </p:nvPicPr>
          <p:blipFill>
            <a:blip r:embed="rId70"/>
            <a:stretch/>
          </p:blipFill>
          <p:spPr>
            <a:xfrm>
              <a:off x="5194440" y="70164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235840" y="747720"/>
              <a:ext cx="2127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742000" y="304920"/>
            <a:ext cx="298440" cy="298440"/>
            <a:chOff x="5742000" y="304920"/>
            <a:chExt cx="298440" cy="298440"/>
          </a:xfrm>
        </p:grpSpPr>
        <p:pic>
          <p:nvPicPr>
            <p:cNvPr id="409" name="椭圆 75" descr=""/>
            <p:cNvPicPr/>
            <p:nvPr/>
          </p:nvPicPr>
          <p:blipFill>
            <a:blip r:embed="rId71"/>
            <a:stretch/>
          </p:blipFill>
          <p:spPr>
            <a:xfrm>
              <a:off x="5742000" y="30492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786280" y="347760"/>
              <a:ext cx="2113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591080" y="804960"/>
            <a:ext cx="249120" cy="249120"/>
            <a:chOff x="4591080" y="804960"/>
            <a:chExt cx="249120" cy="249120"/>
          </a:xfrm>
        </p:grpSpPr>
        <p:pic>
          <p:nvPicPr>
            <p:cNvPr id="412" name="椭圆 76" descr=""/>
            <p:cNvPicPr/>
            <p:nvPr/>
          </p:nvPicPr>
          <p:blipFill>
            <a:blip r:embed="rId72"/>
            <a:stretch/>
          </p:blipFill>
          <p:spPr>
            <a:xfrm>
              <a:off x="4591080" y="804960"/>
              <a:ext cx="24912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629240" y="839880"/>
              <a:ext cx="17604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840280" y="603360"/>
            <a:ext cx="200160" cy="201600"/>
            <a:chOff x="5840280" y="603360"/>
            <a:chExt cx="200160" cy="201600"/>
          </a:xfrm>
        </p:grpSpPr>
        <p:pic>
          <p:nvPicPr>
            <p:cNvPr id="415" name="椭圆 77" descr=""/>
            <p:cNvPicPr/>
            <p:nvPr/>
          </p:nvPicPr>
          <p:blipFill>
            <a:blip r:embed="rId73"/>
            <a:stretch/>
          </p:blipFill>
          <p:spPr>
            <a:xfrm>
              <a:off x="5840280" y="603360"/>
              <a:ext cx="20016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871960" y="631800"/>
              <a:ext cx="1414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340240" y="506520"/>
            <a:ext cx="54000" cy="47520"/>
            <a:chOff x="5340240" y="506520"/>
            <a:chExt cx="54000" cy="47520"/>
          </a:xfrm>
        </p:grpSpPr>
        <p:pic>
          <p:nvPicPr>
            <p:cNvPr id="418" name="椭圆 78" descr=""/>
            <p:cNvPicPr/>
            <p:nvPr/>
          </p:nvPicPr>
          <p:blipFill>
            <a:blip r:embed="rId74"/>
            <a:stretch/>
          </p:blipFill>
          <p:spPr>
            <a:xfrm>
              <a:off x="5340240" y="506520"/>
              <a:ext cx="54000" cy="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349600" y="511200"/>
              <a:ext cx="3492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20" name="椭圆 79" descr=""/>
          <p:cNvPicPr/>
          <p:nvPr/>
        </p:nvPicPr>
        <p:blipFill>
          <a:blip r:embed="rId75"/>
          <a:stretch/>
        </p:blipFill>
        <p:spPr>
          <a:xfrm>
            <a:off x="7296120" y="19080"/>
            <a:ext cx="1714680" cy="338940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2120760" y="334800"/>
            <a:ext cx="750960" cy="750960"/>
            <a:chOff x="2120760" y="334800"/>
            <a:chExt cx="750960" cy="750960"/>
          </a:xfrm>
        </p:grpSpPr>
        <p:pic>
          <p:nvPicPr>
            <p:cNvPr id="422" name="椭圆 80" descr=""/>
            <p:cNvPicPr/>
            <p:nvPr/>
          </p:nvPicPr>
          <p:blipFill>
            <a:blip r:embed="rId76"/>
            <a:stretch/>
          </p:blipFill>
          <p:spPr>
            <a:xfrm>
              <a:off x="2120760" y="334800"/>
              <a:ext cx="7509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2233440" y="447480"/>
              <a:ext cx="5302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4" name="圆角矩形 81"/>
          <p:cNvSpPr/>
          <p:nvPr/>
        </p:nvSpPr>
        <p:spPr>
          <a:xfrm>
            <a:off x="324000" y="1128600"/>
            <a:ext cx="6984720" cy="417672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25560">
            <a:solidFill>
              <a:srgbClr val="ffffff">
                <a:alpha val="17000"/>
              </a:srgbClr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Freeform 5"/>
          <p:cNvSpPr/>
          <p:nvPr/>
        </p:nvSpPr>
        <p:spPr>
          <a:xfrm>
            <a:off x="7632720" y="1633680"/>
            <a:ext cx="704880" cy="860400"/>
          </a:xfrm>
          <a:custGeom>
            <a:avLst/>
            <a:gdLst/>
            <a:ahLst/>
            <a:rect l="l" t="t" r="r" b="b"/>
            <a:pathLst>
              <a:path w="6741" h="8240">
                <a:moveTo>
                  <a:pt x="0" y="3310"/>
                </a:moveTo>
                <a:lnTo>
                  <a:pt x="0" y="3273"/>
                </a:lnTo>
                <a:lnTo>
                  <a:pt x="1" y="3238"/>
                </a:lnTo>
                <a:lnTo>
                  <a:pt x="3" y="3205"/>
                </a:lnTo>
                <a:lnTo>
                  <a:pt x="7" y="3175"/>
                </a:lnTo>
                <a:lnTo>
                  <a:pt x="10" y="3147"/>
                </a:lnTo>
                <a:lnTo>
                  <a:pt x="15" y="3121"/>
                </a:lnTo>
                <a:lnTo>
                  <a:pt x="20" y="3097"/>
                </a:lnTo>
                <a:lnTo>
                  <a:pt x="27" y="3076"/>
                </a:lnTo>
                <a:lnTo>
                  <a:pt x="34" y="3057"/>
                </a:lnTo>
                <a:lnTo>
                  <a:pt x="42" y="3040"/>
                </a:lnTo>
                <a:lnTo>
                  <a:pt x="51" y="3025"/>
                </a:lnTo>
                <a:lnTo>
                  <a:pt x="60" y="3013"/>
                </a:lnTo>
                <a:lnTo>
                  <a:pt x="65" y="3008"/>
                </a:lnTo>
                <a:lnTo>
                  <a:pt x="71" y="3003"/>
                </a:lnTo>
                <a:lnTo>
                  <a:pt x="77" y="2999"/>
                </a:lnTo>
                <a:lnTo>
                  <a:pt x="82" y="2995"/>
                </a:lnTo>
                <a:lnTo>
                  <a:pt x="88" y="2992"/>
                </a:lnTo>
                <a:lnTo>
                  <a:pt x="95" y="2989"/>
                </a:lnTo>
                <a:lnTo>
                  <a:pt x="101" y="2988"/>
                </a:lnTo>
                <a:lnTo>
                  <a:pt x="107" y="2986"/>
                </a:lnTo>
                <a:lnTo>
                  <a:pt x="198" y="2986"/>
                </a:lnTo>
                <a:lnTo>
                  <a:pt x="305" y="2842"/>
                </a:lnTo>
                <a:lnTo>
                  <a:pt x="575" y="2663"/>
                </a:lnTo>
                <a:lnTo>
                  <a:pt x="629" y="2537"/>
                </a:lnTo>
                <a:lnTo>
                  <a:pt x="679" y="2488"/>
                </a:lnTo>
                <a:lnTo>
                  <a:pt x="720" y="2451"/>
                </a:lnTo>
                <a:lnTo>
                  <a:pt x="736" y="2436"/>
                </a:lnTo>
                <a:lnTo>
                  <a:pt x="751" y="2425"/>
                </a:lnTo>
                <a:lnTo>
                  <a:pt x="763" y="2416"/>
                </a:lnTo>
                <a:lnTo>
                  <a:pt x="774" y="2410"/>
                </a:lnTo>
                <a:lnTo>
                  <a:pt x="882" y="2410"/>
                </a:lnTo>
                <a:lnTo>
                  <a:pt x="1008" y="2373"/>
                </a:lnTo>
                <a:lnTo>
                  <a:pt x="1097" y="2392"/>
                </a:lnTo>
                <a:lnTo>
                  <a:pt x="1169" y="2517"/>
                </a:lnTo>
                <a:lnTo>
                  <a:pt x="1241" y="2482"/>
                </a:lnTo>
                <a:lnTo>
                  <a:pt x="1245" y="2504"/>
                </a:lnTo>
                <a:lnTo>
                  <a:pt x="1251" y="2523"/>
                </a:lnTo>
                <a:lnTo>
                  <a:pt x="1257" y="2540"/>
                </a:lnTo>
                <a:lnTo>
                  <a:pt x="1263" y="2555"/>
                </a:lnTo>
                <a:lnTo>
                  <a:pt x="1270" y="2567"/>
                </a:lnTo>
                <a:lnTo>
                  <a:pt x="1278" y="2577"/>
                </a:lnTo>
                <a:lnTo>
                  <a:pt x="1286" y="2585"/>
                </a:lnTo>
                <a:lnTo>
                  <a:pt x="1295" y="2591"/>
                </a:lnTo>
                <a:lnTo>
                  <a:pt x="1457" y="2753"/>
                </a:lnTo>
                <a:lnTo>
                  <a:pt x="1476" y="2986"/>
                </a:lnTo>
                <a:lnTo>
                  <a:pt x="1511" y="3112"/>
                </a:lnTo>
                <a:lnTo>
                  <a:pt x="1476" y="3310"/>
                </a:lnTo>
                <a:lnTo>
                  <a:pt x="1493" y="3331"/>
                </a:lnTo>
                <a:lnTo>
                  <a:pt x="1509" y="3348"/>
                </a:lnTo>
                <a:lnTo>
                  <a:pt x="1525" y="3363"/>
                </a:lnTo>
                <a:lnTo>
                  <a:pt x="1538" y="3373"/>
                </a:lnTo>
                <a:lnTo>
                  <a:pt x="1545" y="3378"/>
                </a:lnTo>
                <a:lnTo>
                  <a:pt x="1551" y="3381"/>
                </a:lnTo>
                <a:lnTo>
                  <a:pt x="1557" y="3383"/>
                </a:lnTo>
                <a:lnTo>
                  <a:pt x="1563" y="3384"/>
                </a:lnTo>
                <a:lnTo>
                  <a:pt x="1569" y="3385"/>
                </a:lnTo>
                <a:lnTo>
                  <a:pt x="1573" y="3385"/>
                </a:lnTo>
                <a:lnTo>
                  <a:pt x="1579" y="3384"/>
                </a:lnTo>
                <a:lnTo>
                  <a:pt x="1583" y="3382"/>
                </a:lnTo>
                <a:lnTo>
                  <a:pt x="1529" y="3399"/>
                </a:lnTo>
                <a:lnTo>
                  <a:pt x="1555" y="3425"/>
                </a:lnTo>
                <a:lnTo>
                  <a:pt x="1575" y="3447"/>
                </a:lnTo>
                <a:lnTo>
                  <a:pt x="1592" y="3468"/>
                </a:lnTo>
                <a:lnTo>
                  <a:pt x="1606" y="3486"/>
                </a:lnTo>
                <a:lnTo>
                  <a:pt x="1615" y="3499"/>
                </a:lnTo>
                <a:lnTo>
                  <a:pt x="1620" y="3511"/>
                </a:lnTo>
                <a:lnTo>
                  <a:pt x="1621" y="3516"/>
                </a:lnTo>
                <a:lnTo>
                  <a:pt x="1621" y="3519"/>
                </a:lnTo>
                <a:lnTo>
                  <a:pt x="1620" y="3523"/>
                </a:lnTo>
                <a:lnTo>
                  <a:pt x="1618" y="3525"/>
                </a:lnTo>
                <a:lnTo>
                  <a:pt x="1583" y="3597"/>
                </a:lnTo>
                <a:lnTo>
                  <a:pt x="1565" y="3669"/>
                </a:lnTo>
                <a:lnTo>
                  <a:pt x="1493" y="3706"/>
                </a:lnTo>
                <a:lnTo>
                  <a:pt x="1489" y="3711"/>
                </a:lnTo>
                <a:lnTo>
                  <a:pt x="1485" y="3718"/>
                </a:lnTo>
                <a:lnTo>
                  <a:pt x="1484" y="3727"/>
                </a:lnTo>
                <a:lnTo>
                  <a:pt x="1483" y="3737"/>
                </a:lnTo>
                <a:lnTo>
                  <a:pt x="1484" y="3749"/>
                </a:lnTo>
                <a:lnTo>
                  <a:pt x="1485" y="3763"/>
                </a:lnTo>
                <a:lnTo>
                  <a:pt x="1489" y="3778"/>
                </a:lnTo>
                <a:lnTo>
                  <a:pt x="1493" y="3795"/>
                </a:lnTo>
                <a:lnTo>
                  <a:pt x="1476" y="3867"/>
                </a:lnTo>
                <a:lnTo>
                  <a:pt x="1457" y="4030"/>
                </a:lnTo>
                <a:lnTo>
                  <a:pt x="1446" y="4047"/>
                </a:lnTo>
                <a:lnTo>
                  <a:pt x="1435" y="4064"/>
                </a:lnTo>
                <a:lnTo>
                  <a:pt x="1422" y="4079"/>
                </a:lnTo>
                <a:lnTo>
                  <a:pt x="1409" y="4094"/>
                </a:lnTo>
                <a:lnTo>
                  <a:pt x="1396" y="4107"/>
                </a:lnTo>
                <a:lnTo>
                  <a:pt x="1383" y="4119"/>
                </a:lnTo>
                <a:lnTo>
                  <a:pt x="1368" y="4132"/>
                </a:lnTo>
                <a:lnTo>
                  <a:pt x="1353" y="4142"/>
                </a:lnTo>
                <a:lnTo>
                  <a:pt x="1339" y="4151"/>
                </a:lnTo>
                <a:lnTo>
                  <a:pt x="1323" y="4160"/>
                </a:lnTo>
                <a:lnTo>
                  <a:pt x="1307" y="4168"/>
                </a:lnTo>
                <a:lnTo>
                  <a:pt x="1292" y="4175"/>
                </a:lnTo>
                <a:lnTo>
                  <a:pt x="1275" y="4180"/>
                </a:lnTo>
                <a:lnTo>
                  <a:pt x="1258" y="4185"/>
                </a:lnTo>
                <a:lnTo>
                  <a:pt x="1240" y="4188"/>
                </a:lnTo>
                <a:lnTo>
                  <a:pt x="1223" y="4191"/>
                </a:lnTo>
                <a:lnTo>
                  <a:pt x="1187" y="4198"/>
                </a:lnTo>
                <a:lnTo>
                  <a:pt x="1153" y="4204"/>
                </a:lnTo>
                <a:lnTo>
                  <a:pt x="1120" y="4208"/>
                </a:lnTo>
                <a:lnTo>
                  <a:pt x="1090" y="4213"/>
                </a:lnTo>
                <a:lnTo>
                  <a:pt x="1061" y="4216"/>
                </a:lnTo>
                <a:lnTo>
                  <a:pt x="1033" y="4219"/>
                </a:lnTo>
                <a:lnTo>
                  <a:pt x="1006" y="4220"/>
                </a:lnTo>
                <a:lnTo>
                  <a:pt x="980" y="4221"/>
                </a:lnTo>
                <a:lnTo>
                  <a:pt x="956" y="4221"/>
                </a:lnTo>
                <a:lnTo>
                  <a:pt x="933" y="4221"/>
                </a:lnTo>
                <a:lnTo>
                  <a:pt x="912" y="4219"/>
                </a:lnTo>
                <a:lnTo>
                  <a:pt x="893" y="4216"/>
                </a:lnTo>
                <a:lnTo>
                  <a:pt x="875" y="4214"/>
                </a:lnTo>
                <a:lnTo>
                  <a:pt x="858" y="4211"/>
                </a:lnTo>
                <a:lnTo>
                  <a:pt x="842" y="4206"/>
                </a:lnTo>
                <a:lnTo>
                  <a:pt x="828" y="4200"/>
                </a:lnTo>
                <a:lnTo>
                  <a:pt x="798" y="4188"/>
                </a:lnTo>
                <a:lnTo>
                  <a:pt x="762" y="4173"/>
                </a:lnTo>
                <a:lnTo>
                  <a:pt x="722" y="4157"/>
                </a:lnTo>
                <a:lnTo>
                  <a:pt x="674" y="4137"/>
                </a:lnTo>
                <a:lnTo>
                  <a:pt x="623" y="4116"/>
                </a:lnTo>
                <a:lnTo>
                  <a:pt x="564" y="4092"/>
                </a:lnTo>
                <a:lnTo>
                  <a:pt x="501" y="4067"/>
                </a:lnTo>
                <a:lnTo>
                  <a:pt x="431" y="4038"/>
                </a:lnTo>
                <a:lnTo>
                  <a:pt x="396" y="4024"/>
                </a:lnTo>
                <a:lnTo>
                  <a:pt x="365" y="4010"/>
                </a:lnTo>
                <a:lnTo>
                  <a:pt x="334" y="3997"/>
                </a:lnTo>
                <a:lnTo>
                  <a:pt x="307" y="3984"/>
                </a:lnTo>
                <a:lnTo>
                  <a:pt x="283" y="3972"/>
                </a:lnTo>
                <a:lnTo>
                  <a:pt x="261" y="3960"/>
                </a:lnTo>
                <a:lnTo>
                  <a:pt x="241" y="3948"/>
                </a:lnTo>
                <a:lnTo>
                  <a:pt x="224" y="3938"/>
                </a:lnTo>
                <a:lnTo>
                  <a:pt x="209" y="3927"/>
                </a:lnTo>
                <a:lnTo>
                  <a:pt x="198" y="3917"/>
                </a:lnTo>
                <a:lnTo>
                  <a:pt x="188" y="3908"/>
                </a:lnTo>
                <a:lnTo>
                  <a:pt x="181" y="3899"/>
                </a:lnTo>
                <a:lnTo>
                  <a:pt x="177" y="3890"/>
                </a:lnTo>
                <a:lnTo>
                  <a:pt x="176" y="3882"/>
                </a:lnTo>
                <a:lnTo>
                  <a:pt x="176" y="3879"/>
                </a:lnTo>
                <a:lnTo>
                  <a:pt x="177" y="3875"/>
                </a:lnTo>
                <a:lnTo>
                  <a:pt x="178" y="3871"/>
                </a:lnTo>
                <a:lnTo>
                  <a:pt x="180" y="3867"/>
                </a:lnTo>
                <a:lnTo>
                  <a:pt x="215" y="3795"/>
                </a:lnTo>
                <a:lnTo>
                  <a:pt x="126" y="3849"/>
                </a:lnTo>
                <a:lnTo>
                  <a:pt x="35" y="3580"/>
                </a:lnTo>
                <a:lnTo>
                  <a:pt x="17" y="3508"/>
                </a:lnTo>
                <a:lnTo>
                  <a:pt x="26" y="3499"/>
                </a:lnTo>
                <a:lnTo>
                  <a:pt x="35" y="3490"/>
                </a:lnTo>
                <a:lnTo>
                  <a:pt x="45" y="3481"/>
                </a:lnTo>
                <a:lnTo>
                  <a:pt x="54" y="3471"/>
                </a:lnTo>
                <a:lnTo>
                  <a:pt x="17" y="3399"/>
                </a:lnTo>
                <a:lnTo>
                  <a:pt x="17" y="3329"/>
                </a:lnTo>
                <a:lnTo>
                  <a:pt x="0" y="3310"/>
                </a:lnTo>
                <a:close/>
                <a:moveTo>
                  <a:pt x="3131" y="3939"/>
                </a:moveTo>
                <a:lnTo>
                  <a:pt x="3130" y="3895"/>
                </a:lnTo>
                <a:lnTo>
                  <a:pt x="3129" y="3855"/>
                </a:lnTo>
                <a:lnTo>
                  <a:pt x="3126" y="3815"/>
                </a:lnTo>
                <a:lnTo>
                  <a:pt x="3122" y="3778"/>
                </a:lnTo>
                <a:lnTo>
                  <a:pt x="3120" y="3760"/>
                </a:lnTo>
                <a:lnTo>
                  <a:pt x="3119" y="3745"/>
                </a:lnTo>
                <a:lnTo>
                  <a:pt x="3119" y="3729"/>
                </a:lnTo>
                <a:lnTo>
                  <a:pt x="3120" y="3714"/>
                </a:lnTo>
                <a:lnTo>
                  <a:pt x="3121" y="3702"/>
                </a:lnTo>
                <a:lnTo>
                  <a:pt x="3124" y="3689"/>
                </a:lnTo>
                <a:lnTo>
                  <a:pt x="3127" y="3679"/>
                </a:lnTo>
                <a:lnTo>
                  <a:pt x="3131" y="3669"/>
                </a:lnTo>
                <a:lnTo>
                  <a:pt x="3184" y="3329"/>
                </a:lnTo>
                <a:lnTo>
                  <a:pt x="3112" y="3040"/>
                </a:lnTo>
                <a:lnTo>
                  <a:pt x="3108" y="2997"/>
                </a:lnTo>
                <a:lnTo>
                  <a:pt x="3103" y="2960"/>
                </a:lnTo>
                <a:lnTo>
                  <a:pt x="3099" y="2926"/>
                </a:lnTo>
                <a:lnTo>
                  <a:pt x="3094" y="2898"/>
                </a:lnTo>
                <a:lnTo>
                  <a:pt x="3090" y="2874"/>
                </a:lnTo>
                <a:lnTo>
                  <a:pt x="3085" y="2856"/>
                </a:lnTo>
                <a:lnTo>
                  <a:pt x="3082" y="2842"/>
                </a:lnTo>
                <a:lnTo>
                  <a:pt x="3077" y="2833"/>
                </a:lnTo>
                <a:lnTo>
                  <a:pt x="3068" y="2820"/>
                </a:lnTo>
                <a:lnTo>
                  <a:pt x="3059" y="2809"/>
                </a:lnTo>
                <a:lnTo>
                  <a:pt x="3049" y="2798"/>
                </a:lnTo>
                <a:lnTo>
                  <a:pt x="3040" y="2788"/>
                </a:lnTo>
                <a:lnTo>
                  <a:pt x="3028" y="2788"/>
                </a:lnTo>
                <a:lnTo>
                  <a:pt x="3008" y="2786"/>
                </a:lnTo>
                <a:lnTo>
                  <a:pt x="2981" y="2785"/>
                </a:lnTo>
                <a:lnTo>
                  <a:pt x="2946" y="2783"/>
                </a:lnTo>
                <a:lnTo>
                  <a:pt x="2904" y="2781"/>
                </a:lnTo>
                <a:lnTo>
                  <a:pt x="2856" y="2777"/>
                </a:lnTo>
                <a:lnTo>
                  <a:pt x="2799" y="2774"/>
                </a:lnTo>
                <a:lnTo>
                  <a:pt x="2735" y="2770"/>
                </a:lnTo>
                <a:lnTo>
                  <a:pt x="2502" y="2824"/>
                </a:lnTo>
                <a:lnTo>
                  <a:pt x="2086" y="2770"/>
                </a:lnTo>
                <a:lnTo>
                  <a:pt x="1888" y="2807"/>
                </a:lnTo>
                <a:lnTo>
                  <a:pt x="1871" y="2806"/>
                </a:lnTo>
                <a:lnTo>
                  <a:pt x="1853" y="2802"/>
                </a:lnTo>
                <a:lnTo>
                  <a:pt x="1837" y="2798"/>
                </a:lnTo>
                <a:lnTo>
                  <a:pt x="1820" y="2791"/>
                </a:lnTo>
                <a:lnTo>
                  <a:pt x="1803" y="2782"/>
                </a:lnTo>
                <a:lnTo>
                  <a:pt x="1786" y="2771"/>
                </a:lnTo>
                <a:lnTo>
                  <a:pt x="1770" y="2758"/>
                </a:lnTo>
                <a:lnTo>
                  <a:pt x="1753" y="2744"/>
                </a:lnTo>
                <a:lnTo>
                  <a:pt x="1739" y="2727"/>
                </a:lnTo>
                <a:lnTo>
                  <a:pt x="1726" y="2711"/>
                </a:lnTo>
                <a:lnTo>
                  <a:pt x="1714" y="2693"/>
                </a:lnTo>
                <a:lnTo>
                  <a:pt x="1705" y="2675"/>
                </a:lnTo>
                <a:lnTo>
                  <a:pt x="1696" y="2657"/>
                </a:lnTo>
                <a:lnTo>
                  <a:pt x="1689" y="2639"/>
                </a:lnTo>
                <a:lnTo>
                  <a:pt x="1684" y="2619"/>
                </a:lnTo>
                <a:lnTo>
                  <a:pt x="1681" y="2600"/>
                </a:lnTo>
                <a:lnTo>
                  <a:pt x="1680" y="2579"/>
                </a:lnTo>
                <a:lnTo>
                  <a:pt x="1680" y="2561"/>
                </a:lnTo>
                <a:lnTo>
                  <a:pt x="1681" y="2544"/>
                </a:lnTo>
                <a:lnTo>
                  <a:pt x="1683" y="2530"/>
                </a:lnTo>
                <a:lnTo>
                  <a:pt x="1688" y="2515"/>
                </a:lnTo>
                <a:lnTo>
                  <a:pt x="1694" y="2503"/>
                </a:lnTo>
                <a:lnTo>
                  <a:pt x="1700" y="2491"/>
                </a:lnTo>
                <a:lnTo>
                  <a:pt x="1709" y="2482"/>
                </a:lnTo>
                <a:lnTo>
                  <a:pt x="1716" y="2476"/>
                </a:lnTo>
                <a:lnTo>
                  <a:pt x="1726" y="2468"/>
                </a:lnTo>
                <a:lnTo>
                  <a:pt x="1740" y="2460"/>
                </a:lnTo>
                <a:lnTo>
                  <a:pt x="1758" y="2452"/>
                </a:lnTo>
                <a:lnTo>
                  <a:pt x="1779" y="2443"/>
                </a:lnTo>
                <a:lnTo>
                  <a:pt x="1805" y="2434"/>
                </a:lnTo>
                <a:lnTo>
                  <a:pt x="1834" y="2424"/>
                </a:lnTo>
                <a:lnTo>
                  <a:pt x="1867" y="2415"/>
                </a:lnTo>
                <a:lnTo>
                  <a:pt x="1945" y="2394"/>
                </a:lnTo>
                <a:lnTo>
                  <a:pt x="2037" y="2371"/>
                </a:lnTo>
                <a:lnTo>
                  <a:pt x="2144" y="2346"/>
                </a:lnTo>
                <a:lnTo>
                  <a:pt x="2267" y="2320"/>
                </a:lnTo>
                <a:lnTo>
                  <a:pt x="2572" y="2303"/>
                </a:lnTo>
                <a:lnTo>
                  <a:pt x="3059" y="2266"/>
                </a:lnTo>
                <a:lnTo>
                  <a:pt x="3050" y="2262"/>
                </a:lnTo>
                <a:lnTo>
                  <a:pt x="3042" y="2256"/>
                </a:lnTo>
                <a:lnTo>
                  <a:pt x="3037" y="2251"/>
                </a:lnTo>
                <a:lnTo>
                  <a:pt x="3031" y="2244"/>
                </a:lnTo>
                <a:lnTo>
                  <a:pt x="3028" y="2237"/>
                </a:lnTo>
                <a:lnTo>
                  <a:pt x="3024" y="2229"/>
                </a:lnTo>
                <a:lnTo>
                  <a:pt x="3022" y="2221"/>
                </a:lnTo>
                <a:lnTo>
                  <a:pt x="3022" y="2212"/>
                </a:lnTo>
                <a:lnTo>
                  <a:pt x="3040" y="2068"/>
                </a:lnTo>
                <a:lnTo>
                  <a:pt x="3005" y="2014"/>
                </a:lnTo>
                <a:lnTo>
                  <a:pt x="3022" y="1942"/>
                </a:lnTo>
                <a:lnTo>
                  <a:pt x="3005" y="1853"/>
                </a:lnTo>
                <a:lnTo>
                  <a:pt x="3059" y="1763"/>
                </a:lnTo>
                <a:lnTo>
                  <a:pt x="3059" y="611"/>
                </a:lnTo>
                <a:lnTo>
                  <a:pt x="3040" y="233"/>
                </a:lnTo>
                <a:lnTo>
                  <a:pt x="3057" y="214"/>
                </a:lnTo>
                <a:lnTo>
                  <a:pt x="3073" y="195"/>
                </a:lnTo>
                <a:lnTo>
                  <a:pt x="3091" y="176"/>
                </a:lnTo>
                <a:lnTo>
                  <a:pt x="3108" y="159"/>
                </a:lnTo>
                <a:lnTo>
                  <a:pt x="3127" y="141"/>
                </a:lnTo>
                <a:lnTo>
                  <a:pt x="3145" y="125"/>
                </a:lnTo>
                <a:lnTo>
                  <a:pt x="3165" y="109"/>
                </a:lnTo>
                <a:lnTo>
                  <a:pt x="3184" y="95"/>
                </a:lnTo>
                <a:lnTo>
                  <a:pt x="3206" y="80"/>
                </a:lnTo>
                <a:lnTo>
                  <a:pt x="3226" y="66"/>
                </a:lnTo>
                <a:lnTo>
                  <a:pt x="3247" y="54"/>
                </a:lnTo>
                <a:lnTo>
                  <a:pt x="3270" y="42"/>
                </a:lnTo>
                <a:lnTo>
                  <a:pt x="3292" y="30"/>
                </a:lnTo>
                <a:lnTo>
                  <a:pt x="3316" y="19"/>
                </a:lnTo>
                <a:lnTo>
                  <a:pt x="3340" y="9"/>
                </a:lnTo>
                <a:lnTo>
                  <a:pt x="3364" y="0"/>
                </a:lnTo>
                <a:lnTo>
                  <a:pt x="3373" y="17"/>
                </a:lnTo>
                <a:lnTo>
                  <a:pt x="3384" y="33"/>
                </a:lnTo>
                <a:lnTo>
                  <a:pt x="3394" y="46"/>
                </a:lnTo>
                <a:lnTo>
                  <a:pt x="3405" y="57"/>
                </a:lnTo>
                <a:lnTo>
                  <a:pt x="3416" y="68"/>
                </a:lnTo>
                <a:lnTo>
                  <a:pt x="3429" y="77"/>
                </a:lnTo>
                <a:lnTo>
                  <a:pt x="3442" y="83"/>
                </a:lnTo>
                <a:lnTo>
                  <a:pt x="3456" y="89"/>
                </a:lnTo>
                <a:lnTo>
                  <a:pt x="3581" y="143"/>
                </a:lnTo>
                <a:lnTo>
                  <a:pt x="3670" y="287"/>
                </a:lnTo>
                <a:lnTo>
                  <a:pt x="3707" y="341"/>
                </a:lnTo>
                <a:lnTo>
                  <a:pt x="3635" y="611"/>
                </a:lnTo>
                <a:lnTo>
                  <a:pt x="3635" y="862"/>
                </a:lnTo>
                <a:lnTo>
                  <a:pt x="3598" y="916"/>
                </a:lnTo>
                <a:lnTo>
                  <a:pt x="3545" y="1115"/>
                </a:lnTo>
                <a:lnTo>
                  <a:pt x="3562" y="1133"/>
                </a:lnTo>
                <a:lnTo>
                  <a:pt x="3576" y="1151"/>
                </a:lnTo>
                <a:lnTo>
                  <a:pt x="3583" y="1160"/>
                </a:lnTo>
                <a:lnTo>
                  <a:pt x="3589" y="1169"/>
                </a:lnTo>
                <a:lnTo>
                  <a:pt x="3593" y="1178"/>
                </a:lnTo>
                <a:lnTo>
                  <a:pt x="3598" y="1187"/>
                </a:lnTo>
                <a:lnTo>
                  <a:pt x="3607" y="1204"/>
                </a:lnTo>
                <a:lnTo>
                  <a:pt x="3612" y="1218"/>
                </a:lnTo>
                <a:lnTo>
                  <a:pt x="3616" y="1231"/>
                </a:lnTo>
                <a:lnTo>
                  <a:pt x="3617" y="1241"/>
                </a:lnTo>
                <a:lnTo>
                  <a:pt x="3598" y="1367"/>
                </a:lnTo>
                <a:lnTo>
                  <a:pt x="3585" y="1384"/>
                </a:lnTo>
                <a:lnTo>
                  <a:pt x="3575" y="1401"/>
                </a:lnTo>
                <a:lnTo>
                  <a:pt x="3565" y="1415"/>
                </a:lnTo>
                <a:lnTo>
                  <a:pt x="3558" y="1430"/>
                </a:lnTo>
                <a:lnTo>
                  <a:pt x="3551" y="1442"/>
                </a:lnTo>
                <a:lnTo>
                  <a:pt x="3548" y="1455"/>
                </a:lnTo>
                <a:lnTo>
                  <a:pt x="3545" y="1466"/>
                </a:lnTo>
                <a:lnTo>
                  <a:pt x="3545" y="1476"/>
                </a:lnTo>
                <a:lnTo>
                  <a:pt x="3545" y="1727"/>
                </a:lnTo>
                <a:lnTo>
                  <a:pt x="3540" y="1765"/>
                </a:lnTo>
                <a:lnTo>
                  <a:pt x="3538" y="1800"/>
                </a:lnTo>
                <a:lnTo>
                  <a:pt x="3537" y="1832"/>
                </a:lnTo>
                <a:lnTo>
                  <a:pt x="3537" y="1860"/>
                </a:lnTo>
                <a:lnTo>
                  <a:pt x="3539" y="1884"/>
                </a:lnTo>
                <a:lnTo>
                  <a:pt x="3542" y="1904"/>
                </a:lnTo>
                <a:lnTo>
                  <a:pt x="3545" y="1913"/>
                </a:lnTo>
                <a:lnTo>
                  <a:pt x="3547" y="1921"/>
                </a:lnTo>
                <a:lnTo>
                  <a:pt x="3550" y="1927"/>
                </a:lnTo>
                <a:lnTo>
                  <a:pt x="3554" y="1933"/>
                </a:lnTo>
                <a:lnTo>
                  <a:pt x="3560" y="1943"/>
                </a:lnTo>
                <a:lnTo>
                  <a:pt x="3567" y="1953"/>
                </a:lnTo>
                <a:lnTo>
                  <a:pt x="3573" y="1961"/>
                </a:lnTo>
                <a:lnTo>
                  <a:pt x="3578" y="1968"/>
                </a:lnTo>
                <a:lnTo>
                  <a:pt x="3584" y="1972"/>
                </a:lnTo>
                <a:lnTo>
                  <a:pt x="3589" y="1976"/>
                </a:lnTo>
                <a:lnTo>
                  <a:pt x="3594" y="1978"/>
                </a:lnTo>
                <a:lnTo>
                  <a:pt x="3598" y="1979"/>
                </a:lnTo>
                <a:lnTo>
                  <a:pt x="3598" y="1984"/>
                </a:lnTo>
                <a:lnTo>
                  <a:pt x="3595" y="1989"/>
                </a:lnTo>
                <a:lnTo>
                  <a:pt x="3592" y="1997"/>
                </a:lnTo>
                <a:lnTo>
                  <a:pt x="3587" y="2005"/>
                </a:lnTo>
                <a:lnTo>
                  <a:pt x="3573" y="2025"/>
                </a:lnTo>
                <a:lnTo>
                  <a:pt x="3554" y="2051"/>
                </a:lnTo>
                <a:lnTo>
                  <a:pt x="3544" y="2064"/>
                </a:lnTo>
                <a:lnTo>
                  <a:pt x="3536" y="2075"/>
                </a:lnTo>
                <a:lnTo>
                  <a:pt x="3529" y="2084"/>
                </a:lnTo>
                <a:lnTo>
                  <a:pt x="3524" y="2092"/>
                </a:lnTo>
                <a:lnTo>
                  <a:pt x="3522" y="2097"/>
                </a:lnTo>
                <a:lnTo>
                  <a:pt x="3521" y="2102"/>
                </a:lnTo>
                <a:lnTo>
                  <a:pt x="3522" y="2103"/>
                </a:lnTo>
                <a:lnTo>
                  <a:pt x="3523" y="2104"/>
                </a:lnTo>
                <a:lnTo>
                  <a:pt x="3524" y="2104"/>
                </a:lnTo>
                <a:lnTo>
                  <a:pt x="3526" y="2105"/>
                </a:lnTo>
                <a:lnTo>
                  <a:pt x="3545" y="2212"/>
                </a:lnTo>
                <a:lnTo>
                  <a:pt x="3581" y="2194"/>
                </a:lnTo>
                <a:lnTo>
                  <a:pt x="3563" y="2230"/>
                </a:lnTo>
                <a:lnTo>
                  <a:pt x="3670" y="2247"/>
                </a:lnTo>
                <a:lnTo>
                  <a:pt x="4390" y="2212"/>
                </a:lnTo>
                <a:lnTo>
                  <a:pt x="4458" y="2234"/>
                </a:lnTo>
                <a:lnTo>
                  <a:pt x="4518" y="2251"/>
                </a:lnTo>
                <a:lnTo>
                  <a:pt x="4568" y="2265"/>
                </a:lnTo>
                <a:lnTo>
                  <a:pt x="4611" y="2275"/>
                </a:lnTo>
                <a:lnTo>
                  <a:pt x="4645" y="2283"/>
                </a:lnTo>
                <a:lnTo>
                  <a:pt x="4670" y="2287"/>
                </a:lnTo>
                <a:lnTo>
                  <a:pt x="4680" y="2288"/>
                </a:lnTo>
                <a:lnTo>
                  <a:pt x="4688" y="2288"/>
                </a:lnTo>
                <a:lnTo>
                  <a:pt x="4692" y="2287"/>
                </a:lnTo>
                <a:lnTo>
                  <a:pt x="4695" y="2284"/>
                </a:lnTo>
                <a:lnTo>
                  <a:pt x="4876" y="2230"/>
                </a:lnTo>
                <a:lnTo>
                  <a:pt x="4896" y="2229"/>
                </a:lnTo>
                <a:lnTo>
                  <a:pt x="4917" y="2228"/>
                </a:lnTo>
                <a:lnTo>
                  <a:pt x="4939" y="2227"/>
                </a:lnTo>
                <a:lnTo>
                  <a:pt x="4959" y="2227"/>
                </a:lnTo>
                <a:lnTo>
                  <a:pt x="4981" y="2227"/>
                </a:lnTo>
                <a:lnTo>
                  <a:pt x="5003" y="2228"/>
                </a:lnTo>
                <a:lnTo>
                  <a:pt x="5025" y="2230"/>
                </a:lnTo>
                <a:lnTo>
                  <a:pt x="5048" y="2233"/>
                </a:lnTo>
                <a:lnTo>
                  <a:pt x="5070" y="2236"/>
                </a:lnTo>
                <a:lnTo>
                  <a:pt x="5093" y="2239"/>
                </a:lnTo>
                <a:lnTo>
                  <a:pt x="5117" y="2244"/>
                </a:lnTo>
                <a:lnTo>
                  <a:pt x="5140" y="2249"/>
                </a:lnTo>
                <a:lnTo>
                  <a:pt x="5187" y="2261"/>
                </a:lnTo>
                <a:lnTo>
                  <a:pt x="5237" y="2275"/>
                </a:lnTo>
                <a:lnTo>
                  <a:pt x="5283" y="2290"/>
                </a:lnTo>
                <a:lnTo>
                  <a:pt x="5326" y="2303"/>
                </a:lnTo>
                <a:lnTo>
                  <a:pt x="5364" y="2315"/>
                </a:lnTo>
                <a:lnTo>
                  <a:pt x="5398" y="2325"/>
                </a:lnTo>
                <a:lnTo>
                  <a:pt x="5427" y="2333"/>
                </a:lnTo>
                <a:lnTo>
                  <a:pt x="5452" y="2339"/>
                </a:lnTo>
                <a:lnTo>
                  <a:pt x="5472" y="2344"/>
                </a:lnTo>
                <a:lnTo>
                  <a:pt x="5488" y="2347"/>
                </a:lnTo>
                <a:lnTo>
                  <a:pt x="5514" y="2353"/>
                </a:lnTo>
                <a:lnTo>
                  <a:pt x="5538" y="2359"/>
                </a:lnTo>
                <a:lnTo>
                  <a:pt x="5559" y="2365"/>
                </a:lnTo>
                <a:lnTo>
                  <a:pt x="5577" y="2373"/>
                </a:lnTo>
                <a:lnTo>
                  <a:pt x="5847" y="2392"/>
                </a:lnTo>
                <a:lnTo>
                  <a:pt x="5829" y="2445"/>
                </a:lnTo>
                <a:lnTo>
                  <a:pt x="5838" y="2442"/>
                </a:lnTo>
                <a:lnTo>
                  <a:pt x="5847" y="2439"/>
                </a:lnTo>
                <a:lnTo>
                  <a:pt x="5856" y="2437"/>
                </a:lnTo>
                <a:lnTo>
                  <a:pt x="5865" y="2436"/>
                </a:lnTo>
                <a:lnTo>
                  <a:pt x="5875" y="2436"/>
                </a:lnTo>
                <a:lnTo>
                  <a:pt x="5884" y="2437"/>
                </a:lnTo>
                <a:lnTo>
                  <a:pt x="5893" y="2439"/>
                </a:lnTo>
                <a:lnTo>
                  <a:pt x="5902" y="2442"/>
                </a:lnTo>
                <a:lnTo>
                  <a:pt x="5912" y="2445"/>
                </a:lnTo>
                <a:lnTo>
                  <a:pt x="5921" y="2451"/>
                </a:lnTo>
                <a:lnTo>
                  <a:pt x="5928" y="2457"/>
                </a:lnTo>
                <a:lnTo>
                  <a:pt x="5937" y="2463"/>
                </a:lnTo>
                <a:lnTo>
                  <a:pt x="5946" y="2471"/>
                </a:lnTo>
                <a:lnTo>
                  <a:pt x="5955" y="2480"/>
                </a:lnTo>
                <a:lnTo>
                  <a:pt x="5964" y="2490"/>
                </a:lnTo>
                <a:lnTo>
                  <a:pt x="5973" y="2500"/>
                </a:lnTo>
                <a:lnTo>
                  <a:pt x="6045" y="2445"/>
                </a:lnTo>
                <a:lnTo>
                  <a:pt x="6055" y="2459"/>
                </a:lnTo>
                <a:lnTo>
                  <a:pt x="6064" y="2470"/>
                </a:lnTo>
                <a:lnTo>
                  <a:pt x="6073" y="2479"/>
                </a:lnTo>
                <a:lnTo>
                  <a:pt x="6082" y="2487"/>
                </a:lnTo>
                <a:lnTo>
                  <a:pt x="6091" y="2494"/>
                </a:lnTo>
                <a:lnTo>
                  <a:pt x="6100" y="2497"/>
                </a:lnTo>
                <a:lnTo>
                  <a:pt x="6109" y="2500"/>
                </a:lnTo>
                <a:lnTo>
                  <a:pt x="6118" y="2500"/>
                </a:lnTo>
                <a:lnTo>
                  <a:pt x="6405" y="2500"/>
                </a:lnTo>
                <a:lnTo>
                  <a:pt x="6477" y="2555"/>
                </a:lnTo>
                <a:lnTo>
                  <a:pt x="6568" y="2591"/>
                </a:lnTo>
                <a:lnTo>
                  <a:pt x="6586" y="2698"/>
                </a:lnTo>
                <a:lnTo>
                  <a:pt x="6658" y="2716"/>
                </a:lnTo>
                <a:lnTo>
                  <a:pt x="6640" y="2770"/>
                </a:lnTo>
                <a:lnTo>
                  <a:pt x="6665" y="2786"/>
                </a:lnTo>
                <a:lnTo>
                  <a:pt x="6685" y="2802"/>
                </a:lnTo>
                <a:lnTo>
                  <a:pt x="6701" y="2813"/>
                </a:lnTo>
                <a:lnTo>
                  <a:pt x="6712" y="2824"/>
                </a:lnTo>
                <a:lnTo>
                  <a:pt x="6728" y="2839"/>
                </a:lnTo>
                <a:lnTo>
                  <a:pt x="6738" y="2851"/>
                </a:lnTo>
                <a:lnTo>
                  <a:pt x="6740" y="2855"/>
                </a:lnTo>
                <a:lnTo>
                  <a:pt x="6741" y="2862"/>
                </a:lnTo>
                <a:lnTo>
                  <a:pt x="6741" y="2872"/>
                </a:lnTo>
                <a:lnTo>
                  <a:pt x="6740" y="2884"/>
                </a:lnTo>
                <a:lnTo>
                  <a:pt x="6737" y="2920"/>
                </a:lnTo>
                <a:lnTo>
                  <a:pt x="6729" y="2968"/>
                </a:lnTo>
                <a:lnTo>
                  <a:pt x="6712" y="3131"/>
                </a:lnTo>
                <a:lnTo>
                  <a:pt x="6622" y="3166"/>
                </a:lnTo>
                <a:lnTo>
                  <a:pt x="6550" y="3238"/>
                </a:lnTo>
                <a:lnTo>
                  <a:pt x="6352" y="3346"/>
                </a:lnTo>
                <a:lnTo>
                  <a:pt x="6345" y="3354"/>
                </a:lnTo>
                <a:lnTo>
                  <a:pt x="6338" y="3362"/>
                </a:lnTo>
                <a:lnTo>
                  <a:pt x="6333" y="3367"/>
                </a:lnTo>
                <a:lnTo>
                  <a:pt x="6327" y="3372"/>
                </a:lnTo>
                <a:lnTo>
                  <a:pt x="6321" y="3375"/>
                </a:lnTo>
                <a:lnTo>
                  <a:pt x="6316" y="3378"/>
                </a:lnTo>
                <a:lnTo>
                  <a:pt x="6311" y="3379"/>
                </a:lnTo>
                <a:lnTo>
                  <a:pt x="6307" y="3378"/>
                </a:lnTo>
                <a:lnTo>
                  <a:pt x="6302" y="3376"/>
                </a:lnTo>
                <a:lnTo>
                  <a:pt x="6298" y="3373"/>
                </a:lnTo>
                <a:lnTo>
                  <a:pt x="6294" y="3369"/>
                </a:lnTo>
                <a:lnTo>
                  <a:pt x="6291" y="3363"/>
                </a:lnTo>
                <a:lnTo>
                  <a:pt x="6288" y="3356"/>
                </a:lnTo>
                <a:lnTo>
                  <a:pt x="6284" y="3348"/>
                </a:lnTo>
                <a:lnTo>
                  <a:pt x="6282" y="3339"/>
                </a:lnTo>
                <a:lnTo>
                  <a:pt x="6280" y="3329"/>
                </a:lnTo>
                <a:lnTo>
                  <a:pt x="6257" y="3329"/>
                </a:lnTo>
                <a:lnTo>
                  <a:pt x="6236" y="3330"/>
                </a:lnTo>
                <a:lnTo>
                  <a:pt x="6216" y="3332"/>
                </a:lnTo>
                <a:lnTo>
                  <a:pt x="6195" y="3336"/>
                </a:lnTo>
                <a:lnTo>
                  <a:pt x="6176" y="3340"/>
                </a:lnTo>
                <a:lnTo>
                  <a:pt x="6157" y="3346"/>
                </a:lnTo>
                <a:lnTo>
                  <a:pt x="6139" y="3353"/>
                </a:lnTo>
                <a:lnTo>
                  <a:pt x="6122" y="3359"/>
                </a:lnTo>
                <a:lnTo>
                  <a:pt x="6106" y="3369"/>
                </a:lnTo>
                <a:lnTo>
                  <a:pt x="6091" y="3378"/>
                </a:lnTo>
                <a:lnTo>
                  <a:pt x="6075" y="3388"/>
                </a:lnTo>
                <a:lnTo>
                  <a:pt x="6061" y="3399"/>
                </a:lnTo>
                <a:lnTo>
                  <a:pt x="6048" y="3411"/>
                </a:lnTo>
                <a:lnTo>
                  <a:pt x="6034" y="3425"/>
                </a:lnTo>
                <a:lnTo>
                  <a:pt x="6022" y="3439"/>
                </a:lnTo>
                <a:lnTo>
                  <a:pt x="6011" y="3454"/>
                </a:lnTo>
                <a:lnTo>
                  <a:pt x="5973" y="3436"/>
                </a:lnTo>
                <a:lnTo>
                  <a:pt x="5957" y="3525"/>
                </a:lnTo>
                <a:lnTo>
                  <a:pt x="5919" y="3471"/>
                </a:lnTo>
                <a:lnTo>
                  <a:pt x="5904" y="3489"/>
                </a:lnTo>
                <a:lnTo>
                  <a:pt x="5889" y="3506"/>
                </a:lnTo>
                <a:lnTo>
                  <a:pt x="5877" y="3520"/>
                </a:lnTo>
                <a:lnTo>
                  <a:pt x="5866" y="3535"/>
                </a:lnTo>
                <a:lnTo>
                  <a:pt x="5857" y="3548"/>
                </a:lnTo>
                <a:lnTo>
                  <a:pt x="5852" y="3560"/>
                </a:lnTo>
                <a:lnTo>
                  <a:pt x="5848" y="3571"/>
                </a:lnTo>
                <a:lnTo>
                  <a:pt x="5847" y="3580"/>
                </a:lnTo>
                <a:lnTo>
                  <a:pt x="5847" y="3597"/>
                </a:lnTo>
                <a:lnTo>
                  <a:pt x="5847" y="3652"/>
                </a:lnTo>
                <a:lnTo>
                  <a:pt x="5794" y="3634"/>
                </a:lnTo>
                <a:lnTo>
                  <a:pt x="5781" y="3651"/>
                </a:lnTo>
                <a:lnTo>
                  <a:pt x="5770" y="3668"/>
                </a:lnTo>
                <a:lnTo>
                  <a:pt x="5761" y="3684"/>
                </a:lnTo>
                <a:lnTo>
                  <a:pt x="5752" y="3698"/>
                </a:lnTo>
                <a:lnTo>
                  <a:pt x="5744" y="3713"/>
                </a:lnTo>
                <a:lnTo>
                  <a:pt x="5738" y="3727"/>
                </a:lnTo>
                <a:lnTo>
                  <a:pt x="5734" y="3739"/>
                </a:lnTo>
                <a:lnTo>
                  <a:pt x="5731" y="3751"/>
                </a:lnTo>
                <a:lnTo>
                  <a:pt x="5727" y="3776"/>
                </a:lnTo>
                <a:lnTo>
                  <a:pt x="5721" y="3805"/>
                </a:lnTo>
                <a:lnTo>
                  <a:pt x="5717" y="3839"/>
                </a:lnTo>
                <a:lnTo>
                  <a:pt x="5712" y="3876"/>
                </a:lnTo>
                <a:lnTo>
                  <a:pt x="5712" y="3886"/>
                </a:lnTo>
                <a:lnTo>
                  <a:pt x="5713" y="3898"/>
                </a:lnTo>
                <a:lnTo>
                  <a:pt x="5716" y="3908"/>
                </a:lnTo>
                <a:lnTo>
                  <a:pt x="5719" y="3919"/>
                </a:lnTo>
                <a:lnTo>
                  <a:pt x="5723" y="3930"/>
                </a:lnTo>
                <a:lnTo>
                  <a:pt x="5730" y="3942"/>
                </a:lnTo>
                <a:lnTo>
                  <a:pt x="5738" y="3953"/>
                </a:lnTo>
                <a:lnTo>
                  <a:pt x="5747" y="3964"/>
                </a:lnTo>
                <a:lnTo>
                  <a:pt x="5757" y="3976"/>
                </a:lnTo>
                <a:lnTo>
                  <a:pt x="5768" y="3988"/>
                </a:lnTo>
                <a:lnTo>
                  <a:pt x="5782" y="4000"/>
                </a:lnTo>
                <a:lnTo>
                  <a:pt x="5796" y="4014"/>
                </a:lnTo>
                <a:lnTo>
                  <a:pt x="5811" y="4026"/>
                </a:lnTo>
                <a:lnTo>
                  <a:pt x="5828" y="4038"/>
                </a:lnTo>
                <a:lnTo>
                  <a:pt x="5846" y="4052"/>
                </a:lnTo>
                <a:lnTo>
                  <a:pt x="5866" y="4065"/>
                </a:lnTo>
                <a:lnTo>
                  <a:pt x="5829" y="4191"/>
                </a:lnTo>
                <a:lnTo>
                  <a:pt x="5919" y="4100"/>
                </a:lnTo>
                <a:lnTo>
                  <a:pt x="5939" y="4246"/>
                </a:lnTo>
                <a:lnTo>
                  <a:pt x="5964" y="4246"/>
                </a:lnTo>
                <a:lnTo>
                  <a:pt x="5987" y="4248"/>
                </a:lnTo>
                <a:lnTo>
                  <a:pt x="6006" y="4250"/>
                </a:lnTo>
                <a:lnTo>
                  <a:pt x="6024" y="4255"/>
                </a:lnTo>
                <a:lnTo>
                  <a:pt x="6038" y="4259"/>
                </a:lnTo>
                <a:lnTo>
                  <a:pt x="6050" y="4266"/>
                </a:lnTo>
                <a:lnTo>
                  <a:pt x="6055" y="4269"/>
                </a:lnTo>
                <a:lnTo>
                  <a:pt x="6058" y="4274"/>
                </a:lnTo>
                <a:lnTo>
                  <a:pt x="6061" y="4277"/>
                </a:lnTo>
                <a:lnTo>
                  <a:pt x="6065" y="4282"/>
                </a:lnTo>
                <a:lnTo>
                  <a:pt x="6065" y="4298"/>
                </a:lnTo>
                <a:lnTo>
                  <a:pt x="6065" y="4318"/>
                </a:lnTo>
                <a:lnTo>
                  <a:pt x="6079" y="4334"/>
                </a:lnTo>
                <a:lnTo>
                  <a:pt x="6091" y="4349"/>
                </a:lnTo>
                <a:lnTo>
                  <a:pt x="6094" y="4355"/>
                </a:lnTo>
                <a:lnTo>
                  <a:pt x="6097" y="4360"/>
                </a:lnTo>
                <a:lnTo>
                  <a:pt x="6098" y="4366"/>
                </a:lnTo>
                <a:lnTo>
                  <a:pt x="6100" y="4370"/>
                </a:lnTo>
                <a:lnTo>
                  <a:pt x="6154" y="4551"/>
                </a:lnTo>
                <a:lnTo>
                  <a:pt x="6138" y="4568"/>
                </a:lnTo>
                <a:lnTo>
                  <a:pt x="6127" y="4583"/>
                </a:lnTo>
                <a:lnTo>
                  <a:pt x="6123" y="4590"/>
                </a:lnTo>
                <a:lnTo>
                  <a:pt x="6120" y="4596"/>
                </a:lnTo>
                <a:lnTo>
                  <a:pt x="6119" y="4601"/>
                </a:lnTo>
                <a:lnTo>
                  <a:pt x="6118" y="4606"/>
                </a:lnTo>
                <a:lnTo>
                  <a:pt x="6118" y="4641"/>
                </a:lnTo>
                <a:lnTo>
                  <a:pt x="6105" y="4665"/>
                </a:lnTo>
                <a:lnTo>
                  <a:pt x="6094" y="4686"/>
                </a:lnTo>
                <a:lnTo>
                  <a:pt x="6088" y="4694"/>
                </a:lnTo>
                <a:lnTo>
                  <a:pt x="6083" y="4699"/>
                </a:lnTo>
                <a:lnTo>
                  <a:pt x="6078" y="4705"/>
                </a:lnTo>
                <a:lnTo>
                  <a:pt x="6074" y="4709"/>
                </a:lnTo>
                <a:lnTo>
                  <a:pt x="6069" y="4712"/>
                </a:lnTo>
                <a:lnTo>
                  <a:pt x="6065" y="4713"/>
                </a:lnTo>
                <a:lnTo>
                  <a:pt x="6061" y="4714"/>
                </a:lnTo>
                <a:lnTo>
                  <a:pt x="6057" y="4713"/>
                </a:lnTo>
                <a:lnTo>
                  <a:pt x="6055" y="4709"/>
                </a:lnTo>
                <a:lnTo>
                  <a:pt x="6051" y="4706"/>
                </a:lnTo>
                <a:lnTo>
                  <a:pt x="6048" y="4701"/>
                </a:lnTo>
                <a:lnTo>
                  <a:pt x="6045" y="4695"/>
                </a:lnTo>
                <a:lnTo>
                  <a:pt x="6065" y="4732"/>
                </a:lnTo>
                <a:lnTo>
                  <a:pt x="6060" y="4732"/>
                </a:lnTo>
                <a:lnTo>
                  <a:pt x="6056" y="4731"/>
                </a:lnTo>
                <a:lnTo>
                  <a:pt x="6053" y="4730"/>
                </a:lnTo>
                <a:lnTo>
                  <a:pt x="6050" y="4727"/>
                </a:lnTo>
                <a:lnTo>
                  <a:pt x="6049" y="4725"/>
                </a:lnTo>
                <a:lnTo>
                  <a:pt x="6047" y="4722"/>
                </a:lnTo>
                <a:lnTo>
                  <a:pt x="6047" y="4717"/>
                </a:lnTo>
                <a:lnTo>
                  <a:pt x="6045" y="4714"/>
                </a:lnTo>
                <a:lnTo>
                  <a:pt x="5973" y="4749"/>
                </a:lnTo>
                <a:lnTo>
                  <a:pt x="6027" y="4804"/>
                </a:lnTo>
                <a:lnTo>
                  <a:pt x="6003" y="4812"/>
                </a:lnTo>
                <a:lnTo>
                  <a:pt x="5982" y="4819"/>
                </a:lnTo>
                <a:lnTo>
                  <a:pt x="5968" y="4825"/>
                </a:lnTo>
                <a:lnTo>
                  <a:pt x="5957" y="4830"/>
                </a:lnTo>
                <a:lnTo>
                  <a:pt x="5954" y="4831"/>
                </a:lnTo>
                <a:lnTo>
                  <a:pt x="5950" y="4831"/>
                </a:lnTo>
                <a:lnTo>
                  <a:pt x="5945" y="4830"/>
                </a:lnTo>
                <a:lnTo>
                  <a:pt x="5939" y="4829"/>
                </a:lnTo>
                <a:lnTo>
                  <a:pt x="5923" y="4824"/>
                </a:lnTo>
                <a:lnTo>
                  <a:pt x="5902" y="4816"/>
                </a:lnTo>
                <a:lnTo>
                  <a:pt x="5878" y="4806"/>
                </a:lnTo>
                <a:lnTo>
                  <a:pt x="5848" y="4793"/>
                </a:lnTo>
                <a:lnTo>
                  <a:pt x="5814" y="4777"/>
                </a:lnTo>
                <a:lnTo>
                  <a:pt x="5775" y="4758"/>
                </a:lnTo>
                <a:lnTo>
                  <a:pt x="5736" y="4739"/>
                </a:lnTo>
                <a:lnTo>
                  <a:pt x="5696" y="4721"/>
                </a:lnTo>
                <a:lnTo>
                  <a:pt x="5658" y="4705"/>
                </a:lnTo>
                <a:lnTo>
                  <a:pt x="5621" y="4691"/>
                </a:lnTo>
                <a:lnTo>
                  <a:pt x="5584" y="4678"/>
                </a:lnTo>
                <a:lnTo>
                  <a:pt x="5549" y="4668"/>
                </a:lnTo>
                <a:lnTo>
                  <a:pt x="5513" y="4659"/>
                </a:lnTo>
                <a:lnTo>
                  <a:pt x="5479" y="4651"/>
                </a:lnTo>
                <a:lnTo>
                  <a:pt x="5444" y="4643"/>
                </a:lnTo>
                <a:lnTo>
                  <a:pt x="5409" y="4636"/>
                </a:lnTo>
                <a:lnTo>
                  <a:pt x="5372" y="4627"/>
                </a:lnTo>
                <a:lnTo>
                  <a:pt x="5335" y="4619"/>
                </a:lnTo>
                <a:lnTo>
                  <a:pt x="5297" y="4610"/>
                </a:lnTo>
                <a:lnTo>
                  <a:pt x="5256" y="4600"/>
                </a:lnTo>
                <a:lnTo>
                  <a:pt x="5216" y="4589"/>
                </a:lnTo>
                <a:lnTo>
                  <a:pt x="5174" y="4579"/>
                </a:lnTo>
                <a:lnTo>
                  <a:pt x="5130" y="4569"/>
                </a:lnTo>
                <a:lnTo>
                  <a:pt x="5086" y="4560"/>
                </a:lnTo>
                <a:lnTo>
                  <a:pt x="5041" y="4554"/>
                </a:lnTo>
                <a:lnTo>
                  <a:pt x="4996" y="4550"/>
                </a:lnTo>
                <a:lnTo>
                  <a:pt x="4949" y="4547"/>
                </a:lnTo>
                <a:lnTo>
                  <a:pt x="4901" y="4546"/>
                </a:lnTo>
                <a:lnTo>
                  <a:pt x="4854" y="4547"/>
                </a:lnTo>
                <a:lnTo>
                  <a:pt x="4805" y="4551"/>
                </a:lnTo>
                <a:lnTo>
                  <a:pt x="4876" y="4551"/>
                </a:lnTo>
                <a:lnTo>
                  <a:pt x="4841" y="4588"/>
                </a:lnTo>
                <a:lnTo>
                  <a:pt x="4749" y="4551"/>
                </a:lnTo>
                <a:lnTo>
                  <a:pt x="4749" y="4588"/>
                </a:lnTo>
                <a:lnTo>
                  <a:pt x="3707" y="4497"/>
                </a:lnTo>
                <a:lnTo>
                  <a:pt x="3681" y="4498"/>
                </a:lnTo>
                <a:lnTo>
                  <a:pt x="3655" y="4500"/>
                </a:lnTo>
                <a:lnTo>
                  <a:pt x="3631" y="4504"/>
                </a:lnTo>
                <a:lnTo>
                  <a:pt x="3608" y="4510"/>
                </a:lnTo>
                <a:lnTo>
                  <a:pt x="3585" y="4518"/>
                </a:lnTo>
                <a:lnTo>
                  <a:pt x="3565" y="4527"/>
                </a:lnTo>
                <a:lnTo>
                  <a:pt x="3545" y="4538"/>
                </a:lnTo>
                <a:lnTo>
                  <a:pt x="3526" y="4551"/>
                </a:lnTo>
                <a:lnTo>
                  <a:pt x="3509" y="5199"/>
                </a:lnTo>
                <a:lnTo>
                  <a:pt x="3419" y="5450"/>
                </a:lnTo>
                <a:lnTo>
                  <a:pt x="3416" y="5457"/>
                </a:lnTo>
                <a:lnTo>
                  <a:pt x="3415" y="5465"/>
                </a:lnTo>
                <a:lnTo>
                  <a:pt x="3414" y="5473"/>
                </a:lnTo>
                <a:lnTo>
                  <a:pt x="3414" y="5482"/>
                </a:lnTo>
                <a:lnTo>
                  <a:pt x="3415" y="5501"/>
                </a:lnTo>
                <a:lnTo>
                  <a:pt x="3419" y="5521"/>
                </a:lnTo>
                <a:lnTo>
                  <a:pt x="3424" y="5544"/>
                </a:lnTo>
                <a:lnTo>
                  <a:pt x="3432" y="5567"/>
                </a:lnTo>
                <a:lnTo>
                  <a:pt x="3442" y="5594"/>
                </a:lnTo>
                <a:lnTo>
                  <a:pt x="3456" y="5622"/>
                </a:lnTo>
                <a:lnTo>
                  <a:pt x="3478" y="5674"/>
                </a:lnTo>
                <a:lnTo>
                  <a:pt x="3495" y="5715"/>
                </a:lnTo>
                <a:lnTo>
                  <a:pt x="3501" y="5729"/>
                </a:lnTo>
                <a:lnTo>
                  <a:pt x="3505" y="5742"/>
                </a:lnTo>
                <a:lnTo>
                  <a:pt x="3509" y="5751"/>
                </a:lnTo>
                <a:lnTo>
                  <a:pt x="3509" y="5758"/>
                </a:lnTo>
                <a:lnTo>
                  <a:pt x="3498" y="5780"/>
                </a:lnTo>
                <a:lnTo>
                  <a:pt x="3484" y="5815"/>
                </a:lnTo>
                <a:lnTo>
                  <a:pt x="3466" y="5861"/>
                </a:lnTo>
                <a:lnTo>
                  <a:pt x="3446" y="5919"/>
                </a:lnTo>
                <a:lnTo>
                  <a:pt x="3435" y="5949"/>
                </a:lnTo>
                <a:lnTo>
                  <a:pt x="3426" y="5978"/>
                </a:lnTo>
                <a:lnTo>
                  <a:pt x="3421" y="6006"/>
                </a:lnTo>
                <a:lnTo>
                  <a:pt x="3416" y="6031"/>
                </a:lnTo>
                <a:lnTo>
                  <a:pt x="3414" y="6056"/>
                </a:lnTo>
                <a:lnTo>
                  <a:pt x="3413" y="6077"/>
                </a:lnTo>
                <a:lnTo>
                  <a:pt x="3415" y="6098"/>
                </a:lnTo>
                <a:lnTo>
                  <a:pt x="3419" y="6117"/>
                </a:lnTo>
                <a:lnTo>
                  <a:pt x="3473" y="6369"/>
                </a:lnTo>
                <a:lnTo>
                  <a:pt x="3346" y="6926"/>
                </a:lnTo>
                <a:lnTo>
                  <a:pt x="3383" y="7160"/>
                </a:lnTo>
                <a:lnTo>
                  <a:pt x="3383" y="7340"/>
                </a:lnTo>
                <a:lnTo>
                  <a:pt x="3419" y="7574"/>
                </a:lnTo>
                <a:lnTo>
                  <a:pt x="3399" y="7988"/>
                </a:lnTo>
                <a:lnTo>
                  <a:pt x="3383" y="8060"/>
                </a:lnTo>
                <a:lnTo>
                  <a:pt x="3366" y="8084"/>
                </a:lnTo>
                <a:lnTo>
                  <a:pt x="3351" y="8100"/>
                </a:lnTo>
                <a:lnTo>
                  <a:pt x="3344" y="8106"/>
                </a:lnTo>
                <a:lnTo>
                  <a:pt x="3339" y="8111"/>
                </a:lnTo>
                <a:lnTo>
                  <a:pt x="3334" y="8113"/>
                </a:lnTo>
                <a:lnTo>
                  <a:pt x="3330" y="8114"/>
                </a:lnTo>
                <a:lnTo>
                  <a:pt x="3238" y="8150"/>
                </a:lnTo>
                <a:lnTo>
                  <a:pt x="3230" y="8166"/>
                </a:lnTo>
                <a:lnTo>
                  <a:pt x="3225" y="8180"/>
                </a:lnTo>
                <a:lnTo>
                  <a:pt x="3221" y="8193"/>
                </a:lnTo>
                <a:lnTo>
                  <a:pt x="3220" y="8203"/>
                </a:lnTo>
                <a:lnTo>
                  <a:pt x="3220" y="8207"/>
                </a:lnTo>
                <a:lnTo>
                  <a:pt x="3221" y="8212"/>
                </a:lnTo>
                <a:lnTo>
                  <a:pt x="3223" y="8214"/>
                </a:lnTo>
                <a:lnTo>
                  <a:pt x="3225" y="8217"/>
                </a:lnTo>
                <a:lnTo>
                  <a:pt x="3227" y="8219"/>
                </a:lnTo>
                <a:lnTo>
                  <a:pt x="3230" y="8221"/>
                </a:lnTo>
                <a:lnTo>
                  <a:pt x="3234" y="8221"/>
                </a:lnTo>
                <a:lnTo>
                  <a:pt x="3238" y="8222"/>
                </a:lnTo>
                <a:lnTo>
                  <a:pt x="3112" y="8240"/>
                </a:lnTo>
                <a:lnTo>
                  <a:pt x="3077" y="8168"/>
                </a:lnTo>
                <a:lnTo>
                  <a:pt x="3086" y="8163"/>
                </a:lnTo>
                <a:lnTo>
                  <a:pt x="3094" y="8158"/>
                </a:lnTo>
                <a:lnTo>
                  <a:pt x="3101" y="8151"/>
                </a:lnTo>
                <a:lnTo>
                  <a:pt x="3108" y="8145"/>
                </a:lnTo>
                <a:lnTo>
                  <a:pt x="3115" y="8138"/>
                </a:lnTo>
                <a:lnTo>
                  <a:pt x="3121" y="8131"/>
                </a:lnTo>
                <a:lnTo>
                  <a:pt x="3126" y="8123"/>
                </a:lnTo>
                <a:lnTo>
                  <a:pt x="3131" y="8114"/>
                </a:lnTo>
                <a:lnTo>
                  <a:pt x="3077" y="7880"/>
                </a:lnTo>
                <a:lnTo>
                  <a:pt x="3131" y="7809"/>
                </a:lnTo>
                <a:lnTo>
                  <a:pt x="3147" y="7782"/>
                </a:lnTo>
                <a:lnTo>
                  <a:pt x="3162" y="7758"/>
                </a:lnTo>
                <a:lnTo>
                  <a:pt x="3174" y="7738"/>
                </a:lnTo>
                <a:lnTo>
                  <a:pt x="3184" y="7718"/>
                </a:lnTo>
                <a:lnTo>
                  <a:pt x="3131" y="7394"/>
                </a:lnTo>
                <a:lnTo>
                  <a:pt x="3166" y="7249"/>
                </a:lnTo>
                <a:lnTo>
                  <a:pt x="3094" y="7051"/>
                </a:lnTo>
                <a:lnTo>
                  <a:pt x="3184" y="6422"/>
                </a:lnTo>
                <a:lnTo>
                  <a:pt x="3112" y="6135"/>
                </a:lnTo>
                <a:lnTo>
                  <a:pt x="3184" y="5864"/>
                </a:lnTo>
                <a:lnTo>
                  <a:pt x="3174" y="5844"/>
                </a:lnTo>
                <a:lnTo>
                  <a:pt x="3160" y="5819"/>
                </a:lnTo>
                <a:lnTo>
                  <a:pt x="3143" y="5791"/>
                </a:lnTo>
                <a:lnTo>
                  <a:pt x="3122" y="5758"/>
                </a:lnTo>
                <a:lnTo>
                  <a:pt x="3111" y="5740"/>
                </a:lnTo>
                <a:lnTo>
                  <a:pt x="3102" y="5723"/>
                </a:lnTo>
                <a:lnTo>
                  <a:pt x="3094" y="5708"/>
                </a:lnTo>
                <a:lnTo>
                  <a:pt x="3089" y="5693"/>
                </a:lnTo>
                <a:lnTo>
                  <a:pt x="3083" y="5681"/>
                </a:lnTo>
                <a:lnTo>
                  <a:pt x="3080" y="5669"/>
                </a:lnTo>
                <a:lnTo>
                  <a:pt x="3078" y="5658"/>
                </a:lnTo>
                <a:lnTo>
                  <a:pt x="3077" y="5648"/>
                </a:lnTo>
                <a:lnTo>
                  <a:pt x="3075" y="5644"/>
                </a:lnTo>
                <a:lnTo>
                  <a:pt x="3074" y="5638"/>
                </a:lnTo>
                <a:lnTo>
                  <a:pt x="3074" y="5631"/>
                </a:lnTo>
                <a:lnTo>
                  <a:pt x="3074" y="5625"/>
                </a:lnTo>
                <a:lnTo>
                  <a:pt x="3076" y="5608"/>
                </a:lnTo>
                <a:lnTo>
                  <a:pt x="3081" y="5589"/>
                </a:lnTo>
                <a:lnTo>
                  <a:pt x="3090" y="5566"/>
                </a:lnTo>
                <a:lnTo>
                  <a:pt x="3100" y="5539"/>
                </a:lnTo>
                <a:lnTo>
                  <a:pt x="3115" y="5510"/>
                </a:lnTo>
                <a:lnTo>
                  <a:pt x="3131" y="5478"/>
                </a:lnTo>
                <a:lnTo>
                  <a:pt x="3148" y="5445"/>
                </a:lnTo>
                <a:lnTo>
                  <a:pt x="3163" y="5411"/>
                </a:lnTo>
                <a:lnTo>
                  <a:pt x="3175" y="5378"/>
                </a:lnTo>
                <a:lnTo>
                  <a:pt x="3185" y="5345"/>
                </a:lnTo>
                <a:lnTo>
                  <a:pt x="3193" y="5313"/>
                </a:lnTo>
                <a:lnTo>
                  <a:pt x="3199" y="5280"/>
                </a:lnTo>
                <a:lnTo>
                  <a:pt x="3201" y="5264"/>
                </a:lnTo>
                <a:lnTo>
                  <a:pt x="3202" y="5249"/>
                </a:lnTo>
                <a:lnTo>
                  <a:pt x="3203" y="5233"/>
                </a:lnTo>
                <a:lnTo>
                  <a:pt x="3203" y="5217"/>
                </a:lnTo>
                <a:lnTo>
                  <a:pt x="3131" y="4821"/>
                </a:lnTo>
                <a:lnTo>
                  <a:pt x="3220" y="4551"/>
                </a:lnTo>
                <a:lnTo>
                  <a:pt x="3167" y="4555"/>
                </a:lnTo>
                <a:lnTo>
                  <a:pt x="3118" y="4559"/>
                </a:lnTo>
                <a:lnTo>
                  <a:pt x="3072" y="4561"/>
                </a:lnTo>
                <a:lnTo>
                  <a:pt x="3028" y="4562"/>
                </a:lnTo>
                <a:lnTo>
                  <a:pt x="2986" y="4563"/>
                </a:lnTo>
                <a:lnTo>
                  <a:pt x="2948" y="4563"/>
                </a:lnTo>
                <a:lnTo>
                  <a:pt x="2912" y="4562"/>
                </a:lnTo>
                <a:lnTo>
                  <a:pt x="2879" y="4560"/>
                </a:lnTo>
                <a:lnTo>
                  <a:pt x="2822" y="4556"/>
                </a:lnTo>
                <a:lnTo>
                  <a:pt x="2776" y="4553"/>
                </a:lnTo>
                <a:lnTo>
                  <a:pt x="2741" y="4552"/>
                </a:lnTo>
                <a:lnTo>
                  <a:pt x="2717" y="4551"/>
                </a:lnTo>
                <a:lnTo>
                  <a:pt x="1763" y="4623"/>
                </a:lnTo>
                <a:lnTo>
                  <a:pt x="1732" y="4618"/>
                </a:lnTo>
                <a:lnTo>
                  <a:pt x="1704" y="4611"/>
                </a:lnTo>
                <a:lnTo>
                  <a:pt x="1677" y="4604"/>
                </a:lnTo>
                <a:lnTo>
                  <a:pt x="1652" y="4595"/>
                </a:lnTo>
                <a:lnTo>
                  <a:pt x="1629" y="4583"/>
                </a:lnTo>
                <a:lnTo>
                  <a:pt x="1609" y="4571"/>
                </a:lnTo>
                <a:lnTo>
                  <a:pt x="1600" y="4565"/>
                </a:lnTo>
                <a:lnTo>
                  <a:pt x="1591" y="4557"/>
                </a:lnTo>
                <a:lnTo>
                  <a:pt x="1582" y="4551"/>
                </a:lnTo>
                <a:lnTo>
                  <a:pt x="1574" y="4543"/>
                </a:lnTo>
                <a:lnTo>
                  <a:pt x="1566" y="4535"/>
                </a:lnTo>
                <a:lnTo>
                  <a:pt x="1560" y="4526"/>
                </a:lnTo>
                <a:lnTo>
                  <a:pt x="1553" y="4516"/>
                </a:lnTo>
                <a:lnTo>
                  <a:pt x="1547" y="4506"/>
                </a:lnTo>
                <a:lnTo>
                  <a:pt x="1541" y="4495"/>
                </a:lnTo>
                <a:lnTo>
                  <a:pt x="1537" y="4483"/>
                </a:lnTo>
                <a:lnTo>
                  <a:pt x="1532" y="4472"/>
                </a:lnTo>
                <a:lnTo>
                  <a:pt x="1529" y="4459"/>
                </a:lnTo>
                <a:lnTo>
                  <a:pt x="1526" y="4446"/>
                </a:lnTo>
                <a:lnTo>
                  <a:pt x="1523" y="4431"/>
                </a:lnTo>
                <a:lnTo>
                  <a:pt x="1521" y="4418"/>
                </a:lnTo>
                <a:lnTo>
                  <a:pt x="1520" y="4402"/>
                </a:lnTo>
                <a:lnTo>
                  <a:pt x="1519" y="4386"/>
                </a:lnTo>
                <a:lnTo>
                  <a:pt x="1519" y="4370"/>
                </a:lnTo>
                <a:lnTo>
                  <a:pt x="1519" y="4354"/>
                </a:lnTo>
                <a:lnTo>
                  <a:pt x="1520" y="4336"/>
                </a:lnTo>
                <a:lnTo>
                  <a:pt x="1521" y="4327"/>
                </a:lnTo>
                <a:lnTo>
                  <a:pt x="1523" y="4318"/>
                </a:lnTo>
                <a:lnTo>
                  <a:pt x="1526" y="4309"/>
                </a:lnTo>
                <a:lnTo>
                  <a:pt x="1530" y="4301"/>
                </a:lnTo>
                <a:lnTo>
                  <a:pt x="1535" y="4292"/>
                </a:lnTo>
                <a:lnTo>
                  <a:pt x="1540" y="4284"/>
                </a:lnTo>
                <a:lnTo>
                  <a:pt x="1547" y="4275"/>
                </a:lnTo>
                <a:lnTo>
                  <a:pt x="1555" y="4267"/>
                </a:lnTo>
                <a:lnTo>
                  <a:pt x="1563" y="4259"/>
                </a:lnTo>
                <a:lnTo>
                  <a:pt x="1572" y="4251"/>
                </a:lnTo>
                <a:lnTo>
                  <a:pt x="1583" y="4243"/>
                </a:lnTo>
                <a:lnTo>
                  <a:pt x="1594" y="4235"/>
                </a:lnTo>
                <a:lnTo>
                  <a:pt x="1619" y="4220"/>
                </a:lnTo>
                <a:lnTo>
                  <a:pt x="1648" y="4205"/>
                </a:lnTo>
                <a:lnTo>
                  <a:pt x="1681" y="4190"/>
                </a:lnTo>
                <a:lnTo>
                  <a:pt x="1717" y="4177"/>
                </a:lnTo>
                <a:lnTo>
                  <a:pt x="1758" y="4163"/>
                </a:lnTo>
                <a:lnTo>
                  <a:pt x="1802" y="4150"/>
                </a:lnTo>
                <a:lnTo>
                  <a:pt x="1849" y="4137"/>
                </a:lnTo>
                <a:lnTo>
                  <a:pt x="1901" y="4125"/>
                </a:lnTo>
                <a:lnTo>
                  <a:pt x="1956" y="4113"/>
                </a:lnTo>
                <a:lnTo>
                  <a:pt x="2014" y="4100"/>
                </a:lnTo>
                <a:lnTo>
                  <a:pt x="3022" y="3939"/>
                </a:lnTo>
                <a:lnTo>
                  <a:pt x="3131" y="3939"/>
                </a:lnTo>
                <a:close/>
                <a:moveTo>
                  <a:pt x="3509" y="3832"/>
                </a:moveTo>
                <a:lnTo>
                  <a:pt x="3509" y="3939"/>
                </a:lnTo>
                <a:lnTo>
                  <a:pt x="4894" y="3958"/>
                </a:lnTo>
                <a:lnTo>
                  <a:pt x="4967" y="3939"/>
                </a:lnTo>
                <a:lnTo>
                  <a:pt x="5002" y="3867"/>
                </a:lnTo>
                <a:lnTo>
                  <a:pt x="5057" y="3849"/>
                </a:lnTo>
                <a:lnTo>
                  <a:pt x="5039" y="3597"/>
                </a:lnTo>
                <a:lnTo>
                  <a:pt x="5200" y="3203"/>
                </a:lnTo>
                <a:lnTo>
                  <a:pt x="5237" y="3203"/>
                </a:lnTo>
                <a:lnTo>
                  <a:pt x="5249" y="3185"/>
                </a:lnTo>
                <a:lnTo>
                  <a:pt x="5260" y="3168"/>
                </a:lnTo>
                <a:lnTo>
                  <a:pt x="5269" y="3153"/>
                </a:lnTo>
                <a:lnTo>
                  <a:pt x="5276" y="3139"/>
                </a:lnTo>
                <a:lnTo>
                  <a:pt x="5282" y="3126"/>
                </a:lnTo>
                <a:lnTo>
                  <a:pt x="5287" y="3114"/>
                </a:lnTo>
                <a:lnTo>
                  <a:pt x="5289" y="3104"/>
                </a:lnTo>
                <a:lnTo>
                  <a:pt x="5290" y="3094"/>
                </a:lnTo>
                <a:lnTo>
                  <a:pt x="5254" y="3005"/>
                </a:lnTo>
                <a:lnTo>
                  <a:pt x="5228" y="3005"/>
                </a:lnTo>
                <a:lnTo>
                  <a:pt x="5207" y="3007"/>
                </a:lnTo>
                <a:lnTo>
                  <a:pt x="5189" y="3009"/>
                </a:lnTo>
                <a:lnTo>
                  <a:pt x="5174" y="3014"/>
                </a:lnTo>
                <a:lnTo>
                  <a:pt x="5167" y="3015"/>
                </a:lnTo>
                <a:lnTo>
                  <a:pt x="5162" y="3016"/>
                </a:lnTo>
                <a:lnTo>
                  <a:pt x="5157" y="3016"/>
                </a:lnTo>
                <a:lnTo>
                  <a:pt x="5153" y="3015"/>
                </a:lnTo>
                <a:lnTo>
                  <a:pt x="5150" y="3014"/>
                </a:lnTo>
                <a:lnTo>
                  <a:pt x="5148" y="3012"/>
                </a:lnTo>
                <a:lnTo>
                  <a:pt x="5146" y="3008"/>
                </a:lnTo>
                <a:lnTo>
                  <a:pt x="5146" y="3005"/>
                </a:lnTo>
                <a:lnTo>
                  <a:pt x="5039" y="2896"/>
                </a:lnTo>
                <a:lnTo>
                  <a:pt x="5022" y="2887"/>
                </a:lnTo>
                <a:lnTo>
                  <a:pt x="5001" y="2875"/>
                </a:lnTo>
                <a:lnTo>
                  <a:pt x="4975" y="2864"/>
                </a:lnTo>
                <a:lnTo>
                  <a:pt x="4943" y="2851"/>
                </a:lnTo>
                <a:lnTo>
                  <a:pt x="4907" y="2837"/>
                </a:lnTo>
                <a:lnTo>
                  <a:pt x="4867" y="2821"/>
                </a:lnTo>
                <a:lnTo>
                  <a:pt x="4819" y="2806"/>
                </a:lnTo>
                <a:lnTo>
                  <a:pt x="4769" y="2788"/>
                </a:lnTo>
                <a:lnTo>
                  <a:pt x="4318" y="2788"/>
                </a:lnTo>
                <a:lnTo>
                  <a:pt x="4275" y="2776"/>
                </a:lnTo>
                <a:lnTo>
                  <a:pt x="4237" y="2766"/>
                </a:lnTo>
                <a:lnTo>
                  <a:pt x="4203" y="2758"/>
                </a:lnTo>
                <a:lnTo>
                  <a:pt x="4174" y="2753"/>
                </a:lnTo>
                <a:lnTo>
                  <a:pt x="4149" y="2749"/>
                </a:lnTo>
                <a:lnTo>
                  <a:pt x="4129" y="2748"/>
                </a:lnTo>
                <a:lnTo>
                  <a:pt x="4120" y="2748"/>
                </a:lnTo>
                <a:lnTo>
                  <a:pt x="4113" y="2749"/>
                </a:lnTo>
                <a:lnTo>
                  <a:pt x="4107" y="2750"/>
                </a:lnTo>
                <a:lnTo>
                  <a:pt x="4102" y="2753"/>
                </a:lnTo>
                <a:lnTo>
                  <a:pt x="4094" y="2744"/>
                </a:lnTo>
                <a:lnTo>
                  <a:pt x="4090" y="2735"/>
                </a:lnTo>
                <a:lnTo>
                  <a:pt x="4086" y="2726"/>
                </a:lnTo>
                <a:lnTo>
                  <a:pt x="4085" y="2716"/>
                </a:lnTo>
                <a:lnTo>
                  <a:pt x="3850" y="2770"/>
                </a:lnTo>
                <a:lnTo>
                  <a:pt x="3581" y="2770"/>
                </a:lnTo>
                <a:lnTo>
                  <a:pt x="3576" y="2773"/>
                </a:lnTo>
                <a:lnTo>
                  <a:pt x="3569" y="2777"/>
                </a:lnTo>
                <a:lnTo>
                  <a:pt x="3563" y="2784"/>
                </a:lnTo>
                <a:lnTo>
                  <a:pt x="3555" y="2793"/>
                </a:lnTo>
                <a:lnTo>
                  <a:pt x="3536" y="2816"/>
                </a:lnTo>
                <a:lnTo>
                  <a:pt x="3513" y="2844"/>
                </a:lnTo>
                <a:lnTo>
                  <a:pt x="3486" y="2881"/>
                </a:lnTo>
                <a:lnTo>
                  <a:pt x="3456" y="2924"/>
                </a:lnTo>
                <a:lnTo>
                  <a:pt x="3421" y="2973"/>
                </a:lnTo>
                <a:lnTo>
                  <a:pt x="3383" y="3031"/>
                </a:lnTo>
                <a:lnTo>
                  <a:pt x="3373" y="3047"/>
                </a:lnTo>
                <a:lnTo>
                  <a:pt x="3364" y="3062"/>
                </a:lnTo>
                <a:lnTo>
                  <a:pt x="3355" y="3078"/>
                </a:lnTo>
                <a:lnTo>
                  <a:pt x="3349" y="3095"/>
                </a:lnTo>
                <a:lnTo>
                  <a:pt x="3342" y="3113"/>
                </a:lnTo>
                <a:lnTo>
                  <a:pt x="3336" y="3131"/>
                </a:lnTo>
                <a:lnTo>
                  <a:pt x="3332" y="3149"/>
                </a:lnTo>
                <a:lnTo>
                  <a:pt x="3327" y="3168"/>
                </a:lnTo>
                <a:lnTo>
                  <a:pt x="3324" y="3187"/>
                </a:lnTo>
                <a:lnTo>
                  <a:pt x="3322" y="3206"/>
                </a:lnTo>
                <a:lnTo>
                  <a:pt x="3319" y="3227"/>
                </a:lnTo>
                <a:lnTo>
                  <a:pt x="3319" y="3248"/>
                </a:lnTo>
                <a:lnTo>
                  <a:pt x="3319" y="3268"/>
                </a:lnTo>
                <a:lnTo>
                  <a:pt x="3319" y="3291"/>
                </a:lnTo>
                <a:lnTo>
                  <a:pt x="3322" y="3312"/>
                </a:lnTo>
                <a:lnTo>
                  <a:pt x="3324" y="3335"/>
                </a:lnTo>
                <a:lnTo>
                  <a:pt x="3327" y="3358"/>
                </a:lnTo>
                <a:lnTo>
                  <a:pt x="3331" y="3381"/>
                </a:lnTo>
                <a:lnTo>
                  <a:pt x="3336" y="3406"/>
                </a:lnTo>
                <a:lnTo>
                  <a:pt x="3342" y="3429"/>
                </a:lnTo>
                <a:lnTo>
                  <a:pt x="3348" y="3455"/>
                </a:lnTo>
                <a:lnTo>
                  <a:pt x="3355" y="3480"/>
                </a:lnTo>
                <a:lnTo>
                  <a:pt x="3363" y="3506"/>
                </a:lnTo>
                <a:lnTo>
                  <a:pt x="3372" y="3532"/>
                </a:lnTo>
                <a:lnTo>
                  <a:pt x="3381" y="3559"/>
                </a:lnTo>
                <a:lnTo>
                  <a:pt x="3393" y="3586"/>
                </a:lnTo>
                <a:lnTo>
                  <a:pt x="3404" y="3614"/>
                </a:lnTo>
                <a:lnTo>
                  <a:pt x="3415" y="3642"/>
                </a:lnTo>
                <a:lnTo>
                  <a:pt x="3442" y="3701"/>
                </a:lnTo>
                <a:lnTo>
                  <a:pt x="3473" y="3760"/>
                </a:lnTo>
                <a:lnTo>
                  <a:pt x="3509" y="38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Freeform 6"/>
          <p:cNvSpPr/>
          <p:nvPr/>
        </p:nvSpPr>
        <p:spPr>
          <a:xfrm>
            <a:off x="7921800" y="2496960"/>
            <a:ext cx="826920" cy="721080"/>
          </a:xfrm>
          <a:custGeom>
            <a:avLst/>
            <a:gdLst/>
            <a:ahLst/>
            <a:rect l="l" t="t" r="r" b="b"/>
            <a:pathLst>
              <a:path w="7918" h="6890">
                <a:moveTo>
                  <a:pt x="0" y="5308"/>
                </a:moveTo>
                <a:lnTo>
                  <a:pt x="10" y="5299"/>
                </a:lnTo>
                <a:lnTo>
                  <a:pt x="24" y="5290"/>
                </a:lnTo>
                <a:lnTo>
                  <a:pt x="37" y="5281"/>
                </a:lnTo>
                <a:lnTo>
                  <a:pt x="54" y="5273"/>
                </a:lnTo>
                <a:lnTo>
                  <a:pt x="235" y="5362"/>
                </a:lnTo>
                <a:lnTo>
                  <a:pt x="240" y="5366"/>
                </a:lnTo>
                <a:lnTo>
                  <a:pt x="245" y="5369"/>
                </a:lnTo>
                <a:lnTo>
                  <a:pt x="251" y="5373"/>
                </a:lnTo>
                <a:lnTo>
                  <a:pt x="257" y="5376"/>
                </a:lnTo>
                <a:lnTo>
                  <a:pt x="265" y="5378"/>
                </a:lnTo>
                <a:lnTo>
                  <a:pt x="271" y="5381"/>
                </a:lnTo>
                <a:lnTo>
                  <a:pt x="279" y="5383"/>
                </a:lnTo>
                <a:lnTo>
                  <a:pt x="288" y="5384"/>
                </a:lnTo>
                <a:lnTo>
                  <a:pt x="307" y="5386"/>
                </a:lnTo>
                <a:lnTo>
                  <a:pt x="329" y="5385"/>
                </a:lnTo>
                <a:lnTo>
                  <a:pt x="352" y="5384"/>
                </a:lnTo>
                <a:lnTo>
                  <a:pt x="378" y="5380"/>
                </a:lnTo>
                <a:lnTo>
                  <a:pt x="446" y="5380"/>
                </a:lnTo>
                <a:lnTo>
                  <a:pt x="511" y="5378"/>
                </a:lnTo>
                <a:lnTo>
                  <a:pt x="573" y="5376"/>
                </a:lnTo>
                <a:lnTo>
                  <a:pt x="633" y="5374"/>
                </a:lnTo>
                <a:lnTo>
                  <a:pt x="688" y="5369"/>
                </a:lnTo>
                <a:lnTo>
                  <a:pt x="741" y="5366"/>
                </a:lnTo>
                <a:lnTo>
                  <a:pt x="790" y="5360"/>
                </a:lnTo>
                <a:lnTo>
                  <a:pt x="838" y="5355"/>
                </a:lnTo>
                <a:lnTo>
                  <a:pt x="881" y="5348"/>
                </a:lnTo>
                <a:lnTo>
                  <a:pt x="921" y="5341"/>
                </a:lnTo>
                <a:lnTo>
                  <a:pt x="958" y="5333"/>
                </a:lnTo>
                <a:lnTo>
                  <a:pt x="993" y="5324"/>
                </a:lnTo>
                <a:lnTo>
                  <a:pt x="1024" y="5314"/>
                </a:lnTo>
                <a:lnTo>
                  <a:pt x="1052" y="5304"/>
                </a:lnTo>
                <a:lnTo>
                  <a:pt x="1076" y="5293"/>
                </a:lnTo>
                <a:lnTo>
                  <a:pt x="1098" y="5282"/>
                </a:lnTo>
                <a:lnTo>
                  <a:pt x="1108" y="5275"/>
                </a:lnTo>
                <a:lnTo>
                  <a:pt x="1118" y="5268"/>
                </a:lnTo>
                <a:lnTo>
                  <a:pt x="1128" y="5259"/>
                </a:lnTo>
                <a:lnTo>
                  <a:pt x="1137" y="5251"/>
                </a:lnTo>
                <a:lnTo>
                  <a:pt x="1157" y="5231"/>
                </a:lnTo>
                <a:lnTo>
                  <a:pt x="1176" y="5208"/>
                </a:lnTo>
                <a:lnTo>
                  <a:pt x="1194" y="5184"/>
                </a:lnTo>
                <a:lnTo>
                  <a:pt x="1212" y="5154"/>
                </a:lnTo>
                <a:lnTo>
                  <a:pt x="1230" y="5124"/>
                </a:lnTo>
                <a:lnTo>
                  <a:pt x="1246" y="5089"/>
                </a:lnTo>
                <a:lnTo>
                  <a:pt x="1263" y="5053"/>
                </a:lnTo>
                <a:lnTo>
                  <a:pt x="1279" y="5013"/>
                </a:lnTo>
                <a:lnTo>
                  <a:pt x="1296" y="4970"/>
                </a:lnTo>
                <a:lnTo>
                  <a:pt x="1311" y="4925"/>
                </a:lnTo>
                <a:lnTo>
                  <a:pt x="1326" y="4876"/>
                </a:lnTo>
                <a:lnTo>
                  <a:pt x="1341" y="4825"/>
                </a:lnTo>
                <a:lnTo>
                  <a:pt x="1355" y="4771"/>
                </a:lnTo>
                <a:lnTo>
                  <a:pt x="1368" y="4713"/>
                </a:lnTo>
                <a:lnTo>
                  <a:pt x="1344" y="4697"/>
                </a:lnTo>
                <a:lnTo>
                  <a:pt x="1325" y="4683"/>
                </a:lnTo>
                <a:lnTo>
                  <a:pt x="1319" y="4676"/>
                </a:lnTo>
                <a:lnTo>
                  <a:pt x="1313" y="4670"/>
                </a:lnTo>
                <a:lnTo>
                  <a:pt x="1308" y="4665"/>
                </a:lnTo>
                <a:lnTo>
                  <a:pt x="1306" y="4660"/>
                </a:lnTo>
                <a:lnTo>
                  <a:pt x="1304" y="4653"/>
                </a:lnTo>
                <a:lnTo>
                  <a:pt x="1305" y="4643"/>
                </a:lnTo>
                <a:lnTo>
                  <a:pt x="1307" y="4629"/>
                </a:lnTo>
                <a:lnTo>
                  <a:pt x="1312" y="4611"/>
                </a:lnTo>
                <a:lnTo>
                  <a:pt x="1328" y="4562"/>
                </a:lnTo>
                <a:lnTo>
                  <a:pt x="1350" y="4498"/>
                </a:lnTo>
                <a:lnTo>
                  <a:pt x="1332" y="4138"/>
                </a:lnTo>
                <a:lnTo>
                  <a:pt x="1368" y="4049"/>
                </a:lnTo>
                <a:lnTo>
                  <a:pt x="1350" y="3526"/>
                </a:lnTo>
                <a:lnTo>
                  <a:pt x="1332" y="3508"/>
                </a:lnTo>
                <a:lnTo>
                  <a:pt x="1339" y="3506"/>
                </a:lnTo>
                <a:lnTo>
                  <a:pt x="1344" y="3503"/>
                </a:lnTo>
                <a:lnTo>
                  <a:pt x="1350" y="3499"/>
                </a:lnTo>
                <a:lnTo>
                  <a:pt x="1356" y="3495"/>
                </a:lnTo>
                <a:lnTo>
                  <a:pt x="1361" y="3490"/>
                </a:lnTo>
                <a:lnTo>
                  <a:pt x="1366" y="3485"/>
                </a:lnTo>
                <a:lnTo>
                  <a:pt x="1369" y="3479"/>
                </a:lnTo>
                <a:lnTo>
                  <a:pt x="1374" y="3472"/>
                </a:lnTo>
                <a:lnTo>
                  <a:pt x="1376" y="3466"/>
                </a:lnTo>
                <a:lnTo>
                  <a:pt x="1379" y="3458"/>
                </a:lnTo>
                <a:lnTo>
                  <a:pt x="1382" y="3450"/>
                </a:lnTo>
                <a:lnTo>
                  <a:pt x="1384" y="3441"/>
                </a:lnTo>
                <a:lnTo>
                  <a:pt x="1386" y="3422"/>
                </a:lnTo>
                <a:lnTo>
                  <a:pt x="1387" y="3400"/>
                </a:lnTo>
                <a:lnTo>
                  <a:pt x="1384" y="3369"/>
                </a:lnTo>
                <a:lnTo>
                  <a:pt x="1382" y="3338"/>
                </a:lnTo>
                <a:lnTo>
                  <a:pt x="1382" y="3311"/>
                </a:lnTo>
                <a:lnTo>
                  <a:pt x="1383" y="3288"/>
                </a:lnTo>
                <a:lnTo>
                  <a:pt x="1385" y="3277"/>
                </a:lnTo>
                <a:lnTo>
                  <a:pt x="1387" y="3265"/>
                </a:lnTo>
                <a:lnTo>
                  <a:pt x="1389" y="3256"/>
                </a:lnTo>
                <a:lnTo>
                  <a:pt x="1393" y="3246"/>
                </a:lnTo>
                <a:lnTo>
                  <a:pt x="1396" y="3238"/>
                </a:lnTo>
                <a:lnTo>
                  <a:pt x="1400" y="3230"/>
                </a:lnTo>
                <a:lnTo>
                  <a:pt x="1404" y="3224"/>
                </a:lnTo>
                <a:lnTo>
                  <a:pt x="1409" y="3217"/>
                </a:lnTo>
                <a:lnTo>
                  <a:pt x="1414" y="3211"/>
                </a:lnTo>
                <a:lnTo>
                  <a:pt x="1420" y="3206"/>
                </a:lnTo>
                <a:lnTo>
                  <a:pt x="1425" y="3201"/>
                </a:lnTo>
                <a:lnTo>
                  <a:pt x="1432" y="3197"/>
                </a:lnTo>
                <a:lnTo>
                  <a:pt x="1440" y="3194"/>
                </a:lnTo>
                <a:lnTo>
                  <a:pt x="1447" y="3191"/>
                </a:lnTo>
                <a:lnTo>
                  <a:pt x="1456" y="3190"/>
                </a:lnTo>
                <a:lnTo>
                  <a:pt x="1464" y="3189"/>
                </a:lnTo>
                <a:lnTo>
                  <a:pt x="1473" y="3188"/>
                </a:lnTo>
                <a:lnTo>
                  <a:pt x="1482" y="3188"/>
                </a:lnTo>
                <a:lnTo>
                  <a:pt x="1492" y="3189"/>
                </a:lnTo>
                <a:lnTo>
                  <a:pt x="1502" y="3190"/>
                </a:lnTo>
                <a:lnTo>
                  <a:pt x="1525" y="3195"/>
                </a:lnTo>
                <a:lnTo>
                  <a:pt x="1548" y="3202"/>
                </a:lnTo>
                <a:lnTo>
                  <a:pt x="1548" y="3275"/>
                </a:lnTo>
                <a:lnTo>
                  <a:pt x="1602" y="3508"/>
                </a:lnTo>
                <a:lnTo>
                  <a:pt x="1601" y="3520"/>
                </a:lnTo>
                <a:lnTo>
                  <a:pt x="1601" y="3537"/>
                </a:lnTo>
                <a:lnTo>
                  <a:pt x="1599" y="3558"/>
                </a:lnTo>
                <a:lnTo>
                  <a:pt x="1598" y="3585"/>
                </a:lnTo>
                <a:lnTo>
                  <a:pt x="1594" y="3618"/>
                </a:lnTo>
                <a:lnTo>
                  <a:pt x="1592" y="3654"/>
                </a:lnTo>
                <a:lnTo>
                  <a:pt x="1588" y="3696"/>
                </a:lnTo>
                <a:lnTo>
                  <a:pt x="1583" y="3743"/>
                </a:lnTo>
                <a:lnTo>
                  <a:pt x="1620" y="4390"/>
                </a:lnTo>
                <a:lnTo>
                  <a:pt x="1583" y="4624"/>
                </a:lnTo>
                <a:lnTo>
                  <a:pt x="1583" y="5109"/>
                </a:lnTo>
                <a:lnTo>
                  <a:pt x="1576" y="5130"/>
                </a:lnTo>
                <a:lnTo>
                  <a:pt x="1568" y="5149"/>
                </a:lnTo>
                <a:lnTo>
                  <a:pt x="1561" y="5168"/>
                </a:lnTo>
                <a:lnTo>
                  <a:pt x="1552" y="5187"/>
                </a:lnTo>
                <a:lnTo>
                  <a:pt x="1541" y="5205"/>
                </a:lnTo>
                <a:lnTo>
                  <a:pt x="1531" y="5223"/>
                </a:lnTo>
                <a:lnTo>
                  <a:pt x="1520" y="5241"/>
                </a:lnTo>
                <a:lnTo>
                  <a:pt x="1508" y="5258"/>
                </a:lnTo>
                <a:lnTo>
                  <a:pt x="1495" y="5275"/>
                </a:lnTo>
                <a:lnTo>
                  <a:pt x="1482" y="5291"/>
                </a:lnTo>
                <a:lnTo>
                  <a:pt x="1467" y="5306"/>
                </a:lnTo>
                <a:lnTo>
                  <a:pt x="1453" y="5322"/>
                </a:lnTo>
                <a:lnTo>
                  <a:pt x="1438" y="5337"/>
                </a:lnTo>
                <a:lnTo>
                  <a:pt x="1421" y="5351"/>
                </a:lnTo>
                <a:lnTo>
                  <a:pt x="1404" y="5366"/>
                </a:lnTo>
                <a:lnTo>
                  <a:pt x="1387" y="5380"/>
                </a:lnTo>
                <a:lnTo>
                  <a:pt x="1008" y="5632"/>
                </a:lnTo>
                <a:lnTo>
                  <a:pt x="1002" y="5641"/>
                </a:lnTo>
                <a:lnTo>
                  <a:pt x="995" y="5650"/>
                </a:lnTo>
                <a:lnTo>
                  <a:pt x="987" y="5658"/>
                </a:lnTo>
                <a:lnTo>
                  <a:pt x="980" y="5667"/>
                </a:lnTo>
                <a:lnTo>
                  <a:pt x="972" y="5675"/>
                </a:lnTo>
                <a:lnTo>
                  <a:pt x="962" y="5682"/>
                </a:lnTo>
                <a:lnTo>
                  <a:pt x="953" y="5690"/>
                </a:lnTo>
                <a:lnTo>
                  <a:pt x="941" y="5697"/>
                </a:lnTo>
                <a:lnTo>
                  <a:pt x="919" y="5712"/>
                </a:lnTo>
                <a:lnTo>
                  <a:pt x="893" y="5725"/>
                </a:lnTo>
                <a:lnTo>
                  <a:pt x="864" y="5738"/>
                </a:lnTo>
                <a:lnTo>
                  <a:pt x="832" y="5749"/>
                </a:lnTo>
                <a:lnTo>
                  <a:pt x="798" y="5760"/>
                </a:lnTo>
                <a:lnTo>
                  <a:pt x="762" y="5770"/>
                </a:lnTo>
                <a:lnTo>
                  <a:pt x="723" y="5779"/>
                </a:lnTo>
                <a:lnTo>
                  <a:pt x="681" y="5787"/>
                </a:lnTo>
                <a:lnTo>
                  <a:pt x="636" y="5794"/>
                </a:lnTo>
                <a:lnTo>
                  <a:pt x="590" y="5801"/>
                </a:lnTo>
                <a:lnTo>
                  <a:pt x="539" y="5806"/>
                </a:lnTo>
                <a:lnTo>
                  <a:pt x="488" y="5811"/>
                </a:lnTo>
                <a:lnTo>
                  <a:pt x="540" y="5776"/>
                </a:lnTo>
                <a:lnTo>
                  <a:pt x="506" y="5759"/>
                </a:lnTo>
                <a:lnTo>
                  <a:pt x="473" y="5744"/>
                </a:lnTo>
                <a:lnTo>
                  <a:pt x="442" y="5731"/>
                </a:lnTo>
                <a:lnTo>
                  <a:pt x="414" y="5720"/>
                </a:lnTo>
                <a:lnTo>
                  <a:pt x="388" y="5711"/>
                </a:lnTo>
                <a:lnTo>
                  <a:pt x="365" y="5703"/>
                </a:lnTo>
                <a:lnTo>
                  <a:pt x="343" y="5698"/>
                </a:lnTo>
                <a:lnTo>
                  <a:pt x="324" y="5695"/>
                </a:lnTo>
                <a:lnTo>
                  <a:pt x="307" y="5693"/>
                </a:lnTo>
                <a:lnTo>
                  <a:pt x="293" y="5689"/>
                </a:lnTo>
                <a:lnTo>
                  <a:pt x="280" y="5686"/>
                </a:lnTo>
                <a:lnTo>
                  <a:pt x="270" y="5684"/>
                </a:lnTo>
                <a:lnTo>
                  <a:pt x="262" y="5679"/>
                </a:lnTo>
                <a:lnTo>
                  <a:pt x="257" y="5676"/>
                </a:lnTo>
                <a:lnTo>
                  <a:pt x="253" y="5671"/>
                </a:lnTo>
                <a:lnTo>
                  <a:pt x="252" y="5667"/>
                </a:lnTo>
                <a:lnTo>
                  <a:pt x="163" y="5578"/>
                </a:lnTo>
                <a:lnTo>
                  <a:pt x="72" y="5541"/>
                </a:lnTo>
                <a:lnTo>
                  <a:pt x="56" y="5533"/>
                </a:lnTo>
                <a:lnTo>
                  <a:pt x="43" y="5525"/>
                </a:lnTo>
                <a:lnTo>
                  <a:pt x="31" y="5517"/>
                </a:lnTo>
                <a:lnTo>
                  <a:pt x="24" y="5510"/>
                </a:lnTo>
                <a:lnTo>
                  <a:pt x="18" y="5503"/>
                </a:lnTo>
                <a:lnTo>
                  <a:pt x="16" y="5498"/>
                </a:lnTo>
                <a:lnTo>
                  <a:pt x="15" y="5494"/>
                </a:lnTo>
                <a:lnTo>
                  <a:pt x="16" y="5492"/>
                </a:lnTo>
                <a:lnTo>
                  <a:pt x="17" y="5490"/>
                </a:lnTo>
                <a:lnTo>
                  <a:pt x="19" y="5488"/>
                </a:lnTo>
                <a:lnTo>
                  <a:pt x="91" y="5434"/>
                </a:lnTo>
                <a:lnTo>
                  <a:pt x="83" y="5417"/>
                </a:lnTo>
                <a:lnTo>
                  <a:pt x="77" y="5402"/>
                </a:lnTo>
                <a:lnTo>
                  <a:pt x="73" y="5390"/>
                </a:lnTo>
                <a:lnTo>
                  <a:pt x="72" y="5380"/>
                </a:lnTo>
                <a:lnTo>
                  <a:pt x="0" y="5345"/>
                </a:lnTo>
                <a:lnTo>
                  <a:pt x="0" y="5308"/>
                </a:lnTo>
                <a:close/>
                <a:moveTo>
                  <a:pt x="793" y="2250"/>
                </a:moveTo>
                <a:lnTo>
                  <a:pt x="828" y="2227"/>
                </a:lnTo>
                <a:lnTo>
                  <a:pt x="862" y="2208"/>
                </a:lnTo>
                <a:lnTo>
                  <a:pt x="895" y="2189"/>
                </a:lnTo>
                <a:lnTo>
                  <a:pt x="928" y="2172"/>
                </a:lnTo>
                <a:lnTo>
                  <a:pt x="958" y="2157"/>
                </a:lnTo>
                <a:lnTo>
                  <a:pt x="989" y="2144"/>
                </a:lnTo>
                <a:lnTo>
                  <a:pt x="1017" y="2133"/>
                </a:lnTo>
                <a:lnTo>
                  <a:pt x="1045" y="2124"/>
                </a:lnTo>
                <a:lnTo>
                  <a:pt x="1907" y="1998"/>
                </a:lnTo>
                <a:lnTo>
                  <a:pt x="1931" y="1973"/>
                </a:lnTo>
                <a:lnTo>
                  <a:pt x="1951" y="1948"/>
                </a:lnTo>
                <a:lnTo>
                  <a:pt x="1960" y="1936"/>
                </a:lnTo>
                <a:lnTo>
                  <a:pt x="1969" y="1923"/>
                </a:lnTo>
                <a:lnTo>
                  <a:pt x="1977" y="1911"/>
                </a:lnTo>
                <a:lnTo>
                  <a:pt x="1984" y="1898"/>
                </a:lnTo>
                <a:lnTo>
                  <a:pt x="1991" y="1886"/>
                </a:lnTo>
                <a:lnTo>
                  <a:pt x="1996" y="1874"/>
                </a:lnTo>
                <a:lnTo>
                  <a:pt x="2001" y="1861"/>
                </a:lnTo>
                <a:lnTo>
                  <a:pt x="2005" y="1849"/>
                </a:lnTo>
                <a:lnTo>
                  <a:pt x="2009" y="1837"/>
                </a:lnTo>
                <a:lnTo>
                  <a:pt x="2012" y="1824"/>
                </a:lnTo>
                <a:lnTo>
                  <a:pt x="2014" y="1812"/>
                </a:lnTo>
                <a:lnTo>
                  <a:pt x="2016" y="1799"/>
                </a:lnTo>
                <a:lnTo>
                  <a:pt x="2017" y="1787"/>
                </a:lnTo>
                <a:lnTo>
                  <a:pt x="2017" y="1775"/>
                </a:lnTo>
                <a:lnTo>
                  <a:pt x="2017" y="1762"/>
                </a:lnTo>
                <a:lnTo>
                  <a:pt x="2014" y="1750"/>
                </a:lnTo>
                <a:lnTo>
                  <a:pt x="2013" y="1737"/>
                </a:lnTo>
                <a:lnTo>
                  <a:pt x="2010" y="1725"/>
                </a:lnTo>
                <a:lnTo>
                  <a:pt x="2007" y="1713"/>
                </a:lnTo>
                <a:lnTo>
                  <a:pt x="2003" y="1700"/>
                </a:lnTo>
                <a:lnTo>
                  <a:pt x="1997" y="1688"/>
                </a:lnTo>
                <a:lnTo>
                  <a:pt x="1992" y="1676"/>
                </a:lnTo>
                <a:lnTo>
                  <a:pt x="1986" y="1663"/>
                </a:lnTo>
                <a:lnTo>
                  <a:pt x="1979" y="1651"/>
                </a:lnTo>
                <a:lnTo>
                  <a:pt x="1972" y="1638"/>
                </a:lnTo>
                <a:lnTo>
                  <a:pt x="1963" y="1626"/>
                </a:lnTo>
                <a:lnTo>
                  <a:pt x="1954" y="1614"/>
                </a:lnTo>
                <a:lnTo>
                  <a:pt x="1945" y="1601"/>
                </a:lnTo>
                <a:lnTo>
                  <a:pt x="1278" y="1619"/>
                </a:lnTo>
                <a:lnTo>
                  <a:pt x="1080" y="1494"/>
                </a:lnTo>
                <a:lnTo>
                  <a:pt x="900" y="1403"/>
                </a:lnTo>
                <a:lnTo>
                  <a:pt x="865" y="846"/>
                </a:lnTo>
                <a:lnTo>
                  <a:pt x="882" y="846"/>
                </a:lnTo>
                <a:lnTo>
                  <a:pt x="899" y="844"/>
                </a:lnTo>
                <a:lnTo>
                  <a:pt x="913" y="841"/>
                </a:lnTo>
                <a:lnTo>
                  <a:pt x="928" y="837"/>
                </a:lnTo>
                <a:lnTo>
                  <a:pt x="940" y="831"/>
                </a:lnTo>
                <a:lnTo>
                  <a:pt x="951" y="826"/>
                </a:lnTo>
                <a:lnTo>
                  <a:pt x="963" y="818"/>
                </a:lnTo>
                <a:lnTo>
                  <a:pt x="973" y="809"/>
                </a:lnTo>
                <a:lnTo>
                  <a:pt x="1026" y="720"/>
                </a:lnTo>
                <a:lnTo>
                  <a:pt x="1031" y="719"/>
                </a:lnTo>
                <a:lnTo>
                  <a:pt x="1046" y="712"/>
                </a:lnTo>
                <a:lnTo>
                  <a:pt x="1072" y="702"/>
                </a:lnTo>
                <a:lnTo>
                  <a:pt x="1107" y="688"/>
                </a:lnTo>
                <a:lnTo>
                  <a:pt x="1153" y="670"/>
                </a:lnTo>
                <a:lnTo>
                  <a:pt x="1208" y="649"/>
                </a:lnTo>
                <a:lnTo>
                  <a:pt x="1273" y="623"/>
                </a:lnTo>
                <a:lnTo>
                  <a:pt x="1350" y="595"/>
                </a:lnTo>
                <a:lnTo>
                  <a:pt x="1392" y="579"/>
                </a:lnTo>
                <a:lnTo>
                  <a:pt x="1434" y="564"/>
                </a:lnTo>
                <a:lnTo>
                  <a:pt x="1480" y="550"/>
                </a:lnTo>
                <a:lnTo>
                  <a:pt x="1527" y="536"/>
                </a:lnTo>
                <a:lnTo>
                  <a:pt x="1575" y="523"/>
                </a:lnTo>
                <a:lnTo>
                  <a:pt x="1626" y="510"/>
                </a:lnTo>
                <a:lnTo>
                  <a:pt x="1679" y="499"/>
                </a:lnTo>
                <a:lnTo>
                  <a:pt x="1733" y="488"/>
                </a:lnTo>
                <a:lnTo>
                  <a:pt x="1789" y="478"/>
                </a:lnTo>
                <a:lnTo>
                  <a:pt x="1847" y="468"/>
                </a:lnTo>
                <a:lnTo>
                  <a:pt x="1906" y="459"/>
                </a:lnTo>
                <a:lnTo>
                  <a:pt x="1967" y="451"/>
                </a:lnTo>
                <a:lnTo>
                  <a:pt x="2031" y="443"/>
                </a:lnTo>
                <a:lnTo>
                  <a:pt x="2095" y="435"/>
                </a:lnTo>
                <a:lnTo>
                  <a:pt x="2163" y="428"/>
                </a:lnTo>
                <a:lnTo>
                  <a:pt x="2232" y="423"/>
                </a:lnTo>
                <a:lnTo>
                  <a:pt x="2300" y="418"/>
                </a:lnTo>
                <a:lnTo>
                  <a:pt x="2366" y="415"/>
                </a:lnTo>
                <a:lnTo>
                  <a:pt x="2429" y="412"/>
                </a:lnTo>
                <a:lnTo>
                  <a:pt x="2488" y="412"/>
                </a:lnTo>
                <a:lnTo>
                  <a:pt x="2547" y="414"/>
                </a:lnTo>
                <a:lnTo>
                  <a:pt x="2602" y="416"/>
                </a:lnTo>
                <a:lnTo>
                  <a:pt x="2654" y="419"/>
                </a:lnTo>
                <a:lnTo>
                  <a:pt x="2703" y="425"/>
                </a:lnTo>
                <a:lnTo>
                  <a:pt x="2751" y="432"/>
                </a:lnTo>
                <a:lnTo>
                  <a:pt x="2795" y="441"/>
                </a:lnTo>
                <a:lnTo>
                  <a:pt x="2836" y="451"/>
                </a:lnTo>
                <a:lnTo>
                  <a:pt x="2876" y="462"/>
                </a:lnTo>
                <a:lnTo>
                  <a:pt x="2895" y="468"/>
                </a:lnTo>
                <a:lnTo>
                  <a:pt x="2912" y="474"/>
                </a:lnTo>
                <a:lnTo>
                  <a:pt x="2930" y="481"/>
                </a:lnTo>
                <a:lnTo>
                  <a:pt x="2946" y="489"/>
                </a:lnTo>
                <a:lnTo>
                  <a:pt x="2962" y="497"/>
                </a:lnTo>
                <a:lnTo>
                  <a:pt x="2977" y="505"/>
                </a:lnTo>
                <a:lnTo>
                  <a:pt x="2992" y="514"/>
                </a:lnTo>
                <a:lnTo>
                  <a:pt x="3005" y="522"/>
                </a:lnTo>
                <a:lnTo>
                  <a:pt x="3057" y="556"/>
                </a:lnTo>
                <a:lnTo>
                  <a:pt x="3105" y="589"/>
                </a:lnTo>
                <a:lnTo>
                  <a:pt x="3148" y="621"/>
                </a:lnTo>
                <a:lnTo>
                  <a:pt x="3188" y="650"/>
                </a:lnTo>
                <a:lnTo>
                  <a:pt x="3223" y="677"/>
                </a:lnTo>
                <a:lnTo>
                  <a:pt x="3254" y="702"/>
                </a:lnTo>
                <a:lnTo>
                  <a:pt x="3281" y="725"/>
                </a:lnTo>
                <a:lnTo>
                  <a:pt x="3304" y="747"/>
                </a:lnTo>
                <a:lnTo>
                  <a:pt x="3323" y="766"/>
                </a:lnTo>
                <a:lnTo>
                  <a:pt x="3342" y="784"/>
                </a:lnTo>
                <a:lnTo>
                  <a:pt x="3360" y="800"/>
                </a:lnTo>
                <a:lnTo>
                  <a:pt x="3377" y="814"/>
                </a:lnTo>
                <a:lnTo>
                  <a:pt x="3394" y="827"/>
                </a:lnTo>
                <a:lnTo>
                  <a:pt x="3408" y="838"/>
                </a:lnTo>
                <a:lnTo>
                  <a:pt x="3423" y="847"/>
                </a:lnTo>
                <a:lnTo>
                  <a:pt x="3437" y="855"/>
                </a:lnTo>
                <a:lnTo>
                  <a:pt x="3462" y="866"/>
                </a:lnTo>
                <a:lnTo>
                  <a:pt x="3483" y="875"/>
                </a:lnTo>
                <a:lnTo>
                  <a:pt x="3498" y="880"/>
                </a:lnTo>
                <a:lnTo>
                  <a:pt x="3510" y="882"/>
                </a:lnTo>
                <a:lnTo>
                  <a:pt x="3456" y="1079"/>
                </a:lnTo>
                <a:lnTo>
                  <a:pt x="3528" y="1116"/>
                </a:lnTo>
                <a:lnTo>
                  <a:pt x="3546" y="1187"/>
                </a:lnTo>
                <a:lnTo>
                  <a:pt x="3312" y="1422"/>
                </a:lnTo>
                <a:lnTo>
                  <a:pt x="3437" y="1601"/>
                </a:lnTo>
                <a:lnTo>
                  <a:pt x="3312" y="1566"/>
                </a:lnTo>
                <a:lnTo>
                  <a:pt x="3330" y="1636"/>
                </a:lnTo>
                <a:lnTo>
                  <a:pt x="3149" y="1619"/>
                </a:lnTo>
                <a:lnTo>
                  <a:pt x="3149" y="1673"/>
                </a:lnTo>
                <a:lnTo>
                  <a:pt x="3110" y="1656"/>
                </a:lnTo>
                <a:lnTo>
                  <a:pt x="3071" y="1643"/>
                </a:lnTo>
                <a:lnTo>
                  <a:pt x="3032" y="1631"/>
                </a:lnTo>
                <a:lnTo>
                  <a:pt x="2995" y="1622"/>
                </a:lnTo>
                <a:lnTo>
                  <a:pt x="2976" y="1618"/>
                </a:lnTo>
                <a:lnTo>
                  <a:pt x="2958" y="1615"/>
                </a:lnTo>
                <a:lnTo>
                  <a:pt x="2940" y="1613"/>
                </a:lnTo>
                <a:lnTo>
                  <a:pt x="2922" y="1611"/>
                </a:lnTo>
                <a:lnTo>
                  <a:pt x="2905" y="1610"/>
                </a:lnTo>
                <a:lnTo>
                  <a:pt x="2887" y="1609"/>
                </a:lnTo>
                <a:lnTo>
                  <a:pt x="2870" y="1610"/>
                </a:lnTo>
                <a:lnTo>
                  <a:pt x="2853" y="1610"/>
                </a:lnTo>
                <a:lnTo>
                  <a:pt x="2822" y="1613"/>
                </a:lnTo>
                <a:lnTo>
                  <a:pt x="2795" y="1614"/>
                </a:lnTo>
                <a:lnTo>
                  <a:pt x="2771" y="1614"/>
                </a:lnTo>
                <a:lnTo>
                  <a:pt x="2752" y="1613"/>
                </a:lnTo>
                <a:lnTo>
                  <a:pt x="2737" y="1611"/>
                </a:lnTo>
                <a:lnTo>
                  <a:pt x="2727" y="1609"/>
                </a:lnTo>
                <a:lnTo>
                  <a:pt x="2723" y="1607"/>
                </a:lnTo>
                <a:lnTo>
                  <a:pt x="2720" y="1606"/>
                </a:lnTo>
                <a:lnTo>
                  <a:pt x="2719" y="1604"/>
                </a:lnTo>
                <a:lnTo>
                  <a:pt x="2718" y="1601"/>
                </a:lnTo>
                <a:lnTo>
                  <a:pt x="2609" y="1547"/>
                </a:lnTo>
                <a:lnTo>
                  <a:pt x="2556" y="1583"/>
                </a:lnTo>
                <a:lnTo>
                  <a:pt x="2376" y="1566"/>
                </a:lnTo>
                <a:lnTo>
                  <a:pt x="2358" y="1980"/>
                </a:lnTo>
                <a:lnTo>
                  <a:pt x="2403" y="1993"/>
                </a:lnTo>
                <a:lnTo>
                  <a:pt x="2451" y="2005"/>
                </a:lnTo>
                <a:lnTo>
                  <a:pt x="2500" y="2018"/>
                </a:lnTo>
                <a:lnTo>
                  <a:pt x="2551" y="2029"/>
                </a:lnTo>
                <a:lnTo>
                  <a:pt x="2603" y="2040"/>
                </a:lnTo>
                <a:lnTo>
                  <a:pt x="2658" y="2050"/>
                </a:lnTo>
                <a:lnTo>
                  <a:pt x="2715" y="2061"/>
                </a:lnTo>
                <a:lnTo>
                  <a:pt x="2772" y="2070"/>
                </a:lnTo>
                <a:lnTo>
                  <a:pt x="2827" y="2077"/>
                </a:lnTo>
                <a:lnTo>
                  <a:pt x="2876" y="2085"/>
                </a:lnTo>
                <a:lnTo>
                  <a:pt x="2920" y="2091"/>
                </a:lnTo>
                <a:lnTo>
                  <a:pt x="2956" y="2096"/>
                </a:lnTo>
                <a:lnTo>
                  <a:pt x="2987" y="2100"/>
                </a:lnTo>
                <a:lnTo>
                  <a:pt x="3012" y="2102"/>
                </a:lnTo>
                <a:lnTo>
                  <a:pt x="3030" y="2105"/>
                </a:lnTo>
                <a:lnTo>
                  <a:pt x="3042" y="2105"/>
                </a:lnTo>
                <a:lnTo>
                  <a:pt x="3437" y="2339"/>
                </a:lnTo>
                <a:lnTo>
                  <a:pt x="3367" y="2322"/>
                </a:lnTo>
                <a:lnTo>
                  <a:pt x="3404" y="2339"/>
                </a:lnTo>
                <a:lnTo>
                  <a:pt x="3435" y="2354"/>
                </a:lnTo>
                <a:lnTo>
                  <a:pt x="3462" y="2370"/>
                </a:lnTo>
                <a:lnTo>
                  <a:pt x="3483" y="2384"/>
                </a:lnTo>
                <a:lnTo>
                  <a:pt x="3491" y="2390"/>
                </a:lnTo>
                <a:lnTo>
                  <a:pt x="3497" y="2396"/>
                </a:lnTo>
                <a:lnTo>
                  <a:pt x="3503" y="2403"/>
                </a:lnTo>
                <a:lnTo>
                  <a:pt x="3507" y="2408"/>
                </a:lnTo>
                <a:lnTo>
                  <a:pt x="3510" y="2414"/>
                </a:lnTo>
                <a:lnTo>
                  <a:pt x="3511" y="2419"/>
                </a:lnTo>
                <a:lnTo>
                  <a:pt x="3511" y="2424"/>
                </a:lnTo>
                <a:lnTo>
                  <a:pt x="3510" y="2429"/>
                </a:lnTo>
                <a:lnTo>
                  <a:pt x="3474" y="2483"/>
                </a:lnTo>
                <a:lnTo>
                  <a:pt x="3506" y="2500"/>
                </a:lnTo>
                <a:lnTo>
                  <a:pt x="3532" y="2514"/>
                </a:lnTo>
                <a:lnTo>
                  <a:pt x="3551" y="2527"/>
                </a:lnTo>
                <a:lnTo>
                  <a:pt x="3563" y="2537"/>
                </a:lnTo>
                <a:lnTo>
                  <a:pt x="3528" y="2771"/>
                </a:lnTo>
                <a:lnTo>
                  <a:pt x="3563" y="2788"/>
                </a:lnTo>
                <a:lnTo>
                  <a:pt x="3474" y="2807"/>
                </a:lnTo>
                <a:lnTo>
                  <a:pt x="3456" y="2897"/>
                </a:lnTo>
                <a:lnTo>
                  <a:pt x="3451" y="2915"/>
                </a:lnTo>
                <a:lnTo>
                  <a:pt x="3446" y="2931"/>
                </a:lnTo>
                <a:lnTo>
                  <a:pt x="3440" y="2947"/>
                </a:lnTo>
                <a:lnTo>
                  <a:pt x="3434" y="2962"/>
                </a:lnTo>
                <a:lnTo>
                  <a:pt x="3429" y="2976"/>
                </a:lnTo>
                <a:lnTo>
                  <a:pt x="3421" y="2989"/>
                </a:lnTo>
                <a:lnTo>
                  <a:pt x="3414" y="3002"/>
                </a:lnTo>
                <a:lnTo>
                  <a:pt x="3406" y="3013"/>
                </a:lnTo>
                <a:lnTo>
                  <a:pt x="3398" y="3024"/>
                </a:lnTo>
                <a:lnTo>
                  <a:pt x="3389" y="3034"/>
                </a:lnTo>
                <a:lnTo>
                  <a:pt x="3380" y="3043"/>
                </a:lnTo>
                <a:lnTo>
                  <a:pt x="3371" y="3051"/>
                </a:lnTo>
                <a:lnTo>
                  <a:pt x="3361" y="3059"/>
                </a:lnTo>
                <a:lnTo>
                  <a:pt x="3351" y="3066"/>
                </a:lnTo>
                <a:lnTo>
                  <a:pt x="3341" y="3072"/>
                </a:lnTo>
                <a:lnTo>
                  <a:pt x="3330" y="3077"/>
                </a:lnTo>
                <a:lnTo>
                  <a:pt x="3367" y="3112"/>
                </a:lnTo>
                <a:lnTo>
                  <a:pt x="3301" y="3100"/>
                </a:lnTo>
                <a:lnTo>
                  <a:pt x="3235" y="3087"/>
                </a:lnTo>
                <a:lnTo>
                  <a:pt x="3170" y="3075"/>
                </a:lnTo>
                <a:lnTo>
                  <a:pt x="3104" y="3065"/>
                </a:lnTo>
                <a:lnTo>
                  <a:pt x="3038" y="3054"/>
                </a:lnTo>
                <a:lnTo>
                  <a:pt x="2973" y="3045"/>
                </a:lnTo>
                <a:lnTo>
                  <a:pt x="2906" y="3036"/>
                </a:lnTo>
                <a:lnTo>
                  <a:pt x="2840" y="3028"/>
                </a:lnTo>
                <a:lnTo>
                  <a:pt x="2773" y="3020"/>
                </a:lnTo>
                <a:lnTo>
                  <a:pt x="2707" y="3013"/>
                </a:lnTo>
                <a:lnTo>
                  <a:pt x="2640" y="3006"/>
                </a:lnTo>
                <a:lnTo>
                  <a:pt x="2573" y="3001"/>
                </a:lnTo>
                <a:lnTo>
                  <a:pt x="2506" y="2996"/>
                </a:lnTo>
                <a:lnTo>
                  <a:pt x="2439" y="2993"/>
                </a:lnTo>
                <a:lnTo>
                  <a:pt x="2371" y="2989"/>
                </a:lnTo>
                <a:lnTo>
                  <a:pt x="2304" y="2986"/>
                </a:lnTo>
                <a:lnTo>
                  <a:pt x="2215" y="3489"/>
                </a:lnTo>
                <a:lnTo>
                  <a:pt x="2250" y="4732"/>
                </a:lnTo>
                <a:lnTo>
                  <a:pt x="2197" y="5937"/>
                </a:lnTo>
                <a:lnTo>
                  <a:pt x="2017" y="5937"/>
                </a:lnTo>
                <a:lnTo>
                  <a:pt x="2000" y="5915"/>
                </a:lnTo>
                <a:lnTo>
                  <a:pt x="1986" y="5897"/>
                </a:lnTo>
                <a:lnTo>
                  <a:pt x="1975" y="5882"/>
                </a:lnTo>
                <a:lnTo>
                  <a:pt x="1967" y="5868"/>
                </a:lnTo>
                <a:lnTo>
                  <a:pt x="1961" y="5857"/>
                </a:lnTo>
                <a:lnTo>
                  <a:pt x="1959" y="5848"/>
                </a:lnTo>
                <a:lnTo>
                  <a:pt x="1959" y="5845"/>
                </a:lnTo>
                <a:lnTo>
                  <a:pt x="1959" y="5842"/>
                </a:lnTo>
                <a:lnTo>
                  <a:pt x="1960" y="5840"/>
                </a:lnTo>
                <a:lnTo>
                  <a:pt x="1963" y="5839"/>
                </a:lnTo>
                <a:lnTo>
                  <a:pt x="1972" y="5834"/>
                </a:lnTo>
                <a:lnTo>
                  <a:pt x="1979" y="5832"/>
                </a:lnTo>
                <a:lnTo>
                  <a:pt x="1988" y="5830"/>
                </a:lnTo>
                <a:lnTo>
                  <a:pt x="1999" y="5830"/>
                </a:lnTo>
                <a:lnTo>
                  <a:pt x="2001" y="5829"/>
                </a:lnTo>
                <a:lnTo>
                  <a:pt x="2002" y="5827"/>
                </a:lnTo>
                <a:lnTo>
                  <a:pt x="2004" y="5822"/>
                </a:lnTo>
                <a:lnTo>
                  <a:pt x="2007" y="5816"/>
                </a:lnTo>
                <a:lnTo>
                  <a:pt x="2010" y="5800"/>
                </a:lnTo>
                <a:lnTo>
                  <a:pt x="2012" y="5776"/>
                </a:lnTo>
                <a:lnTo>
                  <a:pt x="2014" y="5745"/>
                </a:lnTo>
                <a:lnTo>
                  <a:pt x="2016" y="5708"/>
                </a:lnTo>
                <a:lnTo>
                  <a:pt x="2017" y="5664"/>
                </a:lnTo>
                <a:lnTo>
                  <a:pt x="2017" y="5613"/>
                </a:lnTo>
                <a:lnTo>
                  <a:pt x="2034" y="5434"/>
                </a:lnTo>
                <a:lnTo>
                  <a:pt x="2032" y="5420"/>
                </a:lnTo>
                <a:lnTo>
                  <a:pt x="2031" y="5405"/>
                </a:lnTo>
                <a:lnTo>
                  <a:pt x="2029" y="5390"/>
                </a:lnTo>
                <a:lnTo>
                  <a:pt x="2025" y="5373"/>
                </a:lnTo>
                <a:lnTo>
                  <a:pt x="2020" y="5356"/>
                </a:lnTo>
                <a:lnTo>
                  <a:pt x="2014" y="5337"/>
                </a:lnTo>
                <a:lnTo>
                  <a:pt x="2007" y="5318"/>
                </a:lnTo>
                <a:lnTo>
                  <a:pt x="1999" y="5299"/>
                </a:lnTo>
                <a:lnTo>
                  <a:pt x="1990" y="5279"/>
                </a:lnTo>
                <a:lnTo>
                  <a:pt x="1983" y="5262"/>
                </a:lnTo>
                <a:lnTo>
                  <a:pt x="1978" y="5247"/>
                </a:lnTo>
                <a:lnTo>
                  <a:pt x="1975" y="5233"/>
                </a:lnTo>
                <a:lnTo>
                  <a:pt x="1974" y="5222"/>
                </a:lnTo>
                <a:lnTo>
                  <a:pt x="1974" y="5213"/>
                </a:lnTo>
                <a:lnTo>
                  <a:pt x="1975" y="5210"/>
                </a:lnTo>
                <a:lnTo>
                  <a:pt x="1976" y="5206"/>
                </a:lnTo>
                <a:lnTo>
                  <a:pt x="1977" y="5203"/>
                </a:lnTo>
                <a:lnTo>
                  <a:pt x="1979" y="5201"/>
                </a:lnTo>
                <a:lnTo>
                  <a:pt x="2017" y="5037"/>
                </a:lnTo>
                <a:lnTo>
                  <a:pt x="1963" y="5020"/>
                </a:lnTo>
                <a:lnTo>
                  <a:pt x="1963" y="3112"/>
                </a:lnTo>
                <a:lnTo>
                  <a:pt x="1963" y="3098"/>
                </a:lnTo>
                <a:lnTo>
                  <a:pt x="1961" y="3083"/>
                </a:lnTo>
                <a:lnTo>
                  <a:pt x="1959" y="3069"/>
                </a:lnTo>
                <a:lnTo>
                  <a:pt x="1957" y="3056"/>
                </a:lnTo>
                <a:lnTo>
                  <a:pt x="1954" y="3045"/>
                </a:lnTo>
                <a:lnTo>
                  <a:pt x="1950" y="3033"/>
                </a:lnTo>
                <a:lnTo>
                  <a:pt x="1946" y="3023"/>
                </a:lnTo>
                <a:lnTo>
                  <a:pt x="1940" y="3014"/>
                </a:lnTo>
                <a:lnTo>
                  <a:pt x="1934" y="3005"/>
                </a:lnTo>
                <a:lnTo>
                  <a:pt x="1928" y="2997"/>
                </a:lnTo>
                <a:lnTo>
                  <a:pt x="1920" y="2991"/>
                </a:lnTo>
                <a:lnTo>
                  <a:pt x="1912" y="2985"/>
                </a:lnTo>
                <a:lnTo>
                  <a:pt x="1903" y="2979"/>
                </a:lnTo>
                <a:lnTo>
                  <a:pt x="1893" y="2975"/>
                </a:lnTo>
                <a:lnTo>
                  <a:pt x="1883" y="2971"/>
                </a:lnTo>
                <a:lnTo>
                  <a:pt x="1873" y="2969"/>
                </a:lnTo>
                <a:lnTo>
                  <a:pt x="1800" y="2986"/>
                </a:lnTo>
                <a:lnTo>
                  <a:pt x="1548" y="3023"/>
                </a:lnTo>
                <a:lnTo>
                  <a:pt x="1505" y="3023"/>
                </a:lnTo>
                <a:lnTo>
                  <a:pt x="1467" y="3024"/>
                </a:lnTo>
                <a:lnTo>
                  <a:pt x="1433" y="3025"/>
                </a:lnTo>
                <a:lnTo>
                  <a:pt x="1404" y="3028"/>
                </a:lnTo>
                <a:lnTo>
                  <a:pt x="1379" y="3030"/>
                </a:lnTo>
                <a:lnTo>
                  <a:pt x="1359" y="3033"/>
                </a:lnTo>
                <a:lnTo>
                  <a:pt x="1343" y="3037"/>
                </a:lnTo>
                <a:lnTo>
                  <a:pt x="1332" y="3041"/>
                </a:lnTo>
                <a:lnTo>
                  <a:pt x="1224" y="3095"/>
                </a:lnTo>
                <a:lnTo>
                  <a:pt x="1026" y="3077"/>
                </a:lnTo>
                <a:lnTo>
                  <a:pt x="775" y="3167"/>
                </a:lnTo>
                <a:lnTo>
                  <a:pt x="721" y="3149"/>
                </a:lnTo>
                <a:lnTo>
                  <a:pt x="706" y="3119"/>
                </a:lnTo>
                <a:lnTo>
                  <a:pt x="691" y="3092"/>
                </a:lnTo>
                <a:lnTo>
                  <a:pt x="682" y="3078"/>
                </a:lnTo>
                <a:lnTo>
                  <a:pt x="674" y="3067"/>
                </a:lnTo>
                <a:lnTo>
                  <a:pt x="665" y="3056"/>
                </a:lnTo>
                <a:lnTo>
                  <a:pt x="656" y="3045"/>
                </a:lnTo>
                <a:lnTo>
                  <a:pt x="647" y="3036"/>
                </a:lnTo>
                <a:lnTo>
                  <a:pt x="638" y="3027"/>
                </a:lnTo>
                <a:lnTo>
                  <a:pt x="628" y="3018"/>
                </a:lnTo>
                <a:lnTo>
                  <a:pt x="619" y="3010"/>
                </a:lnTo>
                <a:lnTo>
                  <a:pt x="608" y="3003"/>
                </a:lnTo>
                <a:lnTo>
                  <a:pt x="598" y="2997"/>
                </a:lnTo>
                <a:lnTo>
                  <a:pt x="588" y="2992"/>
                </a:lnTo>
                <a:lnTo>
                  <a:pt x="576" y="2986"/>
                </a:lnTo>
                <a:lnTo>
                  <a:pt x="581" y="2982"/>
                </a:lnTo>
                <a:lnTo>
                  <a:pt x="594" y="2969"/>
                </a:lnTo>
                <a:lnTo>
                  <a:pt x="504" y="2592"/>
                </a:lnTo>
                <a:lnTo>
                  <a:pt x="500" y="2591"/>
                </a:lnTo>
                <a:lnTo>
                  <a:pt x="497" y="2589"/>
                </a:lnTo>
                <a:lnTo>
                  <a:pt x="494" y="2585"/>
                </a:lnTo>
                <a:lnTo>
                  <a:pt x="493" y="2580"/>
                </a:lnTo>
                <a:lnTo>
                  <a:pt x="492" y="2574"/>
                </a:lnTo>
                <a:lnTo>
                  <a:pt x="492" y="2566"/>
                </a:lnTo>
                <a:lnTo>
                  <a:pt x="493" y="2556"/>
                </a:lnTo>
                <a:lnTo>
                  <a:pt x="494" y="2546"/>
                </a:lnTo>
                <a:lnTo>
                  <a:pt x="497" y="2540"/>
                </a:lnTo>
                <a:lnTo>
                  <a:pt x="500" y="2533"/>
                </a:lnTo>
                <a:lnTo>
                  <a:pt x="504" y="2527"/>
                </a:lnTo>
                <a:lnTo>
                  <a:pt x="510" y="2520"/>
                </a:lnTo>
                <a:lnTo>
                  <a:pt x="517" y="2512"/>
                </a:lnTo>
                <a:lnTo>
                  <a:pt x="526" y="2504"/>
                </a:lnTo>
                <a:lnTo>
                  <a:pt x="536" y="2496"/>
                </a:lnTo>
                <a:lnTo>
                  <a:pt x="546" y="2487"/>
                </a:lnTo>
                <a:lnTo>
                  <a:pt x="573" y="2468"/>
                </a:lnTo>
                <a:lnTo>
                  <a:pt x="605" y="2448"/>
                </a:lnTo>
                <a:lnTo>
                  <a:pt x="642" y="2427"/>
                </a:lnTo>
                <a:lnTo>
                  <a:pt x="683" y="2403"/>
                </a:lnTo>
                <a:lnTo>
                  <a:pt x="705" y="2390"/>
                </a:lnTo>
                <a:lnTo>
                  <a:pt x="724" y="2378"/>
                </a:lnTo>
                <a:lnTo>
                  <a:pt x="740" y="2367"/>
                </a:lnTo>
                <a:lnTo>
                  <a:pt x="754" y="2354"/>
                </a:lnTo>
                <a:lnTo>
                  <a:pt x="766" y="2343"/>
                </a:lnTo>
                <a:lnTo>
                  <a:pt x="774" y="2332"/>
                </a:lnTo>
                <a:lnTo>
                  <a:pt x="777" y="2326"/>
                </a:lnTo>
                <a:lnTo>
                  <a:pt x="780" y="2321"/>
                </a:lnTo>
                <a:lnTo>
                  <a:pt x="781" y="2315"/>
                </a:lnTo>
                <a:lnTo>
                  <a:pt x="784" y="2309"/>
                </a:lnTo>
                <a:lnTo>
                  <a:pt x="784" y="2305"/>
                </a:lnTo>
                <a:lnTo>
                  <a:pt x="784" y="2299"/>
                </a:lnTo>
                <a:lnTo>
                  <a:pt x="784" y="2294"/>
                </a:lnTo>
                <a:lnTo>
                  <a:pt x="783" y="2289"/>
                </a:lnTo>
                <a:lnTo>
                  <a:pt x="781" y="2284"/>
                </a:lnTo>
                <a:lnTo>
                  <a:pt x="778" y="2279"/>
                </a:lnTo>
                <a:lnTo>
                  <a:pt x="776" y="2273"/>
                </a:lnTo>
                <a:lnTo>
                  <a:pt x="772" y="2269"/>
                </a:lnTo>
                <a:lnTo>
                  <a:pt x="763" y="2259"/>
                </a:lnTo>
                <a:lnTo>
                  <a:pt x="751" y="2250"/>
                </a:lnTo>
                <a:lnTo>
                  <a:pt x="737" y="2240"/>
                </a:lnTo>
                <a:lnTo>
                  <a:pt x="721" y="2231"/>
                </a:lnTo>
                <a:lnTo>
                  <a:pt x="793" y="2250"/>
                </a:lnTo>
                <a:close/>
                <a:moveTo>
                  <a:pt x="2376" y="5956"/>
                </a:moveTo>
                <a:lnTo>
                  <a:pt x="2402" y="5922"/>
                </a:lnTo>
                <a:lnTo>
                  <a:pt x="2425" y="5893"/>
                </a:lnTo>
                <a:lnTo>
                  <a:pt x="2447" y="5868"/>
                </a:lnTo>
                <a:lnTo>
                  <a:pt x="2467" y="5848"/>
                </a:lnTo>
                <a:lnTo>
                  <a:pt x="2472" y="5843"/>
                </a:lnTo>
                <a:lnTo>
                  <a:pt x="2479" y="5839"/>
                </a:lnTo>
                <a:lnTo>
                  <a:pt x="2490" y="5834"/>
                </a:lnTo>
                <a:lnTo>
                  <a:pt x="2501" y="5830"/>
                </a:lnTo>
                <a:lnTo>
                  <a:pt x="2530" y="5821"/>
                </a:lnTo>
                <a:lnTo>
                  <a:pt x="2570" y="5812"/>
                </a:lnTo>
                <a:lnTo>
                  <a:pt x="2616" y="5803"/>
                </a:lnTo>
                <a:lnTo>
                  <a:pt x="2671" y="5794"/>
                </a:lnTo>
                <a:lnTo>
                  <a:pt x="2735" y="5785"/>
                </a:lnTo>
                <a:lnTo>
                  <a:pt x="2807" y="5776"/>
                </a:lnTo>
                <a:lnTo>
                  <a:pt x="2846" y="5770"/>
                </a:lnTo>
                <a:lnTo>
                  <a:pt x="2885" y="5763"/>
                </a:lnTo>
                <a:lnTo>
                  <a:pt x="2924" y="5754"/>
                </a:lnTo>
                <a:lnTo>
                  <a:pt x="2965" y="5743"/>
                </a:lnTo>
                <a:lnTo>
                  <a:pt x="3005" y="5731"/>
                </a:lnTo>
                <a:lnTo>
                  <a:pt x="3046" y="5716"/>
                </a:lnTo>
                <a:lnTo>
                  <a:pt x="3087" y="5699"/>
                </a:lnTo>
                <a:lnTo>
                  <a:pt x="3130" y="5681"/>
                </a:lnTo>
                <a:lnTo>
                  <a:pt x="3172" y="5661"/>
                </a:lnTo>
                <a:lnTo>
                  <a:pt x="3215" y="5640"/>
                </a:lnTo>
                <a:lnTo>
                  <a:pt x="3259" y="5616"/>
                </a:lnTo>
                <a:lnTo>
                  <a:pt x="3303" y="5590"/>
                </a:lnTo>
                <a:lnTo>
                  <a:pt x="3348" y="5563"/>
                </a:lnTo>
                <a:lnTo>
                  <a:pt x="3391" y="5534"/>
                </a:lnTo>
                <a:lnTo>
                  <a:pt x="3438" y="5503"/>
                </a:lnTo>
                <a:lnTo>
                  <a:pt x="3483" y="5471"/>
                </a:lnTo>
                <a:lnTo>
                  <a:pt x="3573" y="5403"/>
                </a:lnTo>
                <a:lnTo>
                  <a:pt x="3657" y="5337"/>
                </a:lnTo>
                <a:lnTo>
                  <a:pt x="3698" y="5304"/>
                </a:lnTo>
                <a:lnTo>
                  <a:pt x="3737" y="5273"/>
                </a:lnTo>
                <a:lnTo>
                  <a:pt x="3774" y="5240"/>
                </a:lnTo>
                <a:lnTo>
                  <a:pt x="3811" y="5208"/>
                </a:lnTo>
                <a:lnTo>
                  <a:pt x="3846" y="5177"/>
                </a:lnTo>
                <a:lnTo>
                  <a:pt x="3881" y="5147"/>
                </a:lnTo>
                <a:lnTo>
                  <a:pt x="3914" y="5115"/>
                </a:lnTo>
                <a:lnTo>
                  <a:pt x="3945" y="5085"/>
                </a:lnTo>
                <a:lnTo>
                  <a:pt x="3976" y="5054"/>
                </a:lnTo>
                <a:lnTo>
                  <a:pt x="4005" y="5025"/>
                </a:lnTo>
                <a:lnTo>
                  <a:pt x="4032" y="4995"/>
                </a:lnTo>
                <a:lnTo>
                  <a:pt x="4059" y="4965"/>
                </a:lnTo>
                <a:lnTo>
                  <a:pt x="4084" y="4936"/>
                </a:lnTo>
                <a:lnTo>
                  <a:pt x="4109" y="4906"/>
                </a:lnTo>
                <a:lnTo>
                  <a:pt x="4131" y="4875"/>
                </a:lnTo>
                <a:lnTo>
                  <a:pt x="4153" y="4845"/>
                </a:lnTo>
                <a:lnTo>
                  <a:pt x="4173" y="4813"/>
                </a:lnTo>
                <a:lnTo>
                  <a:pt x="4192" y="4782"/>
                </a:lnTo>
                <a:lnTo>
                  <a:pt x="4210" y="4749"/>
                </a:lnTo>
                <a:lnTo>
                  <a:pt x="4227" y="4716"/>
                </a:lnTo>
                <a:lnTo>
                  <a:pt x="4243" y="4683"/>
                </a:lnTo>
                <a:lnTo>
                  <a:pt x="4257" y="4649"/>
                </a:lnTo>
                <a:lnTo>
                  <a:pt x="4271" y="4615"/>
                </a:lnTo>
                <a:lnTo>
                  <a:pt x="4283" y="4580"/>
                </a:lnTo>
                <a:lnTo>
                  <a:pt x="4295" y="4544"/>
                </a:lnTo>
                <a:lnTo>
                  <a:pt x="4304" y="4509"/>
                </a:lnTo>
                <a:lnTo>
                  <a:pt x="4313" y="4472"/>
                </a:lnTo>
                <a:lnTo>
                  <a:pt x="4320" y="4435"/>
                </a:lnTo>
                <a:lnTo>
                  <a:pt x="4333" y="4360"/>
                </a:lnTo>
                <a:lnTo>
                  <a:pt x="4344" y="4282"/>
                </a:lnTo>
                <a:lnTo>
                  <a:pt x="4355" y="4201"/>
                </a:lnTo>
                <a:lnTo>
                  <a:pt x="4364" y="4118"/>
                </a:lnTo>
                <a:lnTo>
                  <a:pt x="4373" y="4032"/>
                </a:lnTo>
                <a:lnTo>
                  <a:pt x="4381" y="3944"/>
                </a:lnTo>
                <a:lnTo>
                  <a:pt x="4387" y="3853"/>
                </a:lnTo>
                <a:lnTo>
                  <a:pt x="4392" y="3759"/>
                </a:lnTo>
                <a:lnTo>
                  <a:pt x="4445" y="2357"/>
                </a:lnTo>
                <a:lnTo>
                  <a:pt x="4445" y="2250"/>
                </a:lnTo>
                <a:lnTo>
                  <a:pt x="4442" y="2223"/>
                </a:lnTo>
                <a:lnTo>
                  <a:pt x="4438" y="2197"/>
                </a:lnTo>
                <a:lnTo>
                  <a:pt x="4433" y="2171"/>
                </a:lnTo>
                <a:lnTo>
                  <a:pt x="4430" y="2146"/>
                </a:lnTo>
                <a:lnTo>
                  <a:pt x="4426" y="2121"/>
                </a:lnTo>
                <a:lnTo>
                  <a:pt x="4424" y="2098"/>
                </a:lnTo>
                <a:lnTo>
                  <a:pt x="4421" y="2074"/>
                </a:lnTo>
                <a:lnTo>
                  <a:pt x="4418" y="2052"/>
                </a:lnTo>
                <a:lnTo>
                  <a:pt x="4417" y="2027"/>
                </a:lnTo>
                <a:lnTo>
                  <a:pt x="4417" y="2001"/>
                </a:lnTo>
                <a:lnTo>
                  <a:pt x="4420" y="1971"/>
                </a:lnTo>
                <a:lnTo>
                  <a:pt x="4423" y="1939"/>
                </a:lnTo>
                <a:lnTo>
                  <a:pt x="4429" y="1903"/>
                </a:lnTo>
                <a:lnTo>
                  <a:pt x="4435" y="1866"/>
                </a:lnTo>
                <a:lnTo>
                  <a:pt x="4444" y="1824"/>
                </a:lnTo>
                <a:lnTo>
                  <a:pt x="4456" y="1781"/>
                </a:lnTo>
                <a:lnTo>
                  <a:pt x="4460" y="1759"/>
                </a:lnTo>
                <a:lnTo>
                  <a:pt x="4465" y="1736"/>
                </a:lnTo>
                <a:lnTo>
                  <a:pt x="4468" y="1714"/>
                </a:lnTo>
                <a:lnTo>
                  <a:pt x="4470" y="1691"/>
                </a:lnTo>
                <a:lnTo>
                  <a:pt x="4471" y="1670"/>
                </a:lnTo>
                <a:lnTo>
                  <a:pt x="4471" y="1647"/>
                </a:lnTo>
                <a:lnTo>
                  <a:pt x="4471" y="1626"/>
                </a:lnTo>
                <a:lnTo>
                  <a:pt x="4470" y="1604"/>
                </a:lnTo>
                <a:lnTo>
                  <a:pt x="4468" y="1582"/>
                </a:lnTo>
                <a:lnTo>
                  <a:pt x="4465" y="1560"/>
                </a:lnTo>
                <a:lnTo>
                  <a:pt x="4461" y="1538"/>
                </a:lnTo>
                <a:lnTo>
                  <a:pt x="4456" y="1517"/>
                </a:lnTo>
                <a:lnTo>
                  <a:pt x="4450" y="1495"/>
                </a:lnTo>
                <a:lnTo>
                  <a:pt x="4443" y="1474"/>
                </a:lnTo>
                <a:lnTo>
                  <a:pt x="4436" y="1453"/>
                </a:lnTo>
                <a:lnTo>
                  <a:pt x="4427" y="1431"/>
                </a:lnTo>
                <a:lnTo>
                  <a:pt x="4420" y="1410"/>
                </a:lnTo>
                <a:lnTo>
                  <a:pt x="4412" y="1388"/>
                </a:lnTo>
                <a:lnTo>
                  <a:pt x="4405" y="1368"/>
                </a:lnTo>
                <a:lnTo>
                  <a:pt x="4399" y="1348"/>
                </a:lnTo>
                <a:lnTo>
                  <a:pt x="4394" y="1329"/>
                </a:lnTo>
                <a:lnTo>
                  <a:pt x="4390" y="1310"/>
                </a:lnTo>
                <a:lnTo>
                  <a:pt x="4387" y="1291"/>
                </a:lnTo>
                <a:lnTo>
                  <a:pt x="4385" y="1273"/>
                </a:lnTo>
                <a:lnTo>
                  <a:pt x="4383" y="1255"/>
                </a:lnTo>
                <a:lnTo>
                  <a:pt x="4383" y="1238"/>
                </a:lnTo>
                <a:lnTo>
                  <a:pt x="4383" y="1221"/>
                </a:lnTo>
                <a:lnTo>
                  <a:pt x="4386" y="1204"/>
                </a:lnTo>
                <a:lnTo>
                  <a:pt x="4388" y="1188"/>
                </a:lnTo>
                <a:lnTo>
                  <a:pt x="4390" y="1172"/>
                </a:lnTo>
                <a:lnTo>
                  <a:pt x="4395" y="1158"/>
                </a:lnTo>
                <a:lnTo>
                  <a:pt x="4400" y="1142"/>
                </a:lnTo>
                <a:lnTo>
                  <a:pt x="4411" y="1115"/>
                </a:lnTo>
                <a:lnTo>
                  <a:pt x="4418" y="1090"/>
                </a:lnTo>
                <a:lnTo>
                  <a:pt x="4425" y="1069"/>
                </a:lnTo>
                <a:lnTo>
                  <a:pt x="4430" y="1050"/>
                </a:lnTo>
                <a:lnTo>
                  <a:pt x="4432" y="1035"/>
                </a:lnTo>
                <a:lnTo>
                  <a:pt x="4433" y="1023"/>
                </a:lnTo>
                <a:lnTo>
                  <a:pt x="4432" y="1018"/>
                </a:lnTo>
                <a:lnTo>
                  <a:pt x="4431" y="1014"/>
                </a:lnTo>
                <a:lnTo>
                  <a:pt x="4430" y="1010"/>
                </a:lnTo>
                <a:lnTo>
                  <a:pt x="4427" y="1007"/>
                </a:lnTo>
                <a:lnTo>
                  <a:pt x="4392" y="990"/>
                </a:lnTo>
                <a:lnTo>
                  <a:pt x="4394" y="980"/>
                </a:lnTo>
                <a:lnTo>
                  <a:pt x="4396" y="967"/>
                </a:lnTo>
                <a:lnTo>
                  <a:pt x="4402" y="953"/>
                </a:lnTo>
                <a:lnTo>
                  <a:pt x="4409" y="935"/>
                </a:lnTo>
                <a:lnTo>
                  <a:pt x="4392" y="630"/>
                </a:lnTo>
                <a:lnTo>
                  <a:pt x="4445" y="359"/>
                </a:lnTo>
                <a:lnTo>
                  <a:pt x="4459" y="275"/>
                </a:lnTo>
                <a:lnTo>
                  <a:pt x="4472" y="202"/>
                </a:lnTo>
                <a:lnTo>
                  <a:pt x="4479" y="170"/>
                </a:lnTo>
                <a:lnTo>
                  <a:pt x="4486" y="140"/>
                </a:lnTo>
                <a:lnTo>
                  <a:pt x="4493" y="114"/>
                </a:lnTo>
                <a:lnTo>
                  <a:pt x="4499" y="90"/>
                </a:lnTo>
                <a:lnTo>
                  <a:pt x="4506" y="69"/>
                </a:lnTo>
                <a:lnTo>
                  <a:pt x="4513" y="51"/>
                </a:lnTo>
                <a:lnTo>
                  <a:pt x="4520" y="35"/>
                </a:lnTo>
                <a:lnTo>
                  <a:pt x="4526" y="23"/>
                </a:lnTo>
                <a:lnTo>
                  <a:pt x="4533" y="13"/>
                </a:lnTo>
                <a:lnTo>
                  <a:pt x="4540" y="6"/>
                </a:lnTo>
                <a:lnTo>
                  <a:pt x="4543" y="4"/>
                </a:lnTo>
                <a:lnTo>
                  <a:pt x="4547" y="1"/>
                </a:lnTo>
                <a:lnTo>
                  <a:pt x="4550" y="0"/>
                </a:lnTo>
                <a:lnTo>
                  <a:pt x="4554" y="0"/>
                </a:lnTo>
                <a:lnTo>
                  <a:pt x="4565" y="12"/>
                </a:lnTo>
                <a:lnTo>
                  <a:pt x="4581" y="27"/>
                </a:lnTo>
                <a:lnTo>
                  <a:pt x="4601" y="48"/>
                </a:lnTo>
                <a:lnTo>
                  <a:pt x="4626" y="72"/>
                </a:lnTo>
                <a:lnTo>
                  <a:pt x="4650" y="98"/>
                </a:lnTo>
                <a:lnTo>
                  <a:pt x="4671" y="122"/>
                </a:lnTo>
                <a:lnTo>
                  <a:pt x="4678" y="133"/>
                </a:lnTo>
                <a:lnTo>
                  <a:pt x="4686" y="143"/>
                </a:lnTo>
                <a:lnTo>
                  <a:pt x="4693" y="153"/>
                </a:lnTo>
                <a:lnTo>
                  <a:pt x="4698" y="162"/>
                </a:lnTo>
                <a:lnTo>
                  <a:pt x="4787" y="1331"/>
                </a:lnTo>
                <a:lnTo>
                  <a:pt x="4770" y="1926"/>
                </a:lnTo>
                <a:lnTo>
                  <a:pt x="4762" y="1942"/>
                </a:lnTo>
                <a:lnTo>
                  <a:pt x="4754" y="1959"/>
                </a:lnTo>
                <a:lnTo>
                  <a:pt x="4747" y="1974"/>
                </a:lnTo>
                <a:lnTo>
                  <a:pt x="4743" y="1989"/>
                </a:lnTo>
                <a:lnTo>
                  <a:pt x="4738" y="2001"/>
                </a:lnTo>
                <a:lnTo>
                  <a:pt x="4736" y="2013"/>
                </a:lnTo>
                <a:lnTo>
                  <a:pt x="4734" y="2023"/>
                </a:lnTo>
                <a:lnTo>
                  <a:pt x="4733" y="2032"/>
                </a:lnTo>
                <a:lnTo>
                  <a:pt x="4806" y="2609"/>
                </a:lnTo>
                <a:lnTo>
                  <a:pt x="4796" y="2630"/>
                </a:lnTo>
                <a:lnTo>
                  <a:pt x="4784" y="2661"/>
                </a:lnTo>
                <a:lnTo>
                  <a:pt x="4773" y="2698"/>
                </a:lnTo>
                <a:lnTo>
                  <a:pt x="4761" y="2744"/>
                </a:lnTo>
                <a:lnTo>
                  <a:pt x="4755" y="2768"/>
                </a:lnTo>
                <a:lnTo>
                  <a:pt x="4749" y="2789"/>
                </a:lnTo>
                <a:lnTo>
                  <a:pt x="4746" y="2809"/>
                </a:lnTo>
                <a:lnTo>
                  <a:pt x="4745" y="2827"/>
                </a:lnTo>
                <a:lnTo>
                  <a:pt x="4744" y="2843"/>
                </a:lnTo>
                <a:lnTo>
                  <a:pt x="4745" y="2857"/>
                </a:lnTo>
                <a:lnTo>
                  <a:pt x="4747" y="2869"/>
                </a:lnTo>
                <a:lnTo>
                  <a:pt x="4752" y="2879"/>
                </a:lnTo>
                <a:lnTo>
                  <a:pt x="4806" y="4373"/>
                </a:lnTo>
                <a:lnTo>
                  <a:pt x="4913" y="4571"/>
                </a:lnTo>
                <a:lnTo>
                  <a:pt x="4824" y="4498"/>
                </a:lnTo>
                <a:lnTo>
                  <a:pt x="5237" y="5037"/>
                </a:lnTo>
                <a:lnTo>
                  <a:pt x="5237" y="5055"/>
                </a:lnTo>
                <a:lnTo>
                  <a:pt x="5759" y="5650"/>
                </a:lnTo>
                <a:lnTo>
                  <a:pt x="5801" y="5697"/>
                </a:lnTo>
                <a:lnTo>
                  <a:pt x="5843" y="5743"/>
                </a:lnTo>
                <a:lnTo>
                  <a:pt x="5884" y="5788"/>
                </a:lnTo>
                <a:lnTo>
                  <a:pt x="5925" y="5831"/>
                </a:lnTo>
                <a:lnTo>
                  <a:pt x="5964" y="5873"/>
                </a:lnTo>
                <a:lnTo>
                  <a:pt x="6004" y="5912"/>
                </a:lnTo>
                <a:lnTo>
                  <a:pt x="6042" y="5950"/>
                </a:lnTo>
                <a:lnTo>
                  <a:pt x="6080" y="5988"/>
                </a:lnTo>
                <a:lnTo>
                  <a:pt x="6118" y="6022"/>
                </a:lnTo>
                <a:lnTo>
                  <a:pt x="6154" y="6056"/>
                </a:lnTo>
                <a:lnTo>
                  <a:pt x="6190" y="6089"/>
                </a:lnTo>
                <a:lnTo>
                  <a:pt x="6226" y="6119"/>
                </a:lnTo>
                <a:lnTo>
                  <a:pt x="6259" y="6149"/>
                </a:lnTo>
                <a:lnTo>
                  <a:pt x="6294" y="6176"/>
                </a:lnTo>
                <a:lnTo>
                  <a:pt x="6327" y="6201"/>
                </a:lnTo>
                <a:lnTo>
                  <a:pt x="6360" y="6226"/>
                </a:lnTo>
                <a:lnTo>
                  <a:pt x="6392" y="6249"/>
                </a:lnTo>
                <a:lnTo>
                  <a:pt x="6424" y="6270"/>
                </a:lnTo>
                <a:lnTo>
                  <a:pt x="6454" y="6289"/>
                </a:lnTo>
                <a:lnTo>
                  <a:pt x="6485" y="6307"/>
                </a:lnTo>
                <a:lnTo>
                  <a:pt x="6514" y="6324"/>
                </a:lnTo>
                <a:lnTo>
                  <a:pt x="6542" y="6340"/>
                </a:lnTo>
                <a:lnTo>
                  <a:pt x="6570" y="6353"/>
                </a:lnTo>
                <a:lnTo>
                  <a:pt x="6598" y="6365"/>
                </a:lnTo>
                <a:lnTo>
                  <a:pt x="6624" y="6376"/>
                </a:lnTo>
                <a:lnTo>
                  <a:pt x="6651" y="6385"/>
                </a:lnTo>
                <a:lnTo>
                  <a:pt x="6676" y="6392"/>
                </a:lnTo>
                <a:lnTo>
                  <a:pt x="6701" y="6397"/>
                </a:lnTo>
                <a:lnTo>
                  <a:pt x="6726" y="6402"/>
                </a:lnTo>
                <a:lnTo>
                  <a:pt x="6749" y="6404"/>
                </a:lnTo>
                <a:lnTo>
                  <a:pt x="6772" y="6405"/>
                </a:lnTo>
                <a:lnTo>
                  <a:pt x="6794" y="6405"/>
                </a:lnTo>
                <a:lnTo>
                  <a:pt x="6837" y="6403"/>
                </a:lnTo>
                <a:lnTo>
                  <a:pt x="6880" y="6398"/>
                </a:lnTo>
                <a:lnTo>
                  <a:pt x="6921" y="6394"/>
                </a:lnTo>
                <a:lnTo>
                  <a:pt x="6963" y="6389"/>
                </a:lnTo>
                <a:lnTo>
                  <a:pt x="7004" y="6383"/>
                </a:lnTo>
                <a:lnTo>
                  <a:pt x="7043" y="6375"/>
                </a:lnTo>
                <a:lnTo>
                  <a:pt x="7081" y="6367"/>
                </a:lnTo>
                <a:lnTo>
                  <a:pt x="7120" y="6358"/>
                </a:lnTo>
                <a:lnTo>
                  <a:pt x="7157" y="6348"/>
                </a:lnTo>
                <a:lnTo>
                  <a:pt x="7194" y="6337"/>
                </a:lnTo>
                <a:lnTo>
                  <a:pt x="7230" y="6325"/>
                </a:lnTo>
                <a:lnTo>
                  <a:pt x="7265" y="6312"/>
                </a:lnTo>
                <a:lnTo>
                  <a:pt x="7299" y="6298"/>
                </a:lnTo>
                <a:lnTo>
                  <a:pt x="7332" y="6284"/>
                </a:lnTo>
                <a:lnTo>
                  <a:pt x="7365" y="6268"/>
                </a:lnTo>
                <a:lnTo>
                  <a:pt x="7398" y="6252"/>
                </a:lnTo>
                <a:lnTo>
                  <a:pt x="7456" y="6221"/>
                </a:lnTo>
                <a:lnTo>
                  <a:pt x="7509" y="6191"/>
                </a:lnTo>
                <a:lnTo>
                  <a:pt x="7555" y="6167"/>
                </a:lnTo>
                <a:lnTo>
                  <a:pt x="7595" y="6145"/>
                </a:lnTo>
                <a:lnTo>
                  <a:pt x="7627" y="6126"/>
                </a:lnTo>
                <a:lnTo>
                  <a:pt x="7653" y="6111"/>
                </a:lnTo>
                <a:lnTo>
                  <a:pt x="7673" y="6099"/>
                </a:lnTo>
                <a:lnTo>
                  <a:pt x="7685" y="6091"/>
                </a:lnTo>
                <a:lnTo>
                  <a:pt x="7694" y="6084"/>
                </a:lnTo>
                <a:lnTo>
                  <a:pt x="7702" y="6080"/>
                </a:lnTo>
                <a:lnTo>
                  <a:pt x="7710" y="6076"/>
                </a:lnTo>
                <a:lnTo>
                  <a:pt x="7716" y="6074"/>
                </a:lnTo>
                <a:lnTo>
                  <a:pt x="7722" y="6074"/>
                </a:lnTo>
                <a:lnTo>
                  <a:pt x="7728" y="6075"/>
                </a:lnTo>
                <a:lnTo>
                  <a:pt x="7733" y="6078"/>
                </a:lnTo>
                <a:lnTo>
                  <a:pt x="7738" y="6081"/>
                </a:lnTo>
                <a:lnTo>
                  <a:pt x="7721" y="6046"/>
                </a:lnTo>
                <a:lnTo>
                  <a:pt x="7918" y="5865"/>
                </a:lnTo>
                <a:lnTo>
                  <a:pt x="7904" y="5901"/>
                </a:lnTo>
                <a:lnTo>
                  <a:pt x="7891" y="5935"/>
                </a:lnTo>
                <a:lnTo>
                  <a:pt x="7877" y="5968"/>
                </a:lnTo>
                <a:lnTo>
                  <a:pt x="7864" y="6000"/>
                </a:lnTo>
                <a:lnTo>
                  <a:pt x="7849" y="6031"/>
                </a:lnTo>
                <a:lnTo>
                  <a:pt x="7836" y="6061"/>
                </a:lnTo>
                <a:lnTo>
                  <a:pt x="7821" y="6090"/>
                </a:lnTo>
                <a:lnTo>
                  <a:pt x="7807" y="6117"/>
                </a:lnTo>
                <a:lnTo>
                  <a:pt x="7792" y="6144"/>
                </a:lnTo>
                <a:lnTo>
                  <a:pt x="7777" y="6169"/>
                </a:lnTo>
                <a:lnTo>
                  <a:pt x="7761" y="6194"/>
                </a:lnTo>
                <a:lnTo>
                  <a:pt x="7747" y="6216"/>
                </a:lnTo>
                <a:lnTo>
                  <a:pt x="7731" y="6239"/>
                </a:lnTo>
                <a:lnTo>
                  <a:pt x="7716" y="6259"/>
                </a:lnTo>
                <a:lnTo>
                  <a:pt x="7701" y="6279"/>
                </a:lnTo>
                <a:lnTo>
                  <a:pt x="7685" y="6298"/>
                </a:lnTo>
                <a:lnTo>
                  <a:pt x="7703" y="6351"/>
                </a:lnTo>
                <a:lnTo>
                  <a:pt x="7649" y="6496"/>
                </a:lnTo>
                <a:lnTo>
                  <a:pt x="7631" y="6522"/>
                </a:lnTo>
                <a:lnTo>
                  <a:pt x="7612" y="6547"/>
                </a:lnTo>
                <a:lnTo>
                  <a:pt x="7594" y="6572"/>
                </a:lnTo>
                <a:lnTo>
                  <a:pt x="7575" y="6597"/>
                </a:lnTo>
                <a:lnTo>
                  <a:pt x="7555" y="6619"/>
                </a:lnTo>
                <a:lnTo>
                  <a:pt x="7535" y="6642"/>
                </a:lnTo>
                <a:lnTo>
                  <a:pt x="7516" y="6664"/>
                </a:lnTo>
                <a:lnTo>
                  <a:pt x="7496" y="6684"/>
                </a:lnTo>
                <a:lnTo>
                  <a:pt x="7483" y="6695"/>
                </a:lnTo>
                <a:lnTo>
                  <a:pt x="7469" y="6706"/>
                </a:lnTo>
                <a:lnTo>
                  <a:pt x="7450" y="6716"/>
                </a:lnTo>
                <a:lnTo>
                  <a:pt x="7427" y="6727"/>
                </a:lnTo>
                <a:lnTo>
                  <a:pt x="7400" y="6737"/>
                </a:lnTo>
                <a:lnTo>
                  <a:pt x="7371" y="6749"/>
                </a:lnTo>
                <a:lnTo>
                  <a:pt x="7337" y="6761"/>
                </a:lnTo>
                <a:lnTo>
                  <a:pt x="7300" y="6772"/>
                </a:lnTo>
                <a:lnTo>
                  <a:pt x="7259" y="6785"/>
                </a:lnTo>
                <a:lnTo>
                  <a:pt x="7215" y="6796"/>
                </a:lnTo>
                <a:lnTo>
                  <a:pt x="7168" y="6808"/>
                </a:lnTo>
                <a:lnTo>
                  <a:pt x="7116" y="6822"/>
                </a:lnTo>
                <a:lnTo>
                  <a:pt x="7003" y="6847"/>
                </a:lnTo>
                <a:lnTo>
                  <a:pt x="6875" y="6874"/>
                </a:lnTo>
                <a:lnTo>
                  <a:pt x="6836" y="6881"/>
                </a:lnTo>
                <a:lnTo>
                  <a:pt x="6801" y="6887"/>
                </a:lnTo>
                <a:lnTo>
                  <a:pt x="6768" y="6889"/>
                </a:lnTo>
                <a:lnTo>
                  <a:pt x="6740" y="6890"/>
                </a:lnTo>
                <a:lnTo>
                  <a:pt x="6727" y="6890"/>
                </a:lnTo>
                <a:lnTo>
                  <a:pt x="6714" y="6889"/>
                </a:lnTo>
                <a:lnTo>
                  <a:pt x="6703" y="6888"/>
                </a:lnTo>
                <a:lnTo>
                  <a:pt x="6693" y="6887"/>
                </a:lnTo>
                <a:lnTo>
                  <a:pt x="6683" y="6884"/>
                </a:lnTo>
                <a:lnTo>
                  <a:pt x="6674" y="6881"/>
                </a:lnTo>
                <a:lnTo>
                  <a:pt x="6666" y="6878"/>
                </a:lnTo>
                <a:lnTo>
                  <a:pt x="6659" y="6874"/>
                </a:lnTo>
                <a:lnTo>
                  <a:pt x="6570" y="6802"/>
                </a:lnTo>
                <a:lnTo>
                  <a:pt x="6335" y="6692"/>
                </a:lnTo>
                <a:lnTo>
                  <a:pt x="6326" y="6688"/>
                </a:lnTo>
                <a:lnTo>
                  <a:pt x="6316" y="6681"/>
                </a:lnTo>
                <a:lnTo>
                  <a:pt x="6306" y="6672"/>
                </a:lnTo>
                <a:lnTo>
                  <a:pt x="6295" y="6662"/>
                </a:lnTo>
                <a:lnTo>
                  <a:pt x="6284" y="6651"/>
                </a:lnTo>
                <a:lnTo>
                  <a:pt x="6272" y="6637"/>
                </a:lnTo>
                <a:lnTo>
                  <a:pt x="6259" y="6621"/>
                </a:lnTo>
                <a:lnTo>
                  <a:pt x="6247" y="6606"/>
                </a:lnTo>
                <a:lnTo>
                  <a:pt x="6220" y="6567"/>
                </a:lnTo>
                <a:lnTo>
                  <a:pt x="6192" y="6522"/>
                </a:lnTo>
                <a:lnTo>
                  <a:pt x="6160" y="6472"/>
                </a:lnTo>
                <a:lnTo>
                  <a:pt x="6128" y="6414"/>
                </a:lnTo>
                <a:lnTo>
                  <a:pt x="6110" y="6384"/>
                </a:lnTo>
                <a:lnTo>
                  <a:pt x="6092" y="6352"/>
                </a:lnTo>
                <a:lnTo>
                  <a:pt x="6071" y="6321"/>
                </a:lnTo>
                <a:lnTo>
                  <a:pt x="6050" y="6288"/>
                </a:lnTo>
                <a:lnTo>
                  <a:pt x="6027" y="6254"/>
                </a:lnTo>
                <a:lnTo>
                  <a:pt x="6003" y="6221"/>
                </a:lnTo>
                <a:lnTo>
                  <a:pt x="5977" y="6186"/>
                </a:lnTo>
                <a:lnTo>
                  <a:pt x="5950" y="6151"/>
                </a:lnTo>
                <a:lnTo>
                  <a:pt x="5922" y="6115"/>
                </a:lnTo>
                <a:lnTo>
                  <a:pt x="5892" y="6079"/>
                </a:lnTo>
                <a:lnTo>
                  <a:pt x="5862" y="6042"/>
                </a:lnTo>
                <a:lnTo>
                  <a:pt x="5829" y="6004"/>
                </a:lnTo>
                <a:lnTo>
                  <a:pt x="5795" y="5966"/>
                </a:lnTo>
                <a:lnTo>
                  <a:pt x="5761" y="5928"/>
                </a:lnTo>
                <a:lnTo>
                  <a:pt x="5725" y="5888"/>
                </a:lnTo>
                <a:lnTo>
                  <a:pt x="5686" y="5848"/>
                </a:lnTo>
                <a:lnTo>
                  <a:pt x="5613" y="5769"/>
                </a:lnTo>
                <a:lnTo>
                  <a:pt x="5543" y="5693"/>
                </a:lnTo>
                <a:lnTo>
                  <a:pt x="5479" y="5621"/>
                </a:lnTo>
                <a:lnTo>
                  <a:pt x="5419" y="5551"/>
                </a:lnTo>
                <a:lnTo>
                  <a:pt x="5364" y="5485"/>
                </a:lnTo>
                <a:lnTo>
                  <a:pt x="5314" y="5422"/>
                </a:lnTo>
                <a:lnTo>
                  <a:pt x="5269" y="5364"/>
                </a:lnTo>
                <a:lnTo>
                  <a:pt x="5228" y="5308"/>
                </a:lnTo>
                <a:lnTo>
                  <a:pt x="5192" y="5257"/>
                </a:lnTo>
                <a:lnTo>
                  <a:pt x="5162" y="5212"/>
                </a:lnTo>
                <a:lnTo>
                  <a:pt x="5135" y="5174"/>
                </a:lnTo>
                <a:lnTo>
                  <a:pt x="5113" y="5141"/>
                </a:lnTo>
                <a:lnTo>
                  <a:pt x="5097" y="5115"/>
                </a:lnTo>
                <a:lnTo>
                  <a:pt x="5085" y="5096"/>
                </a:lnTo>
                <a:lnTo>
                  <a:pt x="5078" y="5082"/>
                </a:lnTo>
                <a:lnTo>
                  <a:pt x="5076" y="5074"/>
                </a:lnTo>
                <a:lnTo>
                  <a:pt x="4913" y="5002"/>
                </a:lnTo>
                <a:lnTo>
                  <a:pt x="4752" y="4768"/>
                </a:lnTo>
                <a:lnTo>
                  <a:pt x="4731" y="4828"/>
                </a:lnTo>
                <a:lnTo>
                  <a:pt x="4711" y="4886"/>
                </a:lnTo>
                <a:lnTo>
                  <a:pt x="4691" y="4944"/>
                </a:lnTo>
                <a:lnTo>
                  <a:pt x="4671" y="4999"/>
                </a:lnTo>
                <a:lnTo>
                  <a:pt x="4649" y="5053"/>
                </a:lnTo>
                <a:lnTo>
                  <a:pt x="4629" y="5106"/>
                </a:lnTo>
                <a:lnTo>
                  <a:pt x="4608" y="5157"/>
                </a:lnTo>
                <a:lnTo>
                  <a:pt x="4587" y="5206"/>
                </a:lnTo>
                <a:lnTo>
                  <a:pt x="4566" y="5255"/>
                </a:lnTo>
                <a:lnTo>
                  <a:pt x="4546" y="5301"/>
                </a:lnTo>
                <a:lnTo>
                  <a:pt x="4524" y="5346"/>
                </a:lnTo>
                <a:lnTo>
                  <a:pt x="4503" y="5390"/>
                </a:lnTo>
                <a:lnTo>
                  <a:pt x="4483" y="5432"/>
                </a:lnTo>
                <a:lnTo>
                  <a:pt x="4461" y="5473"/>
                </a:lnTo>
                <a:lnTo>
                  <a:pt x="4440" y="5512"/>
                </a:lnTo>
                <a:lnTo>
                  <a:pt x="4418" y="5551"/>
                </a:lnTo>
                <a:lnTo>
                  <a:pt x="4396" y="5587"/>
                </a:lnTo>
                <a:lnTo>
                  <a:pt x="4372" y="5624"/>
                </a:lnTo>
                <a:lnTo>
                  <a:pt x="4347" y="5660"/>
                </a:lnTo>
                <a:lnTo>
                  <a:pt x="4320" y="5695"/>
                </a:lnTo>
                <a:lnTo>
                  <a:pt x="4291" y="5731"/>
                </a:lnTo>
                <a:lnTo>
                  <a:pt x="4261" y="5766"/>
                </a:lnTo>
                <a:lnTo>
                  <a:pt x="4229" y="5800"/>
                </a:lnTo>
                <a:lnTo>
                  <a:pt x="4197" y="5833"/>
                </a:lnTo>
                <a:lnTo>
                  <a:pt x="4161" y="5867"/>
                </a:lnTo>
                <a:lnTo>
                  <a:pt x="4125" y="5901"/>
                </a:lnTo>
                <a:lnTo>
                  <a:pt x="4086" y="5933"/>
                </a:lnTo>
                <a:lnTo>
                  <a:pt x="4046" y="5965"/>
                </a:lnTo>
                <a:lnTo>
                  <a:pt x="4004" y="5998"/>
                </a:lnTo>
                <a:lnTo>
                  <a:pt x="3961" y="6029"/>
                </a:lnTo>
                <a:lnTo>
                  <a:pt x="3916" y="6060"/>
                </a:lnTo>
                <a:lnTo>
                  <a:pt x="3870" y="6091"/>
                </a:lnTo>
                <a:lnTo>
                  <a:pt x="3824" y="6119"/>
                </a:lnTo>
                <a:lnTo>
                  <a:pt x="3780" y="6146"/>
                </a:lnTo>
                <a:lnTo>
                  <a:pt x="3738" y="6171"/>
                </a:lnTo>
                <a:lnTo>
                  <a:pt x="3699" y="6194"/>
                </a:lnTo>
                <a:lnTo>
                  <a:pt x="3662" y="6213"/>
                </a:lnTo>
                <a:lnTo>
                  <a:pt x="3627" y="6231"/>
                </a:lnTo>
                <a:lnTo>
                  <a:pt x="3594" y="6245"/>
                </a:lnTo>
                <a:lnTo>
                  <a:pt x="3564" y="6259"/>
                </a:lnTo>
                <a:lnTo>
                  <a:pt x="3536" y="6269"/>
                </a:lnTo>
                <a:lnTo>
                  <a:pt x="3510" y="6278"/>
                </a:lnTo>
                <a:lnTo>
                  <a:pt x="3486" y="6284"/>
                </a:lnTo>
                <a:lnTo>
                  <a:pt x="3465" y="6287"/>
                </a:lnTo>
                <a:lnTo>
                  <a:pt x="3455" y="6288"/>
                </a:lnTo>
                <a:lnTo>
                  <a:pt x="3446" y="6289"/>
                </a:lnTo>
                <a:lnTo>
                  <a:pt x="3437" y="6289"/>
                </a:lnTo>
                <a:lnTo>
                  <a:pt x="3429" y="6288"/>
                </a:lnTo>
                <a:lnTo>
                  <a:pt x="3421" y="6287"/>
                </a:lnTo>
                <a:lnTo>
                  <a:pt x="3414" y="6285"/>
                </a:lnTo>
                <a:lnTo>
                  <a:pt x="3407" y="6282"/>
                </a:lnTo>
                <a:lnTo>
                  <a:pt x="3402" y="6279"/>
                </a:lnTo>
                <a:lnTo>
                  <a:pt x="3223" y="6226"/>
                </a:lnTo>
                <a:lnTo>
                  <a:pt x="3059" y="6207"/>
                </a:lnTo>
                <a:lnTo>
                  <a:pt x="3077" y="6189"/>
                </a:lnTo>
                <a:lnTo>
                  <a:pt x="2826" y="6135"/>
                </a:lnTo>
                <a:lnTo>
                  <a:pt x="2817" y="6160"/>
                </a:lnTo>
                <a:lnTo>
                  <a:pt x="2809" y="6178"/>
                </a:lnTo>
                <a:lnTo>
                  <a:pt x="2804" y="6191"/>
                </a:lnTo>
                <a:lnTo>
                  <a:pt x="2798" y="6198"/>
                </a:lnTo>
                <a:lnTo>
                  <a:pt x="2797" y="6199"/>
                </a:lnTo>
                <a:lnTo>
                  <a:pt x="2796" y="6199"/>
                </a:lnTo>
                <a:lnTo>
                  <a:pt x="2794" y="6199"/>
                </a:lnTo>
                <a:lnTo>
                  <a:pt x="2791" y="6198"/>
                </a:lnTo>
                <a:lnTo>
                  <a:pt x="2786" y="6194"/>
                </a:lnTo>
                <a:lnTo>
                  <a:pt x="2779" y="6187"/>
                </a:lnTo>
                <a:lnTo>
                  <a:pt x="2760" y="6165"/>
                </a:lnTo>
                <a:lnTo>
                  <a:pt x="2735" y="6135"/>
                </a:lnTo>
                <a:lnTo>
                  <a:pt x="2520" y="6081"/>
                </a:lnTo>
                <a:lnTo>
                  <a:pt x="2376" y="5956"/>
                </a:lnTo>
                <a:close/>
                <a:moveTo>
                  <a:pt x="2646" y="3472"/>
                </a:moveTo>
                <a:lnTo>
                  <a:pt x="2735" y="3526"/>
                </a:lnTo>
                <a:lnTo>
                  <a:pt x="2735" y="3489"/>
                </a:lnTo>
                <a:lnTo>
                  <a:pt x="2767" y="3504"/>
                </a:lnTo>
                <a:lnTo>
                  <a:pt x="2796" y="3517"/>
                </a:lnTo>
                <a:lnTo>
                  <a:pt x="2825" y="3531"/>
                </a:lnTo>
                <a:lnTo>
                  <a:pt x="2853" y="3544"/>
                </a:lnTo>
                <a:lnTo>
                  <a:pt x="2879" y="3558"/>
                </a:lnTo>
                <a:lnTo>
                  <a:pt x="2905" y="3571"/>
                </a:lnTo>
                <a:lnTo>
                  <a:pt x="2929" y="3585"/>
                </a:lnTo>
                <a:lnTo>
                  <a:pt x="2951" y="3599"/>
                </a:lnTo>
                <a:lnTo>
                  <a:pt x="2974" y="3611"/>
                </a:lnTo>
                <a:lnTo>
                  <a:pt x="2995" y="3620"/>
                </a:lnTo>
                <a:lnTo>
                  <a:pt x="3006" y="3623"/>
                </a:lnTo>
                <a:lnTo>
                  <a:pt x="3017" y="3627"/>
                </a:lnTo>
                <a:lnTo>
                  <a:pt x="3027" y="3629"/>
                </a:lnTo>
                <a:lnTo>
                  <a:pt x="3037" y="3630"/>
                </a:lnTo>
                <a:lnTo>
                  <a:pt x="3047" y="3631"/>
                </a:lnTo>
                <a:lnTo>
                  <a:pt x="3057" y="3631"/>
                </a:lnTo>
                <a:lnTo>
                  <a:pt x="3067" y="3630"/>
                </a:lnTo>
                <a:lnTo>
                  <a:pt x="3077" y="3629"/>
                </a:lnTo>
                <a:lnTo>
                  <a:pt x="3086" y="3627"/>
                </a:lnTo>
                <a:lnTo>
                  <a:pt x="3095" y="3624"/>
                </a:lnTo>
                <a:lnTo>
                  <a:pt x="3105" y="3621"/>
                </a:lnTo>
                <a:lnTo>
                  <a:pt x="3114" y="3618"/>
                </a:lnTo>
                <a:lnTo>
                  <a:pt x="3138" y="3649"/>
                </a:lnTo>
                <a:lnTo>
                  <a:pt x="3155" y="3675"/>
                </a:lnTo>
                <a:lnTo>
                  <a:pt x="3161" y="3685"/>
                </a:lnTo>
                <a:lnTo>
                  <a:pt x="3165" y="3694"/>
                </a:lnTo>
                <a:lnTo>
                  <a:pt x="3167" y="3701"/>
                </a:lnTo>
                <a:lnTo>
                  <a:pt x="3169" y="3707"/>
                </a:lnTo>
                <a:lnTo>
                  <a:pt x="3149" y="3779"/>
                </a:lnTo>
                <a:lnTo>
                  <a:pt x="3140" y="3833"/>
                </a:lnTo>
                <a:lnTo>
                  <a:pt x="3131" y="3879"/>
                </a:lnTo>
                <a:lnTo>
                  <a:pt x="3122" y="3916"/>
                </a:lnTo>
                <a:lnTo>
                  <a:pt x="3113" y="3945"/>
                </a:lnTo>
                <a:lnTo>
                  <a:pt x="3109" y="3957"/>
                </a:lnTo>
                <a:lnTo>
                  <a:pt x="3104" y="3966"/>
                </a:lnTo>
                <a:lnTo>
                  <a:pt x="3100" y="3973"/>
                </a:lnTo>
                <a:lnTo>
                  <a:pt x="3095" y="3978"/>
                </a:lnTo>
                <a:lnTo>
                  <a:pt x="3091" y="3981"/>
                </a:lnTo>
                <a:lnTo>
                  <a:pt x="3086" y="3981"/>
                </a:lnTo>
                <a:lnTo>
                  <a:pt x="3082" y="3980"/>
                </a:lnTo>
                <a:lnTo>
                  <a:pt x="3077" y="3977"/>
                </a:lnTo>
                <a:lnTo>
                  <a:pt x="3005" y="3940"/>
                </a:lnTo>
                <a:lnTo>
                  <a:pt x="3024" y="3977"/>
                </a:lnTo>
                <a:lnTo>
                  <a:pt x="2970" y="4049"/>
                </a:lnTo>
                <a:lnTo>
                  <a:pt x="2946" y="4024"/>
                </a:lnTo>
                <a:lnTo>
                  <a:pt x="2925" y="4004"/>
                </a:lnTo>
                <a:lnTo>
                  <a:pt x="2910" y="3988"/>
                </a:lnTo>
                <a:lnTo>
                  <a:pt x="2898" y="3977"/>
                </a:lnTo>
                <a:lnTo>
                  <a:pt x="2790" y="3958"/>
                </a:lnTo>
                <a:lnTo>
                  <a:pt x="2783" y="3958"/>
                </a:lnTo>
                <a:lnTo>
                  <a:pt x="2777" y="3955"/>
                </a:lnTo>
                <a:lnTo>
                  <a:pt x="2769" y="3953"/>
                </a:lnTo>
                <a:lnTo>
                  <a:pt x="2761" y="3949"/>
                </a:lnTo>
                <a:lnTo>
                  <a:pt x="2754" y="3944"/>
                </a:lnTo>
                <a:lnTo>
                  <a:pt x="2746" y="3937"/>
                </a:lnTo>
                <a:lnTo>
                  <a:pt x="2737" y="3931"/>
                </a:lnTo>
                <a:lnTo>
                  <a:pt x="2729" y="3923"/>
                </a:lnTo>
                <a:lnTo>
                  <a:pt x="2713" y="3902"/>
                </a:lnTo>
                <a:lnTo>
                  <a:pt x="2694" y="3877"/>
                </a:lnTo>
                <a:lnTo>
                  <a:pt x="2675" y="3847"/>
                </a:lnTo>
                <a:lnTo>
                  <a:pt x="2655" y="3814"/>
                </a:lnTo>
                <a:lnTo>
                  <a:pt x="2637" y="3780"/>
                </a:lnTo>
                <a:lnTo>
                  <a:pt x="2621" y="3749"/>
                </a:lnTo>
                <a:lnTo>
                  <a:pt x="2609" y="3721"/>
                </a:lnTo>
                <a:lnTo>
                  <a:pt x="2599" y="3698"/>
                </a:lnTo>
                <a:lnTo>
                  <a:pt x="2593" y="3676"/>
                </a:lnTo>
                <a:lnTo>
                  <a:pt x="2590" y="3659"/>
                </a:lnTo>
                <a:lnTo>
                  <a:pt x="2589" y="3651"/>
                </a:lnTo>
                <a:lnTo>
                  <a:pt x="2590" y="3645"/>
                </a:lnTo>
                <a:lnTo>
                  <a:pt x="2591" y="3639"/>
                </a:lnTo>
                <a:lnTo>
                  <a:pt x="2592" y="3635"/>
                </a:lnTo>
                <a:lnTo>
                  <a:pt x="2646" y="3472"/>
                </a:lnTo>
                <a:close/>
                <a:moveTo>
                  <a:pt x="3618" y="2897"/>
                </a:moveTo>
                <a:lnTo>
                  <a:pt x="3622" y="2893"/>
                </a:lnTo>
                <a:lnTo>
                  <a:pt x="3635" y="2879"/>
                </a:lnTo>
                <a:lnTo>
                  <a:pt x="3654" y="2645"/>
                </a:lnTo>
                <a:lnTo>
                  <a:pt x="3656" y="2626"/>
                </a:lnTo>
                <a:lnTo>
                  <a:pt x="3659" y="2607"/>
                </a:lnTo>
                <a:lnTo>
                  <a:pt x="3663" y="2589"/>
                </a:lnTo>
                <a:lnTo>
                  <a:pt x="3666" y="2572"/>
                </a:lnTo>
                <a:lnTo>
                  <a:pt x="3671" y="2556"/>
                </a:lnTo>
                <a:lnTo>
                  <a:pt x="3676" y="2541"/>
                </a:lnTo>
                <a:lnTo>
                  <a:pt x="3682" y="2528"/>
                </a:lnTo>
                <a:lnTo>
                  <a:pt x="3688" y="2514"/>
                </a:lnTo>
                <a:lnTo>
                  <a:pt x="3694" y="2503"/>
                </a:lnTo>
                <a:lnTo>
                  <a:pt x="3701" y="2492"/>
                </a:lnTo>
                <a:lnTo>
                  <a:pt x="3708" y="2482"/>
                </a:lnTo>
                <a:lnTo>
                  <a:pt x="3716" y="2473"/>
                </a:lnTo>
                <a:lnTo>
                  <a:pt x="3725" y="2465"/>
                </a:lnTo>
                <a:lnTo>
                  <a:pt x="3734" y="2458"/>
                </a:lnTo>
                <a:lnTo>
                  <a:pt x="3743" y="2452"/>
                </a:lnTo>
                <a:lnTo>
                  <a:pt x="3753" y="2447"/>
                </a:lnTo>
                <a:lnTo>
                  <a:pt x="3763" y="2443"/>
                </a:lnTo>
                <a:lnTo>
                  <a:pt x="3774" y="2440"/>
                </a:lnTo>
                <a:lnTo>
                  <a:pt x="3786" y="2438"/>
                </a:lnTo>
                <a:lnTo>
                  <a:pt x="3797" y="2437"/>
                </a:lnTo>
                <a:lnTo>
                  <a:pt x="3809" y="2437"/>
                </a:lnTo>
                <a:lnTo>
                  <a:pt x="3823" y="2438"/>
                </a:lnTo>
                <a:lnTo>
                  <a:pt x="3835" y="2440"/>
                </a:lnTo>
                <a:lnTo>
                  <a:pt x="3850" y="2442"/>
                </a:lnTo>
                <a:lnTo>
                  <a:pt x="3863" y="2447"/>
                </a:lnTo>
                <a:lnTo>
                  <a:pt x="3879" y="2451"/>
                </a:lnTo>
                <a:lnTo>
                  <a:pt x="3894" y="2457"/>
                </a:lnTo>
                <a:lnTo>
                  <a:pt x="3909" y="2464"/>
                </a:lnTo>
                <a:lnTo>
                  <a:pt x="3926" y="2472"/>
                </a:lnTo>
                <a:lnTo>
                  <a:pt x="3942" y="2481"/>
                </a:lnTo>
                <a:lnTo>
                  <a:pt x="3960" y="2491"/>
                </a:lnTo>
                <a:lnTo>
                  <a:pt x="3978" y="2501"/>
                </a:lnTo>
                <a:lnTo>
                  <a:pt x="4003" y="2527"/>
                </a:lnTo>
                <a:lnTo>
                  <a:pt x="4027" y="2550"/>
                </a:lnTo>
                <a:lnTo>
                  <a:pt x="4049" y="2572"/>
                </a:lnTo>
                <a:lnTo>
                  <a:pt x="4068" y="2592"/>
                </a:lnTo>
                <a:lnTo>
                  <a:pt x="4122" y="2718"/>
                </a:lnTo>
                <a:lnTo>
                  <a:pt x="4130" y="2738"/>
                </a:lnTo>
                <a:lnTo>
                  <a:pt x="4138" y="2756"/>
                </a:lnTo>
                <a:lnTo>
                  <a:pt x="4146" y="2772"/>
                </a:lnTo>
                <a:lnTo>
                  <a:pt x="4153" y="2785"/>
                </a:lnTo>
                <a:lnTo>
                  <a:pt x="4159" y="2795"/>
                </a:lnTo>
                <a:lnTo>
                  <a:pt x="4165" y="2801"/>
                </a:lnTo>
                <a:lnTo>
                  <a:pt x="4171" y="2805"/>
                </a:lnTo>
                <a:lnTo>
                  <a:pt x="4175" y="2807"/>
                </a:lnTo>
                <a:lnTo>
                  <a:pt x="4157" y="2897"/>
                </a:lnTo>
                <a:lnTo>
                  <a:pt x="4194" y="2969"/>
                </a:lnTo>
                <a:lnTo>
                  <a:pt x="4175" y="3023"/>
                </a:lnTo>
                <a:lnTo>
                  <a:pt x="4211" y="3058"/>
                </a:lnTo>
                <a:lnTo>
                  <a:pt x="4031" y="3221"/>
                </a:lnTo>
                <a:lnTo>
                  <a:pt x="4013" y="3184"/>
                </a:lnTo>
                <a:lnTo>
                  <a:pt x="3996" y="3206"/>
                </a:lnTo>
                <a:lnTo>
                  <a:pt x="3979" y="3224"/>
                </a:lnTo>
                <a:lnTo>
                  <a:pt x="3965" y="3238"/>
                </a:lnTo>
                <a:lnTo>
                  <a:pt x="3950" y="3249"/>
                </a:lnTo>
                <a:lnTo>
                  <a:pt x="3938" y="3259"/>
                </a:lnTo>
                <a:lnTo>
                  <a:pt x="3926" y="3264"/>
                </a:lnTo>
                <a:lnTo>
                  <a:pt x="3921" y="3265"/>
                </a:lnTo>
                <a:lnTo>
                  <a:pt x="3915" y="3266"/>
                </a:lnTo>
                <a:lnTo>
                  <a:pt x="3911" y="3266"/>
                </a:lnTo>
                <a:lnTo>
                  <a:pt x="3905" y="3265"/>
                </a:lnTo>
                <a:lnTo>
                  <a:pt x="3896" y="3262"/>
                </a:lnTo>
                <a:lnTo>
                  <a:pt x="3884" y="3256"/>
                </a:lnTo>
                <a:lnTo>
                  <a:pt x="3870" y="3247"/>
                </a:lnTo>
                <a:lnTo>
                  <a:pt x="3854" y="3237"/>
                </a:lnTo>
                <a:lnTo>
                  <a:pt x="3836" y="3224"/>
                </a:lnTo>
                <a:lnTo>
                  <a:pt x="3816" y="3207"/>
                </a:lnTo>
                <a:lnTo>
                  <a:pt x="3795" y="3189"/>
                </a:lnTo>
                <a:lnTo>
                  <a:pt x="3770" y="3167"/>
                </a:lnTo>
                <a:lnTo>
                  <a:pt x="3727" y="3126"/>
                </a:lnTo>
                <a:lnTo>
                  <a:pt x="3697" y="3094"/>
                </a:lnTo>
                <a:lnTo>
                  <a:pt x="3685" y="3082"/>
                </a:lnTo>
                <a:lnTo>
                  <a:pt x="3679" y="3072"/>
                </a:lnTo>
                <a:lnTo>
                  <a:pt x="3673" y="3064"/>
                </a:lnTo>
                <a:lnTo>
                  <a:pt x="3672" y="3058"/>
                </a:lnTo>
                <a:lnTo>
                  <a:pt x="3618" y="2897"/>
                </a:lnTo>
                <a:close/>
                <a:moveTo>
                  <a:pt x="5777" y="1619"/>
                </a:moveTo>
                <a:lnTo>
                  <a:pt x="5777" y="1647"/>
                </a:lnTo>
                <a:lnTo>
                  <a:pt x="5780" y="1676"/>
                </a:lnTo>
                <a:lnTo>
                  <a:pt x="5782" y="1706"/>
                </a:lnTo>
                <a:lnTo>
                  <a:pt x="5786" y="1736"/>
                </a:lnTo>
                <a:lnTo>
                  <a:pt x="5791" y="1768"/>
                </a:lnTo>
                <a:lnTo>
                  <a:pt x="5798" y="1802"/>
                </a:lnTo>
                <a:lnTo>
                  <a:pt x="5804" y="1835"/>
                </a:lnTo>
                <a:lnTo>
                  <a:pt x="5812" y="1871"/>
                </a:lnTo>
                <a:lnTo>
                  <a:pt x="5759" y="1960"/>
                </a:lnTo>
                <a:lnTo>
                  <a:pt x="5759" y="1980"/>
                </a:lnTo>
                <a:lnTo>
                  <a:pt x="5651" y="2159"/>
                </a:lnTo>
                <a:lnTo>
                  <a:pt x="5627" y="2125"/>
                </a:lnTo>
                <a:lnTo>
                  <a:pt x="5606" y="2097"/>
                </a:lnTo>
                <a:lnTo>
                  <a:pt x="5591" y="2072"/>
                </a:lnTo>
                <a:lnTo>
                  <a:pt x="5579" y="2052"/>
                </a:lnTo>
                <a:lnTo>
                  <a:pt x="5399" y="1980"/>
                </a:lnTo>
                <a:lnTo>
                  <a:pt x="5392" y="1976"/>
                </a:lnTo>
                <a:lnTo>
                  <a:pt x="5386" y="1972"/>
                </a:lnTo>
                <a:lnTo>
                  <a:pt x="5379" y="1967"/>
                </a:lnTo>
                <a:lnTo>
                  <a:pt x="5371" y="1960"/>
                </a:lnTo>
                <a:lnTo>
                  <a:pt x="5363" y="1954"/>
                </a:lnTo>
                <a:lnTo>
                  <a:pt x="5356" y="1945"/>
                </a:lnTo>
                <a:lnTo>
                  <a:pt x="5348" y="1936"/>
                </a:lnTo>
                <a:lnTo>
                  <a:pt x="5341" y="1924"/>
                </a:lnTo>
                <a:lnTo>
                  <a:pt x="5325" y="1901"/>
                </a:lnTo>
                <a:lnTo>
                  <a:pt x="5308" y="1871"/>
                </a:lnTo>
                <a:lnTo>
                  <a:pt x="5291" y="1838"/>
                </a:lnTo>
                <a:lnTo>
                  <a:pt x="5274" y="1799"/>
                </a:lnTo>
                <a:lnTo>
                  <a:pt x="5257" y="1760"/>
                </a:lnTo>
                <a:lnTo>
                  <a:pt x="5241" y="1722"/>
                </a:lnTo>
                <a:lnTo>
                  <a:pt x="5229" y="1686"/>
                </a:lnTo>
                <a:lnTo>
                  <a:pt x="5218" y="1651"/>
                </a:lnTo>
                <a:lnTo>
                  <a:pt x="5208" y="1618"/>
                </a:lnTo>
                <a:lnTo>
                  <a:pt x="5201" y="1587"/>
                </a:lnTo>
                <a:lnTo>
                  <a:pt x="5195" y="1557"/>
                </a:lnTo>
                <a:lnTo>
                  <a:pt x="5192" y="1529"/>
                </a:lnTo>
                <a:lnTo>
                  <a:pt x="5191" y="1503"/>
                </a:lnTo>
                <a:lnTo>
                  <a:pt x="5191" y="1480"/>
                </a:lnTo>
                <a:lnTo>
                  <a:pt x="5192" y="1458"/>
                </a:lnTo>
                <a:lnTo>
                  <a:pt x="5194" y="1439"/>
                </a:lnTo>
                <a:lnTo>
                  <a:pt x="5199" y="1422"/>
                </a:lnTo>
                <a:lnTo>
                  <a:pt x="5204" y="1408"/>
                </a:lnTo>
                <a:lnTo>
                  <a:pt x="5208" y="1401"/>
                </a:lnTo>
                <a:lnTo>
                  <a:pt x="5211" y="1395"/>
                </a:lnTo>
                <a:lnTo>
                  <a:pt x="5216" y="1390"/>
                </a:lnTo>
                <a:lnTo>
                  <a:pt x="5220" y="1385"/>
                </a:lnTo>
                <a:lnTo>
                  <a:pt x="5381" y="1368"/>
                </a:lnTo>
                <a:lnTo>
                  <a:pt x="5471" y="1314"/>
                </a:lnTo>
                <a:lnTo>
                  <a:pt x="5614" y="1349"/>
                </a:lnTo>
                <a:lnTo>
                  <a:pt x="5640" y="1358"/>
                </a:lnTo>
                <a:lnTo>
                  <a:pt x="5660" y="1364"/>
                </a:lnTo>
                <a:lnTo>
                  <a:pt x="5675" y="1367"/>
                </a:lnTo>
                <a:lnTo>
                  <a:pt x="5686" y="1368"/>
                </a:lnTo>
                <a:lnTo>
                  <a:pt x="5723" y="1457"/>
                </a:lnTo>
                <a:lnTo>
                  <a:pt x="5795" y="1566"/>
                </a:lnTo>
                <a:lnTo>
                  <a:pt x="5777" y="16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椭圆 84"/>
          <p:cNvSpPr/>
          <p:nvPr/>
        </p:nvSpPr>
        <p:spPr>
          <a:xfrm>
            <a:off x="7850160" y="3289320"/>
            <a:ext cx="358920" cy="360360"/>
          </a:xfrm>
          <a:prstGeom prst="ellipse">
            <a:avLst/>
          </a:prstGeom>
          <a:noFill/>
          <a:ln w="9360">
            <a:solidFill>
              <a:srgbClr val="68d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8d4f7"/>
                </a:solidFill>
                <a:latin typeface="楷体_GB2312"/>
                <a:ea typeface="楷体_GB2312"/>
              </a:rPr>
              <a:t>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椭圆 85"/>
          <p:cNvSpPr/>
          <p:nvPr/>
        </p:nvSpPr>
        <p:spPr>
          <a:xfrm>
            <a:off x="7850160" y="3794040"/>
            <a:ext cx="358920" cy="358920"/>
          </a:xfrm>
          <a:prstGeom prst="ellipse">
            <a:avLst/>
          </a:prstGeom>
          <a:noFill/>
          <a:ln w="9360">
            <a:solidFill>
              <a:srgbClr val="68d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8d4f7"/>
                </a:solidFill>
                <a:latin typeface="楷体_GB2312"/>
                <a:ea typeface="楷体_GB2312"/>
              </a:rPr>
              <a:t>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椭圆 86"/>
          <p:cNvSpPr/>
          <p:nvPr/>
        </p:nvSpPr>
        <p:spPr>
          <a:xfrm>
            <a:off x="7850160" y="4297320"/>
            <a:ext cx="358920" cy="360360"/>
          </a:xfrm>
          <a:prstGeom prst="ellipse">
            <a:avLst/>
          </a:prstGeom>
          <a:noFill/>
          <a:ln w="9360">
            <a:solidFill>
              <a:srgbClr val="68d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8d4f7"/>
                </a:solidFill>
                <a:latin typeface="楷体_GB2312"/>
                <a:ea typeface="楷体_GB2312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椭圆 87"/>
          <p:cNvSpPr/>
          <p:nvPr/>
        </p:nvSpPr>
        <p:spPr>
          <a:xfrm>
            <a:off x="7850160" y="4802040"/>
            <a:ext cx="358920" cy="358920"/>
          </a:xfrm>
          <a:prstGeom prst="ellipse">
            <a:avLst/>
          </a:prstGeom>
          <a:noFill/>
          <a:ln w="9360">
            <a:solidFill>
              <a:srgbClr val="68d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8d4f7"/>
                </a:solidFill>
                <a:latin typeface="楷体_GB2312"/>
                <a:ea typeface="楷体_GB2312"/>
              </a:rPr>
              <a:t>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矩形 88"/>
          <p:cNvSpPr/>
          <p:nvPr/>
        </p:nvSpPr>
        <p:spPr>
          <a:xfrm>
            <a:off x="7530120" y="2182320"/>
            <a:ext cx="3628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e2fa"/>
                </a:solidFill>
                <a:latin typeface="Tahoma"/>
                <a:ea typeface="Tahoma"/>
              </a:rPr>
              <a:t>The Mid-Autumn Festiv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"/>
          </p:nvPr>
        </p:nvSpPr>
        <p:spPr>
          <a:xfrm>
            <a:off x="456840" y="11022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"/>
          </p:nvPr>
        </p:nvSpPr>
        <p:spPr>
          <a:xfrm>
            <a:off x="3124080" y="11022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"/>
          </p:nvPr>
        </p:nvSpPr>
        <p:spPr>
          <a:xfrm>
            <a:off x="6552720" y="11022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F08D-DD30-4139-AC5F-0ED463FCE7E3}" type="slidenum">
              <a:rPr b="0" lang="zh-CN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7"/>
    <p:sldLayoutId id="2147483663" r:id="rId78"/>
    <p:sldLayoutId id="2147483664" r:id="rId79"/>
    <p:sldLayoutId id="2147483665" r:id="rId80"/>
    <p:sldLayoutId id="2147483666" r:id="rId81"/>
    <p:sldLayoutId id="2147483667" r:id="rId82"/>
    <p:sldLayoutId id="2147483668" r:id="rId83"/>
    <p:sldLayoutId id="2147483669" r:id="rId84"/>
    <p:sldLayoutId id="2147483670" r:id="rId85"/>
    <p:sldLayoutId id="2147483671" r:id="rId86"/>
    <p:sldLayoutId id="2147483672" r:id="rId87"/>
    <p:sldLayoutId id="2147483673" r:id="rId8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1579680" y="804960"/>
            <a:ext cx="1981080" cy="2170080"/>
            <a:chOff x="1579680" y="804960"/>
            <a:chExt cx="1981080" cy="2170080"/>
          </a:xfrm>
        </p:grpSpPr>
        <p:pic>
          <p:nvPicPr>
            <p:cNvPr id="474" name="Freeform 5" descr=""/>
            <p:cNvPicPr/>
            <p:nvPr/>
          </p:nvPicPr>
          <p:blipFill>
            <a:blip r:embed="rId1"/>
            <a:stretch/>
          </p:blipFill>
          <p:spPr>
            <a:xfrm>
              <a:off x="1579680" y="804960"/>
              <a:ext cx="198108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2124360" y="1344600"/>
              <a:ext cx="893520" cy="10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" name="Freeform 6"/>
          <p:cNvSpPr/>
          <p:nvPr/>
        </p:nvSpPr>
        <p:spPr>
          <a:xfrm>
            <a:off x="2722680" y="1344600"/>
            <a:ext cx="1131840" cy="1254240"/>
          </a:xfrm>
          <a:custGeom>
            <a:avLst/>
            <a:gdLst/>
            <a:ahLst/>
            <a:rect l="l" t="t" r="r" b="b"/>
            <a:pathLst>
              <a:path w="3230" h="3568">
                <a:moveTo>
                  <a:pt x="0" y="2975"/>
                </a:moveTo>
                <a:lnTo>
                  <a:pt x="35" y="2988"/>
                </a:lnTo>
                <a:lnTo>
                  <a:pt x="67" y="3001"/>
                </a:lnTo>
                <a:lnTo>
                  <a:pt x="98" y="3013"/>
                </a:lnTo>
                <a:lnTo>
                  <a:pt x="126" y="3025"/>
                </a:lnTo>
                <a:lnTo>
                  <a:pt x="152" y="3036"/>
                </a:lnTo>
                <a:lnTo>
                  <a:pt x="176" y="3046"/>
                </a:lnTo>
                <a:lnTo>
                  <a:pt x="197" y="3056"/>
                </a:lnTo>
                <a:lnTo>
                  <a:pt x="215" y="3065"/>
                </a:lnTo>
                <a:lnTo>
                  <a:pt x="368" y="3155"/>
                </a:lnTo>
                <a:lnTo>
                  <a:pt x="378" y="3160"/>
                </a:lnTo>
                <a:lnTo>
                  <a:pt x="394" y="3167"/>
                </a:lnTo>
                <a:lnTo>
                  <a:pt x="416" y="3174"/>
                </a:lnTo>
                <a:lnTo>
                  <a:pt x="442" y="3183"/>
                </a:lnTo>
                <a:lnTo>
                  <a:pt x="476" y="3194"/>
                </a:lnTo>
                <a:lnTo>
                  <a:pt x="516" y="3204"/>
                </a:lnTo>
                <a:lnTo>
                  <a:pt x="561" y="3217"/>
                </a:lnTo>
                <a:lnTo>
                  <a:pt x="611" y="3231"/>
                </a:lnTo>
                <a:lnTo>
                  <a:pt x="664" y="3245"/>
                </a:lnTo>
                <a:lnTo>
                  <a:pt x="713" y="3257"/>
                </a:lnTo>
                <a:lnTo>
                  <a:pt x="759" y="3266"/>
                </a:lnTo>
                <a:lnTo>
                  <a:pt x="801" y="3273"/>
                </a:lnTo>
                <a:lnTo>
                  <a:pt x="839" y="3278"/>
                </a:lnTo>
                <a:lnTo>
                  <a:pt x="875" y="3281"/>
                </a:lnTo>
                <a:lnTo>
                  <a:pt x="907" y="3282"/>
                </a:lnTo>
                <a:lnTo>
                  <a:pt x="935" y="3281"/>
                </a:lnTo>
                <a:lnTo>
                  <a:pt x="955" y="3279"/>
                </a:lnTo>
                <a:lnTo>
                  <a:pt x="978" y="3277"/>
                </a:lnTo>
                <a:lnTo>
                  <a:pt x="1005" y="3274"/>
                </a:lnTo>
                <a:lnTo>
                  <a:pt x="1034" y="3269"/>
                </a:lnTo>
                <a:lnTo>
                  <a:pt x="1068" y="3261"/>
                </a:lnTo>
                <a:lnTo>
                  <a:pt x="1104" y="3253"/>
                </a:lnTo>
                <a:lnTo>
                  <a:pt x="1144" y="3243"/>
                </a:lnTo>
                <a:lnTo>
                  <a:pt x="1187" y="3231"/>
                </a:lnTo>
                <a:lnTo>
                  <a:pt x="1230" y="3219"/>
                </a:lnTo>
                <a:lnTo>
                  <a:pt x="1269" y="3209"/>
                </a:lnTo>
                <a:lnTo>
                  <a:pt x="1302" y="3198"/>
                </a:lnTo>
                <a:lnTo>
                  <a:pt x="1331" y="3188"/>
                </a:lnTo>
                <a:lnTo>
                  <a:pt x="1356" y="3179"/>
                </a:lnTo>
                <a:lnTo>
                  <a:pt x="1376" y="3170"/>
                </a:lnTo>
                <a:lnTo>
                  <a:pt x="1393" y="3162"/>
                </a:lnTo>
                <a:lnTo>
                  <a:pt x="1403" y="3155"/>
                </a:lnTo>
                <a:lnTo>
                  <a:pt x="1467" y="3091"/>
                </a:lnTo>
                <a:lnTo>
                  <a:pt x="1566" y="3029"/>
                </a:lnTo>
                <a:lnTo>
                  <a:pt x="1620" y="2939"/>
                </a:lnTo>
                <a:lnTo>
                  <a:pt x="1709" y="2840"/>
                </a:lnTo>
                <a:lnTo>
                  <a:pt x="1710" y="2824"/>
                </a:lnTo>
                <a:lnTo>
                  <a:pt x="1711" y="2809"/>
                </a:lnTo>
                <a:lnTo>
                  <a:pt x="1712" y="2797"/>
                </a:lnTo>
                <a:lnTo>
                  <a:pt x="1714" y="2786"/>
                </a:lnTo>
                <a:lnTo>
                  <a:pt x="1716" y="2780"/>
                </a:lnTo>
                <a:lnTo>
                  <a:pt x="1723" y="2769"/>
                </a:lnTo>
                <a:lnTo>
                  <a:pt x="1734" y="2755"/>
                </a:lnTo>
                <a:lnTo>
                  <a:pt x="1747" y="2736"/>
                </a:lnTo>
                <a:lnTo>
                  <a:pt x="1764" y="2713"/>
                </a:lnTo>
                <a:lnTo>
                  <a:pt x="1784" y="2686"/>
                </a:lnTo>
                <a:lnTo>
                  <a:pt x="1808" y="2655"/>
                </a:lnTo>
                <a:lnTo>
                  <a:pt x="1835" y="2621"/>
                </a:lnTo>
                <a:lnTo>
                  <a:pt x="1850" y="2602"/>
                </a:lnTo>
                <a:lnTo>
                  <a:pt x="1865" y="2580"/>
                </a:lnTo>
                <a:lnTo>
                  <a:pt x="1880" y="2558"/>
                </a:lnTo>
                <a:lnTo>
                  <a:pt x="1896" y="2533"/>
                </a:lnTo>
                <a:lnTo>
                  <a:pt x="1911" y="2506"/>
                </a:lnTo>
                <a:lnTo>
                  <a:pt x="1927" y="2478"/>
                </a:lnTo>
                <a:lnTo>
                  <a:pt x="1943" y="2449"/>
                </a:lnTo>
                <a:lnTo>
                  <a:pt x="1960" y="2418"/>
                </a:lnTo>
                <a:lnTo>
                  <a:pt x="1976" y="2385"/>
                </a:lnTo>
                <a:lnTo>
                  <a:pt x="1992" y="2349"/>
                </a:lnTo>
                <a:lnTo>
                  <a:pt x="2009" y="2313"/>
                </a:lnTo>
                <a:lnTo>
                  <a:pt x="2026" y="2274"/>
                </a:lnTo>
                <a:lnTo>
                  <a:pt x="2061" y="2192"/>
                </a:lnTo>
                <a:lnTo>
                  <a:pt x="2096" y="2104"/>
                </a:lnTo>
                <a:lnTo>
                  <a:pt x="2079" y="2099"/>
                </a:lnTo>
                <a:lnTo>
                  <a:pt x="2063" y="2095"/>
                </a:lnTo>
                <a:lnTo>
                  <a:pt x="2049" y="2089"/>
                </a:lnTo>
                <a:lnTo>
                  <a:pt x="2036" y="2084"/>
                </a:lnTo>
                <a:lnTo>
                  <a:pt x="2024" y="2078"/>
                </a:lnTo>
                <a:lnTo>
                  <a:pt x="2013" y="2072"/>
                </a:lnTo>
                <a:lnTo>
                  <a:pt x="2005" y="2066"/>
                </a:lnTo>
                <a:lnTo>
                  <a:pt x="1997" y="2059"/>
                </a:lnTo>
                <a:lnTo>
                  <a:pt x="1871" y="1952"/>
                </a:lnTo>
                <a:lnTo>
                  <a:pt x="1840" y="1936"/>
                </a:lnTo>
                <a:lnTo>
                  <a:pt x="1818" y="1922"/>
                </a:lnTo>
                <a:lnTo>
                  <a:pt x="1809" y="1917"/>
                </a:lnTo>
                <a:lnTo>
                  <a:pt x="1804" y="1912"/>
                </a:lnTo>
                <a:lnTo>
                  <a:pt x="1800" y="1909"/>
                </a:lnTo>
                <a:lnTo>
                  <a:pt x="1799" y="1907"/>
                </a:lnTo>
                <a:lnTo>
                  <a:pt x="1782" y="1843"/>
                </a:lnTo>
                <a:lnTo>
                  <a:pt x="1728" y="1745"/>
                </a:lnTo>
                <a:lnTo>
                  <a:pt x="1745" y="1730"/>
                </a:lnTo>
                <a:lnTo>
                  <a:pt x="1762" y="1718"/>
                </a:lnTo>
                <a:lnTo>
                  <a:pt x="1777" y="1706"/>
                </a:lnTo>
                <a:lnTo>
                  <a:pt x="1791" y="1697"/>
                </a:lnTo>
                <a:lnTo>
                  <a:pt x="1804" y="1690"/>
                </a:lnTo>
                <a:lnTo>
                  <a:pt x="1815" y="1683"/>
                </a:lnTo>
                <a:lnTo>
                  <a:pt x="1826" y="1680"/>
                </a:lnTo>
                <a:lnTo>
                  <a:pt x="1835" y="1678"/>
                </a:lnTo>
                <a:lnTo>
                  <a:pt x="1840" y="1678"/>
                </a:lnTo>
                <a:lnTo>
                  <a:pt x="1846" y="1678"/>
                </a:lnTo>
                <a:lnTo>
                  <a:pt x="1853" y="1679"/>
                </a:lnTo>
                <a:lnTo>
                  <a:pt x="1860" y="1681"/>
                </a:lnTo>
                <a:lnTo>
                  <a:pt x="1878" y="1687"/>
                </a:lnTo>
                <a:lnTo>
                  <a:pt x="1898" y="1697"/>
                </a:lnTo>
                <a:lnTo>
                  <a:pt x="1923" y="1709"/>
                </a:lnTo>
                <a:lnTo>
                  <a:pt x="1950" y="1724"/>
                </a:lnTo>
                <a:lnTo>
                  <a:pt x="1981" y="1742"/>
                </a:lnTo>
                <a:lnTo>
                  <a:pt x="2016" y="1763"/>
                </a:lnTo>
                <a:lnTo>
                  <a:pt x="2205" y="1898"/>
                </a:lnTo>
                <a:lnTo>
                  <a:pt x="2339" y="1664"/>
                </a:lnTo>
                <a:lnTo>
                  <a:pt x="2310" y="1642"/>
                </a:lnTo>
                <a:lnTo>
                  <a:pt x="2282" y="1622"/>
                </a:lnTo>
                <a:lnTo>
                  <a:pt x="2256" y="1604"/>
                </a:lnTo>
                <a:lnTo>
                  <a:pt x="2229" y="1586"/>
                </a:lnTo>
                <a:lnTo>
                  <a:pt x="2204" y="1570"/>
                </a:lnTo>
                <a:lnTo>
                  <a:pt x="2179" y="1556"/>
                </a:lnTo>
                <a:lnTo>
                  <a:pt x="2155" y="1545"/>
                </a:lnTo>
                <a:lnTo>
                  <a:pt x="2133" y="1534"/>
                </a:lnTo>
                <a:lnTo>
                  <a:pt x="2111" y="1523"/>
                </a:lnTo>
                <a:lnTo>
                  <a:pt x="2093" y="1513"/>
                </a:lnTo>
                <a:lnTo>
                  <a:pt x="2077" y="1504"/>
                </a:lnTo>
                <a:lnTo>
                  <a:pt x="2063" y="1494"/>
                </a:lnTo>
                <a:lnTo>
                  <a:pt x="2052" y="1485"/>
                </a:lnTo>
                <a:lnTo>
                  <a:pt x="2044" y="1476"/>
                </a:lnTo>
                <a:lnTo>
                  <a:pt x="2037" y="1466"/>
                </a:lnTo>
                <a:lnTo>
                  <a:pt x="2034" y="1458"/>
                </a:lnTo>
                <a:lnTo>
                  <a:pt x="2007" y="1386"/>
                </a:lnTo>
                <a:lnTo>
                  <a:pt x="1962" y="1331"/>
                </a:lnTo>
                <a:lnTo>
                  <a:pt x="1957" y="1325"/>
                </a:lnTo>
                <a:lnTo>
                  <a:pt x="1954" y="1320"/>
                </a:lnTo>
                <a:lnTo>
                  <a:pt x="1951" y="1315"/>
                </a:lnTo>
                <a:lnTo>
                  <a:pt x="1950" y="1308"/>
                </a:lnTo>
                <a:lnTo>
                  <a:pt x="1949" y="1303"/>
                </a:lnTo>
                <a:lnTo>
                  <a:pt x="1949" y="1297"/>
                </a:lnTo>
                <a:lnTo>
                  <a:pt x="1949" y="1292"/>
                </a:lnTo>
                <a:lnTo>
                  <a:pt x="1950" y="1287"/>
                </a:lnTo>
                <a:lnTo>
                  <a:pt x="1952" y="1280"/>
                </a:lnTo>
                <a:lnTo>
                  <a:pt x="1955" y="1275"/>
                </a:lnTo>
                <a:lnTo>
                  <a:pt x="1959" y="1270"/>
                </a:lnTo>
                <a:lnTo>
                  <a:pt x="1963" y="1264"/>
                </a:lnTo>
                <a:lnTo>
                  <a:pt x="1974" y="1252"/>
                </a:lnTo>
                <a:lnTo>
                  <a:pt x="1988" y="1242"/>
                </a:lnTo>
                <a:lnTo>
                  <a:pt x="2035" y="1246"/>
                </a:lnTo>
                <a:lnTo>
                  <a:pt x="2077" y="1250"/>
                </a:lnTo>
                <a:lnTo>
                  <a:pt x="2113" y="1256"/>
                </a:lnTo>
                <a:lnTo>
                  <a:pt x="2146" y="1260"/>
                </a:lnTo>
                <a:lnTo>
                  <a:pt x="2173" y="1264"/>
                </a:lnTo>
                <a:lnTo>
                  <a:pt x="2194" y="1268"/>
                </a:lnTo>
                <a:lnTo>
                  <a:pt x="2210" y="1273"/>
                </a:lnTo>
                <a:lnTo>
                  <a:pt x="2222" y="1277"/>
                </a:lnTo>
                <a:lnTo>
                  <a:pt x="2438" y="1395"/>
                </a:lnTo>
                <a:lnTo>
                  <a:pt x="2474" y="1395"/>
                </a:lnTo>
                <a:lnTo>
                  <a:pt x="2744" y="972"/>
                </a:lnTo>
                <a:lnTo>
                  <a:pt x="2687" y="961"/>
                </a:lnTo>
                <a:lnTo>
                  <a:pt x="2636" y="952"/>
                </a:lnTo>
                <a:lnTo>
                  <a:pt x="2591" y="942"/>
                </a:lnTo>
                <a:lnTo>
                  <a:pt x="2554" y="934"/>
                </a:lnTo>
                <a:lnTo>
                  <a:pt x="2521" y="927"/>
                </a:lnTo>
                <a:lnTo>
                  <a:pt x="2497" y="920"/>
                </a:lnTo>
                <a:lnTo>
                  <a:pt x="2478" y="914"/>
                </a:lnTo>
                <a:lnTo>
                  <a:pt x="2465" y="910"/>
                </a:lnTo>
                <a:lnTo>
                  <a:pt x="2267" y="766"/>
                </a:lnTo>
                <a:lnTo>
                  <a:pt x="2248" y="754"/>
                </a:lnTo>
                <a:lnTo>
                  <a:pt x="2229" y="745"/>
                </a:lnTo>
                <a:lnTo>
                  <a:pt x="2210" y="739"/>
                </a:lnTo>
                <a:lnTo>
                  <a:pt x="2193" y="735"/>
                </a:lnTo>
                <a:lnTo>
                  <a:pt x="2184" y="733"/>
                </a:lnTo>
                <a:lnTo>
                  <a:pt x="2177" y="732"/>
                </a:lnTo>
                <a:lnTo>
                  <a:pt x="2168" y="732"/>
                </a:lnTo>
                <a:lnTo>
                  <a:pt x="2161" y="733"/>
                </a:lnTo>
                <a:lnTo>
                  <a:pt x="2153" y="735"/>
                </a:lnTo>
                <a:lnTo>
                  <a:pt x="2146" y="736"/>
                </a:lnTo>
                <a:lnTo>
                  <a:pt x="2139" y="738"/>
                </a:lnTo>
                <a:lnTo>
                  <a:pt x="2132" y="741"/>
                </a:lnTo>
                <a:lnTo>
                  <a:pt x="2125" y="744"/>
                </a:lnTo>
                <a:lnTo>
                  <a:pt x="2119" y="749"/>
                </a:lnTo>
                <a:lnTo>
                  <a:pt x="2112" y="753"/>
                </a:lnTo>
                <a:lnTo>
                  <a:pt x="2107" y="758"/>
                </a:lnTo>
                <a:lnTo>
                  <a:pt x="2095" y="770"/>
                </a:lnTo>
                <a:lnTo>
                  <a:pt x="2084" y="784"/>
                </a:lnTo>
                <a:lnTo>
                  <a:pt x="2075" y="800"/>
                </a:lnTo>
                <a:lnTo>
                  <a:pt x="2066" y="819"/>
                </a:lnTo>
                <a:lnTo>
                  <a:pt x="2059" y="841"/>
                </a:lnTo>
                <a:lnTo>
                  <a:pt x="2051" y="865"/>
                </a:lnTo>
                <a:lnTo>
                  <a:pt x="1917" y="1026"/>
                </a:lnTo>
                <a:lnTo>
                  <a:pt x="1913" y="1030"/>
                </a:lnTo>
                <a:lnTo>
                  <a:pt x="1911" y="1034"/>
                </a:lnTo>
                <a:lnTo>
                  <a:pt x="1910" y="1037"/>
                </a:lnTo>
                <a:lnTo>
                  <a:pt x="1912" y="1040"/>
                </a:lnTo>
                <a:lnTo>
                  <a:pt x="1913" y="1043"/>
                </a:lnTo>
                <a:lnTo>
                  <a:pt x="1913" y="1048"/>
                </a:lnTo>
                <a:lnTo>
                  <a:pt x="1912" y="1057"/>
                </a:lnTo>
                <a:lnTo>
                  <a:pt x="1911" y="1068"/>
                </a:lnTo>
                <a:lnTo>
                  <a:pt x="1906" y="1099"/>
                </a:lnTo>
                <a:lnTo>
                  <a:pt x="1898" y="1143"/>
                </a:lnTo>
                <a:lnTo>
                  <a:pt x="1894" y="1163"/>
                </a:lnTo>
                <a:lnTo>
                  <a:pt x="1890" y="1176"/>
                </a:lnTo>
                <a:lnTo>
                  <a:pt x="1888" y="1179"/>
                </a:lnTo>
                <a:lnTo>
                  <a:pt x="1885" y="1180"/>
                </a:lnTo>
                <a:lnTo>
                  <a:pt x="1883" y="1179"/>
                </a:lnTo>
                <a:lnTo>
                  <a:pt x="1880" y="1176"/>
                </a:lnTo>
                <a:lnTo>
                  <a:pt x="1878" y="1172"/>
                </a:lnTo>
                <a:lnTo>
                  <a:pt x="1876" y="1164"/>
                </a:lnTo>
                <a:lnTo>
                  <a:pt x="1874" y="1156"/>
                </a:lnTo>
                <a:lnTo>
                  <a:pt x="1871" y="1145"/>
                </a:lnTo>
                <a:lnTo>
                  <a:pt x="1867" y="1116"/>
                </a:lnTo>
                <a:lnTo>
                  <a:pt x="1862" y="1079"/>
                </a:lnTo>
                <a:lnTo>
                  <a:pt x="1862" y="1098"/>
                </a:lnTo>
                <a:lnTo>
                  <a:pt x="1835" y="1123"/>
                </a:lnTo>
                <a:lnTo>
                  <a:pt x="1813" y="1145"/>
                </a:lnTo>
                <a:lnTo>
                  <a:pt x="1805" y="1155"/>
                </a:lnTo>
                <a:lnTo>
                  <a:pt x="1798" y="1163"/>
                </a:lnTo>
                <a:lnTo>
                  <a:pt x="1794" y="1172"/>
                </a:lnTo>
                <a:lnTo>
                  <a:pt x="1791" y="1178"/>
                </a:lnTo>
                <a:lnTo>
                  <a:pt x="1755" y="1277"/>
                </a:lnTo>
                <a:lnTo>
                  <a:pt x="1682" y="1386"/>
                </a:lnTo>
                <a:lnTo>
                  <a:pt x="1709" y="1395"/>
                </a:lnTo>
                <a:lnTo>
                  <a:pt x="1690" y="1403"/>
                </a:lnTo>
                <a:lnTo>
                  <a:pt x="1673" y="1410"/>
                </a:lnTo>
                <a:lnTo>
                  <a:pt x="1663" y="1417"/>
                </a:lnTo>
                <a:lnTo>
                  <a:pt x="1655" y="1422"/>
                </a:lnTo>
                <a:lnTo>
                  <a:pt x="1637" y="1476"/>
                </a:lnTo>
                <a:lnTo>
                  <a:pt x="1631" y="1481"/>
                </a:lnTo>
                <a:lnTo>
                  <a:pt x="1623" y="1490"/>
                </a:lnTo>
                <a:lnTo>
                  <a:pt x="1611" y="1502"/>
                </a:lnTo>
                <a:lnTo>
                  <a:pt x="1597" y="1516"/>
                </a:lnTo>
                <a:lnTo>
                  <a:pt x="1588" y="1525"/>
                </a:lnTo>
                <a:lnTo>
                  <a:pt x="1580" y="1538"/>
                </a:lnTo>
                <a:lnTo>
                  <a:pt x="1569" y="1553"/>
                </a:lnTo>
                <a:lnTo>
                  <a:pt x="1558" y="1571"/>
                </a:lnTo>
                <a:lnTo>
                  <a:pt x="1546" y="1594"/>
                </a:lnTo>
                <a:lnTo>
                  <a:pt x="1535" y="1619"/>
                </a:lnTo>
                <a:lnTo>
                  <a:pt x="1521" y="1647"/>
                </a:lnTo>
                <a:lnTo>
                  <a:pt x="1507" y="1678"/>
                </a:lnTo>
                <a:lnTo>
                  <a:pt x="1481" y="1735"/>
                </a:lnTo>
                <a:lnTo>
                  <a:pt x="1460" y="1776"/>
                </a:lnTo>
                <a:lnTo>
                  <a:pt x="1453" y="1789"/>
                </a:lnTo>
                <a:lnTo>
                  <a:pt x="1447" y="1800"/>
                </a:lnTo>
                <a:lnTo>
                  <a:pt x="1443" y="1806"/>
                </a:lnTo>
                <a:lnTo>
                  <a:pt x="1440" y="1808"/>
                </a:lnTo>
                <a:lnTo>
                  <a:pt x="1422" y="1808"/>
                </a:lnTo>
                <a:lnTo>
                  <a:pt x="1403" y="1808"/>
                </a:lnTo>
                <a:lnTo>
                  <a:pt x="1386" y="1828"/>
                </a:lnTo>
                <a:lnTo>
                  <a:pt x="1372" y="1843"/>
                </a:lnTo>
                <a:lnTo>
                  <a:pt x="1359" y="1855"/>
                </a:lnTo>
                <a:lnTo>
                  <a:pt x="1350" y="1861"/>
                </a:lnTo>
                <a:lnTo>
                  <a:pt x="1242" y="1907"/>
                </a:lnTo>
                <a:lnTo>
                  <a:pt x="1205" y="1933"/>
                </a:lnTo>
                <a:lnTo>
                  <a:pt x="1160" y="1925"/>
                </a:lnTo>
                <a:lnTo>
                  <a:pt x="1143" y="1952"/>
                </a:lnTo>
                <a:lnTo>
                  <a:pt x="1140" y="1954"/>
                </a:lnTo>
                <a:lnTo>
                  <a:pt x="1135" y="1955"/>
                </a:lnTo>
                <a:lnTo>
                  <a:pt x="1131" y="1956"/>
                </a:lnTo>
                <a:lnTo>
                  <a:pt x="1125" y="1956"/>
                </a:lnTo>
                <a:lnTo>
                  <a:pt x="1110" y="1955"/>
                </a:lnTo>
                <a:lnTo>
                  <a:pt x="1089" y="1952"/>
                </a:lnTo>
                <a:lnTo>
                  <a:pt x="935" y="1970"/>
                </a:lnTo>
                <a:lnTo>
                  <a:pt x="864" y="1925"/>
                </a:lnTo>
                <a:lnTo>
                  <a:pt x="855" y="1871"/>
                </a:lnTo>
                <a:lnTo>
                  <a:pt x="828" y="1843"/>
                </a:lnTo>
                <a:lnTo>
                  <a:pt x="782" y="1853"/>
                </a:lnTo>
                <a:lnTo>
                  <a:pt x="765" y="1823"/>
                </a:lnTo>
                <a:lnTo>
                  <a:pt x="749" y="1795"/>
                </a:lnTo>
                <a:lnTo>
                  <a:pt x="734" y="1771"/>
                </a:lnTo>
                <a:lnTo>
                  <a:pt x="720" y="1749"/>
                </a:lnTo>
                <a:lnTo>
                  <a:pt x="707" y="1730"/>
                </a:lnTo>
                <a:lnTo>
                  <a:pt x="697" y="1713"/>
                </a:lnTo>
                <a:lnTo>
                  <a:pt x="689" y="1698"/>
                </a:lnTo>
                <a:lnTo>
                  <a:pt x="683" y="1686"/>
                </a:lnTo>
                <a:lnTo>
                  <a:pt x="681" y="1680"/>
                </a:lnTo>
                <a:lnTo>
                  <a:pt x="680" y="1672"/>
                </a:lnTo>
                <a:lnTo>
                  <a:pt x="680" y="1663"/>
                </a:lnTo>
                <a:lnTo>
                  <a:pt x="681" y="1652"/>
                </a:lnTo>
                <a:lnTo>
                  <a:pt x="682" y="1639"/>
                </a:lnTo>
                <a:lnTo>
                  <a:pt x="686" y="1625"/>
                </a:lnTo>
                <a:lnTo>
                  <a:pt x="689" y="1609"/>
                </a:lnTo>
                <a:lnTo>
                  <a:pt x="693" y="1592"/>
                </a:lnTo>
                <a:lnTo>
                  <a:pt x="693" y="1579"/>
                </a:lnTo>
                <a:lnTo>
                  <a:pt x="694" y="1566"/>
                </a:lnTo>
                <a:lnTo>
                  <a:pt x="695" y="1555"/>
                </a:lnTo>
                <a:lnTo>
                  <a:pt x="697" y="1545"/>
                </a:lnTo>
                <a:lnTo>
                  <a:pt x="700" y="1535"/>
                </a:lnTo>
                <a:lnTo>
                  <a:pt x="703" y="1526"/>
                </a:lnTo>
                <a:lnTo>
                  <a:pt x="706" y="1519"/>
                </a:lnTo>
                <a:lnTo>
                  <a:pt x="710" y="1511"/>
                </a:lnTo>
                <a:lnTo>
                  <a:pt x="801" y="1386"/>
                </a:lnTo>
                <a:lnTo>
                  <a:pt x="807" y="1372"/>
                </a:lnTo>
                <a:lnTo>
                  <a:pt x="819" y="1347"/>
                </a:lnTo>
                <a:lnTo>
                  <a:pt x="834" y="1313"/>
                </a:lnTo>
                <a:lnTo>
                  <a:pt x="855" y="1268"/>
                </a:lnTo>
                <a:lnTo>
                  <a:pt x="1277" y="649"/>
                </a:lnTo>
                <a:lnTo>
                  <a:pt x="1610" y="146"/>
                </a:lnTo>
                <a:lnTo>
                  <a:pt x="1637" y="118"/>
                </a:lnTo>
                <a:lnTo>
                  <a:pt x="1637" y="65"/>
                </a:lnTo>
                <a:lnTo>
                  <a:pt x="1673" y="2"/>
                </a:lnTo>
                <a:lnTo>
                  <a:pt x="1701" y="0"/>
                </a:lnTo>
                <a:lnTo>
                  <a:pt x="1728" y="0"/>
                </a:lnTo>
                <a:lnTo>
                  <a:pt x="1752" y="0"/>
                </a:lnTo>
                <a:lnTo>
                  <a:pt x="1775" y="2"/>
                </a:lnTo>
                <a:lnTo>
                  <a:pt x="1795" y="5"/>
                </a:lnTo>
                <a:lnTo>
                  <a:pt x="1813" y="8"/>
                </a:lnTo>
                <a:lnTo>
                  <a:pt x="1830" y="14"/>
                </a:lnTo>
                <a:lnTo>
                  <a:pt x="1844" y="20"/>
                </a:lnTo>
                <a:lnTo>
                  <a:pt x="1908" y="65"/>
                </a:lnTo>
                <a:lnTo>
                  <a:pt x="1980" y="92"/>
                </a:lnTo>
                <a:lnTo>
                  <a:pt x="2007" y="154"/>
                </a:lnTo>
                <a:lnTo>
                  <a:pt x="2011" y="154"/>
                </a:lnTo>
                <a:lnTo>
                  <a:pt x="2016" y="152"/>
                </a:lnTo>
                <a:lnTo>
                  <a:pt x="2020" y="150"/>
                </a:lnTo>
                <a:lnTo>
                  <a:pt x="2024" y="146"/>
                </a:lnTo>
                <a:lnTo>
                  <a:pt x="2141" y="272"/>
                </a:lnTo>
                <a:lnTo>
                  <a:pt x="2205" y="308"/>
                </a:lnTo>
                <a:lnTo>
                  <a:pt x="2214" y="451"/>
                </a:lnTo>
                <a:lnTo>
                  <a:pt x="2249" y="487"/>
                </a:lnTo>
                <a:lnTo>
                  <a:pt x="2276" y="541"/>
                </a:lnTo>
                <a:lnTo>
                  <a:pt x="2279" y="547"/>
                </a:lnTo>
                <a:lnTo>
                  <a:pt x="2281" y="552"/>
                </a:lnTo>
                <a:lnTo>
                  <a:pt x="2286" y="557"/>
                </a:lnTo>
                <a:lnTo>
                  <a:pt x="2290" y="563"/>
                </a:lnTo>
                <a:lnTo>
                  <a:pt x="2300" y="572"/>
                </a:lnTo>
                <a:lnTo>
                  <a:pt x="2313" y="581"/>
                </a:lnTo>
                <a:lnTo>
                  <a:pt x="2327" y="591"/>
                </a:lnTo>
                <a:lnTo>
                  <a:pt x="2344" y="598"/>
                </a:lnTo>
                <a:lnTo>
                  <a:pt x="2363" y="606"/>
                </a:lnTo>
                <a:lnTo>
                  <a:pt x="2385" y="613"/>
                </a:lnTo>
                <a:lnTo>
                  <a:pt x="2699" y="729"/>
                </a:lnTo>
                <a:lnTo>
                  <a:pt x="2728" y="744"/>
                </a:lnTo>
                <a:lnTo>
                  <a:pt x="2754" y="757"/>
                </a:lnTo>
                <a:lnTo>
                  <a:pt x="2777" y="768"/>
                </a:lnTo>
                <a:lnTo>
                  <a:pt x="2798" y="776"/>
                </a:lnTo>
                <a:lnTo>
                  <a:pt x="2817" y="784"/>
                </a:lnTo>
                <a:lnTo>
                  <a:pt x="2834" y="788"/>
                </a:lnTo>
                <a:lnTo>
                  <a:pt x="2848" y="791"/>
                </a:lnTo>
                <a:lnTo>
                  <a:pt x="2861" y="793"/>
                </a:lnTo>
                <a:lnTo>
                  <a:pt x="3059" y="819"/>
                </a:lnTo>
                <a:lnTo>
                  <a:pt x="3071" y="827"/>
                </a:lnTo>
                <a:lnTo>
                  <a:pt x="3083" y="837"/>
                </a:lnTo>
                <a:lnTo>
                  <a:pt x="3096" y="846"/>
                </a:lnTo>
                <a:lnTo>
                  <a:pt x="3109" y="859"/>
                </a:lnTo>
                <a:lnTo>
                  <a:pt x="3123" y="872"/>
                </a:lnTo>
                <a:lnTo>
                  <a:pt x="3137" y="888"/>
                </a:lnTo>
                <a:lnTo>
                  <a:pt x="3152" y="904"/>
                </a:lnTo>
                <a:lnTo>
                  <a:pt x="3168" y="923"/>
                </a:lnTo>
                <a:lnTo>
                  <a:pt x="3182" y="941"/>
                </a:lnTo>
                <a:lnTo>
                  <a:pt x="3195" y="958"/>
                </a:lnTo>
                <a:lnTo>
                  <a:pt x="3206" y="973"/>
                </a:lnTo>
                <a:lnTo>
                  <a:pt x="3214" y="987"/>
                </a:lnTo>
                <a:lnTo>
                  <a:pt x="3222" y="999"/>
                </a:lnTo>
                <a:lnTo>
                  <a:pt x="3226" y="1010"/>
                </a:lnTo>
                <a:lnTo>
                  <a:pt x="3229" y="1018"/>
                </a:lnTo>
                <a:lnTo>
                  <a:pt x="3230" y="1026"/>
                </a:lnTo>
                <a:lnTo>
                  <a:pt x="3228" y="1036"/>
                </a:lnTo>
                <a:lnTo>
                  <a:pt x="3224" y="1047"/>
                </a:lnTo>
                <a:lnTo>
                  <a:pt x="3220" y="1056"/>
                </a:lnTo>
                <a:lnTo>
                  <a:pt x="3214" y="1064"/>
                </a:lnTo>
                <a:lnTo>
                  <a:pt x="3209" y="1072"/>
                </a:lnTo>
                <a:lnTo>
                  <a:pt x="3201" y="1078"/>
                </a:lnTo>
                <a:lnTo>
                  <a:pt x="3194" y="1084"/>
                </a:lnTo>
                <a:lnTo>
                  <a:pt x="3185" y="1089"/>
                </a:lnTo>
                <a:lnTo>
                  <a:pt x="3032" y="1107"/>
                </a:lnTo>
                <a:lnTo>
                  <a:pt x="3022" y="1111"/>
                </a:lnTo>
                <a:lnTo>
                  <a:pt x="3010" y="1115"/>
                </a:lnTo>
                <a:lnTo>
                  <a:pt x="2998" y="1120"/>
                </a:lnTo>
                <a:lnTo>
                  <a:pt x="2986" y="1127"/>
                </a:lnTo>
                <a:lnTo>
                  <a:pt x="2973" y="1135"/>
                </a:lnTo>
                <a:lnTo>
                  <a:pt x="2961" y="1145"/>
                </a:lnTo>
                <a:lnTo>
                  <a:pt x="2948" y="1156"/>
                </a:lnTo>
                <a:lnTo>
                  <a:pt x="2936" y="1167"/>
                </a:lnTo>
                <a:lnTo>
                  <a:pt x="2923" y="1181"/>
                </a:lnTo>
                <a:lnTo>
                  <a:pt x="2910" y="1196"/>
                </a:lnTo>
                <a:lnTo>
                  <a:pt x="2896" y="1213"/>
                </a:lnTo>
                <a:lnTo>
                  <a:pt x="2882" y="1230"/>
                </a:lnTo>
                <a:lnTo>
                  <a:pt x="2868" y="1249"/>
                </a:lnTo>
                <a:lnTo>
                  <a:pt x="2854" y="1270"/>
                </a:lnTo>
                <a:lnTo>
                  <a:pt x="2840" y="1291"/>
                </a:lnTo>
                <a:lnTo>
                  <a:pt x="2825" y="1314"/>
                </a:lnTo>
                <a:lnTo>
                  <a:pt x="2484" y="1861"/>
                </a:lnTo>
                <a:lnTo>
                  <a:pt x="2141" y="2661"/>
                </a:lnTo>
                <a:lnTo>
                  <a:pt x="2042" y="2867"/>
                </a:lnTo>
                <a:lnTo>
                  <a:pt x="1673" y="3299"/>
                </a:lnTo>
                <a:lnTo>
                  <a:pt x="1511" y="3389"/>
                </a:lnTo>
                <a:lnTo>
                  <a:pt x="1424" y="3433"/>
                </a:lnTo>
                <a:lnTo>
                  <a:pt x="1344" y="3471"/>
                </a:lnTo>
                <a:lnTo>
                  <a:pt x="1308" y="3487"/>
                </a:lnTo>
                <a:lnTo>
                  <a:pt x="1273" y="3502"/>
                </a:lnTo>
                <a:lnTo>
                  <a:pt x="1241" y="3516"/>
                </a:lnTo>
                <a:lnTo>
                  <a:pt x="1210" y="3528"/>
                </a:lnTo>
                <a:lnTo>
                  <a:pt x="1182" y="3538"/>
                </a:lnTo>
                <a:lnTo>
                  <a:pt x="1156" y="3547"/>
                </a:lnTo>
                <a:lnTo>
                  <a:pt x="1132" y="3554"/>
                </a:lnTo>
                <a:lnTo>
                  <a:pt x="1110" y="3560"/>
                </a:lnTo>
                <a:lnTo>
                  <a:pt x="1090" y="3564"/>
                </a:lnTo>
                <a:lnTo>
                  <a:pt x="1073" y="3567"/>
                </a:lnTo>
                <a:lnTo>
                  <a:pt x="1057" y="3568"/>
                </a:lnTo>
                <a:lnTo>
                  <a:pt x="1044" y="3568"/>
                </a:lnTo>
                <a:lnTo>
                  <a:pt x="1018" y="3565"/>
                </a:lnTo>
                <a:lnTo>
                  <a:pt x="992" y="3560"/>
                </a:lnTo>
                <a:lnTo>
                  <a:pt x="965" y="3552"/>
                </a:lnTo>
                <a:lnTo>
                  <a:pt x="937" y="3544"/>
                </a:lnTo>
                <a:lnTo>
                  <a:pt x="909" y="3532"/>
                </a:lnTo>
                <a:lnTo>
                  <a:pt x="879" y="3519"/>
                </a:lnTo>
                <a:lnTo>
                  <a:pt x="849" y="3504"/>
                </a:lnTo>
                <a:lnTo>
                  <a:pt x="819" y="3488"/>
                </a:lnTo>
                <a:lnTo>
                  <a:pt x="657" y="3425"/>
                </a:lnTo>
                <a:lnTo>
                  <a:pt x="459" y="3326"/>
                </a:lnTo>
                <a:lnTo>
                  <a:pt x="504" y="3317"/>
                </a:lnTo>
                <a:lnTo>
                  <a:pt x="480" y="3305"/>
                </a:lnTo>
                <a:lnTo>
                  <a:pt x="456" y="3296"/>
                </a:lnTo>
                <a:lnTo>
                  <a:pt x="435" y="3286"/>
                </a:lnTo>
                <a:lnTo>
                  <a:pt x="413" y="3276"/>
                </a:lnTo>
                <a:lnTo>
                  <a:pt x="394" y="3268"/>
                </a:lnTo>
                <a:lnTo>
                  <a:pt x="376" y="3260"/>
                </a:lnTo>
                <a:lnTo>
                  <a:pt x="359" y="3253"/>
                </a:lnTo>
                <a:lnTo>
                  <a:pt x="341" y="3245"/>
                </a:lnTo>
                <a:lnTo>
                  <a:pt x="313" y="3232"/>
                </a:lnTo>
                <a:lnTo>
                  <a:pt x="292" y="3223"/>
                </a:lnTo>
                <a:lnTo>
                  <a:pt x="278" y="3215"/>
                </a:lnTo>
                <a:lnTo>
                  <a:pt x="269" y="3210"/>
                </a:lnTo>
                <a:lnTo>
                  <a:pt x="162" y="3119"/>
                </a:lnTo>
                <a:lnTo>
                  <a:pt x="27" y="3038"/>
                </a:lnTo>
                <a:lnTo>
                  <a:pt x="0" y="2975"/>
                </a:lnTo>
                <a:close/>
              </a:path>
            </a:pathLst>
          </a:custGeom>
          <a:gradFill rotWithShape="0">
            <a:gsLst>
              <a:gs pos="0">
                <a:srgbClr val="000036"/>
              </a:gs>
              <a:gs pos="100000">
                <a:srgbClr val="0cb3ea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Freeform 7"/>
          <p:cNvSpPr/>
          <p:nvPr/>
        </p:nvSpPr>
        <p:spPr>
          <a:xfrm>
            <a:off x="3924360" y="1344600"/>
            <a:ext cx="923760" cy="1019160"/>
          </a:xfrm>
          <a:custGeom>
            <a:avLst/>
            <a:gdLst/>
            <a:ahLst/>
            <a:rect l="l" t="t" r="r" b="b"/>
            <a:pathLst>
              <a:path w="3235" h="4204">
                <a:moveTo>
                  <a:pt x="0" y="1302"/>
                </a:moveTo>
                <a:lnTo>
                  <a:pt x="18" y="1302"/>
                </a:lnTo>
                <a:lnTo>
                  <a:pt x="18" y="1315"/>
                </a:lnTo>
                <a:lnTo>
                  <a:pt x="20" y="1325"/>
                </a:lnTo>
                <a:lnTo>
                  <a:pt x="23" y="1332"/>
                </a:lnTo>
                <a:lnTo>
                  <a:pt x="27" y="1339"/>
                </a:lnTo>
                <a:lnTo>
                  <a:pt x="99" y="1465"/>
                </a:lnTo>
                <a:lnTo>
                  <a:pt x="95" y="1476"/>
                </a:lnTo>
                <a:lnTo>
                  <a:pt x="94" y="1484"/>
                </a:lnTo>
                <a:lnTo>
                  <a:pt x="94" y="1487"/>
                </a:lnTo>
                <a:lnTo>
                  <a:pt x="95" y="1489"/>
                </a:lnTo>
                <a:lnTo>
                  <a:pt x="96" y="1490"/>
                </a:lnTo>
                <a:lnTo>
                  <a:pt x="99" y="1491"/>
                </a:lnTo>
                <a:lnTo>
                  <a:pt x="126" y="1491"/>
                </a:lnTo>
                <a:lnTo>
                  <a:pt x="152" y="1537"/>
                </a:lnTo>
                <a:lnTo>
                  <a:pt x="189" y="1554"/>
                </a:lnTo>
                <a:lnTo>
                  <a:pt x="233" y="1635"/>
                </a:lnTo>
                <a:lnTo>
                  <a:pt x="249" y="1624"/>
                </a:lnTo>
                <a:lnTo>
                  <a:pt x="263" y="1615"/>
                </a:lnTo>
                <a:lnTo>
                  <a:pt x="273" y="1610"/>
                </a:lnTo>
                <a:lnTo>
                  <a:pt x="278" y="1608"/>
                </a:lnTo>
                <a:lnTo>
                  <a:pt x="323" y="1635"/>
                </a:lnTo>
                <a:lnTo>
                  <a:pt x="323" y="1590"/>
                </a:lnTo>
                <a:lnTo>
                  <a:pt x="404" y="1617"/>
                </a:lnTo>
                <a:lnTo>
                  <a:pt x="411" y="1608"/>
                </a:lnTo>
                <a:lnTo>
                  <a:pt x="418" y="1599"/>
                </a:lnTo>
                <a:lnTo>
                  <a:pt x="428" y="1590"/>
                </a:lnTo>
                <a:lnTo>
                  <a:pt x="441" y="1581"/>
                </a:lnTo>
                <a:lnTo>
                  <a:pt x="453" y="1573"/>
                </a:lnTo>
                <a:lnTo>
                  <a:pt x="461" y="1566"/>
                </a:lnTo>
                <a:lnTo>
                  <a:pt x="463" y="1562"/>
                </a:lnTo>
                <a:lnTo>
                  <a:pt x="466" y="1559"/>
                </a:lnTo>
                <a:lnTo>
                  <a:pt x="468" y="1556"/>
                </a:lnTo>
                <a:lnTo>
                  <a:pt x="468" y="1554"/>
                </a:lnTo>
                <a:lnTo>
                  <a:pt x="449" y="1545"/>
                </a:lnTo>
                <a:lnTo>
                  <a:pt x="460" y="1544"/>
                </a:lnTo>
                <a:lnTo>
                  <a:pt x="471" y="1543"/>
                </a:lnTo>
                <a:lnTo>
                  <a:pt x="481" y="1540"/>
                </a:lnTo>
                <a:lnTo>
                  <a:pt x="490" y="1536"/>
                </a:lnTo>
                <a:lnTo>
                  <a:pt x="499" y="1531"/>
                </a:lnTo>
                <a:lnTo>
                  <a:pt x="507" y="1525"/>
                </a:lnTo>
                <a:lnTo>
                  <a:pt x="514" y="1517"/>
                </a:lnTo>
                <a:lnTo>
                  <a:pt x="521" y="1509"/>
                </a:lnTo>
                <a:lnTo>
                  <a:pt x="514" y="1500"/>
                </a:lnTo>
                <a:lnTo>
                  <a:pt x="509" y="1494"/>
                </a:lnTo>
                <a:lnTo>
                  <a:pt x="505" y="1487"/>
                </a:lnTo>
                <a:lnTo>
                  <a:pt x="503" y="1482"/>
                </a:lnTo>
                <a:lnTo>
                  <a:pt x="666" y="1249"/>
                </a:lnTo>
                <a:lnTo>
                  <a:pt x="693" y="1186"/>
                </a:lnTo>
                <a:lnTo>
                  <a:pt x="828" y="1088"/>
                </a:lnTo>
                <a:lnTo>
                  <a:pt x="818" y="1061"/>
                </a:lnTo>
                <a:lnTo>
                  <a:pt x="828" y="1047"/>
                </a:lnTo>
                <a:lnTo>
                  <a:pt x="837" y="1035"/>
                </a:lnTo>
                <a:lnTo>
                  <a:pt x="845" y="1025"/>
                </a:lnTo>
                <a:lnTo>
                  <a:pt x="855" y="1016"/>
                </a:lnTo>
                <a:lnTo>
                  <a:pt x="936" y="952"/>
                </a:lnTo>
                <a:lnTo>
                  <a:pt x="954" y="907"/>
                </a:lnTo>
                <a:lnTo>
                  <a:pt x="958" y="905"/>
                </a:lnTo>
                <a:lnTo>
                  <a:pt x="971" y="898"/>
                </a:lnTo>
                <a:lnTo>
                  <a:pt x="994" y="887"/>
                </a:lnTo>
                <a:lnTo>
                  <a:pt x="1025" y="871"/>
                </a:lnTo>
                <a:lnTo>
                  <a:pt x="1134" y="790"/>
                </a:lnTo>
                <a:lnTo>
                  <a:pt x="1146" y="784"/>
                </a:lnTo>
                <a:lnTo>
                  <a:pt x="1164" y="775"/>
                </a:lnTo>
                <a:lnTo>
                  <a:pt x="1189" y="766"/>
                </a:lnTo>
                <a:lnTo>
                  <a:pt x="1219" y="756"/>
                </a:lnTo>
                <a:lnTo>
                  <a:pt x="1256" y="745"/>
                </a:lnTo>
                <a:lnTo>
                  <a:pt x="1299" y="732"/>
                </a:lnTo>
                <a:lnTo>
                  <a:pt x="1348" y="719"/>
                </a:lnTo>
                <a:lnTo>
                  <a:pt x="1404" y="705"/>
                </a:lnTo>
                <a:lnTo>
                  <a:pt x="1460" y="691"/>
                </a:lnTo>
                <a:lnTo>
                  <a:pt x="1510" y="679"/>
                </a:lnTo>
                <a:lnTo>
                  <a:pt x="1556" y="669"/>
                </a:lnTo>
                <a:lnTo>
                  <a:pt x="1594" y="659"/>
                </a:lnTo>
                <a:lnTo>
                  <a:pt x="1629" y="651"/>
                </a:lnTo>
                <a:lnTo>
                  <a:pt x="1658" y="646"/>
                </a:lnTo>
                <a:lnTo>
                  <a:pt x="1681" y="641"/>
                </a:lnTo>
                <a:lnTo>
                  <a:pt x="1700" y="637"/>
                </a:lnTo>
                <a:lnTo>
                  <a:pt x="1944" y="637"/>
                </a:lnTo>
                <a:lnTo>
                  <a:pt x="2114" y="619"/>
                </a:lnTo>
                <a:lnTo>
                  <a:pt x="2097" y="565"/>
                </a:lnTo>
                <a:lnTo>
                  <a:pt x="2112" y="574"/>
                </a:lnTo>
                <a:lnTo>
                  <a:pt x="2127" y="582"/>
                </a:lnTo>
                <a:lnTo>
                  <a:pt x="2141" y="588"/>
                </a:lnTo>
                <a:lnTo>
                  <a:pt x="2155" y="592"/>
                </a:lnTo>
                <a:lnTo>
                  <a:pt x="2168" y="597"/>
                </a:lnTo>
                <a:lnTo>
                  <a:pt x="2181" y="600"/>
                </a:lnTo>
                <a:lnTo>
                  <a:pt x="2194" y="601"/>
                </a:lnTo>
                <a:lnTo>
                  <a:pt x="2204" y="602"/>
                </a:lnTo>
                <a:lnTo>
                  <a:pt x="2456" y="584"/>
                </a:lnTo>
                <a:lnTo>
                  <a:pt x="2460" y="586"/>
                </a:lnTo>
                <a:lnTo>
                  <a:pt x="2469" y="589"/>
                </a:lnTo>
                <a:lnTo>
                  <a:pt x="2481" y="591"/>
                </a:lnTo>
                <a:lnTo>
                  <a:pt x="2497" y="596"/>
                </a:lnTo>
                <a:lnTo>
                  <a:pt x="2540" y="602"/>
                </a:lnTo>
                <a:lnTo>
                  <a:pt x="2600" y="612"/>
                </a:lnTo>
                <a:lnTo>
                  <a:pt x="2789" y="637"/>
                </a:lnTo>
                <a:lnTo>
                  <a:pt x="2823" y="646"/>
                </a:lnTo>
                <a:lnTo>
                  <a:pt x="2856" y="656"/>
                </a:lnTo>
                <a:lnTo>
                  <a:pt x="2891" y="666"/>
                </a:lnTo>
                <a:lnTo>
                  <a:pt x="2924" y="680"/>
                </a:lnTo>
                <a:lnTo>
                  <a:pt x="2959" y="697"/>
                </a:lnTo>
                <a:lnTo>
                  <a:pt x="2992" y="714"/>
                </a:lnTo>
                <a:lnTo>
                  <a:pt x="3025" y="733"/>
                </a:lnTo>
                <a:lnTo>
                  <a:pt x="3059" y="755"/>
                </a:lnTo>
                <a:lnTo>
                  <a:pt x="2942" y="728"/>
                </a:lnTo>
                <a:lnTo>
                  <a:pt x="2961" y="734"/>
                </a:lnTo>
                <a:lnTo>
                  <a:pt x="2978" y="741"/>
                </a:lnTo>
                <a:lnTo>
                  <a:pt x="2994" y="748"/>
                </a:lnTo>
                <a:lnTo>
                  <a:pt x="3009" y="756"/>
                </a:lnTo>
                <a:lnTo>
                  <a:pt x="3024" y="764"/>
                </a:lnTo>
                <a:lnTo>
                  <a:pt x="3037" y="774"/>
                </a:lnTo>
                <a:lnTo>
                  <a:pt x="3048" y="784"/>
                </a:lnTo>
                <a:lnTo>
                  <a:pt x="3059" y="795"/>
                </a:lnTo>
                <a:lnTo>
                  <a:pt x="3068" y="806"/>
                </a:lnTo>
                <a:lnTo>
                  <a:pt x="3077" y="819"/>
                </a:lnTo>
                <a:lnTo>
                  <a:pt x="3085" y="832"/>
                </a:lnTo>
                <a:lnTo>
                  <a:pt x="3091" y="846"/>
                </a:lnTo>
                <a:lnTo>
                  <a:pt x="3095" y="860"/>
                </a:lnTo>
                <a:lnTo>
                  <a:pt x="3100" y="875"/>
                </a:lnTo>
                <a:lnTo>
                  <a:pt x="3102" y="891"/>
                </a:lnTo>
                <a:lnTo>
                  <a:pt x="3104" y="907"/>
                </a:lnTo>
                <a:lnTo>
                  <a:pt x="3104" y="916"/>
                </a:lnTo>
                <a:lnTo>
                  <a:pt x="3104" y="923"/>
                </a:lnTo>
                <a:lnTo>
                  <a:pt x="3102" y="932"/>
                </a:lnTo>
                <a:lnTo>
                  <a:pt x="3100" y="940"/>
                </a:lnTo>
                <a:lnTo>
                  <a:pt x="3097" y="948"/>
                </a:lnTo>
                <a:lnTo>
                  <a:pt x="3093" y="955"/>
                </a:lnTo>
                <a:lnTo>
                  <a:pt x="3089" y="964"/>
                </a:lnTo>
                <a:lnTo>
                  <a:pt x="3085" y="972"/>
                </a:lnTo>
                <a:lnTo>
                  <a:pt x="3078" y="979"/>
                </a:lnTo>
                <a:lnTo>
                  <a:pt x="3072" y="987"/>
                </a:lnTo>
                <a:lnTo>
                  <a:pt x="3064" y="994"/>
                </a:lnTo>
                <a:lnTo>
                  <a:pt x="3057" y="1002"/>
                </a:lnTo>
                <a:lnTo>
                  <a:pt x="3038" y="1017"/>
                </a:lnTo>
                <a:lnTo>
                  <a:pt x="3017" y="1031"/>
                </a:lnTo>
                <a:lnTo>
                  <a:pt x="2992" y="1045"/>
                </a:lnTo>
                <a:lnTo>
                  <a:pt x="2964" y="1057"/>
                </a:lnTo>
                <a:lnTo>
                  <a:pt x="2934" y="1071"/>
                </a:lnTo>
                <a:lnTo>
                  <a:pt x="2899" y="1084"/>
                </a:lnTo>
                <a:lnTo>
                  <a:pt x="2863" y="1096"/>
                </a:lnTo>
                <a:lnTo>
                  <a:pt x="2823" y="1108"/>
                </a:lnTo>
                <a:lnTo>
                  <a:pt x="2781" y="1120"/>
                </a:lnTo>
                <a:lnTo>
                  <a:pt x="2735" y="1132"/>
                </a:lnTo>
                <a:lnTo>
                  <a:pt x="2754" y="1134"/>
                </a:lnTo>
                <a:lnTo>
                  <a:pt x="2774" y="1135"/>
                </a:lnTo>
                <a:lnTo>
                  <a:pt x="2794" y="1135"/>
                </a:lnTo>
                <a:lnTo>
                  <a:pt x="2813" y="1135"/>
                </a:lnTo>
                <a:lnTo>
                  <a:pt x="2834" y="1134"/>
                </a:lnTo>
                <a:lnTo>
                  <a:pt x="2853" y="1132"/>
                </a:lnTo>
                <a:lnTo>
                  <a:pt x="2875" y="1128"/>
                </a:lnTo>
                <a:lnTo>
                  <a:pt x="2895" y="1125"/>
                </a:lnTo>
                <a:lnTo>
                  <a:pt x="2916" y="1121"/>
                </a:lnTo>
                <a:lnTo>
                  <a:pt x="2937" y="1115"/>
                </a:lnTo>
                <a:lnTo>
                  <a:pt x="2959" y="1110"/>
                </a:lnTo>
                <a:lnTo>
                  <a:pt x="2980" y="1104"/>
                </a:lnTo>
                <a:lnTo>
                  <a:pt x="3002" y="1096"/>
                </a:lnTo>
                <a:lnTo>
                  <a:pt x="3023" y="1088"/>
                </a:lnTo>
                <a:lnTo>
                  <a:pt x="3046" y="1079"/>
                </a:lnTo>
                <a:lnTo>
                  <a:pt x="3068" y="1069"/>
                </a:lnTo>
                <a:lnTo>
                  <a:pt x="3013" y="1123"/>
                </a:lnTo>
                <a:lnTo>
                  <a:pt x="3221" y="989"/>
                </a:lnTo>
                <a:lnTo>
                  <a:pt x="3225" y="972"/>
                </a:lnTo>
                <a:lnTo>
                  <a:pt x="3229" y="957"/>
                </a:lnTo>
                <a:lnTo>
                  <a:pt x="3232" y="945"/>
                </a:lnTo>
                <a:lnTo>
                  <a:pt x="3234" y="934"/>
                </a:lnTo>
                <a:lnTo>
                  <a:pt x="3235" y="929"/>
                </a:lnTo>
                <a:lnTo>
                  <a:pt x="3235" y="923"/>
                </a:lnTo>
                <a:lnTo>
                  <a:pt x="3233" y="916"/>
                </a:lnTo>
                <a:lnTo>
                  <a:pt x="3231" y="907"/>
                </a:lnTo>
                <a:lnTo>
                  <a:pt x="3223" y="888"/>
                </a:lnTo>
                <a:lnTo>
                  <a:pt x="3211" y="863"/>
                </a:lnTo>
                <a:lnTo>
                  <a:pt x="3159" y="755"/>
                </a:lnTo>
                <a:lnTo>
                  <a:pt x="3146" y="738"/>
                </a:lnTo>
                <a:lnTo>
                  <a:pt x="3132" y="722"/>
                </a:lnTo>
                <a:lnTo>
                  <a:pt x="3115" y="706"/>
                </a:lnTo>
                <a:lnTo>
                  <a:pt x="3096" y="690"/>
                </a:lnTo>
                <a:lnTo>
                  <a:pt x="3076" y="674"/>
                </a:lnTo>
                <a:lnTo>
                  <a:pt x="3052" y="658"/>
                </a:lnTo>
                <a:lnTo>
                  <a:pt x="3027" y="641"/>
                </a:lnTo>
                <a:lnTo>
                  <a:pt x="3001" y="625"/>
                </a:lnTo>
                <a:lnTo>
                  <a:pt x="2974" y="608"/>
                </a:lnTo>
                <a:lnTo>
                  <a:pt x="2948" y="593"/>
                </a:lnTo>
                <a:lnTo>
                  <a:pt x="2924" y="581"/>
                </a:lnTo>
                <a:lnTo>
                  <a:pt x="2903" y="570"/>
                </a:lnTo>
                <a:lnTo>
                  <a:pt x="2883" y="559"/>
                </a:lnTo>
                <a:lnTo>
                  <a:pt x="2865" y="552"/>
                </a:lnTo>
                <a:lnTo>
                  <a:pt x="2849" y="544"/>
                </a:lnTo>
                <a:lnTo>
                  <a:pt x="2834" y="539"/>
                </a:lnTo>
                <a:lnTo>
                  <a:pt x="2312" y="440"/>
                </a:lnTo>
                <a:lnTo>
                  <a:pt x="2132" y="422"/>
                </a:lnTo>
                <a:lnTo>
                  <a:pt x="2142" y="386"/>
                </a:lnTo>
                <a:lnTo>
                  <a:pt x="2123" y="380"/>
                </a:lnTo>
                <a:lnTo>
                  <a:pt x="2104" y="372"/>
                </a:lnTo>
                <a:lnTo>
                  <a:pt x="2089" y="365"/>
                </a:lnTo>
                <a:lnTo>
                  <a:pt x="2076" y="357"/>
                </a:lnTo>
                <a:lnTo>
                  <a:pt x="2064" y="350"/>
                </a:lnTo>
                <a:lnTo>
                  <a:pt x="2055" y="341"/>
                </a:lnTo>
                <a:lnTo>
                  <a:pt x="2048" y="332"/>
                </a:lnTo>
                <a:lnTo>
                  <a:pt x="2043" y="324"/>
                </a:lnTo>
                <a:lnTo>
                  <a:pt x="1934" y="135"/>
                </a:lnTo>
                <a:lnTo>
                  <a:pt x="1919" y="127"/>
                </a:lnTo>
                <a:lnTo>
                  <a:pt x="1905" y="120"/>
                </a:lnTo>
                <a:lnTo>
                  <a:pt x="1893" y="112"/>
                </a:lnTo>
                <a:lnTo>
                  <a:pt x="1883" y="104"/>
                </a:lnTo>
                <a:lnTo>
                  <a:pt x="1873" y="94"/>
                </a:lnTo>
                <a:lnTo>
                  <a:pt x="1865" y="84"/>
                </a:lnTo>
                <a:lnTo>
                  <a:pt x="1859" y="73"/>
                </a:lnTo>
                <a:lnTo>
                  <a:pt x="1854" y="63"/>
                </a:lnTo>
                <a:lnTo>
                  <a:pt x="1781" y="0"/>
                </a:lnTo>
                <a:lnTo>
                  <a:pt x="1757" y="17"/>
                </a:lnTo>
                <a:lnTo>
                  <a:pt x="1734" y="34"/>
                </a:lnTo>
                <a:lnTo>
                  <a:pt x="1712" y="52"/>
                </a:lnTo>
                <a:lnTo>
                  <a:pt x="1689" y="72"/>
                </a:lnTo>
                <a:lnTo>
                  <a:pt x="1668" y="93"/>
                </a:lnTo>
                <a:lnTo>
                  <a:pt x="1648" y="114"/>
                </a:lnTo>
                <a:lnTo>
                  <a:pt x="1629" y="138"/>
                </a:lnTo>
                <a:lnTo>
                  <a:pt x="1610" y="162"/>
                </a:lnTo>
                <a:lnTo>
                  <a:pt x="1601" y="164"/>
                </a:lnTo>
                <a:lnTo>
                  <a:pt x="1590" y="165"/>
                </a:lnTo>
                <a:lnTo>
                  <a:pt x="1581" y="168"/>
                </a:lnTo>
                <a:lnTo>
                  <a:pt x="1572" y="171"/>
                </a:lnTo>
                <a:lnTo>
                  <a:pt x="1562" y="174"/>
                </a:lnTo>
                <a:lnTo>
                  <a:pt x="1553" y="179"/>
                </a:lnTo>
                <a:lnTo>
                  <a:pt x="1545" y="183"/>
                </a:lnTo>
                <a:lnTo>
                  <a:pt x="1536" y="188"/>
                </a:lnTo>
                <a:lnTo>
                  <a:pt x="1528" y="195"/>
                </a:lnTo>
                <a:lnTo>
                  <a:pt x="1520" y="201"/>
                </a:lnTo>
                <a:lnTo>
                  <a:pt x="1511" y="208"/>
                </a:lnTo>
                <a:lnTo>
                  <a:pt x="1504" y="215"/>
                </a:lnTo>
                <a:lnTo>
                  <a:pt x="1489" y="232"/>
                </a:lnTo>
                <a:lnTo>
                  <a:pt x="1475" y="252"/>
                </a:lnTo>
                <a:lnTo>
                  <a:pt x="1466" y="279"/>
                </a:lnTo>
                <a:lnTo>
                  <a:pt x="1451" y="297"/>
                </a:lnTo>
                <a:lnTo>
                  <a:pt x="1437" y="315"/>
                </a:lnTo>
                <a:lnTo>
                  <a:pt x="1424" y="335"/>
                </a:lnTo>
                <a:lnTo>
                  <a:pt x="1412" y="355"/>
                </a:lnTo>
                <a:lnTo>
                  <a:pt x="1402" y="375"/>
                </a:lnTo>
                <a:lnTo>
                  <a:pt x="1392" y="397"/>
                </a:lnTo>
                <a:lnTo>
                  <a:pt x="1383" y="418"/>
                </a:lnTo>
                <a:lnTo>
                  <a:pt x="1376" y="440"/>
                </a:lnTo>
                <a:lnTo>
                  <a:pt x="1053" y="548"/>
                </a:lnTo>
                <a:lnTo>
                  <a:pt x="1043" y="528"/>
                </a:lnTo>
                <a:lnTo>
                  <a:pt x="1035" y="512"/>
                </a:lnTo>
                <a:lnTo>
                  <a:pt x="1030" y="505"/>
                </a:lnTo>
                <a:lnTo>
                  <a:pt x="1025" y="501"/>
                </a:lnTo>
                <a:lnTo>
                  <a:pt x="1021" y="497"/>
                </a:lnTo>
                <a:lnTo>
                  <a:pt x="1016" y="493"/>
                </a:lnTo>
                <a:lnTo>
                  <a:pt x="981" y="485"/>
                </a:lnTo>
                <a:lnTo>
                  <a:pt x="944" y="440"/>
                </a:lnTo>
                <a:lnTo>
                  <a:pt x="917" y="422"/>
                </a:lnTo>
                <a:lnTo>
                  <a:pt x="917" y="395"/>
                </a:lnTo>
                <a:lnTo>
                  <a:pt x="886" y="395"/>
                </a:lnTo>
                <a:lnTo>
                  <a:pt x="857" y="391"/>
                </a:lnTo>
                <a:lnTo>
                  <a:pt x="829" y="387"/>
                </a:lnTo>
                <a:lnTo>
                  <a:pt x="802" y="382"/>
                </a:lnTo>
                <a:lnTo>
                  <a:pt x="778" y="374"/>
                </a:lnTo>
                <a:lnTo>
                  <a:pt x="754" y="365"/>
                </a:lnTo>
                <a:lnTo>
                  <a:pt x="731" y="354"/>
                </a:lnTo>
                <a:lnTo>
                  <a:pt x="710" y="341"/>
                </a:lnTo>
                <a:lnTo>
                  <a:pt x="690" y="360"/>
                </a:lnTo>
                <a:lnTo>
                  <a:pt x="666" y="383"/>
                </a:lnTo>
                <a:lnTo>
                  <a:pt x="637" y="408"/>
                </a:lnTo>
                <a:lnTo>
                  <a:pt x="603" y="435"/>
                </a:lnTo>
                <a:lnTo>
                  <a:pt x="585" y="449"/>
                </a:lnTo>
                <a:lnTo>
                  <a:pt x="570" y="460"/>
                </a:lnTo>
                <a:lnTo>
                  <a:pt x="555" y="470"/>
                </a:lnTo>
                <a:lnTo>
                  <a:pt x="542" y="477"/>
                </a:lnTo>
                <a:lnTo>
                  <a:pt x="530" y="483"/>
                </a:lnTo>
                <a:lnTo>
                  <a:pt x="519" y="485"/>
                </a:lnTo>
                <a:lnTo>
                  <a:pt x="511" y="486"/>
                </a:lnTo>
                <a:lnTo>
                  <a:pt x="503" y="485"/>
                </a:lnTo>
                <a:lnTo>
                  <a:pt x="468" y="512"/>
                </a:lnTo>
                <a:lnTo>
                  <a:pt x="80" y="962"/>
                </a:lnTo>
                <a:lnTo>
                  <a:pt x="27" y="1105"/>
                </a:lnTo>
                <a:lnTo>
                  <a:pt x="0" y="1114"/>
                </a:lnTo>
                <a:lnTo>
                  <a:pt x="0" y="1302"/>
                </a:lnTo>
                <a:close/>
                <a:moveTo>
                  <a:pt x="666" y="2299"/>
                </a:moveTo>
                <a:lnTo>
                  <a:pt x="710" y="2299"/>
                </a:lnTo>
                <a:lnTo>
                  <a:pt x="954" y="2299"/>
                </a:lnTo>
                <a:lnTo>
                  <a:pt x="978" y="2291"/>
                </a:lnTo>
                <a:lnTo>
                  <a:pt x="1001" y="2283"/>
                </a:lnTo>
                <a:lnTo>
                  <a:pt x="1023" y="2277"/>
                </a:lnTo>
                <a:lnTo>
                  <a:pt x="1043" y="2270"/>
                </a:lnTo>
                <a:lnTo>
                  <a:pt x="1064" y="2265"/>
                </a:lnTo>
                <a:lnTo>
                  <a:pt x="1082" y="2261"/>
                </a:lnTo>
                <a:lnTo>
                  <a:pt x="1099" y="2257"/>
                </a:lnTo>
                <a:lnTo>
                  <a:pt x="1115" y="2254"/>
                </a:lnTo>
                <a:lnTo>
                  <a:pt x="1214" y="2254"/>
                </a:lnTo>
                <a:lnTo>
                  <a:pt x="1305" y="2254"/>
                </a:lnTo>
                <a:lnTo>
                  <a:pt x="1557" y="2227"/>
                </a:lnTo>
                <a:lnTo>
                  <a:pt x="1503" y="2237"/>
                </a:lnTo>
                <a:lnTo>
                  <a:pt x="1475" y="2254"/>
                </a:lnTo>
                <a:lnTo>
                  <a:pt x="1583" y="2219"/>
                </a:lnTo>
                <a:lnTo>
                  <a:pt x="1592" y="2237"/>
                </a:lnTo>
                <a:lnTo>
                  <a:pt x="1615" y="2233"/>
                </a:lnTo>
                <a:lnTo>
                  <a:pt x="1636" y="2230"/>
                </a:lnTo>
                <a:lnTo>
                  <a:pt x="1658" y="2227"/>
                </a:lnTo>
                <a:lnTo>
                  <a:pt x="1678" y="2225"/>
                </a:lnTo>
                <a:lnTo>
                  <a:pt x="1698" y="2225"/>
                </a:lnTo>
                <a:lnTo>
                  <a:pt x="1717" y="2225"/>
                </a:lnTo>
                <a:lnTo>
                  <a:pt x="1736" y="2226"/>
                </a:lnTo>
                <a:lnTo>
                  <a:pt x="1755" y="2227"/>
                </a:lnTo>
                <a:lnTo>
                  <a:pt x="1767" y="2223"/>
                </a:lnTo>
                <a:lnTo>
                  <a:pt x="1781" y="2219"/>
                </a:lnTo>
                <a:lnTo>
                  <a:pt x="1795" y="2214"/>
                </a:lnTo>
                <a:lnTo>
                  <a:pt x="1808" y="2210"/>
                </a:lnTo>
                <a:lnTo>
                  <a:pt x="1998" y="2227"/>
                </a:lnTo>
                <a:lnTo>
                  <a:pt x="2024" y="2227"/>
                </a:lnTo>
                <a:lnTo>
                  <a:pt x="2070" y="2192"/>
                </a:lnTo>
                <a:lnTo>
                  <a:pt x="2068" y="2198"/>
                </a:lnTo>
                <a:lnTo>
                  <a:pt x="2067" y="2206"/>
                </a:lnTo>
                <a:lnTo>
                  <a:pt x="2066" y="2212"/>
                </a:lnTo>
                <a:lnTo>
                  <a:pt x="2066" y="2219"/>
                </a:lnTo>
                <a:lnTo>
                  <a:pt x="2067" y="2225"/>
                </a:lnTo>
                <a:lnTo>
                  <a:pt x="2069" y="2233"/>
                </a:lnTo>
                <a:lnTo>
                  <a:pt x="2071" y="2239"/>
                </a:lnTo>
                <a:lnTo>
                  <a:pt x="2074" y="2246"/>
                </a:lnTo>
                <a:lnTo>
                  <a:pt x="2076" y="2249"/>
                </a:lnTo>
                <a:lnTo>
                  <a:pt x="2080" y="2251"/>
                </a:lnTo>
                <a:lnTo>
                  <a:pt x="2083" y="2253"/>
                </a:lnTo>
                <a:lnTo>
                  <a:pt x="2087" y="2254"/>
                </a:lnTo>
                <a:lnTo>
                  <a:pt x="2094" y="2255"/>
                </a:lnTo>
                <a:lnTo>
                  <a:pt x="2100" y="2256"/>
                </a:lnTo>
                <a:lnTo>
                  <a:pt x="2108" y="2255"/>
                </a:lnTo>
                <a:lnTo>
                  <a:pt x="2115" y="2254"/>
                </a:lnTo>
                <a:lnTo>
                  <a:pt x="2134" y="2251"/>
                </a:lnTo>
                <a:lnTo>
                  <a:pt x="2157" y="2246"/>
                </a:lnTo>
                <a:lnTo>
                  <a:pt x="2183" y="2238"/>
                </a:lnTo>
                <a:lnTo>
                  <a:pt x="2213" y="2227"/>
                </a:lnTo>
                <a:lnTo>
                  <a:pt x="2223" y="2299"/>
                </a:lnTo>
                <a:lnTo>
                  <a:pt x="2231" y="2416"/>
                </a:lnTo>
                <a:lnTo>
                  <a:pt x="2268" y="3117"/>
                </a:lnTo>
                <a:lnTo>
                  <a:pt x="2240" y="3467"/>
                </a:lnTo>
                <a:lnTo>
                  <a:pt x="2238" y="3504"/>
                </a:lnTo>
                <a:lnTo>
                  <a:pt x="2236" y="3537"/>
                </a:lnTo>
                <a:lnTo>
                  <a:pt x="2232" y="3566"/>
                </a:lnTo>
                <a:lnTo>
                  <a:pt x="2229" y="3591"/>
                </a:lnTo>
                <a:lnTo>
                  <a:pt x="2226" y="3613"/>
                </a:lnTo>
                <a:lnTo>
                  <a:pt x="2222" y="3630"/>
                </a:lnTo>
                <a:lnTo>
                  <a:pt x="2217" y="3645"/>
                </a:lnTo>
                <a:lnTo>
                  <a:pt x="2213" y="3656"/>
                </a:lnTo>
                <a:lnTo>
                  <a:pt x="2169" y="3755"/>
                </a:lnTo>
                <a:lnTo>
                  <a:pt x="2204" y="3764"/>
                </a:lnTo>
                <a:lnTo>
                  <a:pt x="2196" y="3782"/>
                </a:lnTo>
                <a:lnTo>
                  <a:pt x="2175" y="3790"/>
                </a:lnTo>
                <a:lnTo>
                  <a:pt x="2159" y="3798"/>
                </a:lnTo>
                <a:lnTo>
                  <a:pt x="2148" y="3803"/>
                </a:lnTo>
                <a:lnTo>
                  <a:pt x="2142" y="3809"/>
                </a:lnTo>
                <a:lnTo>
                  <a:pt x="2135" y="3817"/>
                </a:lnTo>
                <a:lnTo>
                  <a:pt x="2125" y="3833"/>
                </a:lnTo>
                <a:lnTo>
                  <a:pt x="2110" y="3857"/>
                </a:lnTo>
                <a:lnTo>
                  <a:pt x="2091" y="3889"/>
                </a:lnTo>
                <a:lnTo>
                  <a:pt x="2086" y="3899"/>
                </a:lnTo>
                <a:lnTo>
                  <a:pt x="2081" y="3906"/>
                </a:lnTo>
                <a:lnTo>
                  <a:pt x="2074" y="3915"/>
                </a:lnTo>
                <a:lnTo>
                  <a:pt x="2067" y="3923"/>
                </a:lnTo>
                <a:lnTo>
                  <a:pt x="2059" y="3929"/>
                </a:lnTo>
                <a:lnTo>
                  <a:pt x="2052" y="3935"/>
                </a:lnTo>
                <a:lnTo>
                  <a:pt x="2043" y="3942"/>
                </a:lnTo>
                <a:lnTo>
                  <a:pt x="2033" y="3947"/>
                </a:lnTo>
                <a:lnTo>
                  <a:pt x="2024" y="3954"/>
                </a:lnTo>
                <a:lnTo>
                  <a:pt x="2013" y="3958"/>
                </a:lnTo>
                <a:lnTo>
                  <a:pt x="2002" y="3962"/>
                </a:lnTo>
                <a:lnTo>
                  <a:pt x="1990" y="3967"/>
                </a:lnTo>
                <a:lnTo>
                  <a:pt x="1965" y="3974"/>
                </a:lnTo>
                <a:lnTo>
                  <a:pt x="1939" y="3979"/>
                </a:lnTo>
                <a:lnTo>
                  <a:pt x="1908" y="3984"/>
                </a:lnTo>
                <a:lnTo>
                  <a:pt x="1873" y="3989"/>
                </a:lnTo>
                <a:lnTo>
                  <a:pt x="1833" y="3995"/>
                </a:lnTo>
                <a:lnTo>
                  <a:pt x="1789" y="4000"/>
                </a:lnTo>
                <a:lnTo>
                  <a:pt x="1741" y="4005"/>
                </a:lnTo>
                <a:lnTo>
                  <a:pt x="1687" y="4012"/>
                </a:lnTo>
                <a:lnTo>
                  <a:pt x="1629" y="4018"/>
                </a:lnTo>
                <a:lnTo>
                  <a:pt x="1565" y="4025"/>
                </a:lnTo>
                <a:lnTo>
                  <a:pt x="1359" y="4051"/>
                </a:lnTo>
                <a:lnTo>
                  <a:pt x="1376" y="4061"/>
                </a:lnTo>
                <a:lnTo>
                  <a:pt x="1367" y="4088"/>
                </a:lnTo>
                <a:lnTo>
                  <a:pt x="1376" y="4088"/>
                </a:lnTo>
                <a:lnTo>
                  <a:pt x="1421" y="4105"/>
                </a:lnTo>
                <a:lnTo>
                  <a:pt x="1433" y="4117"/>
                </a:lnTo>
                <a:lnTo>
                  <a:pt x="1444" y="4127"/>
                </a:lnTo>
                <a:lnTo>
                  <a:pt x="1453" y="4134"/>
                </a:lnTo>
                <a:lnTo>
                  <a:pt x="1464" y="4138"/>
                </a:lnTo>
                <a:lnTo>
                  <a:pt x="1469" y="4141"/>
                </a:lnTo>
                <a:lnTo>
                  <a:pt x="1474" y="4141"/>
                </a:lnTo>
                <a:lnTo>
                  <a:pt x="1479" y="4141"/>
                </a:lnTo>
                <a:lnTo>
                  <a:pt x="1483" y="4141"/>
                </a:lnTo>
                <a:lnTo>
                  <a:pt x="1489" y="4140"/>
                </a:lnTo>
                <a:lnTo>
                  <a:pt x="1493" y="4137"/>
                </a:lnTo>
                <a:lnTo>
                  <a:pt x="1498" y="4135"/>
                </a:lnTo>
                <a:lnTo>
                  <a:pt x="1503" y="4132"/>
                </a:lnTo>
                <a:lnTo>
                  <a:pt x="1557" y="4150"/>
                </a:lnTo>
                <a:lnTo>
                  <a:pt x="1561" y="4154"/>
                </a:lnTo>
                <a:lnTo>
                  <a:pt x="1565" y="4156"/>
                </a:lnTo>
                <a:lnTo>
                  <a:pt x="1570" y="4156"/>
                </a:lnTo>
                <a:lnTo>
                  <a:pt x="1574" y="4155"/>
                </a:lnTo>
                <a:lnTo>
                  <a:pt x="1579" y="4151"/>
                </a:lnTo>
                <a:lnTo>
                  <a:pt x="1583" y="4147"/>
                </a:lnTo>
                <a:lnTo>
                  <a:pt x="1588" y="4141"/>
                </a:lnTo>
                <a:lnTo>
                  <a:pt x="1592" y="4132"/>
                </a:lnTo>
                <a:lnTo>
                  <a:pt x="1608" y="4147"/>
                </a:lnTo>
                <a:lnTo>
                  <a:pt x="1620" y="4157"/>
                </a:lnTo>
                <a:lnTo>
                  <a:pt x="1623" y="4160"/>
                </a:lnTo>
                <a:lnTo>
                  <a:pt x="1627" y="4161"/>
                </a:lnTo>
                <a:lnTo>
                  <a:pt x="1628" y="4160"/>
                </a:lnTo>
                <a:lnTo>
                  <a:pt x="1629" y="4159"/>
                </a:lnTo>
                <a:lnTo>
                  <a:pt x="1503" y="4177"/>
                </a:lnTo>
                <a:lnTo>
                  <a:pt x="1509" y="4184"/>
                </a:lnTo>
                <a:lnTo>
                  <a:pt x="1516" y="4189"/>
                </a:lnTo>
                <a:lnTo>
                  <a:pt x="1522" y="4193"/>
                </a:lnTo>
                <a:lnTo>
                  <a:pt x="1530" y="4198"/>
                </a:lnTo>
                <a:lnTo>
                  <a:pt x="1536" y="4200"/>
                </a:lnTo>
                <a:lnTo>
                  <a:pt x="1543" y="4202"/>
                </a:lnTo>
                <a:lnTo>
                  <a:pt x="1550" y="4204"/>
                </a:lnTo>
                <a:lnTo>
                  <a:pt x="1557" y="4204"/>
                </a:lnTo>
                <a:lnTo>
                  <a:pt x="1728" y="4187"/>
                </a:lnTo>
                <a:lnTo>
                  <a:pt x="1736" y="4204"/>
                </a:lnTo>
                <a:lnTo>
                  <a:pt x="1772" y="4204"/>
                </a:lnTo>
                <a:lnTo>
                  <a:pt x="1818" y="4194"/>
                </a:lnTo>
                <a:lnTo>
                  <a:pt x="1898" y="4177"/>
                </a:lnTo>
                <a:lnTo>
                  <a:pt x="2114" y="4095"/>
                </a:lnTo>
                <a:lnTo>
                  <a:pt x="2148" y="4070"/>
                </a:lnTo>
                <a:lnTo>
                  <a:pt x="2179" y="4046"/>
                </a:lnTo>
                <a:lnTo>
                  <a:pt x="2204" y="4025"/>
                </a:lnTo>
                <a:lnTo>
                  <a:pt x="2227" y="4004"/>
                </a:lnTo>
                <a:lnTo>
                  <a:pt x="2245" y="3986"/>
                </a:lnTo>
                <a:lnTo>
                  <a:pt x="2259" y="3970"/>
                </a:lnTo>
                <a:lnTo>
                  <a:pt x="2265" y="3962"/>
                </a:lnTo>
                <a:lnTo>
                  <a:pt x="2270" y="3956"/>
                </a:lnTo>
                <a:lnTo>
                  <a:pt x="2273" y="3949"/>
                </a:lnTo>
                <a:lnTo>
                  <a:pt x="2276" y="3943"/>
                </a:lnTo>
                <a:lnTo>
                  <a:pt x="2339" y="3782"/>
                </a:lnTo>
                <a:lnTo>
                  <a:pt x="2303" y="3764"/>
                </a:lnTo>
                <a:lnTo>
                  <a:pt x="2339" y="3755"/>
                </a:lnTo>
                <a:lnTo>
                  <a:pt x="2367" y="3629"/>
                </a:lnTo>
                <a:lnTo>
                  <a:pt x="2357" y="3055"/>
                </a:lnTo>
                <a:lnTo>
                  <a:pt x="2357" y="2264"/>
                </a:lnTo>
                <a:lnTo>
                  <a:pt x="2363" y="2263"/>
                </a:lnTo>
                <a:lnTo>
                  <a:pt x="2369" y="2262"/>
                </a:lnTo>
                <a:lnTo>
                  <a:pt x="2375" y="2259"/>
                </a:lnTo>
                <a:lnTo>
                  <a:pt x="2384" y="2254"/>
                </a:lnTo>
                <a:lnTo>
                  <a:pt x="2600" y="2274"/>
                </a:lnTo>
                <a:lnTo>
                  <a:pt x="2609" y="2246"/>
                </a:lnTo>
                <a:lnTo>
                  <a:pt x="2699" y="2281"/>
                </a:lnTo>
                <a:lnTo>
                  <a:pt x="2744" y="2237"/>
                </a:lnTo>
                <a:lnTo>
                  <a:pt x="2749" y="2241"/>
                </a:lnTo>
                <a:lnTo>
                  <a:pt x="2753" y="2245"/>
                </a:lnTo>
                <a:lnTo>
                  <a:pt x="2757" y="2247"/>
                </a:lnTo>
                <a:lnTo>
                  <a:pt x="2762" y="2249"/>
                </a:lnTo>
                <a:lnTo>
                  <a:pt x="2767" y="2250"/>
                </a:lnTo>
                <a:lnTo>
                  <a:pt x="2771" y="2250"/>
                </a:lnTo>
                <a:lnTo>
                  <a:pt x="2776" y="2249"/>
                </a:lnTo>
                <a:lnTo>
                  <a:pt x="2780" y="2248"/>
                </a:lnTo>
                <a:lnTo>
                  <a:pt x="2784" y="2246"/>
                </a:lnTo>
                <a:lnTo>
                  <a:pt x="2789" y="2243"/>
                </a:lnTo>
                <a:lnTo>
                  <a:pt x="2794" y="2239"/>
                </a:lnTo>
                <a:lnTo>
                  <a:pt x="2798" y="2235"/>
                </a:lnTo>
                <a:lnTo>
                  <a:pt x="2807" y="2224"/>
                </a:lnTo>
                <a:lnTo>
                  <a:pt x="2816" y="2210"/>
                </a:lnTo>
                <a:lnTo>
                  <a:pt x="2819" y="2199"/>
                </a:lnTo>
                <a:lnTo>
                  <a:pt x="2821" y="2191"/>
                </a:lnTo>
                <a:lnTo>
                  <a:pt x="2824" y="2185"/>
                </a:lnTo>
                <a:lnTo>
                  <a:pt x="2827" y="2180"/>
                </a:lnTo>
                <a:lnTo>
                  <a:pt x="2831" y="2178"/>
                </a:lnTo>
                <a:lnTo>
                  <a:pt x="2835" y="2178"/>
                </a:lnTo>
                <a:lnTo>
                  <a:pt x="2839" y="2179"/>
                </a:lnTo>
                <a:lnTo>
                  <a:pt x="2843" y="2182"/>
                </a:lnTo>
                <a:lnTo>
                  <a:pt x="2840" y="2178"/>
                </a:lnTo>
                <a:lnTo>
                  <a:pt x="2839" y="2174"/>
                </a:lnTo>
                <a:lnTo>
                  <a:pt x="2840" y="2169"/>
                </a:lnTo>
                <a:lnTo>
                  <a:pt x="2843" y="2165"/>
                </a:lnTo>
                <a:lnTo>
                  <a:pt x="2906" y="2102"/>
                </a:lnTo>
                <a:lnTo>
                  <a:pt x="2897" y="2030"/>
                </a:lnTo>
                <a:lnTo>
                  <a:pt x="2942" y="2021"/>
                </a:lnTo>
                <a:lnTo>
                  <a:pt x="2946" y="2017"/>
                </a:lnTo>
                <a:lnTo>
                  <a:pt x="2949" y="2013"/>
                </a:lnTo>
                <a:lnTo>
                  <a:pt x="2950" y="2008"/>
                </a:lnTo>
                <a:lnTo>
                  <a:pt x="2951" y="2003"/>
                </a:lnTo>
                <a:lnTo>
                  <a:pt x="2897" y="1931"/>
                </a:lnTo>
                <a:lnTo>
                  <a:pt x="2942" y="1958"/>
                </a:lnTo>
                <a:lnTo>
                  <a:pt x="2931" y="1945"/>
                </a:lnTo>
                <a:lnTo>
                  <a:pt x="2921" y="1932"/>
                </a:lnTo>
                <a:lnTo>
                  <a:pt x="2917" y="1927"/>
                </a:lnTo>
                <a:lnTo>
                  <a:pt x="2915" y="1920"/>
                </a:lnTo>
                <a:lnTo>
                  <a:pt x="2912" y="1915"/>
                </a:lnTo>
                <a:lnTo>
                  <a:pt x="2911" y="1909"/>
                </a:lnTo>
                <a:lnTo>
                  <a:pt x="2908" y="1890"/>
                </a:lnTo>
                <a:lnTo>
                  <a:pt x="2906" y="1877"/>
                </a:lnTo>
                <a:lnTo>
                  <a:pt x="2879" y="1859"/>
                </a:lnTo>
                <a:lnTo>
                  <a:pt x="2877" y="1859"/>
                </a:lnTo>
                <a:lnTo>
                  <a:pt x="2875" y="1858"/>
                </a:lnTo>
                <a:lnTo>
                  <a:pt x="2873" y="1856"/>
                </a:lnTo>
                <a:lnTo>
                  <a:pt x="2870" y="1852"/>
                </a:lnTo>
                <a:lnTo>
                  <a:pt x="2866" y="1844"/>
                </a:lnTo>
                <a:lnTo>
                  <a:pt x="2861" y="1832"/>
                </a:lnTo>
                <a:lnTo>
                  <a:pt x="2860" y="1829"/>
                </a:lnTo>
                <a:lnTo>
                  <a:pt x="2857" y="1826"/>
                </a:lnTo>
                <a:lnTo>
                  <a:pt x="2854" y="1822"/>
                </a:lnTo>
                <a:lnTo>
                  <a:pt x="2850" y="1819"/>
                </a:lnTo>
                <a:lnTo>
                  <a:pt x="2839" y="1814"/>
                </a:lnTo>
                <a:lnTo>
                  <a:pt x="2825" y="1807"/>
                </a:lnTo>
                <a:lnTo>
                  <a:pt x="2808" y="1802"/>
                </a:lnTo>
                <a:lnTo>
                  <a:pt x="2788" y="1798"/>
                </a:lnTo>
                <a:lnTo>
                  <a:pt x="2763" y="1792"/>
                </a:lnTo>
                <a:lnTo>
                  <a:pt x="2735" y="1788"/>
                </a:lnTo>
                <a:lnTo>
                  <a:pt x="2682" y="1784"/>
                </a:lnTo>
                <a:lnTo>
                  <a:pt x="2636" y="1779"/>
                </a:lnTo>
                <a:lnTo>
                  <a:pt x="2597" y="1775"/>
                </a:lnTo>
                <a:lnTo>
                  <a:pt x="2564" y="1772"/>
                </a:lnTo>
                <a:lnTo>
                  <a:pt x="2538" y="1769"/>
                </a:lnTo>
                <a:lnTo>
                  <a:pt x="2520" y="1765"/>
                </a:lnTo>
                <a:lnTo>
                  <a:pt x="2507" y="1763"/>
                </a:lnTo>
                <a:lnTo>
                  <a:pt x="2501" y="1761"/>
                </a:lnTo>
                <a:lnTo>
                  <a:pt x="2494" y="1760"/>
                </a:lnTo>
                <a:lnTo>
                  <a:pt x="2485" y="1758"/>
                </a:lnTo>
                <a:lnTo>
                  <a:pt x="2475" y="1755"/>
                </a:lnTo>
                <a:lnTo>
                  <a:pt x="2465" y="1749"/>
                </a:lnTo>
                <a:lnTo>
                  <a:pt x="2454" y="1743"/>
                </a:lnTo>
                <a:lnTo>
                  <a:pt x="2440" y="1735"/>
                </a:lnTo>
                <a:lnTo>
                  <a:pt x="2426" y="1727"/>
                </a:lnTo>
                <a:lnTo>
                  <a:pt x="2411" y="1716"/>
                </a:lnTo>
                <a:lnTo>
                  <a:pt x="2268" y="1545"/>
                </a:lnTo>
                <a:lnTo>
                  <a:pt x="2087" y="1383"/>
                </a:lnTo>
                <a:lnTo>
                  <a:pt x="2159" y="1374"/>
                </a:lnTo>
                <a:lnTo>
                  <a:pt x="2160" y="1379"/>
                </a:lnTo>
                <a:lnTo>
                  <a:pt x="2161" y="1381"/>
                </a:lnTo>
                <a:lnTo>
                  <a:pt x="2165" y="1383"/>
                </a:lnTo>
                <a:lnTo>
                  <a:pt x="2169" y="1383"/>
                </a:lnTo>
                <a:lnTo>
                  <a:pt x="2240" y="1329"/>
                </a:lnTo>
                <a:lnTo>
                  <a:pt x="2256" y="1322"/>
                </a:lnTo>
                <a:lnTo>
                  <a:pt x="2269" y="1316"/>
                </a:lnTo>
                <a:lnTo>
                  <a:pt x="2279" y="1313"/>
                </a:lnTo>
                <a:lnTo>
                  <a:pt x="2285" y="1312"/>
                </a:lnTo>
                <a:lnTo>
                  <a:pt x="2268" y="1284"/>
                </a:lnTo>
                <a:lnTo>
                  <a:pt x="2271" y="1286"/>
                </a:lnTo>
                <a:lnTo>
                  <a:pt x="2275" y="1286"/>
                </a:lnTo>
                <a:lnTo>
                  <a:pt x="2279" y="1286"/>
                </a:lnTo>
                <a:lnTo>
                  <a:pt x="2281" y="1284"/>
                </a:lnTo>
                <a:lnTo>
                  <a:pt x="2283" y="1282"/>
                </a:lnTo>
                <a:lnTo>
                  <a:pt x="2284" y="1278"/>
                </a:lnTo>
                <a:lnTo>
                  <a:pt x="2285" y="1272"/>
                </a:lnTo>
                <a:lnTo>
                  <a:pt x="2285" y="1267"/>
                </a:lnTo>
                <a:lnTo>
                  <a:pt x="2330" y="1213"/>
                </a:lnTo>
                <a:lnTo>
                  <a:pt x="2328" y="1199"/>
                </a:lnTo>
                <a:lnTo>
                  <a:pt x="2325" y="1187"/>
                </a:lnTo>
                <a:lnTo>
                  <a:pt x="2321" y="1176"/>
                </a:lnTo>
                <a:lnTo>
                  <a:pt x="2316" y="1165"/>
                </a:lnTo>
                <a:lnTo>
                  <a:pt x="2312" y="1154"/>
                </a:lnTo>
                <a:lnTo>
                  <a:pt x="2307" y="1145"/>
                </a:lnTo>
                <a:lnTo>
                  <a:pt x="2301" y="1136"/>
                </a:lnTo>
                <a:lnTo>
                  <a:pt x="2295" y="1127"/>
                </a:lnTo>
                <a:lnTo>
                  <a:pt x="2288" y="1120"/>
                </a:lnTo>
                <a:lnTo>
                  <a:pt x="2283" y="1113"/>
                </a:lnTo>
                <a:lnTo>
                  <a:pt x="2279" y="1107"/>
                </a:lnTo>
                <a:lnTo>
                  <a:pt x="2276" y="1102"/>
                </a:lnTo>
                <a:lnTo>
                  <a:pt x="2274" y="1096"/>
                </a:lnTo>
                <a:lnTo>
                  <a:pt x="2274" y="1093"/>
                </a:lnTo>
                <a:lnTo>
                  <a:pt x="2274" y="1090"/>
                </a:lnTo>
                <a:lnTo>
                  <a:pt x="2276" y="1088"/>
                </a:lnTo>
                <a:lnTo>
                  <a:pt x="2295" y="1061"/>
                </a:lnTo>
                <a:lnTo>
                  <a:pt x="2231" y="1024"/>
                </a:lnTo>
                <a:lnTo>
                  <a:pt x="2268" y="1006"/>
                </a:lnTo>
                <a:lnTo>
                  <a:pt x="2250" y="987"/>
                </a:lnTo>
                <a:lnTo>
                  <a:pt x="2232" y="970"/>
                </a:lnTo>
                <a:lnTo>
                  <a:pt x="2215" y="955"/>
                </a:lnTo>
                <a:lnTo>
                  <a:pt x="2198" y="944"/>
                </a:lnTo>
                <a:lnTo>
                  <a:pt x="2181" y="933"/>
                </a:lnTo>
                <a:lnTo>
                  <a:pt x="2165" y="925"/>
                </a:lnTo>
                <a:lnTo>
                  <a:pt x="2148" y="920"/>
                </a:lnTo>
                <a:lnTo>
                  <a:pt x="2132" y="917"/>
                </a:lnTo>
                <a:lnTo>
                  <a:pt x="2114" y="917"/>
                </a:lnTo>
                <a:lnTo>
                  <a:pt x="2097" y="917"/>
                </a:lnTo>
                <a:lnTo>
                  <a:pt x="2078" y="917"/>
                </a:lnTo>
                <a:lnTo>
                  <a:pt x="2060" y="917"/>
                </a:lnTo>
                <a:lnTo>
                  <a:pt x="1944" y="925"/>
                </a:lnTo>
                <a:lnTo>
                  <a:pt x="1929" y="925"/>
                </a:lnTo>
                <a:lnTo>
                  <a:pt x="1915" y="924"/>
                </a:lnTo>
                <a:lnTo>
                  <a:pt x="1902" y="923"/>
                </a:lnTo>
                <a:lnTo>
                  <a:pt x="1891" y="921"/>
                </a:lnTo>
                <a:lnTo>
                  <a:pt x="1883" y="918"/>
                </a:lnTo>
                <a:lnTo>
                  <a:pt x="1874" y="915"/>
                </a:lnTo>
                <a:lnTo>
                  <a:pt x="1868" y="911"/>
                </a:lnTo>
                <a:lnTo>
                  <a:pt x="1862" y="907"/>
                </a:lnTo>
                <a:lnTo>
                  <a:pt x="1791" y="737"/>
                </a:lnTo>
                <a:lnTo>
                  <a:pt x="1786" y="728"/>
                </a:lnTo>
                <a:lnTo>
                  <a:pt x="1778" y="718"/>
                </a:lnTo>
                <a:lnTo>
                  <a:pt x="1770" y="708"/>
                </a:lnTo>
                <a:lnTo>
                  <a:pt x="1760" y="699"/>
                </a:lnTo>
                <a:lnTo>
                  <a:pt x="1748" y="688"/>
                </a:lnTo>
                <a:lnTo>
                  <a:pt x="1735" y="677"/>
                </a:lnTo>
                <a:lnTo>
                  <a:pt x="1721" y="666"/>
                </a:lnTo>
                <a:lnTo>
                  <a:pt x="1705" y="656"/>
                </a:lnTo>
                <a:lnTo>
                  <a:pt x="1696" y="650"/>
                </a:lnTo>
                <a:lnTo>
                  <a:pt x="1689" y="646"/>
                </a:lnTo>
                <a:lnTo>
                  <a:pt x="1681" y="643"/>
                </a:lnTo>
                <a:lnTo>
                  <a:pt x="1675" y="641"/>
                </a:lnTo>
                <a:lnTo>
                  <a:pt x="1668" y="639"/>
                </a:lnTo>
                <a:lnTo>
                  <a:pt x="1662" y="639"/>
                </a:lnTo>
                <a:lnTo>
                  <a:pt x="1657" y="639"/>
                </a:lnTo>
                <a:lnTo>
                  <a:pt x="1652" y="640"/>
                </a:lnTo>
                <a:lnTo>
                  <a:pt x="1647" y="642"/>
                </a:lnTo>
                <a:lnTo>
                  <a:pt x="1644" y="645"/>
                </a:lnTo>
                <a:lnTo>
                  <a:pt x="1639" y="649"/>
                </a:lnTo>
                <a:lnTo>
                  <a:pt x="1636" y="654"/>
                </a:lnTo>
                <a:lnTo>
                  <a:pt x="1634" y="660"/>
                </a:lnTo>
                <a:lnTo>
                  <a:pt x="1632" y="666"/>
                </a:lnTo>
                <a:lnTo>
                  <a:pt x="1630" y="674"/>
                </a:lnTo>
                <a:lnTo>
                  <a:pt x="1629" y="683"/>
                </a:lnTo>
                <a:lnTo>
                  <a:pt x="1627" y="700"/>
                </a:lnTo>
                <a:lnTo>
                  <a:pt x="1627" y="716"/>
                </a:lnTo>
                <a:lnTo>
                  <a:pt x="1627" y="730"/>
                </a:lnTo>
                <a:lnTo>
                  <a:pt x="1629" y="744"/>
                </a:lnTo>
                <a:lnTo>
                  <a:pt x="1631" y="755"/>
                </a:lnTo>
                <a:lnTo>
                  <a:pt x="1635" y="765"/>
                </a:lnTo>
                <a:lnTo>
                  <a:pt x="1641" y="774"/>
                </a:lnTo>
                <a:lnTo>
                  <a:pt x="1646" y="781"/>
                </a:lnTo>
                <a:lnTo>
                  <a:pt x="1637" y="890"/>
                </a:lnTo>
                <a:lnTo>
                  <a:pt x="1629" y="934"/>
                </a:lnTo>
                <a:lnTo>
                  <a:pt x="1620" y="934"/>
                </a:lnTo>
                <a:lnTo>
                  <a:pt x="1613" y="932"/>
                </a:lnTo>
                <a:lnTo>
                  <a:pt x="1606" y="930"/>
                </a:lnTo>
                <a:lnTo>
                  <a:pt x="1601" y="925"/>
                </a:lnTo>
                <a:lnTo>
                  <a:pt x="1367" y="962"/>
                </a:lnTo>
                <a:lnTo>
                  <a:pt x="1355" y="957"/>
                </a:lnTo>
                <a:lnTo>
                  <a:pt x="1347" y="952"/>
                </a:lnTo>
                <a:lnTo>
                  <a:pt x="1345" y="950"/>
                </a:lnTo>
                <a:lnTo>
                  <a:pt x="1342" y="948"/>
                </a:lnTo>
                <a:lnTo>
                  <a:pt x="1341" y="946"/>
                </a:lnTo>
                <a:lnTo>
                  <a:pt x="1340" y="943"/>
                </a:lnTo>
                <a:lnTo>
                  <a:pt x="1268" y="962"/>
                </a:lnTo>
                <a:lnTo>
                  <a:pt x="1161" y="934"/>
                </a:lnTo>
                <a:lnTo>
                  <a:pt x="1097" y="962"/>
                </a:lnTo>
                <a:lnTo>
                  <a:pt x="1097" y="974"/>
                </a:lnTo>
                <a:lnTo>
                  <a:pt x="1096" y="982"/>
                </a:lnTo>
                <a:lnTo>
                  <a:pt x="1095" y="989"/>
                </a:lnTo>
                <a:lnTo>
                  <a:pt x="1093" y="993"/>
                </a:lnTo>
                <a:lnTo>
                  <a:pt x="1086" y="1003"/>
                </a:lnTo>
                <a:lnTo>
                  <a:pt x="1075" y="1024"/>
                </a:lnTo>
                <a:lnTo>
                  <a:pt x="1069" y="1037"/>
                </a:lnTo>
                <a:lnTo>
                  <a:pt x="1065" y="1049"/>
                </a:lnTo>
                <a:lnTo>
                  <a:pt x="1062" y="1060"/>
                </a:lnTo>
                <a:lnTo>
                  <a:pt x="1062" y="1069"/>
                </a:lnTo>
                <a:lnTo>
                  <a:pt x="1080" y="1177"/>
                </a:lnTo>
                <a:lnTo>
                  <a:pt x="1062" y="1230"/>
                </a:lnTo>
                <a:lnTo>
                  <a:pt x="1061" y="1234"/>
                </a:lnTo>
                <a:lnTo>
                  <a:pt x="1061" y="1239"/>
                </a:lnTo>
                <a:lnTo>
                  <a:pt x="1064" y="1247"/>
                </a:lnTo>
                <a:lnTo>
                  <a:pt x="1068" y="1255"/>
                </a:lnTo>
                <a:lnTo>
                  <a:pt x="1083" y="1280"/>
                </a:lnTo>
                <a:lnTo>
                  <a:pt x="1107" y="1312"/>
                </a:lnTo>
                <a:lnTo>
                  <a:pt x="1134" y="1356"/>
                </a:lnTo>
                <a:lnTo>
                  <a:pt x="1138" y="1362"/>
                </a:lnTo>
                <a:lnTo>
                  <a:pt x="1143" y="1367"/>
                </a:lnTo>
                <a:lnTo>
                  <a:pt x="1150" y="1372"/>
                </a:lnTo>
                <a:lnTo>
                  <a:pt x="1156" y="1377"/>
                </a:lnTo>
                <a:lnTo>
                  <a:pt x="1170" y="1385"/>
                </a:lnTo>
                <a:lnTo>
                  <a:pt x="1188" y="1393"/>
                </a:lnTo>
                <a:lnTo>
                  <a:pt x="1207" y="1399"/>
                </a:lnTo>
                <a:lnTo>
                  <a:pt x="1228" y="1403"/>
                </a:lnTo>
                <a:lnTo>
                  <a:pt x="1252" y="1408"/>
                </a:lnTo>
                <a:lnTo>
                  <a:pt x="1278" y="1411"/>
                </a:lnTo>
                <a:lnTo>
                  <a:pt x="1376" y="1383"/>
                </a:lnTo>
                <a:lnTo>
                  <a:pt x="1394" y="1401"/>
                </a:lnTo>
                <a:lnTo>
                  <a:pt x="1493" y="1393"/>
                </a:lnTo>
                <a:lnTo>
                  <a:pt x="1223" y="1761"/>
                </a:lnTo>
                <a:lnTo>
                  <a:pt x="1199" y="1763"/>
                </a:lnTo>
                <a:lnTo>
                  <a:pt x="1176" y="1768"/>
                </a:lnTo>
                <a:lnTo>
                  <a:pt x="1154" y="1773"/>
                </a:lnTo>
                <a:lnTo>
                  <a:pt x="1134" y="1778"/>
                </a:lnTo>
                <a:lnTo>
                  <a:pt x="1113" y="1786"/>
                </a:lnTo>
                <a:lnTo>
                  <a:pt x="1095" y="1794"/>
                </a:lnTo>
                <a:lnTo>
                  <a:pt x="1078" y="1804"/>
                </a:lnTo>
                <a:lnTo>
                  <a:pt x="1062" y="1815"/>
                </a:lnTo>
                <a:lnTo>
                  <a:pt x="1043" y="1797"/>
                </a:lnTo>
                <a:lnTo>
                  <a:pt x="981" y="1815"/>
                </a:lnTo>
                <a:lnTo>
                  <a:pt x="964" y="1811"/>
                </a:lnTo>
                <a:lnTo>
                  <a:pt x="950" y="1806"/>
                </a:lnTo>
                <a:lnTo>
                  <a:pt x="939" y="1803"/>
                </a:lnTo>
                <a:lnTo>
                  <a:pt x="930" y="1801"/>
                </a:lnTo>
                <a:lnTo>
                  <a:pt x="927" y="1800"/>
                </a:lnTo>
                <a:lnTo>
                  <a:pt x="922" y="1800"/>
                </a:lnTo>
                <a:lnTo>
                  <a:pt x="915" y="1801"/>
                </a:lnTo>
                <a:lnTo>
                  <a:pt x="908" y="1802"/>
                </a:lnTo>
                <a:lnTo>
                  <a:pt x="888" y="1807"/>
                </a:lnTo>
                <a:lnTo>
                  <a:pt x="864" y="1815"/>
                </a:lnTo>
                <a:lnTo>
                  <a:pt x="737" y="1850"/>
                </a:lnTo>
                <a:lnTo>
                  <a:pt x="722" y="1859"/>
                </a:lnTo>
                <a:lnTo>
                  <a:pt x="709" y="1865"/>
                </a:lnTo>
                <a:lnTo>
                  <a:pt x="696" y="1870"/>
                </a:lnTo>
                <a:lnTo>
                  <a:pt x="684" y="1873"/>
                </a:lnTo>
                <a:lnTo>
                  <a:pt x="673" y="1874"/>
                </a:lnTo>
                <a:lnTo>
                  <a:pt x="664" y="1874"/>
                </a:lnTo>
                <a:lnTo>
                  <a:pt x="655" y="1872"/>
                </a:lnTo>
                <a:lnTo>
                  <a:pt x="647" y="1869"/>
                </a:lnTo>
                <a:lnTo>
                  <a:pt x="660" y="1877"/>
                </a:lnTo>
                <a:lnTo>
                  <a:pt x="670" y="1887"/>
                </a:lnTo>
                <a:lnTo>
                  <a:pt x="677" y="1895"/>
                </a:lnTo>
                <a:lnTo>
                  <a:pt x="683" y="1904"/>
                </a:lnTo>
                <a:lnTo>
                  <a:pt x="685" y="1909"/>
                </a:lnTo>
                <a:lnTo>
                  <a:pt x="685" y="1915"/>
                </a:lnTo>
                <a:lnTo>
                  <a:pt x="685" y="1921"/>
                </a:lnTo>
                <a:lnTo>
                  <a:pt x="683" y="1928"/>
                </a:lnTo>
                <a:lnTo>
                  <a:pt x="679" y="1935"/>
                </a:lnTo>
                <a:lnTo>
                  <a:pt x="674" y="1944"/>
                </a:lnTo>
                <a:lnTo>
                  <a:pt x="668" y="1953"/>
                </a:lnTo>
                <a:lnTo>
                  <a:pt x="661" y="1963"/>
                </a:lnTo>
                <a:lnTo>
                  <a:pt x="647" y="1980"/>
                </a:lnTo>
                <a:lnTo>
                  <a:pt x="640" y="1993"/>
                </a:lnTo>
                <a:lnTo>
                  <a:pt x="638" y="1997"/>
                </a:lnTo>
                <a:lnTo>
                  <a:pt x="637" y="2001"/>
                </a:lnTo>
                <a:lnTo>
                  <a:pt x="638" y="2003"/>
                </a:lnTo>
                <a:lnTo>
                  <a:pt x="639" y="2003"/>
                </a:lnTo>
                <a:lnTo>
                  <a:pt x="639" y="2021"/>
                </a:lnTo>
                <a:lnTo>
                  <a:pt x="620" y="2003"/>
                </a:lnTo>
                <a:lnTo>
                  <a:pt x="624" y="2021"/>
                </a:lnTo>
                <a:lnTo>
                  <a:pt x="625" y="2037"/>
                </a:lnTo>
                <a:lnTo>
                  <a:pt x="625" y="2045"/>
                </a:lnTo>
                <a:lnTo>
                  <a:pt x="624" y="2052"/>
                </a:lnTo>
                <a:lnTo>
                  <a:pt x="623" y="2060"/>
                </a:lnTo>
                <a:lnTo>
                  <a:pt x="620" y="2066"/>
                </a:lnTo>
                <a:lnTo>
                  <a:pt x="603" y="2083"/>
                </a:lnTo>
                <a:lnTo>
                  <a:pt x="630" y="2102"/>
                </a:lnTo>
                <a:lnTo>
                  <a:pt x="625" y="2112"/>
                </a:lnTo>
                <a:lnTo>
                  <a:pt x="618" y="2126"/>
                </a:lnTo>
                <a:lnTo>
                  <a:pt x="611" y="2145"/>
                </a:lnTo>
                <a:lnTo>
                  <a:pt x="603" y="2165"/>
                </a:lnTo>
                <a:lnTo>
                  <a:pt x="595" y="2187"/>
                </a:lnTo>
                <a:lnTo>
                  <a:pt x="590" y="2205"/>
                </a:lnTo>
                <a:lnTo>
                  <a:pt x="589" y="2214"/>
                </a:lnTo>
                <a:lnTo>
                  <a:pt x="588" y="2222"/>
                </a:lnTo>
                <a:lnTo>
                  <a:pt x="588" y="2230"/>
                </a:lnTo>
                <a:lnTo>
                  <a:pt x="589" y="2237"/>
                </a:lnTo>
                <a:lnTo>
                  <a:pt x="590" y="2243"/>
                </a:lnTo>
                <a:lnTo>
                  <a:pt x="594" y="2250"/>
                </a:lnTo>
                <a:lnTo>
                  <a:pt x="597" y="2255"/>
                </a:lnTo>
                <a:lnTo>
                  <a:pt x="601" y="2261"/>
                </a:lnTo>
                <a:lnTo>
                  <a:pt x="608" y="2265"/>
                </a:lnTo>
                <a:lnTo>
                  <a:pt x="614" y="2269"/>
                </a:lnTo>
                <a:lnTo>
                  <a:pt x="622" y="2274"/>
                </a:lnTo>
                <a:lnTo>
                  <a:pt x="630" y="2277"/>
                </a:lnTo>
                <a:lnTo>
                  <a:pt x="639" y="2280"/>
                </a:lnTo>
                <a:lnTo>
                  <a:pt x="646" y="2282"/>
                </a:lnTo>
                <a:lnTo>
                  <a:pt x="654" y="2283"/>
                </a:lnTo>
                <a:lnTo>
                  <a:pt x="661" y="2283"/>
                </a:lnTo>
                <a:lnTo>
                  <a:pt x="668" y="2282"/>
                </a:lnTo>
                <a:lnTo>
                  <a:pt x="673" y="2280"/>
                </a:lnTo>
                <a:lnTo>
                  <a:pt x="679" y="2277"/>
                </a:lnTo>
                <a:lnTo>
                  <a:pt x="683" y="2274"/>
                </a:lnTo>
                <a:lnTo>
                  <a:pt x="666" y="2299"/>
                </a:lnTo>
                <a:close/>
                <a:moveTo>
                  <a:pt x="1250" y="2884"/>
                </a:moveTo>
                <a:lnTo>
                  <a:pt x="1295" y="2875"/>
                </a:lnTo>
                <a:lnTo>
                  <a:pt x="1305" y="2884"/>
                </a:lnTo>
                <a:lnTo>
                  <a:pt x="1386" y="2884"/>
                </a:lnTo>
                <a:lnTo>
                  <a:pt x="1386" y="2879"/>
                </a:lnTo>
                <a:lnTo>
                  <a:pt x="1388" y="2875"/>
                </a:lnTo>
                <a:lnTo>
                  <a:pt x="1391" y="2870"/>
                </a:lnTo>
                <a:lnTo>
                  <a:pt x="1394" y="2865"/>
                </a:lnTo>
                <a:lnTo>
                  <a:pt x="1439" y="2875"/>
                </a:lnTo>
                <a:lnTo>
                  <a:pt x="1458" y="2857"/>
                </a:lnTo>
                <a:lnTo>
                  <a:pt x="1530" y="2884"/>
                </a:lnTo>
                <a:lnTo>
                  <a:pt x="1530" y="2885"/>
                </a:lnTo>
                <a:lnTo>
                  <a:pt x="1532" y="2886"/>
                </a:lnTo>
                <a:lnTo>
                  <a:pt x="1535" y="2886"/>
                </a:lnTo>
                <a:lnTo>
                  <a:pt x="1538" y="2886"/>
                </a:lnTo>
                <a:lnTo>
                  <a:pt x="1550" y="2882"/>
                </a:lnTo>
                <a:lnTo>
                  <a:pt x="1565" y="2875"/>
                </a:lnTo>
                <a:lnTo>
                  <a:pt x="1583" y="2867"/>
                </a:lnTo>
                <a:lnTo>
                  <a:pt x="1600" y="2859"/>
                </a:lnTo>
                <a:lnTo>
                  <a:pt x="1615" y="2853"/>
                </a:lnTo>
                <a:lnTo>
                  <a:pt x="1629" y="2848"/>
                </a:lnTo>
                <a:lnTo>
                  <a:pt x="1637" y="2848"/>
                </a:lnTo>
                <a:lnTo>
                  <a:pt x="1646" y="2850"/>
                </a:lnTo>
                <a:lnTo>
                  <a:pt x="1655" y="2854"/>
                </a:lnTo>
                <a:lnTo>
                  <a:pt x="1662" y="2859"/>
                </a:lnTo>
                <a:lnTo>
                  <a:pt x="1670" y="2865"/>
                </a:lnTo>
                <a:lnTo>
                  <a:pt x="1677" y="2873"/>
                </a:lnTo>
                <a:lnTo>
                  <a:pt x="1685" y="2882"/>
                </a:lnTo>
                <a:lnTo>
                  <a:pt x="1691" y="2892"/>
                </a:lnTo>
                <a:lnTo>
                  <a:pt x="1704" y="2881"/>
                </a:lnTo>
                <a:lnTo>
                  <a:pt x="1714" y="2872"/>
                </a:lnTo>
                <a:lnTo>
                  <a:pt x="1722" y="2868"/>
                </a:lnTo>
                <a:lnTo>
                  <a:pt x="1728" y="2865"/>
                </a:lnTo>
                <a:lnTo>
                  <a:pt x="1763" y="2892"/>
                </a:lnTo>
                <a:lnTo>
                  <a:pt x="1769" y="2884"/>
                </a:lnTo>
                <a:lnTo>
                  <a:pt x="1775" y="2877"/>
                </a:lnTo>
                <a:lnTo>
                  <a:pt x="1783" y="2871"/>
                </a:lnTo>
                <a:lnTo>
                  <a:pt x="1791" y="2865"/>
                </a:lnTo>
                <a:lnTo>
                  <a:pt x="1871" y="2830"/>
                </a:lnTo>
                <a:lnTo>
                  <a:pt x="1880" y="2812"/>
                </a:lnTo>
                <a:lnTo>
                  <a:pt x="1901" y="2803"/>
                </a:lnTo>
                <a:lnTo>
                  <a:pt x="1916" y="2795"/>
                </a:lnTo>
                <a:lnTo>
                  <a:pt x="1928" y="2787"/>
                </a:lnTo>
                <a:lnTo>
                  <a:pt x="1934" y="2781"/>
                </a:lnTo>
                <a:lnTo>
                  <a:pt x="1941" y="2767"/>
                </a:lnTo>
                <a:lnTo>
                  <a:pt x="1950" y="2741"/>
                </a:lnTo>
                <a:lnTo>
                  <a:pt x="1963" y="2702"/>
                </a:lnTo>
                <a:lnTo>
                  <a:pt x="1979" y="2651"/>
                </a:lnTo>
                <a:lnTo>
                  <a:pt x="1985" y="2636"/>
                </a:lnTo>
                <a:lnTo>
                  <a:pt x="1990" y="2622"/>
                </a:lnTo>
                <a:lnTo>
                  <a:pt x="1998" y="2608"/>
                </a:lnTo>
                <a:lnTo>
                  <a:pt x="2005" y="2594"/>
                </a:lnTo>
                <a:lnTo>
                  <a:pt x="2014" y="2580"/>
                </a:lnTo>
                <a:lnTo>
                  <a:pt x="2025" y="2566"/>
                </a:lnTo>
                <a:lnTo>
                  <a:pt x="2035" y="2553"/>
                </a:lnTo>
                <a:lnTo>
                  <a:pt x="2047" y="2540"/>
                </a:lnTo>
                <a:lnTo>
                  <a:pt x="2060" y="2527"/>
                </a:lnTo>
                <a:lnTo>
                  <a:pt x="2073" y="2514"/>
                </a:lnTo>
                <a:lnTo>
                  <a:pt x="2088" y="2502"/>
                </a:lnTo>
                <a:lnTo>
                  <a:pt x="2104" y="2489"/>
                </a:lnTo>
                <a:lnTo>
                  <a:pt x="2120" y="2478"/>
                </a:lnTo>
                <a:lnTo>
                  <a:pt x="2139" y="2466"/>
                </a:lnTo>
                <a:lnTo>
                  <a:pt x="2157" y="2454"/>
                </a:lnTo>
                <a:lnTo>
                  <a:pt x="2177" y="2443"/>
                </a:lnTo>
                <a:lnTo>
                  <a:pt x="2105" y="2371"/>
                </a:lnTo>
                <a:lnTo>
                  <a:pt x="1511" y="2353"/>
                </a:lnTo>
                <a:lnTo>
                  <a:pt x="1260" y="2390"/>
                </a:lnTo>
                <a:lnTo>
                  <a:pt x="1179" y="2336"/>
                </a:lnTo>
                <a:lnTo>
                  <a:pt x="1115" y="2390"/>
                </a:lnTo>
                <a:lnTo>
                  <a:pt x="1043" y="2380"/>
                </a:lnTo>
                <a:lnTo>
                  <a:pt x="1039" y="2386"/>
                </a:lnTo>
                <a:lnTo>
                  <a:pt x="1035" y="2396"/>
                </a:lnTo>
                <a:lnTo>
                  <a:pt x="1029" y="2409"/>
                </a:lnTo>
                <a:lnTo>
                  <a:pt x="1025" y="2426"/>
                </a:lnTo>
                <a:lnTo>
                  <a:pt x="971" y="2506"/>
                </a:lnTo>
                <a:lnTo>
                  <a:pt x="963" y="2587"/>
                </a:lnTo>
                <a:lnTo>
                  <a:pt x="955" y="2627"/>
                </a:lnTo>
                <a:lnTo>
                  <a:pt x="951" y="2655"/>
                </a:lnTo>
                <a:lnTo>
                  <a:pt x="951" y="2665"/>
                </a:lnTo>
                <a:lnTo>
                  <a:pt x="951" y="2671"/>
                </a:lnTo>
                <a:lnTo>
                  <a:pt x="952" y="2675"/>
                </a:lnTo>
                <a:lnTo>
                  <a:pt x="954" y="2677"/>
                </a:lnTo>
                <a:lnTo>
                  <a:pt x="954" y="2686"/>
                </a:lnTo>
                <a:lnTo>
                  <a:pt x="956" y="2694"/>
                </a:lnTo>
                <a:lnTo>
                  <a:pt x="958" y="2701"/>
                </a:lnTo>
                <a:lnTo>
                  <a:pt x="963" y="2709"/>
                </a:lnTo>
                <a:lnTo>
                  <a:pt x="968" y="2715"/>
                </a:lnTo>
                <a:lnTo>
                  <a:pt x="973" y="2720"/>
                </a:lnTo>
                <a:lnTo>
                  <a:pt x="981" y="2726"/>
                </a:lnTo>
                <a:lnTo>
                  <a:pt x="990" y="2731"/>
                </a:lnTo>
                <a:lnTo>
                  <a:pt x="1070" y="2776"/>
                </a:lnTo>
                <a:lnTo>
                  <a:pt x="1101" y="2803"/>
                </a:lnTo>
                <a:lnTo>
                  <a:pt x="1128" y="2828"/>
                </a:lnTo>
                <a:lnTo>
                  <a:pt x="1150" y="2848"/>
                </a:lnTo>
                <a:lnTo>
                  <a:pt x="1167" y="2865"/>
                </a:lnTo>
                <a:lnTo>
                  <a:pt x="1179" y="2879"/>
                </a:lnTo>
                <a:lnTo>
                  <a:pt x="1186" y="2890"/>
                </a:lnTo>
                <a:lnTo>
                  <a:pt x="1189" y="2894"/>
                </a:lnTo>
                <a:lnTo>
                  <a:pt x="1190" y="2898"/>
                </a:lnTo>
                <a:lnTo>
                  <a:pt x="1189" y="2900"/>
                </a:lnTo>
                <a:lnTo>
                  <a:pt x="1188" y="2902"/>
                </a:lnTo>
                <a:lnTo>
                  <a:pt x="1250" y="2884"/>
                </a:lnTo>
                <a:close/>
                <a:moveTo>
                  <a:pt x="1287" y="2695"/>
                </a:moveTo>
                <a:lnTo>
                  <a:pt x="1294" y="2683"/>
                </a:lnTo>
                <a:lnTo>
                  <a:pt x="1301" y="2672"/>
                </a:lnTo>
                <a:lnTo>
                  <a:pt x="1304" y="2665"/>
                </a:lnTo>
                <a:lnTo>
                  <a:pt x="1305" y="2658"/>
                </a:lnTo>
                <a:lnTo>
                  <a:pt x="1278" y="2631"/>
                </a:lnTo>
                <a:lnTo>
                  <a:pt x="1285" y="2622"/>
                </a:lnTo>
                <a:lnTo>
                  <a:pt x="1294" y="2612"/>
                </a:lnTo>
                <a:lnTo>
                  <a:pt x="1304" y="2602"/>
                </a:lnTo>
                <a:lnTo>
                  <a:pt x="1313" y="2594"/>
                </a:lnTo>
                <a:lnTo>
                  <a:pt x="1335" y="2575"/>
                </a:lnTo>
                <a:lnTo>
                  <a:pt x="1359" y="2558"/>
                </a:lnTo>
                <a:lnTo>
                  <a:pt x="1384" y="2541"/>
                </a:lnTo>
                <a:lnTo>
                  <a:pt x="1412" y="2526"/>
                </a:lnTo>
                <a:lnTo>
                  <a:pt x="1443" y="2511"/>
                </a:lnTo>
                <a:lnTo>
                  <a:pt x="1475" y="2498"/>
                </a:lnTo>
                <a:lnTo>
                  <a:pt x="1448" y="2525"/>
                </a:lnTo>
                <a:lnTo>
                  <a:pt x="1484" y="2515"/>
                </a:lnTo>
                <a:lnTo>
                  <a:pt x="1493" y="2507"/>
                </a:lnTo>
                <a:lnTo>
                  <a:pt x="1503" y="2498"/>
                </a:lnTo>
                <a:lnTo>
                  <a:pt x="1619" y="2506"/>
                </a:lnTo>
                <a:lnTo>
                  <a:pt x="1656" y="2498"/>
                </a:lnTo>
                <a:lnTo>
                  <a:pt x="1652" y="2501"/>
                </a:lnTo>
                <a:lnTo>
                  <a:pt x="1651" y="2503"/>
                </a:lnTo>
                <a:lnTo>
                  <a:pt x="1652" y="2506"/>
                </a:lnTo>
                <a:lnTo>
                  <a:pt x="1656" y="2506"/>
                </a:lnTo>
                <a:lnTo>
                  <a:pt x="1728" y="2479"/>
                </a:lnTo>
                <a:lnTo>
                  <a:pt x="1763" y="2506"/>
                </a:lnTo>
                <a:lnTo>
                  <a:pt x="1871" y="2525"/>
                </a:lnTo>
                <a:lnTo>
                  <a:pt x="1808" y="2695"/>
                </a:lnTo>
                <a:lnTo>
                  <a:pt x="1718" y="2704"/>
                </a:lnTo>
                <a:lnTo>
                  <a:pt x="1702" y="2687"/>
                </a:lnTo>
                <a:lnTo>
                  <a:pt x="1687" y="2674"/>
                </a:lnTo>
                <a:lnTo>
                  <a:pt x="1674" y="2665"/>
                </a:lnTo>
                <a:lnTo>
                  <a:pt x="1664" y="2658"/>
                </a:lnTo>
                <a:lnTo>
                  <a:pt x="1475" y="2695"/>
                </a:lnTo>
                <a:lnTo>
                  <a:pt x="1464" y="2696"/>
                </a:lnTo>
                <a:lnTo>
                  <a:pt x="1449" y="2697"/>
                </a:lnTo>
                <a:lnTo>
                  <a:pt x="1429" y="2700"/>
                </a:lnTo>
                <a:lnTo>
                  <a:pt x="1404" y="2704"/>
                </a:lnTo>
                <a:lnTo>
                  <a:pt x="1322" y="2686"/>
                </a:lnTo>
                <a:lnTo>
                  <a:pt x="1287" y="2695"/>
                </a:lnTo>
                <a:close/>
                <a:moveTo>
                  <a:pt x="1404" y="1733"/>
                </a:moveTo>
                <a:lnTo>
                  <a:pt x="1424" y="1708"/>
                </a:lnTo>
                <a:lnTo>
                  <a:pt x="1443" y="1685"/>
                </a:lnTo>
                <a:lnTo>
                  <a:pt x="1459" y="1666"/>
                </a:lnTo>
                <a:lnTo>
                  <a:pt x="1472" y="1648"/>
                </a:lnTo>
                <a:lnTo>
                  <a:pt x="1481" y="1634"/>
                </a:lnTo>
                <a:lnTo>
                  <a:pt x="1490" y="1623"/>
                </a:lnTo>
                <a:lnTo>
                  <a:pt x="1497" y="1614"/>
                </a:lnTo>
                <a:lnTo>
                  <a:pt x="1503" y="1608"/>
                </a:lnTo>
                <a:lnTo>
                  <a:pt x="1538" y="1572"/>
                </a:lnTo>
                <a:lnTo>
                  <a:pt x="1557" y="1537"/>
                </a:lnTo>
                <a:lnTo>
                  <a:pt x="1629" y="1473"/>
                </a:lnTo>
                <a:lnTo>
                  <a:pt x="1656" y="1420"/>
                </a:lnTo>
                <a:lnTo>
                  <a:pt x="1664" y="1413"/>
                </a:lnTo>
                <a:lnTo>
                  <a:pt x="1680" y="1406"/>
                </a:lnTo>
                <a:lnTo>
                  <a:pt x="1704" y="1396"/>
                </a:lnTo>
                <a:lnTo>
                  <a:pt x="1736" y="1383"/>
                </a:lnTo>
                <a:lnTo>
                  <a:pt x="1907" y="1509"/>
                </a:lnTo>
                <a:lnTo>
                  <a:pt x="1957" y="1530"/>
                </a:lnTo>
                <a:lnTo>
                  <a:pt x="1998" y="1547"/>
                </a:lnTo>
                <a:lnTo>
                  <a:pt x="2029" y="1561"/>
                </a:lnTo>
                <a:lnTo>
                  <a:pt x="2050" y="1572"/>
                </a:lnTo>
                <a:lnTo>
                  <a:pt x="2054" y="1583"/>
                </a:lnTo>
                <a:lnTo>
                  <a:pt x="2056" y="1591"/>
                </a:lnTo>
                <a:lnTo>
                  <a:pt x="2059" y="1599"/>
                </a:lnTo>
                <a:lnTo>
                  <a:pt x="2062" y="1605"/>
                </a:lnTo>
                <a:lnTo>
                  <a:pt x="2067" y="1611"/>
                </a:lnTo>
                <a:lnTo>
                  <a:pt x="2070" y="1614"/>
                </a:lnTo>
                <a:lnTo>
                  <a:pt x="2074" y="1616"/>
                </a:lnTo>
                <a:lnTo>
                  <a:pt x="2078" y="1617"/>
                </a:lnTo>
                <a:lnTo>
                  <a:pt x="2142" y="1635"/>
                </a:lnTo>
                <a:lnTo>
                  <a:pt x="2186" y="1671"/>
                </a:lnTo>
                <a:lnTo>
                  <a:pt x="2213" y="1671"/>
                </a:lnTo>
                <a:lnTo>
                  <a:pt x="2250" y="1751"/>
                </a:lnTo>
                <a:lnTo>
                  <a:pt x="1998" y="1725"/>
                </a:lnTo>
                <a:lnTo>
                  <a:pt x="2002" y="1729"/>
                </a:lnTo>
                <a:lnTo>
                  <a:pt x="2007" y="1732"/>
                </a:lnTo>
                <a:lnTo>
                  <a:pt x="2013" y="1735"/>
                </a:lnTo>
                <a:lnTo>
                  <a:pt x="2019" y="1737"/>
                </a:lnTo>
                <a:lnTo>
                  <a:pt x="2022" y="1739"/>
                </a:lnTo>
                <a:lnTo>
                  <a:pt x="2026" y="1739"/>
                </a:lnTo>
                <a:lnTo>
                  <a:pt x="2029" y="1739"/>
                </a:lnTo>
                <a:lnTo>
                  <a:pt x="2032" y="1736"/>
                </a:lnTo>
                <a:lnTo>
                  <a:pt x="2035" y="1735"/>
                </a:lnTo>
                <a:lnTo>
                  <a:pt x="2038" y="1732"/>
                </a:lnTo>
                <a:lnTo>
                  <a:pt x="2040" y="1729"/>
                </a:lnTo>
                <a:lnTo>
                  <a:pt x="2043" y="1725"/>
                </a:lnTo>
                <a:lnTo>
                  <a:pt x="2045" y="1717"/>
                </a:lnTo>
                <a:lnTo>
                  <a:pt x="2046" y="1711"/>
                </a:lnTo>
                <a:lnTo>
                  <a:pt x="2046" y="1710"/>
                </a:lnTo>
                <a:lnTo>
                  <a:pt x="2045" y="1707"/>
                </a:lnTo>
                <a:lnTo>
                  <a:pt x="2044" y="1706"/>
                </a:lnTo>
                <a:lnTo>
                  <a:pt x="2043" y="1706"/>
                </a:lnTo>
                <a:lnTo>
                  <a:pt x="1944" y="1698"/>
                </a:lnTo>
                <a:lnTo>
                  <a:pt x="1944" y="1733"/>
                </a:lnTo>
                <a:lnTo>
                  <a:pt x="1619" y="1751"/>
                </a:lnTo>
                <a:lnTo>
                  <a:pt x="1646" y="1716"/>
                </a:lnTo>
                <a:lnTo>
                  <a:pt x="1639" y="1712"/>
                </a:lnTo>
                <a:lnTo>
                  <a:pt x="1633" y="1711"/>
                </a:lnTo>
                <a:lnTo>
                  <a:pt x="1628" y="1711"/>
                </a:lnTo>
                <a:lnTo>
                  <a:pt x="1621" y="1714"/>
                </a:lnTo>
                <a:lnTo>
                  <a:pt x="1616" y="1718"/>
                </a:lnTo>
                <a:lnTo>
                  <a:pt x="1610" y="1724"/>
                </a:lnTo>
                <a:lnTo>
                  <a:pt x="1606" y="1732"/>
                </a:lnTo>
                <a:lnTo>
                  <a:pt x="1601" y="1743"/>
                </a:lnTo>
                <a:lnTo>
                  <a:pt x="1404" y="1733"/>
                </a:lnTo>
                <a:close/>
              </a:path>
            </a:pathLst>
          </a:custGeom>
          <a:gradFill rotWithShape="0">
            <a:gsLst>
              <a:gs pos="0">
                <a:srgbClr val="000036"/>
              </a:gs>
              <a:gs pos="100000">
                <a:srgbClr val="0cb3ea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Freeform 8"/>
          <p:cNvSpPr/>
          <p:nvPr/>
        </p:nvSpPr>
        <p:spPr>
          <a:xfrm>
            <a:off x="4788000" y="1344600"/>
            <a:ext cx="1128600" cy="1081080"/>
          </a:xfrm>
          <a:custGeom>
            <a:avLst/>
            <a:gdLst/>
            <a:ahLst/>
            <a:rect l="l" t="t" r="r" b="b"/>
            <a:pathLst>
              <a:path w="3582" h="4044">
                <a:moveTo>
                  <a:pt x="0" y="2812"/>
                </a:moveTo>
                <a:lnTo>
                  <a:pt x="12" y="2819"/>
                </a:lnTo>
                <a:lnTo>
                  <a:pt x="23" y="2826"/>
                </a:lnTo>
                <a:lnTo>
                  <a:pt x="34" y="2832"/>
                </a:lnTo>
                <a:lnTo>
                  <a:pt x="45" y="2837"/>
                </a:lnTo>
                <a:lnTo>
                  <a:pt x="56" y="2841"/>
                </a:lnTo>
                <a:lnTo>
                  <a:pt x="68" y="2845"/>
                </a:lnTo>
                <a:lnTo>
                  <a:pt x="79" y="2848"/>
                </a:lnTo>
                <a:lnTo>
                  <a:pt x="91" y="2850"/>
                </a:lnTo>
                <a:lnTo>
                  <a:pt x="101" y="2851"/>
                </a:lnTo>
                <a:lnTo>
                  <a:pt x="112" y="2851"/>
                </a:lnTo>
                <a:lnTo>
                  <a:pt x="124" y="2851"/>
                </a:lnTo>
                <a:lnTo>
                  <a:pt x="135" y="2850"/>
                </a:lnTo>
                <a:lnTo>
                  <a:pt x="147" y="2849"/>
                </a:lnTo>
                <a:lnTo>
                  <a:pt x="157" y="2846"/>
                </a:lnTo>
                <a:lnTo>
                  <a:pt x="169" y="2843"/>
                </a:lnTo>
                <a:lnTo>
                  <a:pt x="180" y="2839"/>
                </a:lnTo>
                <a:lnTo>
                  <a:pt x="172" y="2848"/>
                </a:lnTo>
                <a:lnTo>
                  <a:pt x="166" y="2859"/>
                </a:lnTo>
                <a:lnTo>
                  <a:pt x="161" y="2870"/>
                </a:lnTo>
                <a:lnTo>
                  <a:pt x="157" y="2883"/>
                </a:lnTo>
                <a:lnTo>
                  <a:pt x="157" y="2887"/>
                </a:lnTo>
                <a:lnTo>
                  <a:pt x="158" y="2890"/>
                </a:lnTo>
                <a:lnTo>
                  <a:pt x="159" y="2893"/>
                </a:lnTo>
                <a:lnTo>
                  <a:pt x="162" y="2896"/>
                </a:lnTo>
                <a:lnTo>
                  <a:pt x="168" y="2902"/>
                </a:lnTo>
                <a:lnTo>
                  <a:pt x="177" y="2906"/>
                </a:lnTo>
                <a:lnTo>
                  <a:pt x="189" y="2910"/>
                </a:lnTo>
                <a:lnTo>
                  <a:pt x="204" y="2913"/>
                </a:lnTo>
                <a:lnTo>
                  <a:pt x="222" y="2917"/>
                </a:lnTo>
                <a:lnTo>
                  <a:pt x="243" y="2919"/>
                </a:lnTo>
                <a:lnTo>
                  <a:pt x="207" y="2938"/>
                </a:lnTo>
                <a:lnTo>
                  <a:pt x="239" y="2947"/>
                </a:lnTo>
                <a:lnTo>
                  <a:pt x="270" y="2955"/>
                </a:lnTo>
                <a:lnTo>
                  <a:pt x="298" y="2964"/>
                </a:lnTo>
                <a:lnTo>
                  <a:pt x="325" y="2973"/>
                </a:lnTo>
                <a:lnTo>
                  <a:pt x="349" y="2981"/>
                </a:lnTo>
                <a:lnTo>
                  <a:pt x="371" y="2989"/>
                </a:lnTo>
                <a:lnTo>
                  <a:pt x="392" y="2997"/>
                </a:lnTo>
                <a:lnTo>
                  <a:pt x="409" y="3005"/>
                </a:lnTo>
                <a:lnTo>
                  <a:pt x="441" y="3021"/>
                </a:lnTo>
                <a:lnTo>
                  <a:pt x="470" y="3036"/>
                </a:lnTo>
                <a:lnTo>
                  <a:pt x="495" y="3052"/>
                </a:lnTo>
                <a:lnTo>
                  <a:pt x="518" y="3068"/>
                </a:lnTo>
                <a:lnTo>
                  <a:pt x="536" y="3082"/>
                </a:lnTo>
                <a:lnTo>
                  <a:pt x="550" y="3092"/>
                </a:lnTo>
                <a:lnTo>
                  <a:pt x="561" y="3097"/>
                </a:lnTo>
                <a:lnTo>
                  <a:pt x="567" y="3099"/>
                </a:lnTo>
                <a:lnTo>
                  <a:pt x="711" y="3072"/>
                </a:lnTo>
                <a:lnTo>
                  <a:pt x="738" y="3091"/>
                </a:lnTo>
                <a:lnTo>
                  <a:pt x="789" y="3032"/>
                </a:lnTo>
                <a:lnTo>
                  <a:pt x="833" y="2978"/>
                </a:lnTo>
                <a:lnTo>
                  <a:pt x="852" y="2953"/>
                </a:lnTo>
                <a:lnTo>
                  <a:pt x="871" y="2930"/>
                </a:lnTo>
                <a:lnTo>
                  <a:pt x="888" y="2907"/>
                </a:lnTo>
                <a:lnTo>
                  <a:pt x="902" y="2885"/>
                </a:lnTo>
                <a:lnTo>
                  <a:pt x="916" y="2865"/>
                </a:lnTo>
                <a:lnTo>
                  <a:pt x="928" y="2847"/>
                </a:lnTo>
                <a:lnTo>
                  <a:pt x="937" y="2829"/>
                </a:lnTo>
                <a:lnTo>
                  <a:pt x="946" y="2812"/>
                </a:lnTo>
                <a:lnTo>
                  <a:pt x="952" y="2796"/>
                </a:lnTo>
                <a:lnTo>
                  <a:pt x="958" y="2782"/>
                </a:lnTo>
                <a:lnTo>
                  <a:pt x="961" y="2769"/>
                </a:lnTo>
                <a:lnTo>
                  <a:pt x="963" y="2758"/>
                </a:lnTo>
                <a:lnTo>
                  <a:pt x="1027" y="2049"/>
                </a:lnTo>
                <a:lnTo>
                  <a:pt x="1027" y="2046"/>
                </a:lnTo>
                <a:lnTo>
                  <a:pt x="1027" y="2039"/>
                </a:lnTo>
                <a:lnTo>
                  <a:pt x="1007" y="1878"/>
                </a:lnTo>
                <a:lnTo>
                  <a:pt x="1005" y="1867"/>
                </a:lnTo>
                <a:lnTo>
                  <a:pt x="1004" y="1855"/>
                </a:lnTo>
                <a:lnTo>
                  <a:pt x="1002" y="1840"/>
                </a:lnTo>
                <a:lnTo>
                  <a:pt x="1001" y="1823"/>
                </a:lnTo>
                <a:lnTo>
                  <a:pt x="1000" y="1783"/>
                </a:lnTo>
                <a:lnTo>
                  <a:pt x="1000" y="1734"/>
                </a:lnTo>
                <a:lnTo>
                  <a:pt x="996" y="1708"/>
                </a:lnTo>
                <a:lnTo>
                  <a:pt x="994" y="1684"/>
                </a:lnTo>
                <a:lnTo>
                  <a:pt x="996" y="1674"/>
                </a:lnTo>
                <a:lnTo>
                  <a:pt x="996" y="1663"/>
                </a:lnTo>
                <a:lnTo>
                  <a:pt x="998" y="1653"/>
                </a:lnTo>
                <a:lnTo>
                  <a:pt x="1000" y="1644"/>
                </a:lnTo>
                <a:lnTo>
                  <a:pt x="1007" y="1572"/>
                </a:lnTo>
                <a:lnTo>
                  <a:pt x="927" y="1329"/>
                </a:lnTo>
                <a:lnTo>
                  <a:pt x="900" y="1375"/>
                </a:lnTo>
                <a:lnTo>
                  <a:pt x="881" y="2049"/>
                </a:lnTo>
                <a:lnTo>
                  <a:pt x="891" y="2300"/>
                </a:lnTo>
                <a:lnTo>
                  <a:pt x="888" y="2327"/>
                </a:lnTo>
                <a:lnTo>
                  <a:pt x="885" y="2353"/>
                </a:lnTo>
                <a:lnTo>
                  <a:pt x="879" y="2378"/>
                </a:lnTo>
                <a:lnTo>
                  <a:pt x="874" y="2403"/>
                </a:lnTo>
                <a:lnTo>
                  <a:pt x="866" y="2427"/>
                </a:lnTo>
                <a:lnTo>
                  <a:pt x="859" y="2451"/>
                </a:lnTo>
                <a:lnTo>
                  <a:pt x="849" y="2474"/>
                </a:lnTo>
                <a:lnTo>
                  <a:pt x="840" y="2497"/>
                </a:lnTo>
                <a:lnTo>
                  <a:pt x="828" y="2519"/>
                </a:lnTo>
                <a:lnTo>
                  <a:pt x="816" y="2541"/>
                </a:lnTo>
                <a:lnTo>
                  <a:pt x="802" y="2562"/>
                </a:lnTo>
                <a:lnTo>
                  <a:pt x="788" y="2583"/>
                </a:lnTo>
                <a:lnTo>
                  <a:pt x="773" y="2602"/>
                </a:lnTo>
                <a:lnTo>
                  <a:pt x="756" y="2621"/>
                </a:lnTo>
                <a:lnTo>
                  <a:pt x="738" y="2641"/>
                </a:lnTo>
                <a:lnTo>
                  <a:pt x="720" y="2659"/>
                </a:lnTo>
                <a:lnTo>
                  <a:pt x="701" y="2676"/>
                </a:lnTo>
                <a:lnTo>
                  <a:pt x="681" y="2692"/>
                </a:lnTo>
                <a:lnTo>
                  <a:pt x="663" y="2707"/>
                </a:lnTo>
                <a:lnTo>
                  <a:pt x="645" y="2720"/>
                </a:lnTo>
                <a:lnTo>
                  <a:pt x="625" y="2733"/>
                </a:lnTo>
                <a:lnTo>
                  <a:pt x="607" y="2744"/>
                </a:lnTo>
                <a:lnTo>
                  <a:pt x="589" y="2753"/>
                </a:lnTo>
                <a:lnTo>
                  <a:pt x="572" y="2762"/>
                </a:lnTo>
                <a:lnTo>
                  <a:pt x="553" y="2769"/>
                </a:lnTo>
                <a:lnTo>
                  <a:pt x="536" y="2776"/>
                </a:lnTo>
                <a:lnTo>
                  <a:pt x="518" y="2780"/>
                </a:lnTo>
                <a:lnTo>
                  <a:pt x="501" y="2783"/>
                </a:lnTo>
                <a:lnTo>
                  <a:pt x="483" y="2786"/>
                </a:lnTo>
                <a:lnTo>
                  <a:pt x="466" y="2787"/>
                </a:lnTo>
                <a:lnTo>
                  <a:pt x="449" y="2787"/>
                </a:lnTo>
                <a:lnTo>
                  <a:pt x="432" y="2786"/>
                </a:lnTo>
                <a:lnTo>
                  <a:pt x="421" y="2785"/>
                </a:lnTo>
                <a:lnTo>
                  <a:pt x="404" y="2782"/>
                </a:lnTo>
                <a:lnTo>
                  <a:pt x="382" y="2780"/>
                </a:lnTo>
                <a:lnTo>
                  <a:pt x="356" y="2776"/>
                </a:lnTo>
                <a:lnTo>
                  <a:pt x="327" y="2772"/>
                </a:lnTo>
                <a:lnTo>
                  <a:pt x="300" y="2769"/>
                </a:lnTo>
                <a:lnTo>
                  <a:pt x="276" y="2767"/>
                </a:lnTo>
                <a:lnTo>
                  <a:pt x="252" y="2766"/>
                </a:lnTo>
                <a:lnTo>
                  <a:pt x="235" y="2769"/>
                </a:lnTo>
                <a:lnTo>
                  <a:pt x="220" y="2774"/>
                </a:lnTo>
                <a:lnTo>
                  <a:pt x="206" y="2780"/>
                </a:lnTo>
                <a:lnTo>
                  <a:pt x="194" y="2787"/>
                </a:lnTo>
                <a:lnTo>
                  <a:pt x="189" y="2791"/>
                </a:lnTo>
                <a:lnTo>
                  <a:pt x="183" y="2795"/>
                </a:lnTo>
                <a:lnTo>
                  <a:pt x="179" y="2801"/>
                </a:lnTo>
                <a:lnTo>
                  <a:pt x="175" y="2805"/>
                </a:lnTo>
                <a:lnTo>
                  <a:pt x="171" y="2811"/>
                </a:lnTo>
                <a:lnTo>
                  <a:pt x="168" y="2817"/>
                </a:lnTo>
                <a:lnTo>
                  <a:pt x="165" y="2823"/>
                </a:lnTo>
                <a:lnTo>
                  <a:pt x="163" y="2830"/>
                </a:lnTo>
                <a:lnTo>
                  <a:pt x="145" y="2817"/>
                </a:lnTo>
                <a:lnTo>
                  <a:pt x="128" y="2806"/>
                </a:lnTo>
                <a:lnTo>
                  <a:pt x="110" y="2796"/>
                </a:lnTo>
                <a:lnTo>
                  <a:pt x="91" y="2789"/>
                </a:lnTo>
                <a:lnTo>
                  <a:pt x="69" y="2783"/>
                </a:lnTo>
                <a:lnTo>
                  <a:pt x="48" y="2779"/>
                </a:lnTo>
                <a:lnTo>
                  <a:pt x="25" y="2777"/>
                </a:lnTo>
                <a:lnTo>
                  <a:pt x="0" y="2776"/>
                </a:lnTo>
                <a:lnTo>
                  <a:pt x="0" y="2812"/>
                </a:lnTo>
                <a:close/>
                <a:moveTo>
                  <a:pt x="693" y="1186"/>
                </a:moveTo>
                <a:lnTo>
                  <a:pt x="711" y="1221"/>
                </a:lnTo>
                <a:lnTo>
                  <a:pt x="716" y="1220"/>
                </a:lnTo>
                <a:lnTo>
                  <a:pt x="722" y="1219"/>
                </a:lnTo>
                <a:lnTo>
                  <a:pt x="730" y="1217"/>
                </a:lnTo>
                <a:lnTo>
                  <a:pt x="738" y="1213"/>
                </a:lnTo>
                <a:lnTo>
                  <a:pt x="864" y="1240"/>
                </a:lnTo>
                <a:lnTo>
                  <a:pt x="1170" y="1195"/>
                </a:lnTo>
                <a:lnTo>
                  <a:pt x="1197" y="1221"/>
                </a:lnTo>
                <a:lnTo>
                  <a:pt x="1233" y="1221"/>
                </a:lnTo>
                <a:lnTo>
                  <a:pt x="1238" y="1237"/>
                </a:lnTo>
                <a:lnTo>
                  <a:pt x="1241" y="1254"/>
                </a:lnTo>
                <a:lnTo>
                  <a:pt x="1244" y="1275"/>
                </a:lnTo>
                <a:lnTo>
                  <a:pt x="1246" y="1298"/>
                </a:lnTo>
                <a:lnTo>
                  <a:pt x="1248" y="1319"/>
                </a:lnTo>
                <a:lnTo>
                  <a:pt x="1247" y="1335"/>
                </a:lnTo>
                <a:lnTo>
                  <a:pt x="1247" y="1341"/>
                </a:lnTo>
                <a:lnTo>
                  <a:pt x="1246" y="1345"/>
                </a:lnTo>
                <a:lnTo>
                  <a:pt x="1244" y="1347"/>
                </a:lnTo>
                <a:lnTo>
                  <a:pt x="1242" y="1348"/>
                </a:lnTo>
                <a:lnTo>
                  <a:pt x="1259" y="1348"/>
                </a:lnTo>
                <a:lnTo>
                  <a:pt x="1242" y="1375"/>
                </a:lnTo>
                <a:lnTo>
                  <a:pt x="1259" y="1392"/>
                </a:lnTo>
                <a:lnTo>
                  <a:pt x="1259" y="1403"/>
                </a:lnTo>
                <a:lnTo>
                  <a:pt x="1258" y="1412"/>
                </a:lnTo>
                <a:lnTo>
                  <a:pt x="1256" y="1420"/>
                </a:lnTo>
                <a:lnTo>
                  <a:pt x="1253" y="1426"/>
                </a:lnTo>
                <a:lnTo>
                  <a:pt x="1249" y="1431"/>
                </a:lnTo>
                <a:lnTo>
                  <a:pt x="1245" y="1434"/>
                </a:lnTo>
                <a:lnTo>
                  <a:pt x="1239" y="1436"/>
                </a:lnTo>
                <a:lnTo>
                  <a:pt x="1233" y="1437"/>
                </a:lnTo>
                <a:lnTo>
                  <a:pt x="1252" y="1501"/>
                </a:lnTo>
                <a:lnTo>
                  <a:pt x="1233" y="1528"/>
                </a:lnTo>
                <a:lnTo>
                  <a:pt x="1252" y="1518"/>
                </a:lnTo>
                <a:lnTo>
                  <a:pt x="1242" y="1600"/>
                </a:lnTo>
                <a:lnTo>
                  <a:pt x="1287" y="2192"/>
                </a:lnTo>
                <a:lnTo>
                  <a:pt x="1259" y="2704"/>
                </a:lnTo>
                <a:lnTo>
                  <a:pt x="1242" y="2991"/>
                </a:lnTo>
                <a:lnTo>
                  <a:pt x="1279" y="3091"/>
                </a:lnTo>
                <a:lnTo>
                  <a:pt x="1272" y="3104"/>
                </a:lnTo>
                <a:lnTo>
                  <a:pt x="1265" y="3119"/>
                </a:lnTo>
                <a:lnTo>
                  <a:pt x="1254" y="3133"/>
                </a:lnTo>
                <a:lnTo>
                  <a:pt x="1242" y="3149"/>
                </a:lnTo>
                <a:lnTo>
                  <a:pt x="1231" y="3162"/>
                </a:lnTo>
                <a:lnTo>
                  <a:pt x="1225" y="3172"/>
                </a:lnTo>
                <a:lnTo>
                  <a:pt x="1223" y="3176"/>
                </a:lnTo>
                <a:lnTo>
                  <a:pt x="1223" y="3178"/>
                </a:lnTo>
                <a:lnTo>
                  <a:pt x="1223" y="3180"/>
                </a:lnTo>
                <a:lnTo>
                  <a:pt x="1225" y="3180"/>
                </a:lnTo>
                <a:lnTo>
                  <a:pt x="1259" y="3225"/>
                </a:lnTo>
                <a:lnTo>
                  <a:pt x="1269" y="3449"/>
                </a:lnTo>
                <a:lnTo>
                  <a:pt x="1273" y="3474"/>
                </a:lnTo>
                <a:lnTo>
                  <a:pt x="1279" y="3495"/>
                </a:lnTo>
                <a:lnTo>
                  <a:pt x="1283" y="3510"/>
                </a:lnTo>
                <a:lnTo>
                  <a:pt x="1287" y="3521"/>
                </a:lnTo>
                <a:lnTo>
                  <a:pt x="1259" y="3800"/>
                </a:lnTo>
                <a:lnTo>
                  <a:pt x="1259" y="3863"/>
                </a:lnTo>
                <a:lnTo>
                  <a:pt x="1197" y="3917"/>
                </a:lnTo>
                <a:lnTo>
                  <a:pt x="1062" y="4016"/>
                </a:lnTo>
                <a:lnTo>
                  <a:pt x="1070" y="4016"/>
                </a:lnTo>
                <a:lnTo>
                  <a:pt x="1076" y="4015"/>
                </a:lnTo>
                <a:lnTo>
                  <a:pt x="1082" y="4012"/>
                </a:lnTo>
                <a:lnTo>
                  <a:pt x="1085" y="4011"/>
                </a:lnTo>
                <a:lnTo>
                  <a:pt x="1087" y="4010"/>
                </a:lnTo>
                <a:lnTo>
                  <a:pt x="1090" y="4011"/>
                </a:lnTo>
                <a:lnTo>
                  <a:pt x="1097" y="4012"/>
                </a:lnTo>
                <a:lnTo>
                  <a:pt x="1104" y="4016"/>
                </a:lnTo>
                <a:lnTo>
                  <a:pt x="1125" y="4024"/>
                </a:lnTo>
                <a:lnTo>
                  <a:pt x="1153" y="4038"/>
                </a:lnTo>
                <a:lnTo>
                  <a:pt x="1160" y="4041"/>
                </a:lnTo>
                <a:lnTo>
                  <a:pt x="1169" y="4044"/>
                </a:lnTo>
                <a:lnTo>
                  <a:pt x="1178" y="4044"/>
                </a:lnTo>
                <a:lnTo>
                  <a:pt x="1189" y="4044"/>
                </a:lnTo>
                <a:lnTo>
                  <a:pt x="1200" y="4041"/>
                </a:lnTo>
                <a:lnTo>
                  <a:pt x="1212" y="4038"/>
                </a:lnTo>
                <a:lnTo>
                  <a:pt x="1224" y="4034"/>
                </a:lnTo>
                <a:lnTo>
                  <a:pt x="1238" y="4029"/>
                </a:lnTo>
                <a:lnTo>
                  <a:pt x="1252" y="4021"/>
                </a:lnTo>
                <a:lnTo>
                  <a:pt x="1266" y="4012"/>
                </a:lnTo>
                <a:lnTo>
                  <a:pt x="1281" y="4003"/>
                </a:lnTo>
                <a:lnTo>
                  <a:pt x="1297" y="3992"/>
                </a:lnTo>
                <a:lnTo>
                  <a:pt x="1314" y="3979"/>
                </a:lnTo>
                <a:lnTo>
                  <a:pt x="1331" y="3966"/>
                </a:lnTo>
                <a:lnTo>
                  <a:pt x="1350" y="3951"/>
                </a:lnTo>
                <a:lnTo>
                  <a:pt x="1368" y="3935"/>
                </a:lnTo>
                <a:lnTo>
                  <a:pt x="1361" y="3929"/>
                </a:lnTo>
                <a:lnTo>
                  <a:pt x="1356" y="3921"/>
                </a:lnTo>
                <a:lnTo>
                  <a:pt x="1352" y="3915"/>
                </a:lnTo>
                <a:lnTo>
                  <a:pt x="1347" y="3908"/>
                </a:lnTo>
                <a:lnTo>
                  <a:pt x="1345" y="3901"/>
                </a:lnTo>
                <a:lnTo>
                  <a:pt x="1343" y="3894"/>
                </a:lnTo>
                <a:lnTo>
                  <a:pt x="1342" y="3888"/>
                </a:lnTo>
                <a:lnTo>
                  <a:pt x="1341" y="3880"/>
                </a:lnTo>
                <a:lnTo>
                  <a:pt x="1359" y="3746"/>
                </a:lnTo>
                <a:lnTo>
                  <a:pt x="1332" y="3540"/>
                </a:lnTo>
                <a:lnTo>
                  <a:pt x="1332" y="3528"/>
                </a:lnTo>
                <a:lnTo>
                  <a:pt x="1336" y="3511"/>
                </a:lnTo>
                <a:lnTo>
                  <a:pt x="1340" y="3489"/>
                </a:lnTo>
                <a:lnTo>
                  <a:pt x="1345" y="3462"/>
                </a:lnTo>
                <a:lnTo>
                  <a:pt x="1350" y="3449"/>
                </a:lnTo>
                <a:lnTo>
                  <a:pt x="1354" y="3439"/>
                </a:lnTo>
                <a:lnTo>
                  <a:pt x="1358" y="3430"/>
                </a:lnTo>
                <a:lnTo>
                  <a:pt x="1365" y="3424"/>
                </a:lnTo>
                <a:lnTo>
                  <a:pt x="1368" y="3422"/>
                </a:lnTo>
                <a:lnTo>
                  <a:pt x="1371" y="3420"/>
                </a:lnTo>
                <a:lnTo>
                  <a:pt x="1374" y="3419"/>
                </a:lnTo>
                <a:lnTo>
                  <a:pt x="1379" y="3418"/>
                </a:lnTo>
                <a:lnTo>
                  <a:pt x="1382" y="3418"/>
                </a:lnTo>
                <a:lnTo>
                  <a:pt x="1386" y="3419"/>
                </a:lnTo>
                <a:lnTo>
                  <a:pt x="1390" y="3420"/>
                </a:lnTo>
                <a:lnTo>
                  <a:pt x="1395" y="3423"/>
                </a:lnTo>
                <a:lnTo>
                  <a:pt x="1395" y="3360"/>
                </a:lnTo>
                <a:lnTo>
                  <a:pt x="1359" y="3360"/>
                </a:lnTo>
                <a:lnTo>
                  <a:pt x="1395" y="3297"/>
                </a:lnTo>
                <a:lnTo>
                  <a:pt x="1422" y="3332"/>
                </a:lnTo>
                <a:lnTo>
                  <a:pt x="1404" y="3270"/>
                </a:lnTo>
                <a:lnTo>
                  <a:pt x="1404" y="3306"/>
                </a:lnTo>
                <a:lnTo>
                  <a:pt x="1395" y="3252"/>
                </a:lnTo>
                <a:lnTo>
                  <a:pt x="1378" y="3252"/>
                </a:lnTo>
                <a:lnTo>
                  <a:pt x="1386" y="3306"/>
                </a:lnTo>
                <a:lnTo>
                  <a:pt x="1375" y="3284"/>
                </a:lnTo>
                <a:lnTo>
                  <a:pt x="1367" y="3265"/>
                </a:lnTo>
                <a:lnTo>
                  <a:pt x="1359" y="3248"/>
                </a:lnTo>
                <a:lnTo>
                  <a:pt x="1355" y="3231"/>
                </a:lnTo>
                <a:lnTo>
                  <a:pt x="1351" y="3217"/>
                </a:lnTo>
                <a:lnTo>
                  <a:pt x="1348" y="3207"/>
                </a:lnTo>
                <a:lnTo>
                  <a:pt x="1348" y="3197"/>
                </a:lnTo>
                <a:lnTo>
                  <a:pt x="1351" y="3190"/>
                </a:lnTo>
                <a:lnTo>
                  <a:pt x="1368" y="3108"/>
                </a:lnTo>
                <a:lnTo>
                  <a:pt x="1372" y="3104"/>
                </a:lnTo>
                <a:lnTo>
                  <a:pt x="1376" y="3099"/>
                </a:lnTo>
                <a:lnTo>
                  <a:pt x="1380" y="3095"/>
                </a:lnTo>
                <a:lnTo>
                  <a:pt x="1382" y="3091"/>
                </a:lnTo>
                <a:lnTo>
                  <a:pt x="1382" y="3086"/>
                </a:lnTo>
                <a:lnTo>
                  <a:pt x="1382" y="3079"/>
                </a:lnTo>
                <a:lnTo>
                  <a:pt x="1381" y="3067"/>
                </a:lnTo>
                <a:lnTo>
                  <a:pt x="1378" y="3052"/>
                </a:lnTo>
                <a:lnTo>
                  <a:pt x="1370" y="3011"/>
                </a:lnTo>
                <a:lnTo>
                  <a:pt x="1359" y="2955"/>
                </a:lnTo>
                <a:lnTo>
                  <a:pt x="1386" y="2731"/>
                </a:lnTo>
                <a:lnTo>
                  <a:pt x="1378" y="2632"/>
                </a:lnTo>
                <a:lnTo>
                  <a:pt x="1394" y="2609"/>
                </a:lnTo>
                <a:lnTo>
                  <a:pt x="1407" y="2589"/>
                </a:lnTo>
                <a:lnTo>
                  <a:pt x="1412" y="2579"/>
                </a:lnTo>
                <a:lnTo>
                  <a:pt x="1416" y="2570"/>
                </a:lnTo>
                <a:lnTo>
                  <a:pt x="1419" y="2560"/>
                </a:lnTo>
                <a:lnTo>
                  <a:pt x="1422" y="2551"/>
                </a:lnTo>
                <a:lnTo>
                  <a:pt x="1395" y="2335"/>
                </a:lnTo>
                <a:lnTo>
                  <a:pt x="1422" y="1796"/>
                </a:lnTo>
                <a:lnTo>
                  <a:pt x="1404" y="1662"/>
                </a:lnTo>
                <a:lnTo>
                  <a:pt x="1431" y="1644"/>
                </a:lnTo>
                <a:lnTo>
                  <a:pt x="1453" y="1677"/>
                </a:lnTo>
                <a:lnTo>
                  <a:pt x="1472" y="1707"/>
                </a:lnTo>
                <a:lnTo>
                  <a:pt x="1490" y="1732"/>
                </a:lnTo>
                <a:lnTo>
                  <a:pt x="1508" y="1752"/>
                </a:lnTo>
                <a:lnTo>
                  <a:pt x="1523" y="1767"/>
                </a:lnTo>
                <a:lnTo>
                  <a:pt x="1536" y="1779"/>
                </a:lnTo>
                <a:lnTo>
                  <a:pt x="1541" y="1782"/>
                </a:lnTo>
                <a:lnTo>
                  <a:pt x="1548" y="1785"/>
                </a:lnTo>
                <a:lnTo>
                  <a:pt x="1552" y="1788"/>
                </a:lnTo>
                <a:lnTo>
                  <a:pt x="1557" y="1788"/>
                </a:lnTo>
                <a:lnTo>
                  <a:pt x="1746" y="1833"/>
                </a:lnTo>
                <a:lnTo>
                  <a:pt x="1719" y="1779"/>
                </a:lnTo>
                <a:lnTo>
                  <a:pt x="1755" y="1769"/>
                </a:lnTo>
                <a:lnTo>
                  <a:pt x="1710" y="1742"/>
                </a:lnTo>
                <a:lnTo>
                  <a:pt x="1764" y="1698"/>
                </a:lnTo>
                <a:lnTo>
                  <a:pt x="1732" y="1666"/>
                </a:lnTo>
                <a:lnTo>
                  <a:pt x="1708" y="1644"/>
                </a:lnTo>
                <a:lnTo>
                  <a:pt x="1698" y="1636"/>
                </a:lnTo>
                <a:lnTo>
                  <a:pt x="1692" y="1631"/>
                </a:lnTo>
                <a:lnTo>
                  <a:pt x="1686" y="1628"/>
                </a:lnTo>
                <a:lnTo>
                  <a:pt x="1683" y="1626"/>
                </a:lnTo>
                <a:lnTo>
                  <a:pt x="1449" y="1600"/>
                </a:lnTo>
                <a:lnTo>
                  <a:pt x="1437" y="1581"/>
                </a:lnTo>
                <a:lnTo>
                  <a:pt x="1428" y="1565"/>
                </a:lnTo>
                <a:lnTo>
                  <a:pt x="1426" y="1558"/>
                </a:lnTo>
                <a:lnTo>
                  <a:pt x="1424" y="1550"/>
                </a:lnTo>
                <a:lnTo>
                  <a:pt x="1422" y="1543"/>
                </a:lnTo>
                <a:lnTo>
                  <a:pt x="1422" y="1536"/>
                </a:lnTo>
                <a:lnTo>
                  <a:pt x="1440" y="1356"/>
                </a:lnTo>
                <a:lnTo>
                  <a:pt x="1422" y="1249"/>
                </a:lnTo>
                <a:lnTo>
                  <a:pt x="1449" y="1158"/>
                </a:lnTo>
                <a:lnTo>
                  <a:pt x="1472" y="1159"/>
                </a:lnTo>
                <a:lnTo>
                  <a:pt x="1498" y="1159"/>
                </a:lnTo>
                <a:lnTo>
                  <a:pt x="1526" y="1161"/>
                </a:lnTo>
                <a:lnTo>
                  <a:pt x="1557" y="1163"/>
                </a:lnTo>
                <a:lnTo>
                  <a:pt x="1572" y="1163"/>
                </a:lnTo>
                <a:lnTo>
                  <a:pt x="1588" y="1162"/>
                </a:lnTo>
                <a:lnTo>
                  <a:pt x="1605" y="1161"/>
                </a:lnTo>
                <a:lnTo>
                  <a:pt x="1620" y="1158"/>
                </a:lnTo>
                <a:lnTo>
                  <a:pt x="1636" y="1153"/>
                </a:lnTo>
                <a:lnTo>
                  <a:pt x="1651" y="1147"/>
                </a:lnTo>
                <a:lnTo>
                  <a:pt x="1667" y="1140"/>
                </a:lnTo>
                <a:lnTo>
                  <a:pt x="1683" y="1131"/>
                </a:lnTo>
                <a:lnTo>
                  <a:pt x="1683" y="1158"/>
                </a:lnTo>
                <a:lnTo>
                  <a:pt x="1970" y="1249"/>
                </a:lnTo>
                <a:lnTo>
                  <a:pt x="1943" y="1195"/>
                </a:lnTo>
                <a:lnTo>
                  <a:pt x="1961" y="1195"/>
                </a:lnTo>
                <a:lnTo>
                  <a:pt x="1977" y="1196"/>
                </a:lnTo>
                <a:lnTo>
                  <a:pt x="1991" y="1197"/>
                </a:lnTo>
                <a:lnTo>
                  <a:pt x="2004" y="1199"/>
                </a:lnTo>
                <a:lnTo>
                  <a:pt x="2016" y="1201"/>
                </a:lnTo>
                <a:lnTo>
                  <a:pt x="2025" y="1203"/>
                </a:lnTo>
                <a:lnTo>
                  <a:pt x="2034" y="1206"/>
                </a:lnTo>
                <a:lnTo>
                  <a:pt x="2040" y="1211"/>
                </a:lnTo>
                <a:lnTo>
                  <a:pt x="2046" y="1215"/>
                </a:lnTo>
                <a:lnTo>
                  <a:pt x="2050" y="1219"/>
                </a:lnTo>
                <a:lnTo>
                  <a:pt x="2052" y="1225"/>
                </a:lnTo>
                <a:lnTo>
                  <a:pt x="2053" y="1230"/>
                </a:lnTo>
                <a:lnTo>
                  <a:pt x="2053" y="1237"/>
                </a:lnTo>
                <a:lnTo>
                  <a:pt x="2051" y="1243"/>
                </a:lnTo>
                <a:lnTo>
                  <a:pt x="2048" y="1249"/>
                </a:lnTo>
                <a:lnTo>
                  <a:pt x="2042" y="1257"/>
                </a:lnTo>
                <a:lnTo>
                  <a:pt x="2016" y="1320"/>
                </a:lnTo>
                <a:lnTo>
                  <a:pt x="2034" y="2174"/>
                </a:lnTo>
                <a:lnTo>
                  <a:pt x="2024" y="2560"/>
                </a:lnTo>
                <a:lnTo>
                  <a:pt x="2006" y="2563"/>
                </a:lnTo>
                <a:lnTo>
                  <a:pt x="1989" y="2565"/>
                </a:lnTo>
                <a:lnTo>
                  <a:pt x="1974" y="2570"/>
                </a:lnTo>
                <a:lnTo>
                  <a:pt x="1962" y="2574"/>
                </a:lnTo>
                <a:lnTo>
                  <a:pt x="1952" y="2578"/>
                </a:lnTo>
                <a:lnTo>
                  <a:pt x="1943" y="2584"/>
                </a:lnTo>
                <a:lnTo>
                  <a:pt x="1938" y="2589"/>
                </a:lnTo>
                <a:lnTo>
                  <a:pt x="1935" y="2595"/>
                </a:lnTo>
                <a:lnTo>
                  <a:pt x="1926" y="2641"/>
                </a:lnTo>
                <a:lnTo>
                  <a:pt x="1890" y="2677"/>
                </a:lnTo>
                <a:lnTo>
                  <a:pt x="1890" y="2713"/>
                </a:lnTo>
                <a:lnTo>
                  <a:pt x="1898" y="2803"/>
                </a:lnTo>
                <a:lnTo>
                  <a:pt x="1980" y="2875"/>
                </a:lnTo>
                <a:lnTo>
                  <a:pt x="1998" y="2866"/>
                </a:lnTo>
                <a:lnTo>
                  <a:pt x="2016" y="2859"/>
                </a:lnTo>
                <a:lnTo>
                  <a:pt x="2033" y="2851"/>
                </a:lnTo>
                <a:lnTo>
                  <a:pt x="2050" y="2845"/>
                </a:lnTo>
                <a:lnTo>
                  <a:pt x="2067" y="2839"/>
                </a:lnTo>
                <a:lnTo>
                  <a:pt x="2084" y="2835"/>
                </a:lnTo>
                <a:lnTo>
                  <a:pt x="2101" y="2831"/>
                </a:lnTo>
                <a:lnTo>
                  <a:pt x="2117" y="2827"/>
                </a:lnTo>
                <a:lnTo>
                  <a:pt x="2133" y="2825"/>
                </a:lnTo>
                <a:lnTo>
                  <a:pt x="2149" y="2823"/>
                </a:lnTo>
                <a:lnTo>
                  <a:pt x="2165" y="2822"/>
                </a:lnTo>
                <a:lnTo>
                  <a:pt x="2180" y="2822"/>
                </a:lnTo>
                <a:lnTo>
                  <a:pt x="2196" y="2823"/>
                </a:lnTo>
                <a:lnTo>
                  <a:pt x="2211" y="2824"/>
                </a:lnTo>
                <a:lnTo>
                  <a:pt x="2226" y="2826"/>
                </a:lnTo>
                <a:lnTo>
                  <a:pt x="2242" y="2830"/>
                </a:lnTo>
                <a:lnTo>
                  <a:pt x="2321" y="2793"/>
                </a:lnTo>
                <a:lnTo>
                  <a:pt x="2916" y="2776"/>
                </a:lnTo>
                <a:lnTo>
                  <a:pt x="2997" y="2793"/>
                </a:lnTo>
                <a:lnTo>
                  <a:pt x="3006" y="2749"/>
                </a:lnTo>
                <a:lnTo>
                  <a:pt x="3086" y="2758"/>
                </a:lnTo>
                <a:lnTo>
                  <a:pt x="3078" y="2721"/>
                </a:lnTo>
                <a:lnTo>
                  <a:pt x="3094" y="2721"/>
                </a:lnTo>
                <a:lnTo>
                  <a:pt x="3106" y="2720"/>
                </a:lnTo>
                <a:lnTo>
                  <a:pt x="3110" y="2718"/>
                </a:lnTo>
                <a:lnTo>
                  <a:pt x="3114" y="2717"/>
                </a:lnTo>
                <a:lnTo>
                  <a:pt x="3116" y="2715"/>
                </a:lnTo>
                <a:lnTo>
                  <a:pt x="3118" y="2713"/>
                </a:lnTo>
                <a:lnTo>
                  <a:pt x="3120" y="2706"/>
                </a:lnTo>
                <a:lnTo>
                  <a:pt x="3120" y="2695"/>
                </a:lnTo>
                <a:lnTo>
                  <a:pt x="3117" y="2679"/>
                </a:lnTo>
                <a:lnTo>
                  <a:pt x="3113" y="2659"/>
                </a:lnTo>
                <a:lnTo>
                  <a:pt x="3113" y="2578"/>
                </a:lnTo>
                <a:lnTo>
                  <a:pt x="3110" y="2568"/>
                </a:lnTo>
                <a:lnTo>
                  <a:pt x="3106" y="2557"/>
                </a:lnTo>
                <a:lnTo>
                  <a:pt x="3099" y="2547"/>
                </a:lnTo>
                <a:lnTo>
                  <a:pt x="3092" y="2537"/>
                </a:lnTo>
                <a:lnTo>
                  <a:pt x="3081" y="2529"/>
                </a:lnTo>
                <a:lnTo>
                  <a:pt x="3070" y="2521"/>
                </a:lnTo>
                <a:lnTo>
                  <a:pt x="3056" y="2514"/>
                </a:lnTo>
                <a:lnTo>
                  <a:pt x="3041" y="2506"/>
                </a:lnTo>
                <a:lnTo>
                  <a:pt x="3025" y="2500"/>
                </a:lnTo>
                <a:lnTo>
                  <a:pt x="3007" y="2493"/>
                </a:lnTo>
                <a:lnTo>
                  <a:pt x="2986" y="2488"/>
                </a:lnTo>
                <a:lnTo>
                  <a:pt x="2965" y="2484"/>
                </a:lnTo>
                <a:lnTo>
                  <a:pt x="2942" y="2479"/>
                </a:lnTo>
                <a:lnTo>
                  <a:pt x="2916" y="2476"/>
                </a:lnTo>
                <a:lnTo>
                  <a:pt x="2890" y="2473"/>
                </a:lnTo>
                <a:lnTo>
                  <a:pt x="2861" y="2470"/>
                </a:lnTo>
                <a:lnTo>
                  <a:pt x="2837" y="2471"/>
                </a:lnTo>
                <a:lnTo>
                  <a:pt x="2812" y="2472"/>
                </a:lnTo>
                <a:lnTo>
                  <a:pt x="2788" y="2473"/>
                </a:lnTo>
                <a:lnTo>
                  <a:pt x="2763" y="2476"/>
                </a:lnTo>
                <a:lnTo>
                  <a:pt x="2740" y="2479"/>
                </a:lnTo>
                <a:lnTo>
                  <a:pt x="2715" y="2483"/>
                </a:lnTo>
                <a:lnTo>
                  <a:pt x="2691" y="2488"/>
                </a:lnTo>
                <a:lnTo>
                  <a:pt x="2668" y="2493"/>
                </a:lnTo>
                <a:lnTo>
                  <a:pt x="2645" y="2498"/>
                </a:lnTo>
                <a:lnTo>
                  <a:pt x="2625" y="2502"/>
                </a:lnTo>
                <a:lnTo>
                  <a:pt x="2606" y="2505"/>
                </a:lnTo>
                <a:lnTo>
                  <a:pt x="2590" y="2507"/>
                </a:lnTo>
                <a:lnTo>
                  <a:pt x="2576" y="2508"/>
                </a:lnTo>
                <a:lnTo>
                  <a:pt x="2564" y="2508"/>
                </a:lnTo>
                <a:lnTo>
                  <a:pt x="2555" y="2507"/>
                </a:lnTo>
                <a:lnTo>
                  <a:pt x="2547" y="2506"/>
                </a:lnTo>
                <a:lnTo>
                  <a:pt x="2537" y="2505"/>
                </a:lnTo>
                <a:lnTo>
                  <a:pt x="2529" y="2504"/>
                </a:lnTo>
                <a:lnTo>
                  <a:pt x="2520" y="2501"/>
                </a:lnTo>
                <a:lnTo>
                  <a:pt x="2511" y="2498"/>
                </a:lnTo>
                <a:lnTo>
                  <a:pt x="2502" y="2492"/>
                </a:lnTo>
                <a:lnTo>
                  <a:pt x="2492" y="2486"/>
                </a:lnTo>
                <a:lnTo>
                  <a:pt x="2484" y="2478"/>
                </a:lnTo>
                <a:lnTo>
                  <a:pt x="2474" y="2470"/>
                </a:lnTo>
                <a:lnTo>
                  <a:pt x="2471" y="2465"/>
                </a:lnTo>
                <a:lnTo>
                  <a:pt x="2469" y="2459"/>
                </a:lnTo>
                <a:lnTo>
                  <a:pt x="2466" y="2451"/>
                </a:lnTo>
                <a:lnTo>
                  <a:pt x="2466" y="2443"/>
                </a:lnTo>
                <a:lnTo>
                  <a:pt x="2493" y="2317"/>
                </a:lnTo>
                <a:lnTo>
                  <a:pt x="2447" y="2174"/>
                </a:lnTo>
                <a:lnTo>
                  <a:pt x="2466" y="2138"/>
                </a:lnTo>
                <a:lnTo>
                  <a:pt x="2457" y="2084"/>
                </a:lnTo>
                <a:lnTo>
                  <a:pt x="2455" y="2076"/>
                </a:lnTo>
                <a:lnTo>
                  <a:pt x="2455" y="2068"/>
                </a:lnTo>
                <a:lnTo>
                  <a:pt x="2455" y="2060"/>
                </a:lnTo>
                <a:lnTo>
                  <a:pt x="2457" y="2055"/>
                </a:lnTo>
                <a:lnTo>
                  <a:pt x="2460" y="2050"/>
                </a:lnTo>
                <a:lnTo>
                  <a:pt x="2463" y="2045"/>
                </a:lnTo>
                <a:lnTo>
                  <a:pt x="2469" y="2042"/>
                </a:lnTo>
                <a:lnTo>
                  <a:pt x="2474" y="2039"/>
                </a:lnTo>
                <a:lnTo>
                  <a:pt x="2483" y="2038"/>
                </a:lnTo>
                <a:lnTo>
                  <a:pt x="2494" y="2037"/>
                </a:lnTo>
                <a:lnTo>
                  <a:pt x="2511" y="2036"/>
                </a:lnTo>
                <a:lnTo>
                  <a:pt x="2529" y="2037"/>
                </a:lnTo>
                <a:lnTo>
                  <a:pt x="2550" y="2039"/>
                </a:lnTo>
                <a:lnTo>
                  <a:pt x="2576" y="2041"/>
                </a:lnTo>
                <a:lnTo>
                  <a:pt x="2604" y="2044"/>
                </a:lnTo>
                <a:lnTo>
                  <a:pt x="2636" y="2049"/>
                </a:lnTo>
                <a:lnTo>
                  <a:pt x="2592" y="2049"/>
                </a:lnTo>
                <a:lnTo>
                  <a:pt x="2673" y="2049"/>
                </a:lnTo>
                <a:lnTo>
                  <a:pt x="2925" y="2049"/>
                </a:lnTo>
                <a:lnTo>
                  <a:pt x="2924" y="2046"/>
                </a:lnTo>
                <a:lnTo>
                  <a:pt x="2919" y="2039"/>
                </a:lnTo>
                <a:lnTo>
                  <a:pt x="2918" y="2035"/>
                </a:lnTo>
                <a:lnTo>
                  <a:pt x="2919" y="2029"/>
                </a:lnTo>
                <a:lnTo>
                  <a:pt x="2922" y="2023"/>
                </a:lnTo>
                <a:lnTo>
                  <a:pt x="2925" y="2017"/>
                </a:lnTo>
                <a:lnTo>
                  <a:pt x="2927" y="2014"/>
                </a:lnTo>
                <a:lnTo>
                  <a:pt x="2932" y="2012"/>
                </a:lnTo>
                <a:lnTo>
                  <a:pt x="2938" y="2011"/>
                </a:lnTo>
                <a:lnTo>
                  <a:pt x="2945" y="2011"/>
                </a:lnTo>
                <a:lnTo>
                  <a:pt x="2954" y="2012"/>
                </a:lnTo>
                <a:lnTo>
                  <a:pt x="2964" y="2014"/>
                </a:lnTo>
                <a:lnTo>
                  <a:pt x="2974" y="2017"/>
                </a:lnTo>
                <a:lnTo>
                  <a:pt x="2987" y="2021"/>
                </a:lnTo>
                <a:lnTo>
                  <a:pt x="2979" y="1977"/>
                </a:lnTo>
                <a:lnTo>
                  <a:pt x="3006" y="1971"/>
                </a:lnTo>
                <a:lnTo>
                  <a:pt x="3024" y="1967"/>
                </a:lnTo>
                <a:lnTo>
                  <a:pt x="3029" y="1965"/>
                </a:lnTo>
                <a:lnTo>
                  <a:pt x="3032" y="1963"/>
                </a:lnTo>
                <a:lnTo>
                  <a:pt x="3033" y="1962"/>
                </a:lnTo>
                <a:lnTo>
                  <a:pt x="3033" y="1961"/>
                </a:lnTo>
                <a:lnTo>
                  <a:pt x="3033" y="1959"/>
                </a:lnTo>
                <a:lnTo>
                  <a:pt x="3032" y="1958"/>
                </a:lnTo>
                <a:lnTo>
                  <a:pt x="2987" y="1923"/>
                </a:lnTo>
                <a:lnTo>
                  <a:pt x="3015" y="1913"/>
                </a:lnTo>
                <a:lnTo>
                  <a:pt x="3006" y="1878"/>
                </a:lnTo>
                <a:lnTo>
                  <a:pt x="2960" y="1851"/>
                </a:lnTo>
                <a:lnTo>
                  <a:pt x="2997" y="1833"/>
                </a:lnTo>
                <a:lnTo>
                  <a:pt x="2898" y="1769"/>
                </a:lnTo>
                <a:lnTo>
                  <a:pt x="2440" y="1796"/>
                </a:lnTo>
                <a:lnTo>
                  <a:pt x="2441" y="1774"/>
                </a:lnTo>
                <a:lnTo>
                  <a:pt x="2443" y="1751"/>
                </a:lnTo>
                <a:lnTo>
                  <a:pt x="2444" y="1727"/>
                </a:lnTo>
                <a:lnTo>
                  <a:pt x="2444" y="1704"/>
                </a:lnTo>
                <a:lnTo>
                  <a:pt x="2445" y="1680"/>
                </a:lnTo>
                <a:lnTo>
                  <a:pt x="2445" y="1657"/>
                </a:lnTo>
                <a:lnTo>
                  <a:pt x="2444" y="1632"/>
                </a:lnTo>
                <a:lnTo>
                  <a:pt x="2443" y="1607"/>
                </a:lnTo>
                <a:lnTo>
                  <a:pt x="2443" y="1585"/>
                </a:lnTo>
                <a:lnTo>
                  <a:pt x="2443" y="1563"/>
                </a:lnTo>
                <a:lnTo>
                  <a:pt x="2444" y="1545"/>
                </a:lnTo>
                <a:lnTo>
                  <a:pt x="2446" y="1528"/>
                </a:lnTo>
                <a:lnTo>
                  <a:pt x="2450" y="1515"/>
                </a:lnTo>
                <a:lnTo>
                  <a:pt x="2455" y="1503"/>
                </a:lnTo>
                <a:lnTo>
                  <a:pt x="2457" y="1498"/>
                </a:lnTo>
                <a:lnTo>
                  <a:pt x="2460" y="1493"/>
                </a:lnTo>
                <a:lnTo>
                  <a:pt x="2463" y="1490"/>
                </a:lnTo>
                <a:lnTo>
                  <a:pt x="2466" y="1487"/>
                </a:lnTo>
                <a:lnTo>
                  <a:pt x="2474" y="1481"/>
                </a:lnTo>
                <a:lnTo>
                  <a:pt x="2483" y="1476"/>
                </a:lnTo>
                <a:lnTo>
                  <a:pt x="2493" y="1472"/>
                </a:lnTo>
                <a:lnTo>
                  <a:pt x="2506" y="1467"/>
                </a:lnTo>
                <a:lnTo>
                  <a:pt x="2520" y="1464"/>
                </a:lnTo>
                <a:lnTo>
                  <a:pt x="2536" y="1461"/>
                </a:lnTo>
                <a:lnTo>
                  <a:pt x="2555" y="1458"/>
                </a:lnTo>
                <a:lnTo>
                  <a:pt x="2574" y="1455"/>
                </a:lnTo>
                <a:lnTo>
                  <a:pt x="2781" y="1474"/>
                </a:lnTo>
                <a:lnTo>
                  <a:pt x="2987" y="1491"/>
                </a:lnTo>
                <a:lnTo>
                  <a:pt x="2952" y="1455"/>
                </a:lnTo>
                <a:lnTo>
                  <a:pt x="2954" y="1457"/>
                </a:lnTo>
                <a:lnTo>
                  <a:pt x="2957" y="1459"/>
                </a:lnTo>
                <a:lnTo>
                  <a:pt x="2960" y="1460"/>
                </a:lnTo>
                <a:lnTo>
                  <a:pt x="2965" y="1461"/>
                </a:lnTo>
                <a:lnTo>
                  <a:pt x="2973" y="1461"/>
                </a:lnTo>
                <a:lnTo>
                  <a:pt x="2984" y="1460"/>
                </a:lnTo>
                <a:lnTo>
                  <a:pt x="2994" y="1457"/>
                </a:lnTo>
                <a:lnTo>
                  <a:pt x="3000" y="1454"/>
                </a:lnTo>
                <a:lnTo>
                  <a:pt x="3002" y="1452"/>
                </a:lnTo>
                <a:lnTo>
                  <a:pt x="3004" y="1450"/>
                </a:lnTo>
                <a:lnTo>
                  <a:pt x="3006" y="1448"/>
                </a:lnTo>
                <a:lnTo>
                  <a:pt x="3006" y="1446"/>
                </a:lnTo>
                <a:lnTo>
                  <a:pt x="2970" y="1383"/>
                </a:lnTo>
                <a:lnTo>
                  <a:pt x="3006" y="1339"/>
                </a:lnTo>
                <a:lnTo>
                  <a:pt x="2970" y="1320"/>
                </a:lnTo>
                <a:lnTo>
                  <a:pt x="2970" y="1302"/>
                </a:lnTo>
                <a:lnTo>
                  <a:pt x="2950" y="1292"/>
                </a:lnTo>
                <a:lnTo>
                  <a:pt x="2928" y="1282"/>
                </a:lnTo>
                <a:lnTo>
                  <a:pt x="2905" y="1273"/>
                </a:lnTo>
                <a:lnTo>
                  <a:pt x="2881" y="1266"/>
                </a:lnTo>
                <a:lnTo>
                  <a:pt x="2855" y="1259"/>
                </a:lnTo>
                <a:lnTo>
                  <a:pt x="2827" y="1253"/>
                </a:lnTo>
                <a:lnTo>
                  <a:pt x="2798" y="1248"/>
                </a:lnTo>
                <a:lnTo>
                  <a:pt x="2767" y="1244"/>
                </a:lnTo>
                <a:lnTo>
                  <a:pt x="2734" y="1241"/>
                </a:lnTo>
                <a:lnTo>
                  <a:pt x="2701" y="1240"/>
                </a:lnTo>
                <a:lnTo>
                  <a:pt x="2665" y="1239"/>
                </a:lnTo>
                <a:lnTo>
                  <a:pt x="2629" y="1239"/>
                </a:lnTo>
                <a:lnTo>
                  <a:pt x="2590" y="1240"/>
                </a:lnTo>
                <a:lnTo>
                  <a:pt x="2550" y="1242"/>
                </a:lnTo>
                <a:lnTo>
                  <a:pt x="2509" y="1245"/>
                </a:lnTo>
                <a:lnTo>
                  <a:pt x="2466" y="1249"/>
                </a:lnTo>
                <a:lnTo>
                  <a:pt x="2502" y="764"/>
                </a:lnTo>
                <a:lnTo>
                  <a:pt x="2502" y="760"/>
                </a:lnTo>
                <a:lnTo>
                  <a:pt x="2501" y="747"/>
                </a:lnTo>
                <a:lnTo>
                  <a:pt x="2500" y="726"/>
                </a:lnTo>
                <a:lnTo>
                  <a:pt x="2498" y="696"/>
                </a:lnTo>
                <a:lnTo>
                  <a:pt x="2497" y="688"/>
                </a:lnTo>
                <a:lnTo>
                  <a:pt x="2493" y="678"/>
                </a:lnTo>
                <a:lnTo>
                  <a:pt x="2489" y="668"/>
                </a:lnTo>
                <a:lnTo>
                  <a:pt x="2484" y="659"/>
                </a:lnTo>
                <a:lnTo>
                  <a:pt x="2476" y="648"/>
                </a:lnTo>
                <a:lnTo>
                  <a:pt x="2469" y="637"/>
                </a:lnTo>
                <a:lnTo>
                  <a:pt x="2458" y="626"/>
                </a:lnTo>
                <a:lnTo>
                  <a:pt x="2447" y="615"/>
                </a:lnTo>
                <a:lnTo>
                  <a:pt x="2434" y="602"/>
                </a:lnTo>
                <a:lnTo>
                  <a:pt x="2420" y="589"/>
                </a:lnTo>
                <a:lnTo>
                  <a:pt x="2404" y="576"/>
                </a:lnTo>
                <a:lnTo>
                  <a:pt x="2387" y="562"/>
                </a:lnTo>
                <a:lnTo>
                  <a:pt x="2348" y="534"/>
                </a:lnTo>
                <a:lnTo>
                  <a:pt x="2304" y="503"/>
                </a:lnTo>
                <a:lnTo>
                  <a:pt x="2133" y="593"/>
                </a:lnTo>
                <a:lnTo>
                  <a:pt x="2151" y="628"/>
                </a:lnTo>
                <a:lnTo>
                  <a:pt x="2136" y="635"/>
                </a:lnTo>
                <a:lnTo>
                  <a:pt x="2123" y="641"/>
                </a:lnTo>
                <a:lnTo>
                  <a:pt x="2112" y="648"/>
                </a:lnTo>
                <a:lnTo>
                  <a:pt x="2104" y="653"/>
                </a:lnTo>
                <a:lnTo>
                  <a:pt x="2097" y="659"/>
                </a:lnTo>
                <a:lnTo>
                  <a:pt x="2092" y="664"/>
                </a:lnTo>
                <a:lnTo>
                  <a:pt x="2089" y="669"/>
                </a:lnTo>
                <a:lnTo>
                  <a:pt x="2089" y="674"/>
                </a:lnTo>
                <a:lnTo>
                  <a:pt x="2089" y="727"/>
                </a:lnTo>
                <a:lnTo>
                  <a:pt x="2069" y="799"/>
                </a:lnTo>
                <a:lnTo>
                  <a:pt x="2016" y="764"/>
                </a:lnTo>
                <a:lnTo>
                  <a:pt x="1999" y="747"/>
                </a:lnTo>
                <a:lnTo>
                  <a:pt x="1984" y="734"/>
                </a:lnTo>
                <a:lnTo>
                  <a:pt x="1971" y="722"/>
                </a:lnTo>
                <a:lnTo>
                  <a:pt x="1962" y="713"/>
                </a:lnTo>
                <a:lnTo>
                  <a:pt x="1947" y="706"/>
                </a:lnTo>
                <a:lnTo>
                  <a:pt x="1921" y="695"/>
                </a:lnTo>
                <a:lnTo>
                  <a:pt x="1884" y="681"/>
                </a:lnTo>
                <a:lnTo>
                  <a:pt x="1836" y="665"/>
                </a:lnTo>
                <a:lnTo>
                  <a:pt x="1701" y="628"/>
                </a:lnTo>
                <a:lnTo>
                  <a:pt x="1648" y="624"/>
                </a:lnTo>
                <a:lnTo>
                  <a:pt x="1601" y="620"/>
                </a:lnTo>
                <a:lnTo>
                  <a:pt x="1562" y="616"/>
                </a:lnTo>
                <a:lnTo>
                  <a:pt x="1529" y="610"/>
                </a:lnTo>
                <a:lnTo>
                  <a:pt x="1502" y="606"/>
                </a:lnTo>
                <a:lnTo>
                  <a:pt x="1483" y="602"/>
                </a:lnTo>
                <a:lnTo>
                  <a:pt x="1475" y="599"/>
                </a:lnTo>
                <a:lnTo>
                  <a:pt x="1469" y="597"/>
                </a:lnTo>
                <a:lnTo>
                  <a:pt x="1465" y="595"/>
                </a:lnTo>
                <a:lnTo>
                  <a:pt x="1463" y="593"/>
                </a:lnTo>
                <a:lnTo>
                  <a:pt x="1459" y="588"/>
                </a:lnTo>
                <a:lnTo>
                  <a:pt x="1456" y="580"/>
                </a:lnTo>
                <a:lnTo>
                  <a:pt x="1454" y="572"/>
                </a:lnTo>
                <a:lnTo>
                  <a:pt x="1452" y="562"/>
                </a:lnTo>
                <a:lnTo>
                  <a:pt x="1450" y="535"/>
                </a:lnTo>
                <a:lnTo>
                  <a:pt x="1449" y="503"/>
                </a:lnTo>
                <a:lnTo>
                  <a:pt x="1449" y="315"/>
                </a:lnTo>
                <a:lnTo>
                  <a:pt x="1431" y="189"/>
                </a:lnTo>
                <a:lnTo>
                  <a:pt x="1449" y="90"/>
                </a:lnTo>
                <a:lnTo>
                  <a:pt x="1436" y="69"/>
                </a:lnTo>
                <a:lnTo>
                  <a:pt x="1424" y="52"/>
                </a:lnTo>
                <a:lnTo>
                  <a:pt x="1413" y="38"/>
                </a:lnTo>
                <a:lnTo>
                  <a:pt x="1404" y="27"/>
                </a:lnTo>
                <a:lnTo>
                  <a:pt x="1396" y="19"/>
                </a:lnTo>
                <a:lnTo>
                  <a:pt x="1388" y="16"/>
                </a:lnTo>
                <a:lnTo>
                  <a:pt x="1385" y="15"/>
                </a:lnTo>
                <a:lnTo>
                  <a:pt x="1382" y="15"/>
                </a:lnTo>
                <a:lnTo>
                  <a:pt x="1380" y="16"/>
                </a:lnTo>
                <a:lnTo>
                  <a:pt x="1378" y="18"/>
                </a:lnTo>
                <a:lnTo>
                  <a:pt x="1341" y="45"/>
                </a:lnTo>
                <a:lnTo>
                  <a:pt x="1269" y="0"/>
                </a:lnTo>
                <a:lnTo>
                  <a:pt x="1279" y="45"/>
                </a:lnTo>
                <a:lnTo>
                  <a:pt x="1233" y="37"/>
                </a:lnTo>
                <a:lnTo>
                  <a:pt x="1229" y="85"/>
                </a:lnTo>
                <a:lnTo>
                  <a:pt x="1226" y="128"/>
                </a:lnTo>
                <a:lnTo>
                  <a:pt x="1224" y="165"/>
                </a:lnTo>
                <a:lnTo>
                  <a:pt x="1221" y="198"/>
                </a:lnTo>
                <a:lnTo>
                  <a:pt x="1221" y="223"/>
                </a:lnTo>
                <a:lnTo>
                  <a:pt x="1221" y="245"/>
                </a:lnTo>
                <a:lnTo>
                  <a:pt x="1223" y="260"/>
                </a:lnTo>
                <a:lnTo>
                  <a:pt x="1225" y="270"/>
                </a:lnTo>
                <a:lnTo>
                  <a:pt x="1252" y="602"/>
                </a:lnTo>
                <a:lnTo>
                  <a:pt x="1200" y="603"/>
                </a:lnTo>
                <a:lnTo>
                  <a:pt x="1153" y="603"/>
                </a:lnTo>
                <a:lnTo>
                  <a:pt x="1111" y="605"/>
                </a:lnTo>
                <a:lnTo>
                  <a:pt x="1073" y="606"/>
                </a:lnTo>
                <a:lnTo>
                  <a:pt x="1041" y="609"/>
                </a:lnTo>
                <a:lnTo>
                  <a:pt x="1013" y="612"/>
                </a:lnTo>
                <a:lnTo>
                  <a:pt x="990" y="616"/>
                </a:lnTo>
                <a:lnTo>
                  <a:pt x="972" y="620"/>
                </a:lnTo>
                <a:lnTo>
                  <a:pt x="873" y="647"/>
                </a:lnTo>
                <a:lnTo>
                  <a:pt x="851" y="651"/>
                </a:lnTo>
                <a:lnTo>
                  <a:pt x="832" y="656"/>
                </a:lnTo>
                <a:lnTo>
                  <a:pt x="815" y="662"/>
                </a:lnTo>
                <a:lnTo>
                  <a:pt x="799" y="667"/>
                </a:lnTo>
                <a:lnTo>
                  <a:pt x="786" y="673"/>
                </a:lnTo>
                <a:lnTo>
                  <a:pt x="774" y="679"/>
                </a:lnTo>
                <a:lnTo>
                  <a:pt x="764" y="685"/>
                </a:lnTo>
                <a:lnTo>
                  <a:pt x="756" y="692"/>
                </a:lnTo>
                <a:lnTo>
                  <a:pt x="747" y="690"/>
                </a:lnTo>
                <a:lnTo>
                  <a:pt x="738" y="690"/>
                </a:lnTo>
                <a:lnTo>
                  <a:pt x="729" y="690"/>
                </a:lnTo>
                <a:lnTo>
                  <a:pt x="720" y="692"/>
                </a:lnTo>
                <a:lnTo>
                  <a:pt x="711" y="694"/>
                </a:lnTo>
                <a:lnTo>
                  <a:pt x="702" y="698"/>
                </a:lnTo>
                <a:lnTo>
                  <a:pt x="693" y="704"/>
                </a:lnTo>
                <a:lnTo>
                  <a:pt x="683" y="709"/>
                </a:lnTo>
                <a:lnTo>
                  <a:pt x="639" y="719"/>
                </a:lnTo>
                <a:lnTo>
                  <a:pt x="594" y="764"/>
                </a:lnTo>
                <a:lnTo>
                  <a:pt x="576" y="781"/>
                </a:lnTo>
                <a:lnTo>
                  <a:pt x="603" y="871"/>
                </a:lnTo>
                <a:lnTo>
                  <a:pt x="585" y="916"/>
                </a:lnTo>
                <a:lnTo>
                  <a:pt x="558" y="925"/>
                </a:lnTo>
                <a:lnTo>
                  <a:pt x="554" y="930"/>
                </a:lnTo>
                <a:lnTo>
                  <a:pt x="552" y="935"/>
                </a:lnTo>
                <a:lnTo>
                  <a:pt x="552" y="939"/>
                </a:lnTo>
                <a:lnTo>
                  <a:pt x="553" y="943"/>
                </a:lnTo>
                <a:lnTo>
                  <a:pt x="555" y="949"/>
                </a:lnTo>
                <a:lnTo>
                  <a:pt x="555" y="954"/>
                </a:lnTo>
                <a:lnTo>
                  <a:pt x="555" y="961"/>
                </a:lnTo>
                <a:lnTo>
                  <a:pt x="553" y="970"/>
                </a:lnTo>
                <a:lnTo>
                  <a:pt x="552" y="979"/>
                </a:lnTo>
                <a:lnTo>
                  <a:pt x="552" y="986"/>
                </a:lnTo>
                <a:lnTo>
                  <a:pt x="554" y="992"/>
                </a:lnTo>
                <a:lnTo>
                  <a:pt x="558" y="997"/>
                </a:lnTo>
                <a:lnTo>
                  <a:pt x="559" y="1013"/>
                </a:lnTo>
                <a:lnTo>
                  <a:pt x="562" y="1028"/>
                </a:lnTo>
                <a:lnTo>
                  <a:pt x="567" y="1044"/>
                </a:lnTo>
                <a:lnTo>
                  <a:pt x="574" y="1061"/>
                </a:lnTo>
                <a:lnTo>
                  <a:pt x="582" y="1078"/>
                </a:lnTo>
                <a:lnTo>
                  <a:pt x="593" y="1094"/>
                </a:lnTo>
                <a:lnTo>
                  <a:pt x="606" y="1111"/>
                </a:lnTo>
                <a:lnTo>
                  <a:pt x="621" y="1127"/>
                </a:lnTo>
                <a:lnTo>
                  <a:pt x="648" y="1157"/>
                </a:lnTo>
                <a:lnTo>
                  <a:pt x="666" y="1177"/>
                </a:lnTo>
                <a:lnTo>
                  <a:pt x="672" y="1185"/>
                </a:lnTo>
                <a:lnTo>
                  <a:pt x="675" y="1190"/>
                </a:lnTo>
                <a:lnTo>
                  <a:pt x="676" y="1194"/>
                </a:lnTo>
                <a:lnTo>
                  <a:pt x="675" y="1195"/>
                </a:lnTo>
                <a:lnTo>
                  <a:pt x="693" y="1186"/>
                </a:lnTo>
                <a:close/>
                <a:moveTo>
                  <a:pt x="3203" y="727"/>
                </a:moveTo>
                <a:lnTo>
                  <a:pt x="3194" y="747"/>
                </a:lnTo>
                <a:lnTo>
                  <a:pt x="3184" y="765"/>
                </a:lnTo>
                <a:lnTo>
                  <a:pt x="3177" y="782"/>
                </a:lnTo>
                <a:lnTo>
                  <a:pt x="3170" y="797"/>
                </a:lnTo>
                <a:lnTo>
                  <a:pt x="3165" y="811"/>
                </a:lnTo>
                <a:lnTo>
                  <a:pt x="3162" y="824"/>
                </a:lnTo>
                <a:lnTo>
                  <a:pt x="3159" y="835"/>
                </a:lnTo>
                <a:lnTo>
                  <a:pt x="3158" y="844"/>
                </a:lnTo>
                <a:lnTo>
                  <a:pt x="3168" y="1186"/>
                </a:lnTo>
                <a:lnTo>
                  <a:pt x="3141" y="1267"/>
                </a:lnTo>
                <a:lnTo>
                  <a:pt x="3158" y="1383"/>
                </a:lnTo>
                <a:lnTo>
                  <a:pt x="3168" y="2102"/>
                </a:lnTo>
                <a:lnTo>
                  <a:pt x="3150" y="2515"/>
                </a:lnTo>
                <a:lnTo>
                  <a:pt x="3168" y="2704"/>
                </a:lnTo>
                <a:lnTo>
                  <a:pt x="3168" y="2803"/>
                </a:lnTo>
                <a:lnTo>
                  <a:pt x="3168" y="2831"/>
                </a:lnTo>
                <a:lnTo>
                  <a:pt x="3168" y="2852"/>
                </a:lnTo>
                <a:lnTo>
                  <a:pt x="3168" y="2867"/>
                </a:lnTo>
                <a:lnTo>
                  <a:pt x="3168" y="2875"/>
                </a:lnTo>
                <a:lnTo>
                  <a:pt x="3165" y="2884"/>
                </a:lnTo>
                <a:lnTo>
                  <a:pt x="3159" y="2894"/>
                </a:lnTo>
                <a:lnTo>
                  <a:pt x="3152" y="2905"/>
                </a:lnTo>
                <a:lnTo>
                  <a:pt x="3143" y="2916"/>
                </a:lnTo>
                <a:lnTo>
                  <a:pt x="3131" y="2927"/>
                </a:lnTo>
                <a:lnTo>
                  <a:pt x="3118" y="2940"/>
                </a:lnTo>
                <a:lnTo>
                  <a:pt x="3103" y="2953"/>
                </a:lnTo>
                <a:lnTo>
                  <a:pt x="3086" y="2967"/>
                </a:lnTo>
                <a:lnTo>
                  <a:pt x="3068" y="2981"/>
                </a:lnTo>
                <a:lnTo>
                  <a:pt x="3046" y="2996"/>
                </a:lnTo>
                <a:lnTo>
                  <a:pt x="3024" y="3011"/>
                </a:lnTo>
                <a:lnTo>
                  <a:pt x="2999" y="3028"/>
                </a:lnTo>
                <a:lnTo>
                  <a:pt x="2943" y="3063"/>
                </a:lnTo>
                <a:lnTo>
                  <a:pt x="2880" y="3099"/>
                </a:lnTo>
                <a:lnTo>
                  <a:pt x="2933" y="3091"/>
                </a:lnTo>
                <a:lnTo>
                  <a:pt x="2925" y="3126"/>
                </a:lnTo>
                <a:lnTo>
                  <a:pt x="2937" y="3119"/>
                </a:lnTo>
                <a:lnTo>
                  <a:pt x="2947" y="3112"/>
                </a:lnTo>
                <a:lnTo>
                  <a:pt x="2955" y="3109"/>
                </a:lnTo>
                <a:lnTo>
                  <a:pt x="2960" y="3108"/>
                </a:lnTo>
                <a:lnTo>
                  <a:pt x="2997" y="3126"/>
                </a:lnTo>
                <a:lnTo>
                  <a:pt x="3006" y="3106"/>
                </a:lnTo>
                <a:lnTo>
                  <a:pt x="3015" y="3091"/>
                </a:lnTo>
                <a:lnTo>
                  <a:pt x="3019" y="3084"/>
                </a:lnTo>
                <a:lnTo>
                  <a:pt x="3024" y="3079"/>
                </a:lnTo>
                <a:lnTo>
                  <a:pt x="3028" y="3076"/>
                </a:lnTo>
                <a:lnTo>
                  <a:pt x="3032" y="3072"/>
                </a:lnTo>
                <a:lnTo>
                  <a:pt x="3158" y="3126"/>
                </a:lnTo>
                <a:lnTo>
                  <a:pt x="3174" y="3124"/>
                </a:lnTo>
                <a:lnTo>
                  <a:pt x="3188" y="3120"/>
                </a:lnTo>
                <a:lnTo>
                  <a:pt x="3201" y="3116"/>
                </a:lnTo>
                <a:lnTo>
                  <a:pt x="3214" y="3111"/>
                </a:lnTo>
                <a:lnTo>
                  <a:pt x="3225" y="3106"/>
                </a:lnTo>
                <a:lnTo>
                  <a:pt x="3236" y="3099"/>
                </a:lnTo>
                <a:lnTo>
                  <a:pt x="3244" y="3093"/>
                </a:lnTo>
                <a:lnTo>
                  <a:pt x="3253" y="3085"/>
                </a:lnTo>
                <a:lnTo>
                  <a:pt x="3257" y="3081"/>
                </a:lnTo>
                <a:lnTo>
                  <a:pt x="3261" y="3076"/>
                </a:lnTo>
                <a:lnTo>
                  <a:pt x="3264" y="3068"/>
                </a:lnTo>
                <a:lnTo>
                  <a:pt x="3267" y="3061"/>
                </a:lnTo>
                <a:lnTo>
                  <a:pt x="3272" y="3040"/>
                </a:lnTo>
                <a:lnTo>
                  <a:pt x="3277" y="3015"/>
                </a:lnTo>
                <a:lnTo>
                  <a:pt x="3280" y="2985"/>
                </a:lnTo>
                <a:lnTo>
                  <a:pt x="3283" y="2950"/>
                </a:lnTo>
                <a:lnTo>
                  <a:pt x="3284" y="2910"/>
                </a:lnTo>
                <a:lnTo>
                  <a:pt x="3284" y="2865"/>
                </a:lnTo>
                <a:lnTo>
                  <a:pt x="3294" y="2731"/>
                </a:lnTo>
                <a:lnTo>
                  <a:pt x="3249" y="2542"/>
                </a:lnTo>
                <a:lnTo>
                  <a:pt x="3276" y="2389"/>
                </a:lnTo>
                <a:lnTo>
                  <a:pt x="3267" y="2255"/>
                </a:lnTo>
                <a:lnTo>
                  <a:pt x="3257" y="1518"/>
                </a:lnTo>
                <a:lnTo>
                  <a:pt x="3294" y="1015"/>
                </a:lnTo>
                <a:lnTo>
                  <a:pt x="3294" y="898"/>
                </a:lnTo>
                <a:lnTo>
                  <a:pt x="3338" y="836"/>
                </a:lnTo>
                <a:lnTo>
                  <a:pt x="3341" y="825"/>
                </a:lnTo>
                <a:lnTo>
                  <a:pt x="3346" y="815"/>
                </a:lnTo>
                <a:lnTo>
                  <a:pt x="3351" y="808"/>
                </a:lnTo>
                <a:lnTo>
                  <a:pt x="3356" y="801"/>
                </a:lnTo>
                <a:lnTo>
                  <a:pt x="3364" y="797"/>
                </a:lnTo>
                <a:lnTo>
                  <a:pt x="3372" y="793"/>
                </a:lnTo>
                <a:lnTo>
                  <a:pt x="3382" y="791"/>
                </a:lnTo>
                <a:lnTo>
                  <a:pt x="3393" y="791"/>
                </a:lnTo>
                <a:lnTo>
                  <a:pt x="3474" y="791"/>
                </a:lnTo>
                <a:lnTo>
                  <a:pt x="3536" y="818"/>
                </a:lnTo>
                <a:lnTo>
                  <a:pt x="3509" y="791"/>
                </a:lnTo>
                <a:lnTo>
                  <a:pt x="3582" y="746"/>
                </a:lnTo>
                <a:lnTo>
                  <a:pt x="3576" y="743"/>
                </a:lnTo>
                <a:lnTo>
                  <a:pt x="3569" y="740"/>
                </a:lnTo>
                <a:lnTo>
                  <a:pt x="3565" y="738"/>
                </a:lnTo>
                <a:lnTo>
                  <a:pt x="3562" y="735"/>
                </a:lnTo>
                <a:lnTo>
                  <a:pt x="3559" y="731"/>
                </a:lnTo>
                <a:lnTo>
                  <a:pt x="3556" y="727"/>
                </a:lnTo>
                <a:lnTo>
                  <a:pt x="3555" y="723"/>
                </a:lnTo>
                <a:lnTo>
                  <a:pt x="3555" y="719"/>
                </a:lnTo>
                <a:lnTo>
                  <a:pt x="3555" y="647"/>
                </a:lnTo>
                <a:lnTo>
                  <a:pt x="3546" y="620"/>
                </a:lnTo>
                <a:lnTo>
                  <a:pt x="3532" y="609"/>
                </a:lnTo>
                <a:lnTo>
                  <a:pt x="3518" y="598"/>
                </a:lnTo>
                <a:lnTo>
                  <a:pt x="3504" y="589"/>
                </a:lnTo>
                <a:lnTo>
                  <a:pt x="3489" y="579"/>
                </a:lnTo>
                <a:lnTo>
                  <a:pt x="3472" y="570"/>
                </a:lnTo>
                <a:lnTo>
                  <a:pt x="3457" y="563"/>
                </a:lnTo>
                <a:lnTo>
                  <a:pt x="3441" y="555"/>
                </a:lnTo>
                <a:lnTo>
                  <a:pt x="3424" y="548"/>
                </a:lnTo>
                <a:lnTo>
                  <a:pt x="3414" y="545"/>
                </a:lnTo>
                <a:lnTo>
                  <a:pt x="3400" y="541"/>
                </a:lnTo>
                <a:lnTo>
                  <a:pt x="3383" y="539"/>
                </a:lnTo>
                <a:lnTo>
                  <a:pt x="3363" y="537"/>
                </a:lnTo>
                <a:lnTo>
                  <a:pt x="3312" y="533"/>
                </a:lnTo>
                <a:lnTo>
                  <a:pt x="3248" y="530"/>
                </a:lnTo>
                <a:lnTo>
                  <a:pt x="3169" y="529"/>
                </a:lnTo>
                <a:lnTo>
                  <a:pt x="3078" y="527"/>
                </a:lnTo>
                <a:lnTo>
                  <a:pt x="2972" y="529"/>
                </a:lnTo>
                <a:lnTo>
                  <a:pt x="2853" y="530"/>
                </a:lnTo>
                <a:lnTo>
                  <a:pt x="2829" y="533"/>
                </a:lnTo>
                <a:lnTo>
                  <a:pt x="2805" y="536"/>
                </a:lnTo>
                <a:lnTo>
                  <a:pt x="2783" y="540"/>
                </a:lnTo>
                <a:lnTo>
                  <a:pt x="2761" y="545"/>
                </a:lnTo>
                <a:lnTo>
                  <a:pt x="2741" y="550"/>
                </a:lnTo>
                <a:lnTo>
                  <a:pt x="2721" y="556"/>
                </a:lnTo>
                <a:lnTo>
                  <a:pt x="2703" y="563"/>
                </a:lnTo>
                <a:lnTo>
                  <a:pt x="2686" y="570"/>
                </a:lnTo>
                <a:lnTo>
                  <a:pt x="2671" y="578"/>
                </a:lnTo>
                <a:lnTo>
                  <a:pt x="2657" y="587"/>
                </a:lnTo>
                <a:lnTo>
                  <a:pt x="2646" y="594"/>
                </a:lnTo>
                <a:lnTo>
                  <a:pt x="2636" y="603"/>
                </a:lnTo>
                <a:lnTo>
                  <a:pt x="2630" y="611"/>
                </a:lnTo>
                <a:lnTo>
                  <a:pt x="2626" y="620"/>
                </a:lnTo>
                <a:lnTo>
                  <a:pt x="2625" y="624"/>
                </a:lnTo>
                <a:lnTo>
                  <a:pt x="2624" y="628"/>
                </a:lnTo>
                <a:lnTo>
                  <a:pt x="2624" y="634"/>
                </a:lnTo>
                <a:lnTo>
                  <a:pt x="2624" y="638"/>
                </a:lnTo>
                <a:lnTo>
                  <a:pt x="2626" y="647"/>
                </a:lnTo>
                <a:lnTo>
                  <a:pt x="2629" y="656"/>
                </a:lnTo>
                <a:lnTo>
                  <a:pt x="2633" y="665"/>
                </a:lnTo>
                <a:lnTo>
                  <a:pt x="2639" y="675"/>
                </a:lnTo>
                <a:lnTo>
                  <a:pt x="2646" y="684"/>
                </a:lnTo>
                <a:lnTo>
                  <a:pt x="2656" y="694"/>
                </a:lnTo>
                <a:lnTo>
                  <a:pt x="2665" y="704"/>
                </a:lnTo>
                <a:lnTo>
                  <a:pt x="2677" y="713"/>
                </a:lnTo>
                <a:lnTo>
                  <a:pt x="2690" y="723"/>
                </a:lnTo>
                <a:lnTo>
                  <a:pt x="2704" y="732"/>
                </a:lnTo>
                <a:lnTo>
                  <a:pt x="2720" y="738"/>
                </a:lnTo>
                <a:lnTo>
                  <a:pt x="2737" y="742"/>
                </a:lnTo>
                <a:lnTo>
                  <a:pt x="2755" y="746"/>
                </a:lnTo>
                <a:lnTo>
                  <a:pt x="2774" y="747"/>
                </a:lnTo>
                <a:lnTo>
                  <a:pt x="2795" y="747"/>
                </a:lnTo>
                <a:lnTo>
                  <a:pt x="2817" y="746"/>
                </a:lnTo>
                <a:lnTo>
                  <a:pt x="2835" y="744"/>
                </a:lnTo>
                <a:lnTo>
                  <a:pt x="2866" y="742"/>
                </a:lnTo>
                <a:lnTo>
                  <a:pt x="2905" y="738"/>
                </a:lnTo>
                <a:lnTo>
                  <a:pt x="2956" y="733"/>
                </a:lnTo>
                <a:lnTo>
                  <a:pt x="2984" y="729"/>
                </a:lnTo>
                <a:lnTo>
                  <a:pt x="3014" y="727"/>
                </a:lnTo>
                <a:lnTo>
                  <a:pt x="3043" y="725"/>
                </a:lnTo>
                <a:lnTo>
                  <a:pt x="3074" y="724"/>
                </a:lnTo>
                <a:lnTo>
                  <a:pt x="3106" y="724"/>
                </a:lnTo>
                <a:lnTo>
                  <a:pt x="3138" y="724"/>
                </a:lnTo>
                <a:lnTo>
                  <a:pt x="3170" y="725"/>
                </a:lnTo>
                <a:lnTo>
                  <a:pt x="3203" y="727"/>
                </a:lnTo>
                <a:close/>
              </a:path>
            </a:pathLst>
          </a:custGeom>
          <a:gradFill rotWithShape="0">
            <a:gsLst>
              <a:gs pos="0">
                <a:srgbClr val="000036"/>
              </a:gs>
              <a:gs pos="100000">
                <a:srgbClr val="0cb3ea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467320" y="878040"/>
            <a:ext cx="1884240" cy="2146320"/>
            <a:chOff x="5467320" y="878040"/>
            <a:chExt cx="1884240" cy="2146320"/>
          </a:xfrm>
        </p:grpSpPr>
        <p:pic>
          <p:nvPicPr>
            <p:cNvPr id="480" name="Freeform 9" descr=""/>
            <p:cNvPicPr/>
            <p:nvPr/>
          </p:nvPicPr>
          <p:blipFill>
            <a:blip r:embed="rId2"/>
            <a:stretch/>
          </p:blipFill>
          <p:spPr>
            <a:xfrm>
              <a:off x="5467320" y="878040"/>
              <a:ext cx="18842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6012000" y="1417680"/>
              <a:ext cx="79524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2" name="椭圆 75"/>
          <p:cNvSpPr/>
          <p:nvPr/>
        </p:nvSpPr>
        <p:spPr>
          <a:xfrm>
            <a:off x="3487680" y="2496960"/>
            <a:ext cx="360360" cy="3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36"/>
                </a:solidFill>
                <a:latin typeface="楷体_GB2312"/>
                <a:ea typeface="楷体_GB2312"/>
              </a:rPr>
              <a:t>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椭圆 76"/>
          <p:cNvSpPr/>
          <p:nvPr/>
        </p:nvSpPr>
        <p:spPr>
          <a:xfrm>
            <a:off x="3919680" y="2496960"/>
            <a:ext cx="360360" cy="3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36"/>
                </a:solidFill>
                <a:latin typeface="楷体_GB2312"/>
                <a:ea typeface="楷体_GB2312"/>
              </a:rPr>
              <a:t>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椭圆 77"/>
          <p:cNvSpPr/>
          <p:nvPr/>
        </p:nvSpPr>
        <p:spPr>
          <a:xfrm>
            <a:off x="4351320" y="2496960"/>
            <a:ext cx="360360" cy="3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36"/>
                </a:solidFill>
                <a:latin typeface="楷体_GB2312"/>
                <a:ea typeface="楷体_GB2312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椭圆 78"/>
          <p:cNvSpPr/>
          <p:nvPr/>
        </p:nvSpPr>
        <p:spPr>
          <a:xfrm>
            <a:off x="4784760" y="2496960"/>
            <a:ext cx="358920" cy="3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36"/>
                </a:solidFill>
                <a:latin typeface="楷体_GB2312"/>
                <a:ea typeface="楷体_GB2312"/>
              </a:rPr>
              <a:t>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矩形 79"/>
          <p:cNvSpPr/>
          <p:nvPr/>
        </p:nvSpPr>
        <p:spPr>
          <a:xfrm>
            <a:off x="5179320" y="2533680"/>
            <a:ext cx="196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6"/>
                </a:solidFill>
                <a:latin typeface="Tahoma"/>
                <a:ea typeface="Tahoma"/>
              </a:rPr>
              <a:t>The Mid-Autumn Festiv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46200" y="336024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32000" y="4730400"/>
            <a:ext cx="6400800" cy="10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df1fc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7210080" y="5378400"/>
            <a:ext cx="184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来源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24000" y="176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360" y="1417320"/>
            <a:ext cx="662472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4000" y="176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1763640" y="4586400"/>
            <a:ext cx="37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更多幻灯片之家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5E8-F00B-4CF7-A126-3EDE9D9590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0" y="0"/>
            <a:ext cx="8466120" cy="5714640"/>
            <a:chOff x="0" y="0"/>
            <a:chExt cx="8466120" cy="5714640"/>
          </a:xfrm>
        </p:grpSpPr>
        <p:sp>
          <p:nvSpPr>
            <p:cNvPr id="4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12:26:35Z</dcterms:created>
  <dc:creator>PX</dc:creator>
  <dc:description/>
  <dc:language>en-US</dc:language>
  <cp:lastModifiedBy>king</cp:lastModifiedBy>
  <dcterms:modified xsi:type="dcterms:W3CDTF">2015-07-04T05:48:21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