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8459788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7EF-1318-46B2-A2ED-5ACF56F9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62150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822320" y="2704320"/>
            <a:ext cx="62150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206-5EC8-4312-BE45-D1369943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22320" y="270432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06880" y="270432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412A-7D80-4FA1-A259-2EC4D5A3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23640" y="109044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4960" y="109044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822320" y="270432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23640" y="270432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4960" y="270432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7BB-9F2A-4F42-8EDD-ACE38793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ABBC-D217-450E-B393-C95E61AB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2320" y="1090440"/>
            <a:ext cx="6215040" cy="30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69BA-67F6-4356-B4FE-5A01E51E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62150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2F35-2053-4747-84F7-1F986D4E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85FE-07A9-4A26-B380-72658A54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80E2-71FB-460D-A9BD-D22E8204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822320" y="187200"/>
            <a:ext cx="6213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0933-E167-4F23-BD01-C60AF5BA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822320" y="270432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99C4-91C6-4EE9-BB7F-C63638FD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822320" y="1090440"/>
            <a:ext cx="6215040" cy="30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4EA5-D4D4-4B60-B1C3-22A80C86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06880" y="270432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D64A-303B-4627-87B8-0558746D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2320" y="2704320"/>
            <a:ext cx="62150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F356-5E47-46A3-86EF-2A6E1EB7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62150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22320" y="2704320"/>
            <a:ext cx="62150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8711-C5C3-4F0A-AA5B-DB9848B6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2320" y="270432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06880" y="270432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E7CA-9E73-485C-B69A-8E57BC4F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23640" y="109044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4960" y="109044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822320" y="270432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23640" y="270432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4960" y="270432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67CB-22B5-4365-BD02-866F7CC7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957C1-7A8F-47A3-8335-51300353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822320" y="1090440"/>
            <a:ext cx="6215040" cy="30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F72A6-F22E-4D49-A2B6-F930119B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62150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780B1-352F-4858-88DC-66C1657B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100C0-6FE2-43B1-A446-68077D4B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F6387-9ACE-411D-B282-1D09C379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62150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A6F4-D0A9-4F50-886F-6BD1AC25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822320" y="187200"/>
            <a:ext cx="6213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2ED1E-55CB-41D6-9AAC-EA40CAA9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822320" y="270432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774D8-921A-4544-949A-87C19C3F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06880" y="270432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C2262-6EA8-4804-A0DC-DB9FFFEA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822320" y="2704320"/>
            <a:ext cx="62150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AA87B-C1C9-4FA6-91BC-069198F0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62150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822320" y="2704320"/>
            <a:ext cx="62150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27A3E-A7CD-4D77-AC94-75A751F4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822320" y="270432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06880" y="270432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BE6C0-8149-42CD-8E3C-0DB072AF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923640" y="109044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4960" y="109044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822320" y="270432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923640" y="270432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4960" y="270432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B3768-1334-4419-A5C8-6F94EA9B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4F4-85E7-4487-98E2-0DED7145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F6D9-9B4A-439E-BA57-8E47700D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2320" y="187200"/>
            <a:ext cx="6213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01A4-C932-401C-A5BF-2D111E26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822320" y="270432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1369-368D-40B7-A53F-10896FDA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06880" y="270432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D8F-D37E-4DB1-BFC4-57AFE833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822320" y="2704320"/>
            <a:ext cx="62150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D742-9358-4E55-8EB8-48B41285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2600" y="992160"/>
            <a:ext cx="8491320" cy="3692520"/>
          </a:xfrm>
          <a:prstGeom prst="rect">
            <a:avLst/>
          </a:prstGeom>
          <a:solidFill>
            <a:srgbClr val="c0c0c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football_3-wallpaper-1920x1080" descr=""/>
          <p:cNvPicPr/>
          <p:nvPr/>
        </p:nvPicPr>
        <p:blipFill>
          <a:blip r:embed="rId2"/>
          <a:srcRect l="0" t="0" r="0" b="78383"/>
          <a:stretch/>
        </p:blipFill>
        <p:spPr>
          <a:xfrm>
            <a:off x="-12600" y="-30240"/>
            <a:ext cx="8450280" cy="102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3360" y="187200"/>
            <a:ext cx="7612200" cy="77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23360" y="1093680"/>
            <a:ext cx="7612200" cy="2903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400"/>
              </a:spcBef>
              <a:buClr>
                <a:srgbClr val="580000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58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80000"/>
              </a:solidFill>
              <a:latin typeface="Arial"/>
            </a:endParaRPr>
          </a:p>
          <a:p>
            <a:pPr lvl="1" marL="642960" indent="-247680">
              <a:spcBef>
                <a:spcPts val="400"/>
              </a:spcBef>
              <a:buClr>
                <a:srgbClr val="580000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58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80000"/>
              </a:solidFill>
              <a:latin typeface="Arial"/>
            </a:endParaRPr>
          </a:p>
          <a:p>
            <a:pPr lvl="2" marL="988920" indent="-198360">
              <a:spcBef>
                <a:spcPts val="400"/>
              </a:spcBef>
              <a:buClr>
                <a:srgbClr val="580000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58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80000"/>
              </a:solidFill>
              <a:latin typeface="Arial"/>
            </a:endParaRPr>
          </a:p>
          <a:p>
            <a:pPr lvl="3" marL="1384200" indent="-199800">
              <a:spcBef>
                <a:spcPts val="400"/>
              </a:spcBef>
              <a:buClr>
                <a:srgbClr val="580000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58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80000"/>
              </a:solidFill>
              <a:latin typeface="Arial"/>
            </a:endParaRPr>
          </a:p>
          <a:p>
            <a:pPr lvl="4" marL="1778040" indent="-196920">
              <a:spcBef>
                <a:spcPts val="400"/>
              </a:spcBef>
              <a:buClr>
                <a:srgbClr val="58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58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80000"/>
              </a:solidFill>
              <a:latin typeface="Arial"/>
            </a:endParaRPr>
          </a:p>
          <a:p>
            <a:pPr lvl="5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58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80000"/>
              </a:solidFill>
              <a:latin typeface="Arial"/>
            </a:endParaRPr>
          </a:p>
          <a:p>
            <a:pPr lvl="6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58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23360" y="4260960"/>
            <a:ext cx="1971720" cy="3254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58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80000"/>
                </a:solidFill>
                <a:latin typeface="微软雅黑"/>
                <a:ea typeface="微软雅黑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89360" y="4260960"/>
            <a:ext cx="2681280" cy="3254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580000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80000"/>
                </a:solidFill>
                <a:latin typeface="微软雅黑"/>
                <a:ea typeface="微软雅黑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063840" y="4260960"/>
            <a:ext cx="1971720" cy="3254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58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9CCD-D62D-403F-A02E-E0922F797596}" type="slidenum">
              <a:rPr b="0" lang="en-US" sz="700" spc="-1" strike="noStrike">
                <a:solidFill>
                  <a:srgbClr val="580000"/>
                </a:solidFill>
                <a:latin typeface="微软雅黑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ootball_3-wallpaper-1920x1080" descr=""/>
          <p:cNvPicPr/>
          <p:nvPr/>
        </p:nvPicPr>
        <p:blipFill>
          <a:blip r:embed="rId2"/>
          <a:stretch/>
        </p:blipFill>
        <p:spPr>
          <a:xfrm>
            <a:off x="0" y="-33480"/>
            <a:ext cx="8459640" cy="4751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6480" y="2166480"/>
            <a:ext cx="7188480" cy="763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23360" y="4260960"/>
            <a:ext cx="1971720" cy="3254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889360" y="4260960"/>
            <a:ext cx="2681280" cy="3254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063840" y="4260960"/>
            <a:ext cx="1971720" cy="3254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FD4C-F949-4C4C-BACF-FB6CFCA5DBC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23000" y="1095120"/>
            <a:ext cx="7613640" cy="27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395280"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a0c6ea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a0c6ea"/>
              </a:solidFill>
              <a:latin typeface="Arial"/>
            </a:endParaRPr>
          </a:p>
          <a:p>
            <a:pPr lvl="2" marL="790560" algn="ctr">
              <a:spcBef>
                <a:spcPts val="326"/>
              </a:spcBef>
              <a:buClr>
                <a:srgbClr val="580000"/>
              </a:buClr>
              <a:buFont typeface="Arial"/>
              <a:buChar char="•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58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lvl="3" marL="1184400" algn="ctr">
              <a:spcBef>
                <a:spcPts val="249"/>
              </a:spcBef>
              <a:buClr>
                <a:srgbClr val="580000"/>
              </a:buClr>
              <a:buFont typeface="Arial"/>
              <a:buChar char="–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58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580000"/>
              </a:solidFill>
              <a:latin typeface="Arial"/>
            </a:endParaRPr>
          </a:p>
          <a:p>
            <a:pPr lvl="4" marL="1581120" algn="ctr">
              <a:spcBef>
                <a:spcPts val="249"/>
              </a:spcBef>
              <a:buClr>
                <a:srgbClr val="580000"/>
              </a:buClr>
              <a:buFont typeface="Arial"/>
              <a:buChar char="»"/>
              <a:tabLst>
                <a:tab algn="l" pos="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58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580000"/>
              </a:solidFill>
              <a:latin typeface="Arial"/>
            </a:endParaRPr>
          </a:p>
          <a:p>
            <a:pPr lvl="5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580000"/>
              </a:solidFill>
              <a:latin typeface="Arial"/>
            </a:endParaRPr>
          </a:p>
          <a:p>
            <a:pPr lvl="6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58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ootball_3-wallpaper-1920x1080" descr=""/>
          <p:cNvPicPr/>
          <p:nvPr/>
        </p:nvPicPr>
        <p:blipFill>
          <a:blip r:embed="rId2"/>
          <a:srcRect l="22596" t="0" r="57604" b="0"/>
          <a:stretch/>
        </p:blipFill>
        <p:spPr>
          <a:xfrm>
            <a:off x="-12600" y="-34920"/>
            <a:ext cx="1668240" cy="4753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55640" y="-33480"/>
            <a:ext cx="6823080" cy="4672080"/>
          </a:xfrm>
          <a:prstGeom prst="rect">
            <a:avLst/>
          </a:prstGeom>
          <a:solidFill>
            <a:srgbClr val="c0c0c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580000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822320" y="1090440"/>
            <a:ext cx="62150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476"/>
              </a:spcBef>
              <a:buClr>
                <a:srgbClr val="58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58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  <a:p>
            <a:pPr lvl="1" marL="727200" indent="-279360">
              <a:spcBef>
                <a:spcPts val="476"/>
              </a:spcBef>
              <a:buClr>
                <a:srgbClr val="58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58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58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58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  <a:p>
            <a:pPr lvl="3" marL="1566720" indent="-223560">
              <a:spcBef>
                <a:spcPts val="476"/>
              </a:spcBef>
              <a:buClr>
                <a:srgbClr val="58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58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  <a:p>
            <a:pPr lvl="4" marL="2014560" indent="-223920">
              <a:spcBef>
                <a:spcPts val="476"/>
              </a:spcBef>
              <a:buClr>
                <a:srgbClr val="58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58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  <a:p>
            <a:pPr lvl="5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58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  <a:p>
            <a:pPr lvl="6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58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23360" y="4260960"/>
            <a:ext cx="1971720" cy="32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8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80000"/>
                </a:solidFill>
                <a:latin typeface="微软雅黑"/>
                <a:ea typeface="微软雅黑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889360" y="4260960"/>
            <a:ext cx="2681280" cy="32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8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80000"/>
                </a:solidFill>
                <a:latin typeface="微软雅黑"/>
                <a:ea typeface="微软雅黑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063840" y="4260960"/>
            <a:ext cx="1971720" cy="32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8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5D6A-97B6-4CB0-A5CC-9EE673C7823E}" type="slidenum">
              <a:rPr b="0" lang="en-US" sz="800" spc="-1" strike="noStrike">
                <a:solidFill>
                  <a:srgbClr val="580000"/>
                </a:solidFill>
                <a:latin typeface="微软雅黑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09640" y="1044360"/>
            <a:ext cx="5297760" cy="763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足球火焰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4920" y="4140360"/>
            <a:ext cx="2451240" cy="475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我来自</a:t>
            </a:r>
            <a:r>
              <a:rPr b="1" lang="en-US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PMingLiU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PMingLiU"/>
                <a:hlinkClick r:id="rId1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3360" y="187200"/>
            <a:ext cx="7612200" cy="77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</a:rPr>
              <a:t>火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23720" y="1093680"/>
            <a:ext cx="3735360" cy="2903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575"/>
              </a:spcBef>
              <a:buClr>
                <a:srgbClr val="580000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300" spc="-1" strike="noStrike">
                <a:solidFill>
                  <a:srgbClr val="580000"/>
                </a:solidFill>
                <a:latin typeface="Arial"/>
              </a:rPr>
              <a:t>火焰</a:t>
            </a:r>
            <a:endParaRPr b="0" lang="en-US" sz="2300" spc="-1" strike="noStrike">
              <a:solidFill>
                <a:srgbClr val="580000"/>
              </a:solidFill>
              <a:latin typeface="Arial"/>
            </a:endParaRPr>
          </a:p>
          <a:p>
            <a:pPr marL="295200" indent="-295200">
              <a:spcBef>
                <a:spcPts val="575"/>
              </a:spcBef>
              <a:buClr>
                <a:srgbClr val="580000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300" spc="-1" strike="noStrike">
                <a:solidFill>
                  <a:srgbClr val="580000"/>
                </a:solidFill>
                <a:latin typeface="Arial"/>
              </a:rPr>
              <a:t>火焰</a:t>
            </a:r>
            <a:endParaRPr b="0" lang="en-US" sz="2300" spc="-1" strike="noStrike">
              <a:solidFill>
                <a:srgbClr val="580000"/>
              </a:solidFill>
              <a:latin typeface="Arial"/>
            </a:endParaRPr>
          </a:p>
          <a:p>
            <a:pPr marL="295200" indent="-295200">
              <a:spcBef>
                <a:spcPts val="575"/>
              </a:spcBef>
              <a:buClr>
                <a:srgbClr val="580000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300" spc="-1" strike="noStrike">
                <a:solidFill>
                  <a:srgbClr val="580000"/>
                </a:solidFill>
                <a:latin typeface="Arial"/>
              </a:rPr>
              <a:t>火焰</a:t>
            </a:r>
            <a:endParaRPr b="0" lang="en-US" sz="23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00560" y="1093680"/>
            <a:ext cx="3735360" cy="2903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575"/>
              </a:spcBef>
              <a:buClr>
                <a:srgbClr val="580000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300" spc="-1" strike="noStrike">
                <a:solidFill>
                  <a:srgbClr val="580000"/>
                </a:solidFill>
                <a:latin typeface="Arial"/>
              </a:rPr>
              <a:t>火焰</a:t>
            </a:r>
            <a:endParaRPr b="0" lang="en-US" sz="2300" spc="-1" strike="noStrike">
              <a:solidFill>
                <a:srgbClr val="580000"/>
              </a:solidFill>
              <a:latin typeface="Arial"/>
            </a:endParaRPr>
          </a:p>
          <a:p>
            <a:pPr marL="295200" indent="-295200">
              <a:spcBef>
                <a:spcPts val="575"/>
              </a:spcBef>
              <a:buClr>
                <a:srgbClr val="580000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300" spc="-1" strike="noStrike">
                <a:solidFill>
                  <a:srgbClr val="580000"/>
                </a:solidFill>
                <a:latin typeface="Arial"/>
              </a:rPr>
              <a:t>火焰</a:t>
            </a:r>
            <a:endParaRPr b="0" lang="en-US" sz="2300" spc="-1" strike="noStrike">
              <a:solidFill>
                <a:srgbClr val="580000"/>
              </a:solidFill>
              <a:latin typeface="Arial"/>
            </a:endParaRPr>
          </a:p>
          <a:p>
            <a:pPr marL="295200" indent="-295200">
              <a:spcBef>
                <a:spcPts val="575"/>
              </a:spcBef>
              <a:buClr>
                <a:srgbClr val="580000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300" spc="-1" strike="noStrike">
                <a:solidFill>
                  <a:srgbClr val="580000"/>
                </a:solidFill>
                <a:latin typeface="Arial"/>
              </a:rPr>
              <a:t>火焰</a:t>
            </a:r>
            <a:endParaRPr b="0" lang="en-US" sz="2300" spc="-1" strike="noStrike">
              <a:solidFill>
                <a:srgbClr val="58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06720" y="1384200"/>
            <a:ext cx="4751280" cy="66852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7280" y="1384200"/>
            <a:ext cx="2160360" cy="668520"/>
          </a:xfrm>
          <a:prstGeom prst="roundRect">
            <a:avLst>
              <a:gd name="adj" fmla="val 16667"/>
            </a:avLst>
          </a:prstGeom>
          <a:solidFill>
            <a:srgbClr val="993300">
              <a:alpha val="2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993300"/>
                </a:solidFill>
                <a:latin typeface="Arial"/>
                <a:ea typeface="微软雅黑"/>
              </a:rPr>
              <a:t>火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7280" y="2319480"/>
            <a:ext cx="2160360" cy="668160"/>
          </a:xfrm>
          <a:prstGeom prst="roundRect">
            <a:avLst>
              <a:gd name="adj" fmla="val 16667"/>
            </a:avLst>
          </a:prstGeom>
          <a:solidFill>
            <a:srgbClr val="993300">
              <a:alpha val="2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993300"/>
                </a:solidFill>
                <a:latin typeface="Arial"/>
                <a:ea typeface="微软雅黑"/>
              </a:rPr>
              <a:t>火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7280" y="3255840"/>
            <a:ext cx="2160360" cy="668520"/>
          </a:xfrm>
          <a:prstGeom prst="roundRect">
            <a:avLst>
              <a:gd name="adj" fmla="val 16667"/>
            </a:avLst>
          </a:prstGeom>
          <a:solidFill>
            <a:srgbClr val="993300">
              <a:alpha val="2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993300"/>
                </a:solidFill>
                <a:latin typeface="Arial"/>
                <a:ea typeface="微软雅黑"/>
              </a:rPr>
              <a:t>火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06720" y="2319480"/>
            <a:ext cx="4751280" cy="66816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06720" y="3255840"/>
            <a:ext cx="4751280" cy="66852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1236600" y="1249200"/>
            <a:ext cx="5962680" cy="2891160"/>
            <a:chOff x="1236600" y="1249200"/>
            <a:chExt cx="5962680" cy="2891160"/>
          </a:xfrm>
        </p:grpSpPr>
        <p:sp>
          <p:nvSpPr>
            <p:cNvPr id="140" name=""/>
            <p:cNvSpPr/>
            <p:nvPr/>
          </p:nvSpPr>
          <p:spPr>
            <a:xfrm>
              <a:off x="1236600" y="1249200"/>
              <a:ext cx="5962680" cy="86652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99330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36600" y="1465560"/>
              <a:ext cx="574560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248760" tIns="78480" bIns="1864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火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6600" y="1917360"/>
              <a:ext cx="1836360" cy="16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36600" y="1917360"/>
              <a:ext cx="1836360" cy="1669680"/>
            </a:xfrm>
            <a:prstGeom prst="rect">
              <a:avLst/>
            </a:prstGeom>
            <a:noFill/>
            <a:ln cap="rnd" w="3240">
              <a:solidFill>
                <a:srgbClr val="99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78480" bIns="78480" anchor="t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993300"/>
                  </a:solidFill>
                  <a:latin typeface="宋体"/>
                  <a:ea typeface="微软雅黑"/>
                </a:rPr>
                <a:t>火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72960" y="1537920"/>
              <a:ext cx="4126320" cy="866520"/>
            </a:xfrm>
            <a:prstGeom prst="rightArrow">
              <a:avLst>
                <a:gd name="adj1" fmla="val 50000"/>
                <a:gd name="adj2" fmla="val 50089"/>
              </a:avLst>
            </a:prstGeom>
            <a:solidFill>
              <a:srgbClr val="99330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72960" y="1754640"/>
              <a:ext cx="390924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248760" tIns="78480" bIns="1864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火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72960" y="2206440"/>
              <a:ext cx="1836360" cy="16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72960" y="2206440"/>
              <a:ext cx="1836360" cy="1669680"/>
            </a:xfrm>
            <a:prstGeom prst="rect">
              <a:avLst/>
            </a:prstGeom>
            <a:noFill/>
            <a:ln cap="rnd" w="3240">
              <a:solidFill>
                <a:srgbClr val="99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78480" bIns="78480" anchor="t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993300"/>
                  </a:solidFill>
                  <a:latin typeface="宋体"/>
                  <a:ea typeface="微软雅黑"/>
                </a:rPr>
                <a:t>火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09680" y="1827000"/>
              <a:ext cx="2289600" cy="866520"/>
            </a:xfrm>
            <a:prstGeom prst="rightArrow">
              <a:avLst>
                <a:gd name="adj1" fmla="val 50000"/>
                <a:gd name="adj2" fmla="val 50106"/>
              </a:avLst>
            </a:prstGeom>
            <a:solidFill>
              <a:srgbClr val="99330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09680" y="2043720"/>
              <a:ext cx="207252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248760" tIns="78480" bIns="1864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火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09680" y="2495160"/>
              <a:ext cx="1836360" cy="164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09680" y="2495160"/>
              <a:ext cx="1836360" cy="1645200"/>
            </a:xfrm>
            <a:prstGeom prst="rect">
              <a:avLst/>
            </a:prstGeom>
            <a:noFill/>
            <a:ln cap="rnd" w="3240">
              <a:solidFill>
                <a:srgbClr val="99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78480" bIns="78480" anchor="t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993300"/>
                  </a:solidFill>
                  <a:latin typeface="宋体"/>
                  <a:ea typeface="微软雅黑"/>
                </a:rPr>
                <a:t>火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3100" spc="-1" strike="noStrike">
                <a:solidFill>
                  <a:srgbClr val="993300"/>
                </a:solidFill>
                <a:latin typeface="Arial"/>
              </a:rPr>
              <a:t>火焰</a:t>
            </a: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62150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476"/>
              </a:spcBef>
              <a:buClr>
                <a:srgbClr val="99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900" spc="-1" strike="noStrike">
                <a:solidFill>
                  <a:srgbClr val="993300"/>
                </a:solidFill>
                <a:latin typeface="Arial"/>
              </a:rPr>
              <a:t>火焰</a:t>
            </a: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  <a:p>
            <a:pPr marL="336600" indent="-336600">
              <a:spcBef>
                <a:spcPts val="476"/>
              </a:spcBef>
              <a:buClr>
                <a:srgbClr val="99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900" spc="-1" strike="noStrike">
                <a:solidFill>
                  <a:srgbClr val="993300"/>
                </a:solidFill>
                <a:latin typeface="Arial"/>
              </a:rPr>
              <a:t>火焰</a:t>
            </a: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  <a:p>
            <a:pPr marL="336600" indent="-336600">
              <a:spcBef>
                <a:spcPts val="476"/>
              </a:spcBef>
              <a:buClr>
                <a:srgbClr val="99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900" spc="-1" strike="noStrike">
                <a:solidFill>
                  <a:srgbClr val="993300"/>
                </a:solidFill>
                <a:latin typeface="Arial"/>
              </a:rPr>
              <a:t>火焰</a:t>
            </a: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  <a:p>
            <a:pPr marL="336600" indent="-336600">
              <a:spcBef>
                <a:spcPts val="476"/>
              </a:spcBef>
              <a:buClr>
                <a:srgbClr val="99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900" spc="-1" strike="noStrike">
                <a:solidFill>
                  <a:srgbClr val="993300"/>
                </a:solidFill>
                <a:latin typeface="Arial"/>
              </a:rPr>
              <a:t>火焰</a:t>
            </a: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  <a:p>
            <a:pPr marL="336600" indent="-336600">
              <a:spcBef>
                <a:spcPts val="476"/>
              </a:spcBef>
              <a:buClr>
                <a:srgbClr val="99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900" spc="-1" strike="noStrike">
                <a:solidFill>
                  <a:srgbClr val="993300"/>
                </a:solidFill>
                <a:latin typeface="Arial"/>
              </a:rPr>
              <a:t>火焰</a:t>
            </a: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22640" y="4179960"/>
            <a:ext cx="3482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00"/>
                </a:solidFill>
                <a:latin typeface="华文新魏"/>
                <a:ea typeface="华文新魏"/>
              </a:rPr>
              <a:t>更多免费</a:t>
            </a:r>
            <a:r>
              <a:rPr b="1" lang="en-US" sz="1400" spc="-1" strike="noStrike">
                <a:solidFill>
                  <a:srgbClr val="800000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800000"/>
                </a:solidFill>
                <a:latin typeface="华文新魏"/>
                <a:ea typeface="华文新魏"/>
              </a:rPr>
              <a:t>模板尽在：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1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33440" y="128160"/>
            <a:ext cx="7593120" cy="392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3100" spc="-1" strike="noStrike">
                <a:solidFill>
                  <a:srgbClr val="580000"/>
                </a:solidFill>
                <a:latin typeface="Arial"/>
              </a:rPr>
              <a:t>使用规范说明</a:t>
            </a: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080" y="866520"/>
            <a:ext cx="8259840" cy="3562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75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6742080" y="227160"/>
            <a:ext cx="1284480" cy="239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E9E3A-AA7F-4AFD-93F7-762D2EC4F7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5:03:54Z</dcterms:created>
  <dc:creator>Administrator</dc:creator>
  <dc:description/>
  <dc:language>en-US</dc:language>
  <cp:lastModifiedBy/>
  <dcterms:modified xsi:type="dcterms:W3CDTF">2015-07-04T05:54:4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