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701-37C4-40F6-9414-8CE85E48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488-A9BC-4532-9511-729C28F1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DAC-A0A7-4438-BC17-333BE61E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19700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377208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7CC-DE64-4B22-AC96-76CCD03B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AFD-FD96-448A-AA64-64299431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F0F-0B24-40F5-AE15-75E25F20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B06-AAD4-428B-90AA-3CCE62B0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FAD-9D5A-4A7B-8BB1-FB695AC4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7D1-1330-49A8-B907-96D0593D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0BF-196E-46BA-8C12-3DEDC77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440" y="377208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38D-64B0-4DA1-85C6-9DB606AE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440" y="119700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776-D99B-4970-812B-BEE3C78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设计素材\图片\CG\1284204123102.jpg"/>
          <p:cNvPicPr/>
          <p:nvPr/>
        </p:nvPicPr>
        <p:blipFill>
          <a:blip r:embed="rId2"/>
          <a:srcRect l="0" t="0" r="16726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3AA-7C9D-49D6-B98C-B7B261E24086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41BE-23E4-423A-B93A-15683C0513CA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fengjin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76832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怡人风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2991960"/>
            <a:ext cx="83563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9700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6381720"/>
            <a:ext cx="683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自然风景ppt模板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/moban/feng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感谢您的关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5F9-2A21-4E01-89C3-403575F334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/>
  <dc:description/>
  <dc:language>en-US</dc:language>
  <cp:lastModifiedBy>ilovePPT.ORG</cp:lastModifiedBy>
  <dcterms:modified xsi:type="dcterms:W3CDTF">2015-07-04T06:55:1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