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574-6AA8-45AC-AE8F-B42DEE7C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22E-625D-4411-B03B-A9B1729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081-708C-45C3-BE36-1097D797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6C4-684C-4323-A2C2-7B9441A2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3FB4-8578-468C-8FB3-1A014432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C80B-1B1D-4610-A2A2-A44A8FC8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0942-235B-409F-A61A-8FAB684D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1ADB-2EF9-4F87-91D9-01EE2659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6586-A755-46D1-8832-3DE3DACA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6EE5-BEAE-4046-B62F-4E13C5E5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30EE-CF85-43FC-8599-E04D23C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A99-B931-47FC-9843-36E39CAE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7DE-FE4C-416E-95EA-CF69AD3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98C3-FF28-4FA2-B22B-B45412C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A6F-A784-47DB-85DB-DE22AEA6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1051-6EAC-472A-9ED8-C4464F0E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B54F-BCF0-497E-968D-6933D495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57D-393B-4BAB-A1BA-AB5217BD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24E-AA0D-4131-BC70-1B0B7923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288-172A-46DA-893A-58C31CA8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D83-1616-4933-B948-06DA7217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966-54F3-46C6-9C59-73D5FB6F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B9D-32D3-4AB1-9D9F-BEF7796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783-3636-4E4C-B043-764042D4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50C-DEA6-4F53-93F9-04A907C9BA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A44A-1793-48F1-8DA1-6DFBE47D1A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15" descr=""/>
          <p:cNvPicPr/>
          <p:nvPr/>
        </p:nvPicPr>
        <p:blipFill>
          <a:blip r:embed="rId2"/>
          <a:stretch/>
        </p:blipFill>
        <p:spPr>
          <a:xfrm>
            <a:off x="6084720" y="6310440"/>
            <a:ext cx="2395800" cy="220680"/>
          </a:xfrm>
          <a:prstGeom prst="rect">
            <a:avLst/>
          </a:prstGeom>
          <a:ln w="0">
            <a:noFill/>
          </a:ln>
        </p:spPr>
      </p:pic>
      <p:sp>
        <p:nvSpPr>
          <p:cNvPr id="83" name="WordArt 16"/>
          <p:cNvSpPr txBox="1"/>
          <p:nvPr/>
        </p:nvSpPr>
        <p:spPr>
          <a:xfrm>
            <a:off x="1012680" y="4005360"/>
            <a:ext cx="2368800" cy="25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454545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75000"/>
                    </a:srgbClr>
                  </a:outerShdw>
                </a:effectLst>
                <a:latin typeface="黑体"/>
              </a:rPr>
              <a:t> 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454545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ff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1482840" y="4054320"/>
            <a:ext cx="46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幻灯片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48704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1847880" y="42879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2325600" y="50022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6CAD-A994-4BD5-9945-5511A1518D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58:59Z</dcterms:created>
  <dc:creator>北京锐得幻演广告有限公司</dc:creator>
  <dc:description/>
  <dc:language>en-US</dc:language>
  <cp:lastModifiedBy>king</cp:lastModifiedBy>
  <dcterms:modified xsi:type="dcterms:W3CDTF">2015-07-04T05:57:13Z</dcterms:modified>
  <cp:revision>346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