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8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C00-FDE1-4036-A25C-E8A3DD09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CC2-6F41-4362-B8EE-ECAB78C0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727-E072-4D33-912A-E803BDB1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7F5-D170-46DD-B4F4-8771FFDD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660E-5711-4EC2-8FD1-3915EC3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CEBF-34E3-4256-8AB0-5F209EB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6A46-2018-4C87-A474-ACB196D9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197-0779-4881-8366-E771E5C0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620-6D83-4BF9-BAA7-2FE2414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6DA-8223-43B0-8518-F613457A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62D9-6317-4D1A-8CB0-5ACAD14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BEA-8207-4913-B883-8FC9659E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F73-102E-49C9-8B9C-73B5F06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A179-283E-4DFF-9D67-8A429A5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382-2FF1-4974-9AB9-3B26BC59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689-C561-4753-955F-0C8865B9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559-82C2-41B1-8E05-5F62375B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BDB5-2A05-4D01-A44B-7D8B98D5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C70B-554A-487B-8FCE-F6F7B488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E964-1B2D-487D-9773-71FD8513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35C1-0552-46EC-BADD-60E6D6F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ED99-EFA4-4936-8213-BE525F4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78A-86D2-4DAF-98F3-B9E6C2B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32CC-B4D1-4816-83D2-532623F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2057-2230-4501-AF42-723BE95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8112-9513-468F-90A9-830C3FA0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6113-DFD2-4C5E-AB7B-D4D7CF3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7411-7791-48D7-A210-C81C3F72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B9E5-C23B-4B95-8E9C-29674D9C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6C46-04FE-46CD-A752-1CC4E280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E460-206F-416E-83B3-7702C41D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E08C-BDC2-4FEF-BBEB-B740EF6D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C2CA-08C1-40F7-8B07-590D679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F5C-69A6-4B2E-8B49-59F88DD5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E784-D5CC-49DD-844A-A2387E4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0A64-888D-4122-B2E8-9D694D95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5482-B9BC-44AF-82F1-28CD55F9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A969-6993-49A6-8E4E-4471AD1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BCD5-D5BA-486E-9260-E08661D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8B81-F293-4752-A8F2-101BC62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DF2D-04AB-4FD6-B9A1-20B89C4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181D-9B92-473E-85CA-DBB5BF1C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F2F3-9A94-4121-A755-F04DB3AB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E0B6-6885-4816-BDD3-F65D89AB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3BD-A30D-44B9-A1C9-8848727E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3C59-FADA-4BCF-B395-2EB2E32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72CFC-3201-472C-BCD0-52780548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833C-ED61-4CA3-8F26-4BAC4AF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B0A0-7448-44EC-8007-9A544C24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D3806-829D-4FD2-92C3-4DE9D6BF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E295-16E2-4130-804A-7FC86595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45211-376B-436D-8D57-C763640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CDB1C-11A1-4C59-9682-22D21A0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6E70-9C39-4BC0-8613-3ACC218D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115E-351D-4016-B5D9-B5104FC3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F57-46CA-47BD-9222-7EC8985D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2E71-C5F9-431E-AFB4-CD4DD6F7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3ED4-270F-4A93-B5B1-CC30BC49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83F4-A417-45CB-BF16-9E88E8D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C676-2D49-4B24-B12B-BD743E0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0179-A51D-48B8-91DB-DBBC4804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19B5A-C7B4-4331-90E1-1AB81B6A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B81DD-971D-4AAA-8F43-164FC26B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1833F-C730-434A-A4B9-46108D29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CF7E-9FD3-4145-B86D-31F0E1D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CA5E-A695-4391-8D9C-5D079381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B6F-7219-4D9F-89C9-756FD99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9E9E-EF77-4A35-B1E0-7660A82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D68A-5AD8-4668-AC11-D6A876F4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C236-657A-49DA-90AF-63E9921D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EF2-853D-4994-99E0-5AA88C8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BFC-7385-46DC-82AE-4348DCA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大祥云.png"/>
          <p:cNvPicPr/>
          <p:nvPr/>
        </p:nvPicPr>
        <p:blipFill>
          <a:blip r:embed="rId3"/>
          <a:stretch/>
        </p:blipFill>
        <p:spPr>
          <a:xfrm>
            <a:off x="-2386080" y="-28440"/>
            <a:ext cx="6529320" cy="652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89D0-AB85-4FB8-AA9A-5ACB226364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down.png"/>
          <p:cNvPicPr/>
          <p:nvPr/>
        </p:nvPicPr>
        <p:blipFill>
          <a:blip r:embed="rId3"/>
          <a:stretch/>
        </p:blipFill>
        <p:spPr>
          <a:xfrm>
            <a:off x="1440" y="5762520"/>
            <a:ext cx="9142560" cy="10954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up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7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427-8C0A-4F1D-B072-8BB92ADBE8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1E6-2E47-4C28-B1A2-7D87A2C296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A948-A91F-4AC1-9C2D-239159BC2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小祥云.png"/>
          <p:cNvPicPr/>
          <p:nvPr/>
        </p:nvPicPr>
        <p:blipFill>
          <a:blip r:embed="rId3"/>
          <a:stretch/>
        </p:blipFill>
        <p:spPr>
          <a:xfrm>
            <a:off x="6500880" y="371484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1CB-8149-466D-AF57-02DA41147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816F-6AF9-41C2-9CEA-AC83048610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http://www.eeppt.com&#x0d;" TargetMode="External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4458240" y="35020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4642560" y="2500200"/>
            <a:ext cx="348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色祥云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7286760" y="61405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e003e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8" descr="4.png"/>
          <p:cNvPicPr/>
          <p:nvPr/>
        </p:nvPicPr>
        <p:blipFill>
          <a:blip r:embed="rId2"/>
          <a:stretch/>
        </p:blipFill>
        <p:spPr>
          <a:xfrm>
            <a:off x="8331120" y="6143760"/>
            <a:ext cx="6699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230200" y="2142360"/>
            <a:ext cx="4088160" cy="758160"/>
            <a:chOff x="2230200" y="2142360"/>
            <a:chExt cx="4088160" cy="758160"/>
          </a:xfrm>
        </p:grpSpPr>
        <p:grpSp>
          <p:nvGrpSpPr>
            <p:cNvPr id="255" name=""/>
            <p:cNvGrpSpPr/>
            <p:nvPr/>
          </p:nvGrpSpPr>
          <p:grpSpPr>
            <a:xfrm>
              <a:off x="2230200" y="2142360"/>
              <a:ext cx="1473480" cy="758160"/>
              <a:chOff x="2230200" y="2142360"/>
              <a:chExt cx="1473480" cy="758160"/>
            </a:xfrm>
          </p:grpSpPr>
          <p:pic>
            <p:nvPicPr>
              <p:cNvPr id="256" name="图片 7" descr="3.png"/>
              <p:cNvPicPr/>
              <p:nvPr/>
            </p:nvPicPr>
            <p:blipFill>
              <a:blip r:embed="rId3"/>
              <a:stretch/>
            </p:blipFill>
            <p:spPr>
              <a:xfrm flipH="1" rot="900600">
                <a:off x="2286000" y="2247480"/>
                <a:ext cx="884160" cy="5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TextBox 10"/>
              <p:cNvSpPr/>
              <p:nvPr/>
            </p:nvSpPr>
            <p:spPr>
              <a:xfrm>
                <a:off x="3078000" y="22147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一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TextBox 12"/>
            <p:cNvSpPr/>
            <p:nvPr/>
          </p:nvSpPr>
          <p:spPr>
            <a:xfrm>
              <a:off x="4033800" y="2214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 16"/>
            <p:cNvSpPr/>
            <p:nvPr/>
          </p:nvSpPr>
          <p:spPr>
            <a:xfrm>
              <a:off x="3317400" y="2643120"/>
              <a:ext cx="3000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261880" y="2857320"/>
            <a:ext cx="4086360" cy="757440"/>
            <a:chOff x="2261880" y="2857320"/>
            <a:chExt cx="4086360" cy="757440"/>
          </a:xfrm>
        </p:grpSpPr>
        <p:grpSp>
          <p:nvGrpSpPr>
            <p:cNvPr id="261" name=""/>
            <p:cNvGrpSpPr/>
            <p:nvPr/>
          </p:nvGrpSpPr>
          <p:grpSpPr>
            <a:xfrm>
              <a:off x="2261880" y="2857320"/>
              <a:ext cx="1320480" cy="757440"/>
              <a:chOff x="2261880" y="2857320"/>
              <a:chExt cx="1320480" cy="757440"/>
            </a:xfrm>
          </p:grpSpPr>
          <p:pic>
            <p:nvPicPr>
              <p:cNvPr id="262" name="图片 33" descr="3.png"/>
              <p:cNvPicPr/>
              <p:nvPr/>
            </p:nvPicPr>
            <p:blipFill>
              <a:blip r:embed="rId4"/>
              <a:stretch/>
            </p:blipFill>
            <p:spPr>
              <a:xfrm flipH="1" rot="899400">
                <a:off x="2317320" y="296208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Box 34"/>
              <p:cNvSpPr/>
              <p:nvPr/>
            </p:nvSpPr>
            <p:spPr>
              <a:xfrm>
                <a:off x="3261600" y="29289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二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4" name="TextBox 31"/>
            <p:cNvSpPr/>
            <p:nvPr/>
          </p:nvSpPr>
          <p:spPr>
            <a:xfrm>
              <a:off x="4064040" y="29289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32"/>
            <p:cNvSpPr/>
            <p:nvPr/>
          </p:nvSpPr>
          <p:spPr>
            <a:xfrm>
              <a:off x="3348720" y="335736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61880" y="3643200"/>
            <a:ext cx="4086360" cy="757440"/>
            <a:chOff x="2261880" y="3643200"/>
            <a:chExt cx="4086360" cy="757440"/>
          </a:xfrm>
        </p:grpSpPr>
        <p:grpSp>
          <p:nvGrpSpPr>
            <p:cNvPr id="267" name=""/>
            <p:cNvGrpSpPr/>
            <p:nvPr/>
          </p:nvGrpSpPr>
          <p:grpSpPr>
            <a:xfrm>
              <a:off x="2261880" y="3643200"/>
              <a:ext cx="1320480" cy="757440"/>
              <a:chOff x="2261880" y="3643200"/>
              <a:chExt cx="1320480" cy="757440"/>
            </a:xfrm>
          </p:grpSpPr>
          <p:pic>
            <p:nvPicPr>
              <p:cNvPr id="268" name="图片 39" descr="3.png"/>
              <p:cNvPicPr/>
              <p:nvPr/>
            </p:nvPicPr>
            <p:blipFill>
              <a:blip r:embed="rId5"/>
              <a:stretch/>
            </p:blipFill>
            <p:spPr>
              <a:xfrm flipH="1" rot="899400">
                <a:off x="2317320" y="374796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TextBox 40"/>
              <p:cNvSpPr/>
              <p:nvPr/>
            </p:nvSpPr>
            <p:spPr>
              <a:xfrm>
                <a:off x="3261600" y="3714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TextBox 37"/>
            <p:cNvSpPr/>
            <p:nvPr/>
          </p:nvSpPr>
          <p:spPr>
            <a:xfrm>
              <a:off x="4064040" y="3714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38"/>
            <p:cNvSpPr/>
            <p:nvPr/>
          </p:nvSpPr>
          <p:spPr>
            <a:xfrm>
              <a:off x="3348720" y="414324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Box 6"/>
          <p:cNvSpPr/>
          <p:nvPr/>
        </p:nvSpPr>
        <p:spPr>
          <a:xfrm>
            <a:off x="82080" y="3816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003e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000080" y="571680"/>
            <a:ext cx="4857840" cy="5776560"/>
            <a:chOff x="1000080" y="571680"/>
            <a:chExt cx="4857840" cy="5776560"/>
          </a:xfrm>
        </p:grpSpPr>
        <p:grpSp>
          <p:nvGrpSpPr>
            <p:cNvPr id="274" name=""/>
            <p:cNvGrpSpPr/>
            <p:nvPr/>
          </p:nvGrpSpPr>
          <p:grpSpPr>
            <a:xfrm>
              <a:off x="3869280" y="4120200"/>
              <a:ext cx="1938240" cy="2228040"/>
              <a:chOff x="3869280" y="4120200"/>
              <a:chExt cx="1938240" cy="2228040"/>
            </a:xfrm>
          </p:grpSpPr>
          <p:pic>
            <p:nvPicPr>
              <p:cNvPr id="275" name="燕尾形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6840" y="4120200"/>
                <a:ext cx="1930680" cy="222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14400000">
                <a:off x="4023720" y="448020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615040" y="1693440"/>
              <a:ext cx="2824920" cy="3430440"/>
              <a:chOff x="2615040" y="1693440"/>
              <a:chExt cx="2824920" cy="34304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3228840" y="2874600"/>
                <a:ext cx="1373760" cy="1277280"/>
                <a:chOff x="3228840" y="2874600"/>
                <a:chExt cx="1373760" cy="1277280"/>
              </a:xfrm>
            </p:grpSpPr>
            <p:pic>
              <p:nvPicPr>
                <p:cNvPr id="279" name="六边形 2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28840" y="2874600"/>
                  <a:ext cx="137376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3467160" y="3097440"/>
                  <a:ext cx="898920" cy="8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301640" y="2874600"/>
                <a:ext cx="1138320" cy="1277280"/>
                <a:chOff x="4301640" y="2874600"/>
                <a:chExt cx="1138320" cy="1277280"/>
              </a:xfrm>
            </p:grpSpPr>
            <p:pic>
              <p:nvPicPr>
                <p:cNvPr id="282" name="燕尾形 2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1640" y="2874600"/>
                  <a:ext cx="113832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>
                  <a:off x="4644720" y="2880360"/>
                  <a:ext cx="450000" cy="12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797560" y="2085840"/>
                <a:ext cx="1427400" cy="1383120"/>
                <a:chOff x="2797560" y="2085840"/>
                <a:chExt cx="1427400" cy="1383120"/>
              </a:xfrm>
            </p:grpSpPr>
            <p:pic>
              <p:nvPicPr>
                <p:cNvPr id="285" name="燕尾形 2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02240" y="2085840"/>
                  <a:ext cx="1422720" cy="138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4400000">
                  <a:off x="3186360" y="202968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97560" y="3563280"/>
                <a:ext cx="1427400" cy="1377360"/>
                <a:chOff x="2797560" y="3563280"/>
                <a:chExt cx="1427400" cy="1377360"/>
              </a:xfrm>
            </p:grpSpPr>
            <p:pic>
              <p:nvPicPr>
                <p:cNvPr id="288" name="燕尾形 2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02240" y="3563280"/>
                  <a:ext cx="1422720" cy="137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7200000">
                  <a:off x="3186720" y="381996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0" name="六边形 28"/>
              <p:cNvSpPr/>
              <p:nvPr/>
            </p:nvSpPr>
            <p:spPr>
              <a:xfrm>
                <a:off x="3233520" y="2775240"/>
                <a:ext cx="1366200" cy="1266840"/>
              </a:xfrm>
              <a:prstGeom prst="hexagon">
                <a:avLst>
                  <a:gd name="adj" fmla="val 27924"/>
                  <a:gd name="vf" fmla="val 115470"/>
                </a:avLst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燕尾形 29"/>
              <p:cNvSpPr/>
              <p:nvPr/>
            </p:nvSpPr>
            <p:spPr>
              <a:xfrm>
                <a:off x="4305240" y="2775240"/>
                <a:ext cx="1128600" cy="1266840"/>
              </a:xfrm>
              <a:custGeom>
                <a:avLst/>
                <a:gdLst>
                  <a:gd name="textAreaLeft" fmla="*/ 0 w 1128600"/>
                  <a:gd name="textAreaRight" fmla="*/ 1128960 w 1128600"/>
                  <a:gd name="textAreaTop" fmla="*/ 0 h 1266840"/>
                  <a:gd name="textAreaBottom" fmla="*/ 1267200 h 126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燕尾形 30"/>
              <p:cNvSpPr/>
              <p:nvPr/>
            </p:nvSpPr>
            <p:spPr>
              <a:xfrm rot="14400000">
                <a:off x="2821320" y="192420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燕尾形 31"/>
              <p:cNvSpPr/>
              <p:nvPr/>
            </p:nvSpPr>
            <p:spPr>
              <a:xfrm rot="7200000">
                <a:off x="2821680" y="371484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18960" y="571680"/>
              <a:ext cx="1938960" cy="2222280"/>
              <a:chOff x="3918960" y="571680"/>
              <a:chExt cx="1938960" cy="2222280"/>
            </a:xfrm>
          </p:grpSpPr>
          <p:pic>
            <p:nvPicPr>
              <p:cNvPr id="295" name="燕尾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3927240" y="571680"/>
                <a:ext cx="1930680" cy="22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7200000">
                <a:off x="4073760" y="123624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000080" y="2828160"/>
              <a:ext cx="2142360" cy="1245960"/>
              <a:chOff x="1000080" y="2828160"/>
              <a:chExt cx="2142360" cy="1245960"/>
            </a:xfrm>
          </p:grpSpPr>
          <p:pic>
            <p:nvPicPr>
              <p:cNvPr id="298" name="燕尾形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0080" y="2828160"/>
                <a:ext cx="2142360" cy="12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1365840" y="2833200"/>
                <a:ext cx="140976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1866600" y="1641960"/>
            <a:ext cx="3894840" cy="3928680"/>
            <a:chOff x="1866600" y="1641960"/>
            <a:chExt cx="3894840" cy="3928680"/>
          </a:xfrm>
        </p:grpSpPr>
        <p:pic>
          <p:nvPicPr>
            <p:cNvPr id="301" name="图片 38" descr="2.png"/>
            <p:cNvPicPr/>
            <p:nvPr/>
          </p:nvPicPr>
          <p:blipFill>
            <a:blip r:embed="rId9"/>
            <a:stretch/>
          </p:blipFill>
          <p:spPr>
            <a:xfrm rot="2853600">
              <a:off x="2043000" y="2801160"/>
              <a:ext cx="13248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39" descr="2.png"/>
            <p:cNvPicPr/>
            <p:nvPr/>
          </p:nvPicPr>
          <p:blipFill>
            <a:blip r:embed="rId10"/>
            <a:stretch/>
          </p:blipFill>
          <p:spPr>
            <a:xfrm rot="10256400">
              <a:off x="4360680" y="1739520"/>
              <a:ext cx="13251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40" descr="2.png"/>
            <p:cNvPicPr/>
            <p:nvPr/>
          </p:nvPicPr>
          <p:blipFill>
            <a:blip r:embed="rId11"/>
            <a:stretch/>
          </p:blipFill>
          <p:spPr>
            <a:xfrm rot="17634000">
              <a:off x="4163400" y="4218480"/>
              <a:ext cx="1324800" cy="10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3357720" y="2071800"/>
            <a:ext cx="2143080" cy="2581200"/>
            <a:chOff x="3357720" y="2071800"/>
            <a:chExt cx="2143080" cy="2581200"/>
          </a:xfrm>
        </p:grpSpPr>
        <p:sp>
          <p:nvSpPr>
            <p:cNvPr id="305" name="TextBox 47"/>
            <p:cNvSpPr/>
            <p:nvPr/>
          </p:nvSpPr>
          <p:spPr>
            <a:xfrm>
              <a:off x="3357720" y="207180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Box 48"/>
            <p:cNvSpPr/>
            <p:nvPr/>
          </p:nvSpPr>
          <p:spPr>
            <a:xfrm>
              <a:off x="5072400" y="31431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Box 49"/>
            <p:cNvSpPr/>
            <p:nvPr/>
          </p:nvSpPr>
          <p:spPr>
            <a:xfrm>
              <a:off x="3357720" y="40716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50"/>
            <p:cNvSpPr/>
            <p:nvPr/>
          </p:nvSpPr>
          <p:spPr>
            <a:xfrm>
              <a:off x="3571920" y="31716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57120" y="500040"/>
            <a:ext cx="2806560" cy="642960"/>
            <a:chOff x="357120" y="500040"/>
            <a:chExt cx="2806560" cy="642960"/>
          </a:xfrm>
        </p:grpSpPr>
        <p:sp>
          <p:nvSpPr>
            <p:cNvPr id="310" name="TextBox 3"/>
            <p:cNvSpPr/>
            <p:nvPr/>
          </p:nvSpPr>
          <p:spPr>
            <a:xfrm>
              <a:off x="1519920" y="5000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1" name="图片 53" descr="4.png"/>
            <p:cNvPicPr/>
            <p:nvPr/>
          </p:nvPicPr>
          <p:blipFill>
            <a:blip r:embed="rId12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-853920" y="1986120"/>
            <a:ext cx="4140000" cy="1371600"/>
            <a:chOff x="-853920" y="1986120"/>
            <a:chExt cx="4140000" cy="1371600"/>
          </a:xfrm>
        </p:grpSpPr>
        <p:sp>
          <p:nvSpPr>
            <p:cNvPr id="313" name="平行四边形 45"/>
            <p:cNvSpPr/>
            <p:nvPr/>
          </p:nvSpPr>
          <p:spPr>
            <a:xfrm>
              <a:off x="-853920" y="1986120"/>
              <a:ext cx="4140000" cy="1371600"/>
            </a:xfrm>
            <a:prstGeom prst="parallelogram">
              <a:avLst>
                <a:gd name="adj" fmla="val 5881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cc">
                    <a:alpha val="0"/>
                  </a:srgbClr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54"/>
            <p:cNvSpPr/>
            <p:nvPr/>
          </p:nvSpPr>
          <p:spPr>
            <a:xfrm>
              <a:off x="471600" y="23432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-792000" y="3500280"/>
            <a:ext cx="4006800" cy="1371600"/>
            <a:chOff x="-792000" y="3500280"/>
            <a:chExt cx="4006800" cy="1371600"/>
          </a:xfrm>
        </p:grpSpPr>
        <p:sp>
          <p:nvSpPr>
            <p:cNvPr id="316" name="平行四边形 44"/>
            <p:cNvSpPr/>
            <p:nvPr/>
          </p:nvSpPr>
          <p:spPr>
            <a:xfrm flipH="1">
              <a:off x="-792000" y="3500280"/>
              <a:ext cx="4006800" cy="1371600"/>
            </a:xfrm>
            <a:prstGeom prst="parallelogram">
              <a:avLst>
                <a:gd name="adj" fmla="val 5385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cc">
                    <a:alpha val="0"/>
                  </a:srgbClr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55"/>
            <p:cNvSpPr/>
            <p:nvPr/>
          </p:nvSpPr>
          <p:spPr>
            <a:xfrm>
              <a:off x="471960" y="41432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2080" y="2714760"/>
            <a:ext cx="4000680" cy="1428480"/>
            <a:chOff x="5572080" y="2714760"/>
            <a:chExt cx="4000680" cy="1428480"/>
          </a:xfrm>
        </p:grpSpPr>
        <p:sp>
          <p:nvSpPr>
            <p:cNvPr id="319" name="燕尾形 46"/>
            <p:cNvSpPr/>
            <p:nvPr/>
          </p:nvSpPr>
          <p:spPr>
            <a:xfrm>
              <a:off x="5572080" y="2714760"/>
              <a:ext cx="4000680" cy="142848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cc">
                    <a:alpha val="0"/>
                  </a:srgbClr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TextBox 56"/>
            <p:cNvSpPr/>
            <p:nvPr/>
          </p:nvSpPr>
          <p:spPr>
            <a:xfrm>
              <a:off x="6685200" y="321480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6120" y="1145520"/>
            <a:ext cx="2977560" cy="952200"/>
            <a:chOff x="186120" y="1145520"/>
            <a:chExt cx="2977560" cy="952200"/>
          </a:xfrm>
        </p:grpSpPr>
        <p:sp>
          <p:nvSpPr>
            <p:cNvPr id="322" name="TextBox 3"/>
            <p:cNvSpPr/>
            <p:nvPr/>
          </p:nvSpPr>
          <p:spPr>
            <a:xfrm>
              <a:off x="1519920" y="12142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3" name="图片 13" descr="2.png"/>
            <p:cNvPicPr/>
            <p:nvPr/>
          </p:nvPicPr>
          <p:blipFill>
            <a:blip r:embed="rId2"/>
            <a:stretch/>
          </p:blipFill>
          <p:spPr>
            <a:xfrm rot="1422600">
              <a:off x="285480" y="1285560"/>
              <a:ext cx="838080" cy="6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TextBox 6"/>
          <p:cNvSpPr/>
          <p:nvPr/>
        </p:nvSpPr>
        <p:spPr>
          <a:xfrm>
            <a:off x="7866000" y="62737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43280" y="2357280"/>
            <a:ext cx="3214800" cy="1143000"/>
            <a:chOff x="4643280" y="2357280"/>
            <a:chExt cx="3214800" cy="1143000"/>
          </a:xfrm>
        </p:grpSpPr>
        <p:sp>
          <p:nvSpPr>
            <p:cNvPr id="326" name="圆角矩形 16"/>
            <p:cNvSpPr/>
            <p:nvPr/>
          </p:nvSpPr>
          <p:spPr>
            <a:xfrm>
              <a:off x="4643280" y="235728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20"/>
            <p:cNvSpPr/>
            <p:nvPr/>
          </p:nvSpPr>
          <p:spPr>
            <a:xfrm>
              <a:off x="5490720" y="25714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279440" y="2374920"/>
            <a:ext cx="3214800" cy="1143000"/>
            <a:chOff x="1279440" y="2374920"/>
            <a:chExt cx="3214800" cy="1143000"/>
          </a:xfrm>
        </p:grpSpPr>
        <p:sp>
          <p:nvSpPr>
            <p:cNvPr id="329" name="圆角矩形 22"/>
            <p:cNvSpPr/>
            <p:nvPr/>
          </p:nvSpPr>
          <p:spPr>
            <a:xfrm>
              <a:off x="1279440" y="237492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Box 24"/>
            <p:cNvSpPr/>
            <p:nvPr/>
          </p:nvSpPr>
          <p:spPr>
            <a:xfrm>
              <a:off x="2205360" y="26290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643280" y="3682800"/>
            <a:ext cx="3214800" cy="1143000"/>
            <a:chOff x="4643280" y="3682800"/>
            <a:chExt cx="3214800" cy="1143000"/>
          </a:xfrm>
        </p:grpSpPr>
        <p:sp>
          <p:nvSpPr>
            <p:cNvPr id="332" name="圆角矩形 30"/>
            <p:cNvSpPr/>
            <p:nvPr/>
          </p:nvSpPr>
          <p:spPr>
            <a:xfrm rot="10800000">
              <a:off x="4643280" y="368280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Box 29"/>
            <p:cNvSpPr/>
            <p:nvPr/>
          </p:nvSpPr>
          <p:spPr>
            <a:xfrm>
              <a:off x="5443920" y="38638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285920" y="3657240"/>
            <a:ext cx="3214800" cy="1143000"/>
            <a:chOff x="1285920" y="3657240"/>
            <a:chExt cx="3214800" cy="1143000"/>
          </a:xfrm>
        </p:grpSpPr>
        <p:sp>
          <p:nvSpPr>
            <p:cNvPr id="335" name="圆角矩形 35"/>
            <p:cNvSpPr/>
            <p:nvPr/>
          </p:nvSpPr>
          <p:spPr>
            <a:xfrm rot="10800000">
              <a:off x="1285920" y="365724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Box 34"/>
            <p:cNvSpPr/>
            <p:nvPr/>
          </p:nvSpPr>
          <p:spPr>
            <a:xfrm>
              <a:off x="2205720" y="385704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85880" y="2708280"/>
            <a:ext cx="714240" cy="685800"/>
            <a:chOff x="785880" y="2708280"/>
            <a:chExt cx="714240" cy="685800"/>
          </a:xfrm>
        </p:grpSpPr>
        <p:pic>
          <p:nvPicPr>
            <p:cNvPr id="338" name="图片 37" descr="4.png"/>
            <p:cNvPicPr/>
            <p:nvPr/>
          </p:nvPicPr>
          <p:blipFill>
            <a:blip r:embed="rId3"/>
            <a:stretch/>
          </p:blipFill>
          <p:spPr>
            <a:xfrm>
              <a:off x="785880" y="2708280"/>
              <a:ext cx="714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38"/>
            <p:cNvSpPr/>
            <p:nvPr/>
          </p:nvSpPr>
          <p:spPr>
            <a:xfrm>
              <a:off x="903960" y="28717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572240" y="2637000"/>
            <a:ext cx="714600" cy="685800"/>
            <a:chOff x="7572240" y="2637000"/>
            <a:chExt cx="714600" cy="685800"/>
          </a:xfrm>
        </p:grpSpPr>
        <p:pic>
          <p:nvPicPr>
            <p:cNvPr id="341" name="图片 41" descr="4.png"/>
            <p:cNvPicPr/>
            <p:nvPr/>
          </p:nvPicPr>
          <p:blipFill>
            <a:blip r:embed="rId4"/>
            <a:stretch/>
          </p:blipFill>
          <p:spPr>
            <a:xfrm>
              <a:off x="7572240" y="263700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42"/>
            <p:cNvSpPr/>
            <p:nvPr/>
          </p:nvSpPr>
          <p:spPr>
            <a:xfrm>
              <a:off x="7690680" y="28004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57160" y="3922560"/>
            <a:ext cx="714600" cy="685800"/>
            <a:chOff x="857160" y="3922560"/>
            <a:chExt cx="714600" cy="685800"/>
          </a:xfrm>
        </p:grpSpPr>
        <p:pic>
          <p:nvPicPr>
            <p:cNvPr id="344" name="图片 44" descr="4.png"/>
            <p:cNvPicPr/>
            <p:nvPr/>
          </p:nvPicPr>
          <p:blipFill>
            <a:blip r:embed="rId5"/>
            <a:stretch/>
          </p:blipFill>
          <p:spPr>
            <a:xfrm>
              <a:off x="85716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45"/>
            <p:cNvSpPr/>
            <p:nvPr/>
          </p:nvSpPr>
          <p:spPr>
            <a:xfrm>
              <a:off x="97560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572240" y="3922560"/>
            <a:ext cx="714600" cy="685800"/>
            <a:chOff x="7572240" y="3922560"/>
            <a:chExt cx="714600" cy="685800"/>
          </a:xfrm>
        </p:grpSpPr>
        <p:pic>
          <p:nvPicPr>
            <p:cNvPr id="347" name="图片 47" descr="4.png"/>
            <p:cNvPicPr/>
            <p:nvPr/>
          </p:nvPicPr>
          <p:blipFill>
            <a:blip r:embed="rId6"/>
            <a:stretch/>
          </p:blipFill>
          <p:spPr>
            <a:xfrm>
              <a:off x="757224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8"/>
            <p:cNvSpPr/>
            <p:nvPr/>
          </p:nvSpPr>
          <p:spPr>
            <a:xfrm>
              <a:off x="769068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894000" y="5302080"/>
            <a:ext cx="224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0099"/>
                </a:solidFill>
                <a:latin typeface="楷体"/>
                <a:ea typeface="楷体"/>
              </a:rPr>
              <a:t>来源</a:t>
            </a:r>
            <a:r>
              <a:rPr b="1" lang="zh-CN" sz="1800" spc="-1" strike="noStrike">
                <a:solidFill>
                  <a:srgbClr val="990099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7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214280" y="1704960"/>
            <a:ext cx="6076080" cy="2208240"/>
            <a:chOff x="1214280" y="1704960"/>
            <a:chExt cx="6076080" cy="2208240"/>
          </a:xfrm>
        </p:grpSpPr>
        <p:grpSp>
          <p:nvGrpSpPr>
            <p:cNvPr id="351" name=""/>
            <p:cNvGrpSpPr/>
            <p:nvPr/>
          </p:nvGrpSpPr>
          <p:grpSpPr>
            <a:xfrm>
              <a:off x="1352880" y="2779560"/>
              <a:ext cx="5010480" cy="1012680"/>
              <a:chOff x="1352880" y="2779560"/>
              <a:chExt cx="5010480" cy="1012680"/>
            </a:xfrm>
          </p:grpSpPr>
          <p:pic>
            <p:nvPicPr>
              <p:cNvPr id="352" name="对角圆角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2880" y="2779560"/>
                <a:ext cx="501048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1405440" y="2834640"/>
                <a:ext cx="4902840" cy="9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4" name="对角圆角矩形 16"/>
            <p:cNvSpPr/>
            <p:nvPr/>
          </p:nvSpPr>
          <p:spPr>
            <a:xfrm>
              <a:off x="1214280" y="2643120"/>
              <a:ext cx="5000040" cy="1000800"/>
            </a:xfrm>
            <a:prstGeom prst="pie">
              <a:avLst/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图片 8" descr="1.png"/>
            <p:cNvPicPr/>
            <p:nvPr/>
          </p:nvPicPr>
          <p:blipFill>
            <a:blip r:embed="rId3"/>
            <a:stretch/>
          </p:blipFill>
          <p:spPr>
            <a:xfrm rot="221400">
              <a:off x="6067440" y="1739880"/>
              <a:ext cx="11552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Box 17"/>
            <p:cNvSpPr/>
            <p:nvPr/>
          </p:nvSpPr>
          <p:spPr>
            <a:xfrm>
              <a:off x="2113560" y="278604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TextBox 19"/>
          <p:cNvSpPr/>
          <p:nvPr/>
        </p:nvSpPr>
        <p:spPr>
          <a:xfrm>
            <a:off x="1359360" y="1785960"/>
            <a:ext cx="17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在此输入正文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4280" y="3857760"/>
            <a:ext cx="5143680" cy="2060280"/>
            <a:chOff x="1214280" y="3857760"/>
            <a:chExt cx="5143680" cy="2060280"/>
          </a:xfrm>
        </p:grpSpPr>
        <p:grpSp>
          <p:nvGrpSpPr>
            <p:cNvPr id="359" name=""/>
            <p:cNvGrpSpPr/>
            <p:nvPr/>
          </p:nvGrpSpPr>
          <p:grpSpPr>
            <a:xfrm>
              <a:off x="1352880" y="3992760"/>
              <a:ext cx="5005080" cy="1012320"/>
              <a:chOff x="1352880" y="3992760"/>
              <a:chExt cx="5005080" cy="1012320"/>
            </a:xfrm>
          </p:grpSpPr>
          <p:pic>
            <p:nvPicPr>
              <p:cNvPr id="360" name="对角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52880" y="3992760"/>
                <a:ext cx="5005080" cy="101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1405440" y="4048920"/>
                <a:ext cx="4897440" cy="90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2" name="对角圆角矩形 23"/>
            <p:cNvSpPr/>
            <p:nvPr/>
          </p:nvSpPr>
          <p:spPr>
            <a:xfrm>
              <a:off x="1214280" y="3857760"/>
              <a:ext cx="4995000" cy="1000440"/>
            </a:xfrm>
            <a:prstGeom prst="pie">
              <a:avLst/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3" name="图片 24" descr="1.png"/>
            <p:cNvPicPr/>
            <p:nvPr/>
          </p:nvPicPr>
          <p:blipFill>
            <a:blip r:embed="rId5"/>
            <a:stretch/>
          </p:blipFill>
          <p:spPr>
            <a:xfrm flipH="1" rot="16048800">
              <a:off x="4650480" y="4229280"/>
              <a:ext cx="1155960" cy="21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2111760" y="400068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366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26" descr="4.png"/>
            <p:cNvPicPr/>
            <p:nvPr/>
          </p:nvPicPr>
          <p:blipFill>
            <a:blip r:embed="rId6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梯形 6"/>
          <p:cNvSpPr/>
          <p:nvPr/>
        </p:nvSpPr>
        <p:spPr>
          <a:xfrm>
            <a:off x="2428920" y="3143160"/>
            <a:ext cx="192888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梯形 7"/>
          <p:cNvSpPr/>
          <p:nvPr/>
        </p:nvSpPr>
        <p:spPr>
          <a:xfrm rot="10800000">
            <a:off x="4286160" y="3142800"/>
            <a:ext cx="192888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梯形 8"/>
          <p:cNvSpPr/>
          <p:nvPr/>
        </p:nvSpPr>
        <p:spPr>
          <a:xfrm rot="10800000">
            <a:off x="571320" y="3142800"/>
            <a:ext cx="192852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梯形 9"/>
          <p:cNvSpPr/>
          <p:nvPr/>
        </p:nvSpPr>
        <p:spPr>
          <a:xfrm>
            <a:off x="6143760" y="3143160"/>
            <a:ext cx="192852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11" descr="4.png"/>
          <p:cNvPicPr/>
          <p:nvPr/>
        </p:nvPicPr>
        <p:blipFill>
          <a:blip r:embed="rId2"/>
          <a:stretch/>
        </p:blipFill>
        <p:spPr>
          <a:xfrm>
            <a:off x="214308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12" descr="4.png"/>
          <p:cNvPicPr/>
          <p:nvPr/>
        </p:nvPicPr>
        <p:blipFill>
          <a:blip r:embed="rId3"/>
          <a:stretch/>
        </p:blipFill>
        <p:spPr>
          <a:xfrm>
            <a:off x="35712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13" descr="4.png"/>
          <p:cNvPicPr/>
          <p:nvPr/>
        </p:nvPicPr>
        <p:blipFill>
          <a:blip r:embed="rId4"/>
          <a:stretch/>
        </p:blipFill>
        <p:spPr>
          <a:xfrm>
            <a:off x="4071960" y="3286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14" descr="4.png"/>
          <p:cNvPicPr/>
          <p:nvPr/>
        </p:nvPicPr>
        <p:blipFill>
          <a:blip r:embed="rId5"/>
          <a:stretch/>
        </p:blipFill>
        <p:spPr>
          <a:xfrm>
            <a:off x="5929200" y="321480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6"/>
          <p:cNvSpPr/>
          <p:nvPr/>
        </p:nvSpPr>
        <p:spPr>
          <a:xfrm>
            <a:off x="1239840" y="328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304668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486756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9"/>
          <p:cNvSpPr/>
          <p:nvPr/>
        </p:nvSpPr>
        <p:spPr>
          <a:xfrm>
            <a:off x="669024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0" name="形状 29"/>
          <p:cNvCxnSpPr/>
          <p:nvPr/>
        </p:nvCxnSpPr>
        <p:spPr>
          <a:xfrm flipH="1" flipV="1" rot="5400000">
            <a:off x="879840" y="2118960"/>
            <a:ext cx="900720" cy="109116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1" name="形状 30"/>
          <p:cNvCxnSpPr/>
          <p:nvPr/>
        </p:nvCxnSpPr>
        <p:spPr>
          <a:xfrm rot="5400000">
            <a:off x="295740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2" name="形状 39"/>
          <p:cNvCxnSpPr/>
          <p:nvPr/>
        </p:nvCxnSpPr>
        <p:spPr>
          <a:xfrm rot="5400000">
            <a:off x="645768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3" name="形状 41"/>
          <p:cNvCxnSpPr/>
          <p:nvPr/>
        </p:nvCxnSpPr>
        <p:spPr>
          <a:xfrm flipH="1" flipV="1" rot="5400000">
            <a:off x="4738320" y="2118960"/>
            <a:ext cx="900720" cy="109152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grpSp>
        <p:nvGrpSpPr>
          <p:cNvPr id="384" name=""/>
          <p:cNvGrpSpPr/>
          <p:nvPr/>
        </p:nvGrpSpPr>
        <p:grpSpPr>
          <a:xfrm>
            <a:off x="285840" y="4143240"/>
            <a:ext cx="2571840" cy="1288800"/>
            <a:chOff x="285840" y="4143240"/>
            <a:chExt cx="2571840" cy="1288800"/>
          </a:xfrm>
        </p:grpSpPr>
        <p:grpSp>
          <p:nvGrpSpPr>
            <p:cNvPr id="385" name=""/>
            <p:cNvGrpSpPr/>
            <p:nvPr/>
          </p:nvGrpSpPr>
          <p:grpSpPr>
            <a:xfrm>
              <a:off x="285840" y="4143240"/>
              <a:ext cx="2571840" cy="1288800"/>
              <a:chOff x="285840" y="4143240"/>
              <a:chExt cx="2571840" cy="12888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285840" y="4143240"/>
                <a:ext cx="2571840" cy="1221120"/>
                <a:chOff x="285840" y="4143240"/>
                <a:chExt cx="2571840" cy="1221120"/>
              </a:xfrm>
            </p:grpSpPr>
            <p:pic>
              <p:nvPicPr>
                <p:cNvPr id="387" name="对角圆角矩形 4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5840" y="4143240"/>
                  <a:ext cx="2571840" cy="122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"/>
                <p:cNvSpPr/>
                <p:nvPr/>
              </p:nvSpPr>
              <p:spPr>
                <a:xfrm>
                  <a:off x="468000" y="4324680"/>
                  <a:ext cx="2205000" cy="85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89" name="图片 48" descr="1.png"/>
              <p:cNvPicPr/>
              <p:nvPr/>
            </p:nvPicPr>
            <p:blipFill>
              <a:blip r:embed="rId7"/>
              <a:stretch/>
            </p:blipFill>
            <p:spPr>
              <a:xfrm rot="16446600">
                <a:off x="579960" y="4489920"/>
                <a:ext cx="632880" cy="116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TextBox 54"/>
            <p:cNvSpPr/>
            <p:nvPr/>
          </p:nvSpPr>
          <p:spPr>
            <a:xfrm>
              <a:off x="1068840" y="4500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719000" y="1785960"/>
            <a:ext cx="2781720" cy="1301760"/>
            <a:chOff x="1719000" y="1785960"/>
            <a:chExt cx="2781720" cy="1301760"/>
          </a:xfrm>
        </p:grpSpPr>
        <p:grpSp>
          <p:nvGrpSpPr>
            <p:cNvPr id="392" name=""/>
            <p:cNvGrpSpPr/>
            <p:nvPr/>
          </p:nvGrpSpPr>
          <p:grpSpPr>
            <a:xfrm>
              <a:off x="1719000" y="1785960"/>
              <a:ext cx="2781720" cy="1301760"/>
              <a:chOff x="1719000" y="1785960"/>
              <a:chExt cx="2781720" cy="13017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857240" y="1785960"/>
                <a:ext cx="2643480" cy="1220040"/>
                <a:chOff x="1857240" y="1785960"/>
                <a:chExt cx="2643480" cy="1220040"/>
              </a:xfrm>
            </p:grpSpPr>
            <p:pic>
              <p:nvPicPr>
                <p:cNvPr id="394" name="对角圆角矩形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57240" y="1785960"/>
                  <a:ext cx="2643480" cy="122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2038680" y="1968840"/>
                  <a:ext cx="2280600" cy="85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96" name="图片 50" descr="1.png"/>
              <p:cNvPicPr/>
              <p:nvPr/>
            </p:nvPicPr>
            <p:blipFill>
              <a:blip r:embed="rId9"/>
              <a:stretch/>
            </p:blipFill>
            <p:spPr>
              <a:xfrm rot="924600">
                <a:off x="1862640" y="1854720"/>
                <a:ext cx="633240" cy="11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7" name="TextBox 58"/>
            <p:cNvSpPr/>
            <p:nvPr/>
          </p:nvSpPr>
          <p:spPr>
            <a:xfrm>
              <a:off x="2783160" y="2143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715000" y="1785960"/>
            <a:ext cx="2617200" cy="1252440"/>
            <a:chOff x="5715000" y="1785960"/>
            <a:chExt cx="2617200" cy="1252440"/>
          </a:xfrm>
        </p:grpSpPr>
        <p:grpSp>
          <p:nvGrpSpPr>
            <p:cNvPr id="399" name=""/>
            <p:cNvGrpSpPr/>
            <p:nvPr/>
          </p:nvGrpSpPr>
          <p:grpSpPr>
            <a:xfrm>
              <a:off x="5715000" y="1785960"/>
              <a:ext cx="2573280" cy="1214280"/>
              <a:chOff x="5715000" y="1785960"/>
              <a:chExt cx="2573280" cy="1214280"/>
            </a:xfrm>
          </p:grpSpPr>
          <p:pic>
            <p:nvPicPr>
              <p:cNvPr id="400" name="对角圆角矩形 4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15000" y="1785960"/>
                <a:ext cx="257328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5895360" y="1967760"/>
                <a:ext cx="2211480" cy="8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2" name="图片 52" descr="1.png"/>
            <p:cNvPicPr/>
            <p:nvPr/>
          </p:nvPicPr>
          <p:blipFill>
            <a:blip r:embed="rId11"/>
            <a:stretch/>
          </p:blipFill>
          <p:spPr>
            <a:xfrm flipH="1" rot="4801800">
              <a:off x="7387560" y="2043360"/>
              <a:ext cx="629640" cy="11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59"/>
            <p:cNvSpPr/>
            <p:nvPr/>
          </p:nvSpPr>
          <p:spPr>
            <a:xfrm>
              <a:off x="6355440" y="221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786120" y="4025160"/>
            <a:ext cx="2650680" cy="1357920"/>
            <a:chOff x="3786120" y="4025160"/>
            <a:chExt cx="2650680" cy="1357920"/>
          </a:xfrm>
        </p:grpSpPr>
        <p:grpSp>
          <p:nvGrpSpPr>
            <p:cNvPr id="405" name=""/>
            <p:cNvGrpSpPr/>
            <p:nvPr/>
          </p:nvGrpSpPr>
          <p:grpSpPr>
            <a:xfrm>
              <a:off x="3786120" y="4163040"/>
              <a:ext cx="2577960" cy="1220040"/>
              <a:chOff x="3786120" y="4163040"/>
              <a:chExt cx="2577960" cy="1220040"/>
            </a:xfrm>
          </p:grpSpPr>
          <p:pic>
            <p:nvPicPr>
              <p:cNvPr id="406" name="对角圆角矩形 46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86120" y="4163040"/>
                <a:ext cx="2577960" cy="12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3970080" y="4344480"/>
                <a:ext cx="221040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8" name="图片 51" descr="1.png"/>
            <p:cNvPicPr/>
            <p:nvPr/>
          </p:nvPicPr>
          <p:blipFill>
            <a:blip r:embed="rId13"/>
            <a:stretch/>
          </p:blipFill>
          <p:spPr>
            <a:xfrm rot="5119800">
              <a:off x="5510520" y="3801960"/>
              <a:ext cx="63252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60"/>
            <p:cNvSpPr/>
            <p:nvPr/>
          </p:nvSpPr>
          <p:spPr>
            <a:xfrm>
              <a:off x="4215960" y="4594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411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2" name="图片 67" descr="4.png"/>
            <p:cNvPicPr/>
            <p:nvPr/>
          </p:nvPicPr>
          <p:blipFill>
            <a:blip r:embed="rId14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8"/>
          <p:cNvSpPr/>
          <p:nvPr/>
        </p:nvSpPr>
        <p:spPr>
          <a:xfrm>
            <a:off x="3492720" y="2643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003e"/>
                </a:solidFill>
                <a:latin typeface="微软雅黑"/>
                <a:ea typeface="微软雅黑"/>
              </a:rPr>
              <a:t>谢谢大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图片 9" descr="小祥云.png"/>
          <p:cNvPicPr/>
          <p:nvPr/>
        </p:nvPicPr>
        <p:blipFill>
          <a:blip r:embed="rId2"/>
          <a:stretch/>
        </p:blipFill>
        <p:spPr>
          <a:xfrm>
            <a:off x="1643040" y="2500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2.png"/>
          <p:cNvPicPr/>
          <p:nvPr/>
        </p:nvPicPr>
        <p:blipFill>
          <a:blip r:embed="rId3"/>
          <a:stretch/>
        </p:blipFill>
        <p:spPr>
          <a:xfrm>
            <a:off x="5756400" y="3071880"/>
            <a:ext cx="129060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199440" y="6448320"/>
            <a:ext cx="17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c1e7c"/>
                </a:solidFill>
                <a:latin typeface="微软雅黑"/>
                <a:ea typeface="微软雅黑"/>
              </a:rPr>
              <a:t>JUNE-ZHENG </a:t>
            </a:r>
            <a:r>
              <a:rPr b="1" lang="zh-CN" sz="1600" spc="-1" strike="noStrike">
                <a:solidFill>
                  <a:srgbClr val="7c1e7c"/>
                </a:solidFill>
                <a:latin typeface="微软雅黑"/>
                <a:ea typeface="微软雅黑"/>
              </a:rPr>
              <a:t>作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0.48229 -0.00556 E">
                                      <p:cBhvr>
                                        <p:cTn id="138" dur="11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9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00"/>
                            </p:stCondLst>
                            <p:childTnLst>
                              <p:par>
                                <p:cTn id="1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E7EAD-104A-4057-A81E-FAE4E6E96F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1:14:52Z</dcterms:created>
  <dc:creator>玥</dc:creator>
  <dc:description/>
  <dc:language>en-US</dc:language>
  <cp:lastModifiedBy>玥</cp:lastModifiedBy>
  <dcterms:modified xsi:type="dcterms:W3CDTF">2015-07-04T06:01:48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