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880-6625-4A1B-AAF9-EE5E6440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323-D0AE-4F00-8E85-E4450891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EC4-3D96-41EB-9396-77CBBF52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D18-EE86-447F-90ED-3F930CEC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71B-79A7-4BD2-9AC6-1D117F8F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2D74-23DC-489A-974F-6030570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C51D-9439-41CF-9738-D20A7B9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FBA-36E4-43E0-A31E-107CAD7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3A1-9554-4813-B9D0-9A05AC1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8B65-842B-4223-923B-EB77D55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1FF-B713-47DF-A2D5-3F2ECFA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BA3-3B0D-4790-9C1D-EC846DF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E2A-E74F-4BB3-BA5B-A3F248A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C146-254C-4437-88FC-C224A89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7C6-7969-43E5-BBF7-8C43493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28F-FFA9-4932-8719-1C1D8CD0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686-EB8B-40F5-B826-B2CD0207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C45-CC20-4DE1-A867-7FBE671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F53-B7B0-46D8-8CBE-77A2717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ABD-A1DA-4B8C-9DD6-1347FDFE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EA1-4FD5-405B-9640-97557E86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F61-FD4B-49DB-BE11-DFFE601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C40-5556-483C-9BB8-842B39A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86B-B934-40F7-9D10-B617F52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4B5-19C0-4138-8A86-4208B46B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89A-D3A9-4CFC-B324-AE4E584B2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职业生涯规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08360" y="6165360"/>
            <a:ext cx="33130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匿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3429000"/>
            <a:ext cx="46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213372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9"/>
              </a:gs>
              <a:gs pos="50000">
                <a:srgbClr val="99cc00"/>
              </a:gs>
              <a:gs pos="100000">
                <a:srgbClr val="e9f4c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14680" y="220500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      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285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7760" y="29257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 我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573360"/>
            <a:ext cx="266400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9040" y="3645000"/>
            <a:ext cx="17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 境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429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436572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 涯 规 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5013360"/>
            <a:ext cx="266400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f2c6"/>
              </a:gs>
              <a:gs pos="50000">
                <a:srgbClr val="99cc00"/>
              </a:gs>
              <a:gs pos="100000">
                <a:srgbClr val="e7f2c6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71760" y="508644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 施 方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84360" y="765000"/>
            <a:ext cx="4103640" cy="799200"/>
            <a:chOff x="2484360" y="765000"/>
            <a:chExt cx="4103640" cy="799200"/>
          </a:xfrm>
        </p:grpSpPr>
        <p:sp>
          <p:nvSpPr>
            <p:cNvPr id="96" name=""/>
            <p:cNvSpPr/>
            <p:nvPr/>
          </p:nvSpPr>
          <p:spPr>
            <a:xfrm>
              <a:off x="2484360" y="765000"/>
              <a:ext cx="4103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6e7fe"/>
                </a:gs>
                <a:gs pos="50000">
                  <a:srgbClr val="0099ff"/>
                </a:gs>
                <a:gs pos="100000">
                  <a:srgbClr val="c6e7f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53280" y="86076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   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99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04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10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环境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15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涯规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120" name="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施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78E-1994-40EB-B14B-1A68574EA5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1:27:38Z</dcterms:created>
  <dc:creator/>
  <dc:description/>
  <dc:language>en-US</dc:language>
  <cp:lastModifiedBy/>
  <dcterms:modified xsi:type="dcterms:W3CDTF">2015-07-04T06:23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