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1D8-B8AE-4C48-A373-2753663A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A12-F7C8-4496-9635-A2C26D6E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2BC-9533-4C2B-B067-84FF5D1D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4A9-56D4-4500-909D-337DD3D5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B748-FC5C-4EED-908E-CBC5B230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BABC-8D40-437B-9F88-CA324CF5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3792-703B-41D0-B65D-C4E4C8F9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E964-C6F0-43EB-A1F2-21E3283A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07DA-DCFA-4596-9D43-3C45489C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224280" y="205704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A20E-F575-4805-AD43-2F41D6B7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6C19-C0AC-4810-99B4-B186BC94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03C-FF7F-494C-B113-D0869D36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17AE-1B49-44A2-A3DD-B73C198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0E61-7B2B-41E9-9064-1DC74294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5864-98A2-40F7-B01B-D571F9AF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2504-D02B-4E31-B015-D65E3670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16D0-161A-41CC-B417-980B1119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B6A7-AF10-460A-832C-17430A41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57136-8C15-4701-8D0E-B253F3D9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31FC-F718-4ED6-A9FC-3C314A8F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D277-EF30-47CA-B478-5F210BEC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E3C92-15CD-448D-826E-B1F57901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E68-811E-4C0F-B579-468A911F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-224280" y="205704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215E-D61A-4502-B839-6CE0FA92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A5D5-E6E9-4912-8206-32D1EF9F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F8039-AAAC-41B7-B96E-35A649DE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627F-2EE7-4F84-B15C-D3725A19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85CB-371E-4DC7-B03C-E5B9F0C7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B23F-9405-4D63-80E2-E5C4E228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4FF3-2361-4D4A-9F12-325BFFE0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9797-EBBE-43E7-B47F-827285B9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DA227-FA02-4B83-86BA-1E689EDB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70A3A-C581-403C-AFE8-DD188FA2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7B7-7B6A-438F-92A7-6E8ED44C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117E3-7394-456D-8D0D-B0A24096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FAC0E-D4CF-4B8F-9259-CE72820E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-224280" y="205704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2175D-8176-4643-9CBF-5A138507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82C14-613A-43A4-8152-989B1F02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F1673-4AE0-46E8-A71F-D017C4F8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728A6-E376-4CD0-A1E3-BD642AAC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5BBEB-2295-4D22-9F12-B6DD24CD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778D-6137-4553-A471-12F208A3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2E6F3-A51E-4B2C-AB3E-352B23F6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806-8703-4787-84DC-D28CBD67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-224280" y="205704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224280" y="205704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4DA-EFDB-4D9D-A419-3C8BA6E6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805-414F-405C-9CC9-AEFC629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9B7-58F6-4EF9-B476-E43B6E3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98C-B278-4A63-90CB-0E91BC5D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3440" y="6294240"/>
            <a:ext cx="1600200" cy="56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0666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7FCE-6288-413E-8752-AE6068176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BF1C-C174-4234-8BAB-2E8976E62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574A-AFE5-45B7-A7CA-B42BE159305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07736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8">
            <a:hlinkClick r:id="rId4"/>
          </p:cNvPr>
          <p:cNvSpPr/>
          <p:nvPr/>
        </p:nvSpPr>
        <p:spPr>
          <a:xfrm>
            <a:off x="2771640" y="2565360"/>
            <a:ext cx="3988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9" descr="图片2"/>
          <p:cNvPicPr/>
          <p:nvPr/>
        </p:nvPicPr>
        <p:blipFill>
          <a:blip r:embed="rId5"/>
          <a:stretch/>
        </p:blipFill>
        <p:spPr>
          <a:xfrm>
            <a:off x="304920" y="3276720"/>
            <a:ext cx="9153360" cy="35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图片3"/>
          <p:cNvPicPr/>
          <p:nvPr/>
        </p:nvPicPr>
        <p:blipFill>
          <a:blip r:embed="rId6"/>
          <a:stretch/>
        </p:blipFill>
        <p:spPr>
          <a:xfrm>
            <a:off x="2286000" y="3657600"/>
            <a:ext cx="470520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 algn="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 algn="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 algn="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 algn="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 algn="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9BE5-212C-48AD-9D2B-DF34FC41E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472480" y="2590920"/>
            <a:ext cx="455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英文报告范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07080" y="350532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312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义务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ompulsory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687960" y="2101320"/>
            <a:ext cx="707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小学入学率</a:t>
            </a:r>
            <a:r>
              <a:rPr b="0" lang="en-US" sz="2800" spc="-1" strike="noStrike">
                <a:solidFill>
                  <a:srgbClr val="003300"/>
                </a:solidFill>
                <a:latin typeface="隶书"/>
                <a:ea typeface="隶书"/>
              </a:rPr>
              <a:t>99.96</a:t>
            </a: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he current entry rate of primary school have reached 99.9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687240" y="3244320"/>
            <a:ext cx="6912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初中入学率</a:t>
            </a:r>
            <a:r>
              <a:rPr b="0" lang="en-US" sz="2800" spc="-1" strike="noStrike">
                <a:solidFill>
                  <a:srgbClr val="003300"/>
                </a:solidFill>
                <a:latin typeface="隶书"/>
                <a:ea typeface="隶书"/>
              </a:rPr>
              <a:t>99.63</a:t>
            </a: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he current entry rate of middle school have reached 99.6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304920" y="228600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304920" y="342900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1371600" y="4508640"/>
            <a:ext cx="2057400" cy="90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Calibri"/>
                <a:ea typeface="Arial"/>
              </a:rPr>
              <a:t>义务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alibri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dddddd"/>
                </a:solidFill>
                <a:latin typeface="Calibri"/>
                <a:ea typeface="Arial"/>
              </a:rPr>
              <a:t>Compulsory Education</a:t>
            </a:r>
            <a:r>
              <a:rPr b="1" lang="en-US" sz="2400" spc="-1" strike="noStrike">
                <a:solidFill>
                  <a:srgbClr val="dddddd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4248000" y="4952880"/>
            <a:ext cx="1924200" cy="90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dddddd"/>
                </a:solidFill>
                <a:latin typeface="Calibri"/>
                <a:ea typeface="Arial"/>
              </a:rPr>
              <a:t>均衡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alibri"/>
                <a:ea typeface="Arial"/>
              </a:rPr>
              <a:t>   </a:t>
            </a:r>
            <a:r>
              <a:rPr b="1" i="1" lang="en-US" sz="2400" spc="-1" strike="noStrike">
                <a:solidFill>
                  <a:srgbClr val="dddddd"/>
                </a:solidFill>
                <a:latin typeface="Calibri"/>
                <a:ea typeface="Arial"/>
              </a:rPr>
              <a:t>Balance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高中阶段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High School Educ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219320" y="1844280"/>
            <a:ext cx="4876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毛入学率为</a:t>
            </a:r>
            <a:r>
              <a:rPr b="0" lang="en-US" sz="2800" spc="-1" strike="noStrike">
                <a:solidFill>
                  <a:srgbClr val="003300"/>
                </a:solidFill>
                <a:latin typeface="隶书"/>
                <a:ea typeface="隶书"/>
              </a:rPr>
              <a:t>87.2</a:t>
            </a: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新宋体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87.2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新宋体"/>
              </a:rPr>
              <a:t>％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gross entranc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1240200" y="2712600"/>
            <a:ext cx="6186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普通高中教育与中等职业教育谐调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high school education and junior vocational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developing coordinat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8"/>
          <p:cNvSpPr/>
          <p:nvPr/>
        </p:nvSpPr>
        <p:spPr>
          <a:xfrm>
            <a:off x="685800" y="213372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9"/>
          <p:cNvSpPr/>
          <p:nvPr/>
        </p:nvSpPr>
        <p:spPr>
          <a:xfrm>
            <a:off x="685800" y="313848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1265760" y="4110840"/>
            <a:ext cx="31006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享受国家助学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enjoying the state grants</a:t>
            </a: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685800" y="417672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1219320" y="4876920"/>
            <a:ext cx="44956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隶书"/>
                <a:ea typeface="隶书"/>
              </a:rPr>
              <a:t>90</a:t>
            </a:r>
            <a:r>
              <a:rPr b="0" lang="zh-CN" sz="2400" spc="-1" strike="noStrike">
                <a:solidFill>
                  <a:srgbClr val="003300"/>
                </a:solidFill>
                <a:latin typeface="隶书"/>
                <a:ea typeface="隶书"/>
              </a:rPr>
              <a:t>％以上中职在校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90% junior vocational school stud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隶书"/>
                <a:ea typeface="隶书"/>
              </a:rPr>
              <a:t>20%</a:t>
            </a:r>
            <a:r>
              <a:rPr b="0" lang="zh-CN" sz="2400" spc="-1" strike="noStrike">
                <a:solidFill>
                  <a:srgbClr val="003300"/>
                </a:solidFill>
                <a:latin typeface="隶书"/>
                <a:ea typeface="隶书"/>
              </a:rPr>
              <a:t>的普通高中在校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20% high school stud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760680" y="594720"/>
            <a:ext cx="369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各阶段教育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All levels of education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80880" y="1905120"/>
          <a:ext cx="7010280" cy="3940200"/>
        </p:xfrm>
        <a:graphic>
          <a:graphicData uri="http://schemas.openxmlformats.org/drawingml/2006/table">
            <a:tbl>
              <a:tblPr/>
              <a:tblGrid>
                <a:gridCol w="1665360"/>
                <a:gridCol w="1365120"/>
                <a:gridCol w="2205000"/>
                <a:gridCol w="177480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类  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校（园）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school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在校（园）学生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students in schoo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专任教师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teach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幼儿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kindergart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4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Times New Roman"/>
                        </a:rPr>
                        <a:t>1118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Times New Roman"/>
                        </a:rPr>
                        <a:t>384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小  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Primaryscho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77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36555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1960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初 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junior 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2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2180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1568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普通高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senior 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6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1237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71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合  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宋体"/>
                          <a:ea typeface="Arial"/>
                        </a:rPr>
                        <a:t>14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宋体"/>
                          <a:ea typeface="Arial"/>
                        </a:rPr>
                        <a:t>8192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宋体"/>
                          <a:ea typeface="Arial"/>
                        </a:rPr>
                        <a:t>462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</a:tbl>
          </a:graphicData>
        </a:graphic>
      </p:graphicFrame>
      <p:pic>
        <p:nvPicPr>
          <p:cNvPr id="295" name="Picture 7" descr="SM057"/>
          <p:cNvPicPr/>
          <p:nvPr/>
        </p:nvPicPr>
        <p:blipFill>
          <a:blip r:embed="rId2"/>
          <a:stretch/>
        </p:blipFill>
        <p:spPr>
          <a:xfrm>
            <a:off x="361800" y="838080"/>
            <a:ext cx="476280" cy="38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380880" y="68580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4649"/>
                </a:solidFill>
                <a:latin typeface="隶书"/>
                <a:ea typeface="隶书"/>
              </a:rPr>
              <a:t>四、基础教育改革和发展的主要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3424320" y="281448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505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3657600" y="2676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056a"/>
              </a:gs>
              <a:gs pos="50000">
                <a:srgbClr val="fcb6ed"/>
              </a:gs>
              <a:gs pos="100000">
                <a:srgbClr val="8505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 flipH="1">
            <a:off x="5333400" y="2752560"/>
            <a:ext cx="73080" cy="144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 flipH="1">
            <a:off x="3742560" y="2743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5934240" y="231300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6149880" y="2170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0"/>
          <p:cNvSpPr/>
          <p:nvPr/>
        </p:nvSpPr>
        <p:spPr>
          <a:xfrm flipH="1">
            <a:off x="7835040" y="2241720"/>
            <a:ext cx="71640" cy="142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 flipH="1">
            <a:off x="6253200" y="2241720"/>
            <a:ext cx="71280" cy="142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2"/>
          <p:cNvSpPr/>
          <p:nvPr/>
        </p:nvSpPr>
        <p:spPr>
          <a:xfrm>
            <a:off x="2492280" y="1600200"/>
            <a:ext cx="1467000" cy="1157400"/>
          </a:xfrm>
          <a:prstGeom prst="pie">
            <a:avLst/>
          </a:prstGeom>
          <a:gradFill rotWithShape="0">
            <a:gsLst>
              <a:gs pos="0">
                <a:srgbClr val="99cc00"/>
              </a:gs>
              <a:gs pos="100000">
                <a:srgbClr val="fcb6ed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14400" y="3076560"/>
            <a:ext cx="2295360" cy="3324240"/>
            <a:chOff x="914400" y="3076560"/>
            <a:chExt cx="2295360" cy="3324240"/>
          </a:xfrm>
        </p:grpSpPr>
        <p:sp>
          <p:nvSpPr>
            <p:cNvPr id="307" name="AutoShape 16"/>
            <p:cNvSpPr/>
            <p:nvPr/>
          </p:nvSpPr>
          <p:spPr>
            <a:xfrm>
              <a:off x="914400" y="32446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7"/>
            <p:cNvSpPr/>
            <p:nvPr/>
          </p:nvSpPr>
          <p:spPr>
            <a:xfrm>
              <a:off x="1130400" y="3102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4f00"/>
                </a:gs>
                <a:gs pos="50000">
                  <a:srgbClr val="99cc00"/>
                </a:gs>
                <a:gs pos="100000">
                  <a:srgbClr val="3b4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8"/>
            <p:cNvSpPr/>
            <p:nvPr/>
          </p:nvSpPr>
          <p:spPr>
            <a:xfrm flipH="1">
              <a:off x="2813760" y="31734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9"/>
            <p:cNvSpPr/>
            <p:nvPr/>
          </p:nvSpPr>
          <p:spPr>
            <a:xfrm flipH="1">
              <a:off x="1231200" y="31734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20"/>
            <p:cNvSpPr/>
            <p:nvPr/>
          </p:nvSpPr>
          <p:spPr>
            <a:xfrm>
              <a:off x="1962000" y="30765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990720" y="350532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800" spc="-1" strike="noStrike">
                  <a:solidFill>
                    <a:srgbClr val="fcb6ed"/>
                  </a:solidFill>
                  <a:latin typeface="Arial"/>
                </a:rPr>
                <a:t>♀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四大工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800" spc="-1" strike="noStrike">
                  <a:solidFill>
                    <a:srgbClr val="fcb6ed"/>
                  </a:solidFill>
                  <a:latin typeface="Arial"/>
                </a:rPr>
                <a:t>♀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两项机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22"/>
          <p:cNvSpPr/>
          <p:nvPr/>
        </p:nvSpPr>
        <p:spPr>
          <a:xfrm>
            <a:off x="3505320" y="30481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92d050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调整、改革基础教育的课程体系、结构、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92d050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建符合素质教育要求的新的基础教育课程体系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6019920" y="2438280"/>
            <a:ext cx="213336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cb6ed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前教育三年行动计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cb6ed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办幼儿园建设工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cb6ed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建和改扩建幼儿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cb6ed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幼儿园园长和教师培训提高工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cb6ed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前教育工作奖励计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8"/>
          <p:cNvSpPr/>
          <p:nvPr/>
        </p:nvSpPr>
        <p:spPr>
          <a:xfrm>
            <a:off x="1306800" y="26805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推进义务教育均衡发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4"/>
          <p:cNvSpPr/>
          <p:nvPr/>
        </p:nvSpPr>
        <p:spPr>
          <a:xfrm>
            <a:off x="3802320" y="22852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施基础教育课程改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8"/>
          <p:cNvSpPr/>
          <p:nvPr/>
        </p:nvSpPr>
        <p:spPr>
          <a:xfrm>
            <a:off x="6452640" y="18280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力发展学前教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2"/>
          <p:cNvSpPr/>
          <p:nvPr/>
        </p:nvSpPr>
        <p:spPr>
          <a:xfrm>
            <a:off x="5315040" y="1219320"/>
            <a:ext cx="1466640" cy="1157040"/>
          </a:xfrm>
          <a:prstGeom prst="pie">
            <a:avLst/>
          </a:prstGeom>
          <a:gradFill rotWithShape="0">
            <a:gsLst>
              <a:gs pos="0">
                <a:srgbClr val="fcb6ed"/>
              </a:gs>
              <a:gs pos="100000">
                <a:srgbClr val="99cc00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3"/>
          <p:cNvSpPr/>
          <p:nvPr/>
        </p:nvSpPr>
        <p:spPr>
          <a:xfrm>
            <a:off x="3808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4649"/>
                </a:solidFill>
                <a:latin typeface="隶书"/>
                <a:ea typeface="隶书"/>
              </a:rPr>
              <a:t>四、基础教育改革和发展的主要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The Elementary Education Reform and Main Res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304920" y="6842160"/>
            <a:ext cx="2133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14400" y="1981080"/>
            <a:ext cx="2596680" cy="4586040"/>
            <a:chOff x="914400" y="1981080"/>
            <a:chExt cx="2596680" cy="4586040"/>
          </a:xfrm>
        </p:grpSpPr>
        <p:sp>
          <p:nvSpPr>
            <p:cNvPr id="322" name="AutoShape 4"/>
            <p:cNvSpPr/>
            <p:nvPr/>
          </p:nvSpPr>
          <p:spPr>
            <a:xfrm>
              <a:off x="914400" y="2325960"/>
              <a:ext cx="2589120" cy="3251520"/>
            </a:xfrm>
            <a:custGeom>
              <a:avLst/>
              <a:gdLst>
                <a:gd name="textAreaLeft" fmla="*/ 132480 w 2589120"/>
                <a:gd name="textAreaRight" fmla="*/ 2456640 w 2589120"/>
                <a:gd name="textAreaTop" fmla="*/ 132480 h 3251520"/>
                <a:gd name="textAreaBottom" fmla="*/ 3119040 h 3251520"/>
              </a:gdLst>
              <a:ahLst/>
              <a:rect l="textAreaLeft" t="textAreaTop" r="textAreaRight" b="textAreaBottom"/>
              <a:pathLst>
                <a:path w="21600" h="27125">
                  <a:moveTo>
                    <a:pt x="3782" y="0"/>
                  </a:moveTo>
                  <a:arcTo wR="3782" hR="3782" stAng="16200000" swAng="-5400000"/>
                  <a:lnTo>
                    <a:pt x="0" y="23343"/>
                  </a:lnTo>
                  <a:arcTo wR="3782" hR="3782" stAng="10800000" swAng="-5400000"/>
                  <a:lnTo>
                    <a:pt x="17818" y="271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5"/>
            <p:cNvSpPr/>
            <p:nvPr/>
          </p:nvSpPr>
          <p:spPr>
            <a:xfrm>
              <a:off x="954360" y="2334960"/>
              <a:ext cx="2511000" cy="3189960"/>
            </a:xfrm>
            <a:custGeom>
              <a:avLst/>
              <a:gdLst>
                <a:gd name="textAreaLeft" fmla="*/ 122400 w 2511000"/>
                <a:gd name="textAreaRight" fmla="*/ 2388600 w 2511000"/>
                <a:gd name="textAreaTop" fmla="*/ 122400 h 3189960"/>
                <a:gd name="textAreaBottom" fmla="*/ 3067560 h 3189960"/>
              </a:gdLst>
              <a:ahLst/>
              <a:rect l="textAreaLeft" t="textAreaTop" r="textAreaRight" b="textAreaBottom"/>
              <a:pathLst>
                <a:path w="21600" h="27440">
                  <a:moveTo>
                    <a:pt x="3600" y="0"/>
                  </a:moveTo>
                  <a:arcTo wR="3600" hR="3600" stAng="16200000" swAng="-5400000"/>
                  <a:lnTo>
                    <a:pt x="0" y="23840"/>
                  </a:lnTo>
                  <a:arcTo wR="3600" hR="3600" stAng="10800000" swAng="-5400000"/>
                  <a:lnTo>
                    <a:pt x="18000" y="274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6"/>
            <p:cNvSpPr/>
            <p:nvPr/>
          </p:nvSpPr>
          <p:spPr>
            <a:xfrm>
              <a:off x="974880" y="4683240"/>
              <a:ext cx="2477160" cy="80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7"/>
            <p:cNvSpPr/>
            <p:nvPr/>
          </p:nvSpPr>
          <p:spPr>
            <a:xfrm>
              <a:off x="974880" y="2360160"/>
              <a:ext cx="2477160" cy="805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>
              <a:off x="921960" y="5577480"/>
              <a:ext cx="2589120" cy="989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9"/>
            <p:cNvSpPr/>
            <p:nvPr/>
          </p:nvSpPr>
          <p:spPr>
            <a:xfrm>
              <a:off x="974880" y="5604480"/>
              <a:ext cx="2477160" cy="87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07200" y="1981080"/>
              <a:ext cx="767160" cy="708120"/>
              <a:chOff x="1807200" y="1981080"/>
              <a:chExt cx="767160" cy="708120"/>
            </a:xfrm>
          </p:grpSpPr>
          <p:sp>
            <p:nvSpPr>
              <p:cNvPr id="329" name="Oval 11"/>
              <p:cNvSpPr/>
              <p:nvPr/>
            </p:nvSpPr>
            <p:spPr>
              <a:xfrm>
                <a:off x="1807200" y="2100240"/>
                <a:ext cx="767160" cy="480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12"/>
              <p:cNvSpPr/>
              <p:nvPr/>
            </p:nvSpPr>
            <p:spPr>
              <a:xfrm>
                <a:off x="1812600" y="1981080"/>
                <a:ext cx="744120" cy="708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13"/>
              <p:cNvSpPr/>
              <p:nvPr/>
            </p:nvSpPr>
            <p:spPr>
              <a:xfrm>
                <a:off x="1821960" y="1985400"/>
                <a:ext cx="726840" cy="690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14"/>
              <p:cNvSpPr/>
              <p:nvPr/>
            </p:nvSpPr>
            <p:spPr>
              <a:xfrm>
                <a:off x="1829880" y="1991880"/>
                <a:ext cx="691200" cy="644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15"/>
              <p:cNvSpPr/>
              <p:nvPr/>
            </p:nvSpPr>
            <p:spPr>
              <a:xfrm>
                <a:off x="1870560" y="2009520"/>
                <a:ext cx="613800" cy="524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16"/>
            <p:cNvSpPr/>
            <p:nvPr/>
          </p:nvSpPr>
          <p:spPr>
            <a:xfrm>
              <a:off x="2005920" y="2080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1005480" y="2842200"/>
              <a:ext cx="24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r>
                <a:rPr b="1" lang="zh-CN" sz="1400" spc="-1" strike="noStrike">
                  <a:solidFill>
                    <a:srgbClr val="003300"/>
                  </a:solidFill>
                  <a:latin typeface="Verdana"/>
                </a:rPr>
                <a:t>、</a:t>
              </a: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4 educational  projec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2</a:t>
              </a:r>
              <a:r>
                <a:rPr b="1" lang="zh-CN" sz="1400" spc="-1" strike="noStrike">
                  <a:solidFill>
                    <a:srgbClr val="003300"/>
                  </a:solidFill>
                  <a:latin typeface="Arial"/>
                </a:rPr>
                <a:t>、</a:t>
              </a: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2 task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252960" y="1944720"/>
            <a:ext cx="2593440" cy="4586040"/>
            <a:chOff x="3252960" y="1944720"/>
            <a:chExt cx="2593440" cy="4586040"/>
          </a:xfrm>
        </p:grpSpPr>
        <p:sp>
          <p:nvSpPr>
            <p:cNvPr id="337" name="AutoShape 19"/>
            <p:cNvSpPr/>
            <p:nvPr/>
          </p:nvSpPr>
          <p:spPr>
            <a:xfrm>
              <a:off x="3252960" y="2289600"/>
              <a:ext cx="2589840" cy="3251520"/>
            </a:xfrm>
            <a:custGeom>
              <a:avLst/>
              <a:gdLst>
                <a:gd name="textAreaLeft" fmla="*/ 132480 w 2589840"/>
                <a:gd name="textAreaRight" fmla="*/ 2457360 w 2589840"/>
                <a:gd name="textAreaTop" fmla="*/ 132480 h 3251520"/>
                <a:gd name="textAreaBottom" fmla="*/ 3119040 h 3251520"/>
              </a:gdLst>
              <a:ahLst/>
              <a:rect l="textAreaLeft" t="textAreaTop" r="textAreaRight" b="textAreaBottom"/>
              <a:pathLst>
                <a:path w="21600" h="27118">
                  <a:moveTo>
                    <a:pt x="3782" y="0"/>
                  </a:moveTo>
                  <a:arcTo wR="3782" hR="3782" stAng="16200000" swAng="-5400000"/>
                  <a:lnTo>
                    <a:pt x="0" y="23336"/>
                  </a:lnTo>
                  <a:arcTo wR="3782" hR="3782" stAng="10800000" swAng="-5400000"/>
                  <a:lnTo>
                    <a:pt x="17818" y="2711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0"/>
            <p:cNvSpPr/>
            <p:nvPr/>
          </p:nvSpPr>
          <p:spPr>
            <a:xfrm>
              <a:off x="3292920" y="2298600"/>
              <a:ext cx="2511720" cy="3189960"/>
            </a:xfrm>
            <a:custGeom>
              <a:avLst/>
              <a:gdLst>
                <a:gd name="textAreaLeft" fmla="*/ 122400 w 2511720"/>
                <a:gd name="textAreaRight" fmla="*/ 2389320 w 2511720"/>
                <a:gd name="textAreaTop" fmla="*/ 122400 h 3189960"/>
                <a:gd name="textAreaBottom" fmla="*/ 3067560 h 3189960"/>
              </a:gdLst>
              <a:ahLst/>
              <a:rect l="textAreaLeft" t="textAreaTop" r="textAreaRight" b="textAreaBottom"/>
              <a:pathLst>
                <a:path w="21600" h="27432">
                  <a:moveTo>
                    <a:pt x="3600" y="0"/>
                  </a:moveTo>
                  <a:arcTo wR="3600" hR="3600" stAng="16200000" swAng="-5400000"/>
                  <a:lnTo>
                    <a:pt x="0" y="23832"/>
                  </a:lnTo>
                  <a:arcTo wR="3600" hR="3600" stAng="10800000" swAng="-5400000"/>
                  <a:lnTo>
                    <a:pt x="18000" y="27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21"/>
            <p:cNvSpPr/>
            <p:nvPr/>
          </p:nvSpPr>
          <p:spPr>
            <a:xfrm>
              <a:off x="3313440" y="4646880"/>
              <a:ext cx="2477520" cy="80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>
              <a:off x="3313440" y="2323800"/>
              <a:ext cx="2477520" cy="805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3"/>
            <p:cNvSpPr/>
            <p:nvPr/>
          </p:nvSpPr>
          <p:spPr>
            <a:xfrm>
              <a:off x="4146120" y="2063880"/>
              <a:ext cx="769320" cy="48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4"/>
            <p:cNvSpPr/>
            <p:nvPr/>
          </p:nvSpPr>
          <p:spPr>
            <a:xfrm>
              <a:off x="4151520" y="1944720"/>
              <a:ext cx="744480" cy="708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5"/>
            <p:cNvSpPr/>
            <p:nvPr/>
          </p:nvSpPr>
          <p:spPr>
            <a:xfrm>
              <a:off x="4161240" y="1948320"/>
              <a:ext cx="727560" cy="691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4168440" y="1955160"/>
              <a:ext cx="691920" cy="645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4210560" y="1973520"/>
              <a:ext cx="613440" cy="52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28"/>
            <p:cNvSpPr/>
            <p:nvPr/>
          </p:nvSpPr>
          <p:spPr>
            <a:xfrm>
              <a:off x="4347000" y="2044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3344040" y="2805840"/>
              <a:ext cx="24624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lang="zh-CN" sz="1400" spc="-1" strike="noStrike">
                  <a:solidFill>
                    <a:srgbClr val="000000"/>
                  </a:solidFill>
                  <a:latin typeface="Verdana"/>
                </a:rPr>
                <a:t>、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adjustment of basic education curriculum, structure and content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、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et the need of education for all-round develo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30"/>
            <p:cNvSpPr/>
            <p:nvPr/>
          </p:nvSpPr>
          <p:spPr>
            <a:xfrm>
              <a:off x="3256560" y="5541120"/>
              <a:ext cx="2589840" cy="989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31"/>
            <p:cNvSpPr/>
            <p:nvPr/>
          </p:nvSpPr>
          <p:spPr>
            <a:xfrm>
              <a:off x="3309840" y="5568120"/>
              <a:ext cx="2478240" cy="87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608800" y="1967040"/>
            <a:ext cx="2596680" cy="4585320"/>
            <a:chOff x="5608800" y="1967040"/>
            <a:chExt cx="2596680" cy="4585320"/>
          </a:xfrm>
        </p:grpSpPr>
        <p:sp>
          <p:nvSpPr>
            <p:cNvPr id="351" name="AutoShape 33"/>
            <p:cNvSpPr/>
            <p:nvPr/>
          </p:nvSpPr>
          <p:spPr>
            <a:xfrm>
              <a:off x="5616360" y="2311920"/>
              <a:ext cx="2589120" cy="3251160"/>
            </a:xfrm>
            <a:custGeom>
              <a:avLst/>
              <a:gdLst>
                <a:gd name="textAreaLeft" fmla="*/ 132480 w 2589120"/>
                <a:gd name="textAreaRight" fmla="*/ 2456640 w 2589120"/>
                <a:gd name="textAreaTop" fmla="*/ 132480 h 3251160"/>
                <a:gd name="textAreaBottom" fmla="*/ 3118680 h 3251160"/>
              </a:gdLst>
              <a:ahLst/>
              <a:rect l="textAreaLeft" t="textAreaTop" r="textAreaRight" b="textAreaBottom"/>
              <a:pathLst>
                <a:path w="21600" h="27122">
                  <a:moveTo>
                    <a:pt x="3782" y="0"/>
                  </a:moveTo>
                  <a:arcTo wR="3782" hR="3782" stAng="16200000" swAng="-5400000"/>
                  <a:lnTo>
                    <a:pt x="0" y="23340"/>
                  </a:lnTo>
                  <a:arcTo wR="3782" hR="3782" stAng="10800000" swAng="-5400000"/>
                  <a:lnTo>
                    <a:pt x="17818" y="271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34"/>
            <p:cNvSpPr/>
            <p:nvPr/>
          </p:nvSpPr>
          <p:spPr>
            <a:xfrm>
              <a:off x="5655960" y="2320920"/>
              <a:ext cx="2511360" cy="3189960"/>
            </a:xfrm>
            <a:custGeom>
              <a:avLst/>
              <a:gdLst>
                <a:gd name="textAreaLeft" fmla="*/ 122400 w 2511360"/>
                <a:gd name="textAreaRight" fmla="*/ 2388960 w 2511360"/>
                <a:gd name="textAreaTop" fmla="*/ 122400 h 3189960"/>
                <a:gd name="textAreaBottom" fmla="*/ 3067560 h 3189960"/>
              </a:gdLst>
              <a:ahLst/>
              <a:rect l="textAreaLeft" t="textAreaTop" r="textAreaRight" b="textAreaBottom"/>
              <a:pathLst>
                <a:path w="21600" h="27436">
                  <a:moveTo>
                    <a:pt x="3600" y="0"/>
                  </a:moveTo>
                  <a:arcTo wR="3600" hR="3600" stAng="16200000" swAng="-5400000"/>
                  <a:lnTo>
                    <a:pt x="0" y="23836"/>
                  </a:lnTo>
                  <a:arcTo wR="3600" hR="3600" stAng="10800000" swAng="-5400000"/>
                  <a:lnTo>
                    <a:pt x="18000" y="274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35"/>
            <p:cNvSpPr/>
            <p:nvPr/>
          </p:nvSpPr>
          <p:spPr>
            <a:xfrm>
              <a:off x="5677200" y="4669200"/>
              <a:ext cx="2477160" cy="80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36"/>
            <p:cNvSpPr/>
            <p:nvPr/>
          </p:nvSpPr>
          <p:spPr>
            <a:xfrm>
              <a:off x="5677200" y="2346120"/>
              <a:ext cx="2477160" cy="805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509160" y="1967040"/>
              <a:ext cx="767520" cy="708120"/>
              <a:chOff x="6509160" y="1967040"/>
              <a:chExt cx="767520" cy="708120"/>
            </a:xfrm>
          </p:grpSpPr>
          <p:sp>
            <p:nvSpPr>
              <p:cNvPr id="356" name="Oval 38"/>
              <p:cNvSpPr/>
              <p:nvPr/>
            </p:nvSpPr>
            <p:spPr>
              <a:xfrm>
                <a:off x="6509160" y="2086200"/>
                <a:ext cx="767520" cy="480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39"/>
              <p:cNvSpPr/>
              <p:nvPr/>
            </p:nvSpPr>
            <p:spPr>
              <a:xfrm>
                <a:off x="6514560" y="1967040"/>
                <a:ext cx="744480" cy="708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40"/>
              <p:cNvSpPr/>
              <p:nvPr/>
            </p:nvSpPr>
            <p:spPr>
              <a:xfrm>
                <a:off x="6523920" y="1971360"/>
                <a:ext cx="727200" cy="690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41"/>
              <p:cNvSpPr/>
              <p:nvPr/>
            </p:nvSpPr>
            <p:spPr>
              <a:xfrm>
                <a:off x="6531840" y="1977840"/>
                <a:ext cx="691560" cy="644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42"/>
              <p:cNvSpPr/>
              <p:nvPr/>
            </p:nvSpPr>
            <p:spPr>
              <a:xfrm>
                <a:off x="6572520" y="1995480"/>
                <a:ext cx="614160" cy="524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43"/>
            <p:cNvSpPr/>
            <p:nvPr/>
          </p:nvSpPr>
          <p:spPr>
            <a:xfrm>
              <a:off x="6709320" y="206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4"/>
            <p:cNvSpPr/>
            <p:nvPr/>
          </p:nvSpPr>
          <p:spPr>
            <a:xfrm>
              <a:off x="5707440" y="2828160"/>
              <a:ext cx="2462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5"/>
            <p:cNvSpPr/>
            <p:nvPr/>
          </p:nvSpPr>
          <p:spPr>
            <a:xfrm>
              <a:off x="5608800" y="5563080"/>
              <a:ext cx="2589120" cy="9892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46"/>
            <p:cNvSpPr/>
            <p:nvPr/>
          </p:nvSpPr>
          <p:spPr>
            <a:xfrm>
              <a:off x="5661720" y="5590440"/>
              <a:ext cx="2477520" cy="87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74"/>
          <p:cNvSpPr/>
          <p:nvPr/>
        </p:nvSpPr>
        <p:spPr>
          <a:xfrm>
            <a:off x="966960" y="5639040"/>
            <a:ext cx="2690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mote the balanced development of compulsory education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5"/>
          <p:cNvSpPr/>
          <p:nvPr/>
        </p:nvSpPr>
        <p:spPr>
          <a:xfrm>
            <a:off x="3452040" y="565236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Curricula Re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6"/>
          <p:cNvSpPr/>
          <p:nvPr/>
        </p:nvSpPr>
        <p:spPr>
          <a:xfrm>
            <a:off x="5764320" y="5638680"/>
            <a:ext cx="292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o expand the preschool education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7"/>
          <p:cNvSpPr/>
          <p:nvPr/>
        </p:nvSpPr>
        <p:spPr>
          <a:xfrm>
            <a:off x="5715000" y="2685960"/>
            <a:ext cx="2438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e year plan for the preschooling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；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ruction program for the state run kindergar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and rebuild kindergarten 1500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ndergarten principals and teachers to promote their professional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novel reward system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5715000" y="190512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e4649"/>
                </a:solidFill>
                <a:latin typeface="Arial Black"/>
                <a:ea typeface="隶书"/>
              </a:rPr>
              <a:t>  </a:t>
            </a:r>
            <a:r>
              <a:rPr b="1" lang="zh-CN" sz="5400" spc="-1" strike="noStrike">
                <a:solidFill>
                  <a:srgbClr val="1e4649"/>
                </a:solidFill>
                <a:latin typeface="Arial Black"/>
                <a:ea typeface="隶书"/>
              </a:rPr>
              <a:t>谢  谢 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 Black"/>
                <a:ea typeface="隶书"/>
              </a:rPr>
              <a:t>       </a:t>
            </a:r>
            <a:r>
              <a:rPr b="1" lang="en-US" sz="2000" spc="-1" strike="noStrike">
                <a:solidFill>
                  <a:srgbClr val="1e4649"/>
                </a:solidFill>
                <a:latin typeface="Arial Black"/>
                <a:ea typeface="隶书"/>
              </a:rPr>
              <a:t>Thank 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96400" y="6172200"/>
            <a:ext cx="41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楷体"/>
                <a:ea typeface="楷体"/>
              </a:rPr>
              <a:t>更多免费</a:t>
            </a:r>
            <a:r>
              <a:rPr b="1" lang="en-US" sz="1800" spc="-1" strike="noStrike">
                <a:solidFill>
                  <a:srgbClr val="808080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808080"/>
                </a:solidFill>
                <a:latin typeface="楷体"/>
                <a:ea typeface="楷体"/>
              </a:rPr>
              <a:t>模板尽在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：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CCD0A-43AE-4D5C-AFF5-D486DD3D58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4191120" y="380880"/>
            <a:ext cx="50292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649"/>
                </a:solidFill>
                <a:latin typeface="Arial Black"/>
                <a:ea typeface="隶书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649"/>
                </a:solidFill>
                <a:latin typeface="Arial Black"/>
                <a:ea typeface="隶书"/>
              </a:rPr>
              <a:t>Overview of Basic Education Development in Hubei Provi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e4649"/>
                </a:solidFill>
                <a:latin typeface="Arial Black"/>
                <a:ea typeface="隶书"/>
              </a:rPr>
              <a:t> </a:t>
            </a:r>
            <a:r>
              <a:rPr b="1" lang="zh-CN" sz="4800" spc="-1" strike="noStrike">
                <a:solidFill>
                  <a:srgbClr val="1e4649"/>
                </a:solidFill>
                <a:latin typeface="Arial Black"/>
                <a:ea typeface="隶书"/>
              </a:rPr>
              <a:t>湖北省基础教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e4649"/>
                </a:solidFill>
                <a:latin typeface="Arial Black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1e4649"/>
                </a:solidFill>
                <a:latin typeface="Arial Black"/>
                <a:ea typeface="隶书"/>
              </a:rPr>
              <a:t>发展概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e4649"/>
                </a:solidFill>
                <a:latin typeface="Arial Black"/>
                <a:ea typeface="隶书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4649"/>
                </a:solidFill>
                <a:latin typeface="Arial Black"/>
                <a:ea typeface="隶书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4649"/>
                </a:solidFill>
                <a:latin typeface="Arial Black"/>
                <a:ea typeface="隶书"/>
              </a:rPr>
              <a:t>                     </a:t>
            </a:r>
            <a:r>
              <a:rPr b="1" lang="zh-CN" sz="2400" spc="-1" strike="noStrike">
                <a:solidFill>
                  <a:srgbClr val="1e4649"/>
                </a:solidFill>
                <a:latin typeface="Arial Black"/>
                <a:ea typeface="隶书"/>
              </a:rPr>
              <a:t>二</a:t>
            </a:r>
            <a:r>
              <a:rPr b="1" lang="en-US" sz="2400" spc="-1" strike="noStrike">
                <a:solidFill>
                  <a:srgbClr val="1e4649"/>
                </a:solidFill>
                <a:latin typeface="Arial Black"/>
                <a:ea typeface="隶书"/>
              </a:rPr>
              <a:t>0</a:t>
            </a:r>
            <a:r>
              <a:rPr b="1" lang="zh-CN" sz="2400" spc="-1" strike="noStrike">
                <a:solidFill>
                  <a:srgbClr val="1e4649"/>
                </a:solidFill>
                <a:latin typeface="Arial Black"/>
                <a:ea typeface="隶书"/>
              </a:rPr>
              <a:t>一一年四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4649"/>
                </a:solidFill>
                <a:latin typeface="Arial Black"/>
                <a:ea typeface="隶书"/>
              </a:rPr>
              <a:t>                        </a:t>
            </a:r>
            <a:r>
              <a:rPr b="1" lang="en-US" sz="2000" spc="-1" strike="noStrike">
                <a:solidFill>
                  <a:srgbClr val="1e4649"/>
                </a:solidFill>
                <a:latin typeface="Arial Black"/>
                <a:ea typeface="隶书"/>
              </a:rPr>
              <a:t>April 20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066320" y="10666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湖北省概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Hubei Prov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内容占位符 3"/>
          <p:cNvSpPr/>
          <p:nvPr/>
        </p:nvSpPr>
        <p:spPr>
          <a:xfrm>
            <a:off x="1066680" y="2362320"/>
            <a:ext cx="716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湖北教育概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Hubei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内容占位符 3"/>
          <p:cNvSpPr/>
          <p:nvPr/>
        </p:nvSpPr>
        <p:spPr>
          <a:xfrm>
            <a:off x="1066680" y="3657600"/>
            <a:ext cx="7162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湖北基础教育概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The Elementary Education of Hubei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内容占位符 3"/>
          <p:cNvSpPr/>
          <p:nvPr/>
        </p:nvSpPr>
        <p:spPr>
          <a:xfrm>
            <a:off x="1066680" y="4952880"/>
            <a:ext cx="7162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基础教育改革和发展的主要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The Elementary Education Reform and Main Re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SM057"/>
          <p:cNvPicPr/>
          <p:nvPr/>
        </p:nvPicPr>
        <p:blipFill>
          <a:blip r:embed="rId2"/>
          <a:stretch/>
        </p:blipFill>
        <p:spPr>
          <a:xfrm>
            <a:off x="609480" y="1143000"/>
            <a:ext cx="476280" cy="380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SM057"/>
          <p:cNvPicPr/>
          <p:nvPr/>
        </p:nvPicPr>
        <p:blipFill>
          <a:blip r:embed="rId3"/>
          <a:stretch/>
        </p:blipFill>
        <p:spPr>
          <a:xfrm>
            <a:off x="609480" y="495288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SM057"/>
          <p:cNvPicPr/>
          <p:nvPr/>
        </p:nvPicPr>
        <p:blipFill>
          <a:blip r:embed="rId4"/>
          <a:stretch/>
        </p:blipFill>
        <p:spPr>
          <a:xfrm>
            <a:off x="609480" y="3733920"/>
            <a:ext cx="47628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SM057"/>
          <p:cNvPicPr/>
          <p:nvPr/>
        </p:nvPicPr>
        <p:blipFill>
          <a:blip r:embed="rId5"/>
          <a:stretch/>
        </p:blipFill>
        <p:spPr>
          <a:xfrm>
            <a:off x="609480" y="2438280"/>
            <a:ext cx="476280" cy="381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1023840" y="1195560"/>
            <a:ext cx="7096320" cy="4466880"/>
          </a:xfrm>
          <a:prstGeom prst="rect">
            <a:avLst/>
          </a:prstGeom>
          <a:ln w="0">
            <a:noFill/>
          </a:ln>
        </p:spPr>
      </p:pic>
      <p:pic>
        <p:nvPicPr>
          <p:cNvPr id="226" name="矩形 5" descr=""/>
          <p:cNvPicPr/>
          <p:nvPr/>
        </p:nvPicPr>
        <p:blipFill>
          <a:blip r:embed="rId2"/>
          <a:stretch/>
        </p:blipFill>
        <p:spPr>
          <a:xfrm>
            <a:off x="3828960" y="633240"/>
            <a:ext cx="4748400" cy="131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609480" y="4572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4649"/>
                </a:solidFill>
                <a:latin typeface="隶书"/>
                <a:ea typeface="隶书"/>
              </a:rPr>
              <a:t>一、湖北省概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    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Hubei Provi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066680" y="1600200"/>
            <a:ext cx="751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全省人口：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6100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万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Hubei province with 61million 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73160" y="2538360"/>
            <a:ext cx="60134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国土面积：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18.6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万平方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land area over 180,000sq.k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SM057"/>
          <p:cNvPicPr/>
          <p:nvPr/>
        </p:nvPicPr>
        <p:blipFill>
          <a:blip r:embed="rId2"/>
          <a:stretch/>
        </p:blipFill>
        <p:spPr>
          <a:xfrm>
            <a:off x="609480" y="2590920"/>
            <a:ext cx="476280" cy="380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SM057"/>
          <p:cNvPicPr/>
          <p:nvPr/>
        </p:nvPicPr>
        <p:blipFill>
          <a:blip r:embed="rId3"/>
          <a:stretch/>
        </p:blipFill>
        <p:spPr>
          <a:xfrm>
            <a:off x="609480" y="1600200"/>
            <a:ext cx="476280" cy="380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990720" y="4343400"/>
            <a:ext cx="6858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包括：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个省辖市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over 12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个自治州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1 autonomous pref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个直管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个林区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1 forestry z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辖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103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个县（市、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103 counties (county-level cities and distric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SM057"/>
          <p:cNvPicPr/>
          <p:nvPr/>
        </p:nvPicPr>
        <p:blipFill>
          <a:blip r:embed="rId4"/>
          <a:stretch/>
        </p:blipFill>
        <p:spPr>
          <a:xfrm>
            <a:off x="609480" y="4343400"/>
            <a:ext cx="476280" cy="380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5"/>
          <p:cNvSpPr/>
          <p:nvPr/>
        </p:nvSpPr>
        <p:spPr>
          <a:xfrm>
            <a:off x="1066680" y="3429000"/>
            <a:ext cx="6013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省会：武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Wuhan city is the capital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SM057"/>
          <p:cNvPicPr/>
          <p:nvPr/>
        </p:nvPicPr>
        <p:blipFill>
          <a:blip r:embed="rId5"/>
          <a:stretch/>
        </p:blipFill>
        <p:spPr>
          <a:xfrm>
            <a:off x="609480" y="3429000"/>
            <a:ext cx="476280" cy="380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 rot="3418800">
            <a:off x="6179760" y="1606320"/>
            <a:ext cx="923760" cy="10033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067080" y="28656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52.84</a:t>
            </a:r>
            <a:r>
              <a:rPr b="1" lang="zh-CN" sz="1800" spc="-1" strike="noStrike">
                <a:solidFill>
                  <a:srgbClr val="1e4649"/>
                </a:solidFill>
                <a:latin typeface="Arial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 rot="3418800">
            <a:off x="325080" y="2314440"/>
            <a:ext cx="923760" cy="1003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09520" y="2673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Arial"/>
              </a:rPr>
              <a:t>各类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 rot="3418800">
            <a:off x="1760040" y="4219560"/>
            <a:ext cx="924120" cy="10033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676520" y="45784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在校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 rot="3418800">
            <a:off x="3830040" y="3066840"/>
            <a:ext cx="923760" cy="10033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3886200" y="34257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教职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6019920" y="19652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Arial"/>
              </a:rPr>
              <a:t>专任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123920" y="326880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2724120" y="3801960"/>
            <a:ext cx="106668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4857840" y="241776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725120" y="5541840"/>
            <a:ext cx="10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1160</a:t>
            </a:r>
            <a:r>
              <a:rPr b="1" lang="zh-CN" sz="1800" spc="-1" strike="noStrike">
                <a:solidFill>
                  <a:srgbClr val="1e4649"/>
                </a:solidFill>
                <a:latin typeface="Arial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938760" y="4389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72</a:t>
            </a:r>
            <a:r>
              <a:rPr b="1" lang="zh-CN" sz="1800" spc="-1" strike="noStrike">
                <a:solidFill>
                  <a:srgbClr val="1e4649"/>
                </a:solidFill>
                <a:latin typeface="Arial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09520" y="3639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1.84</a:t>
            </a:r>
            <a:r>
              <a:rPr b="1" lang="zh-CN" sz="1800" spc="-1" strike="noStrike">
                <a:solidFill>
                  <a:srgbClr val="1e4649"/>
                </a:solidFill>
                <a:latin typeface="Arial"/>
              </a:rPr>
              <a:t>万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80880" y="762120"/>
            <a:ext cx="4953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4649"/>
                </a:solidFill>
                <a:latin typeface="隶书"/>
                <a:ea typeface="隶书"/>
              </a:rPr>
              <a:t>二、湖北教育概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1e4649"/>
                </a:solidFill>
                <a:latin typeface="Arial"/>
              </a:rPr>
              <a:t>Hubei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228600" y="399096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400 schools of various levels and 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1676520" y="5911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,6 million stud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5479920" y="3199680"/>
            <a:ext cx="21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8,400  teac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3886200" y="48006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0,000 faculty memb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3"/>
          <p:cNvSpPr/>
          <p:nvPr/>
        </p:nvSpPr>
        <p:spPr>
          <a:xfrm>
            <a:off x="380880" y="1676520"/>
            <a:ext cx="5880240" cy="5029200"/>
          </a:xfrm>
          <a:prstGeom prst="rightArrow">
            <a:avLst>
              <a:gd name="adj1" fmla="val 79306"/>
              <a:gd name="adj2" fmla="val 3239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914400" y="3276720"/>
            <a:ext cx="4038480" cy="8888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b1f0"/>
              </a:gs>
              <a:gs pos="100000">
                <a:srgbClr val="96658c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初中入学率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99.6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urrent entry rate of middle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ve reached 99.6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914400" y="4255920"/>
            <a:ext cx="4038480" cy="8971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高中阶段毛入学率为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87.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gross entrance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ve reached 87.2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914400" y="5257800"/>
            <a:ext cx="403848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4db8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高等教育毛入学率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32.9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gross entrance rate of higher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ve reached 32.9%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6019920" y="3200400"/>
            <a:ext cx="3124080" cy="22096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终身教育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fe-long education system has basically come into sha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914400" y="2362320"/>
            <a:ext cx="403848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4db8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小学入学率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99.96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urrent entry rate of primary sch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ve reached 99.9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847800" y="838080"/>
            <a:ext cx="661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alibri"/>
                <a:ea typeface="隶书"/>
              </a:rPr>
              <a:t>九年义务教育全面普及</a:t>
            </a:r>
            <a:r>
              <a:rPr b="1" lang="en-US" sz="3200" spc="-1" strike="noStrike">
                <a:solidFill>
                  <a:srgbClr val="003300"/>
                </a:solidFill>
                <a:latin typeface="Calibri"/>
                <a:ea typeface="隶书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The 9year compulsory education has been  universal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380880" y="7621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4649"/>
                </a:solidFill>
                <a:latin typeface="隶书"/>
                <a:ea typeface="隶书"/>
              </a:rPr>
              <a:t>三、湖北基础教育概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    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The Elementary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of Hub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390680" y="236232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学前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reschool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390680" y="3429000"/>
            <a:ext cx="401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义务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ompulsory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1e464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390680" y="4572000"/>
            <a:ext cx="340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高中阶段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High School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SM057"/>
          <p:cNvPicPr/>
          <p:nvPr/>
        </p:nvPicPr>
        <p:blipFill>
          <a:blip r:embed="rId2"/>
          <a:stretch/>
        </p:blipFill>
        <p:spPr>
          <a:xfrm>
            <a:off x="762120" y="243828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SM057"/>
          <p:cNvPicPr/>
          <p:nvPr/>
        </p:nvPicPr>
        <p:blipFill>
          <a:blip r:embed="rId3"/>
          <a:stretch/>
        </p:blipFill>
        <p:spPr>
          <a:xfrm>
            <a:off x="762120" y="358128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SM057"/>
          <p:cNvPicPr/>
          <p:nvPr/>
        </p:nvPicPr>
        <p:blipFill>
          <a:blip r:embed="rId4"/>
          <a:stretch/>
        </p:blipFill>
        <p:spPr>
          <a:xfrm>
            <a:off x="781200" y="4648320"/>
            <a:ext cx="476280" cy="38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学前教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reschool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9"/>
          <p:cNvSpPr/>
          <p:nvPr/>
        </p:nvSpPr>
        <p:spPr>
          <a:xfrm>
            <a:off x="380880" y="5105520"/>
            <a:ext cx="647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隶书"/>
              </a:rPr>
              <a:t>政府主导、社会参与、公民办并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government lead, society participate and state run kindergarten and non state run kindergar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2"/>
          <p:cNvSpPr/>
          <p:nvPr/>
        </p:nvSpPr>
        <p:spPr>
          <a:xfrm>
            <a:off x="1219320" y="1782360"/>
            <a:ext cx="5105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幼儿园：</a:t>
            </a:r>
            <a:r>
              <a:rPr b="0" lang="en-US" sz="2800" spc="-1" strike="noStrike">
                <a:solidFill>
                  <a:srgbClr val="003300"/>
                </a:solidFill>
                <a:latin typeface="隶书"/>
                <a:ea typeface="隶书"/>
              </a:rPr>
              <a:t>4395</a:t>
            </a: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4395   kindergar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3"/>
          <p:cNvSpPr/>
          <p:nvPr/>
        </p:nvSpPr>
        <p:spPr>
          <a:xfrm>
            <a:off x="1455480" y="2787120"/>
            <a:ext cx="2911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在园幼儿</a:t>
            </a:r>
            <a:r>
              <a:rPr b="0" lang="en-US" sz="2800" spc="-1" strike="noStrike">
                <a:solidFill>
                  <a:srgbClr val="003300"/>
                </a:solidFill>
                <a:latin typeface="隶书"/>
                <a:ea typeface="隶书"/>
              </a:rPr>
              <a:t>111.84</a:t>
            </a: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万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1,118,400 pup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4"/>
          <p:cNvSpPr/>
          <p:nvPr/>
        </p:nvSpPr>
        <p:spPr>
          <a:xfrm>
            <a:off x="1218960" y="3777840"/>
            <a:ext cx="4629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三年入园率</a:t>
            </a:r>
            <a:r>
              <a:rPr b="0" lang="en-US" sz="2800" spc="-1" strike="noStrike">
                <a:solidFill>
                  <a:srgbClr val="003300"/>
                </a:solidFill>
                <a:latin typeface="隶书"/>
                <a:ea typeface="隶书"/>
              </a:rPr>
              <a:t>5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about57% of the kids at the age of th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5"/>
          <p:cNvSpPr/>
          <p:nvPr/>
        </p:nvSpPr>
        <p:spPr>
          <a:xfrm>
            <a:off x="762120" y="198108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8"/>
          <p:cNvSpPr/>
          <p:nvPr/>
        </p:nvSpPr>
        <p:spPr>
          <a:xfrm>
            <a:off x="762120" y="297180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9"/>
          <p:cNvSpPr/>
          <p:nvPr/>
        </p:nvSpPr>
        <p:spPr>
          <a:xfrm>
            <a:off x="762120" y="396252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9:29:49Z</dcterms:created>
  <dc:creator/>
  <dc:description/>
  <dc:language>en-US</dc:language>
  <cp:lastModifiedBy>user</cp:lastModifiedBy>
  <dcterms:modified xsi:type="dcterms:W3CDTF">2015-07-04T06:07:54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