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C93-7FD7-4334-B63F-C97027D3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059-CB7D-41CB-B1B1-F78F8E63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BEF-089F-459D-8A6A-D8AB0860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E7B-92C8-4A59-BC8B-25DB18E8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0765-DF75-4AA6-BA8C-28A42ED5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60DC-AB31-4011-890C-96DCCE58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D379-FB58-4F22-93D8-4E2FC6F9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1561-2022-44C2-B467-AAE1AF45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3E24-A701-4105-BEB5-FFAE323B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A749-F529-49AF-8F64-0EF066AE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A4E8-CD26-4713-B746-A3534925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950-174B-482F-97CF-D48FA75F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04D1-0358-4A44-86A8-6884F993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AD3B-85D5-4DC2-BC7D-71C483D2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EA5F-513C-4043-A248-84E3E25F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B19D-6D01-4C93-B129-64E96A95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CB60-6837-4998-9BCD-FFB7EBB5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372-DA82-4487-85AA-1769592E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693-41DA-46C6-9D42-CB5AB856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B94-C265-4790-A36F-F19064B5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01E-FE40-4E8F-B02D-EB8F2006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44A-98E1-4D13-97AF-63C2281D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BBA-1400-4C43-ADAE-1AE6F468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BF6-F723-42E5-8DC5-449294BE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4967" t="29957" r="1346" b="13306"/>
          <a:stretch/>
        </p:blipFill>
        <p:spPr>
          <a:xfrm>
            <a:off x="6443640" y="249228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rot="5400000">
            <a:off x="5517000" y="3239280"/>
            <a:ext cx="685800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 rot="16200000">
            <a:off x="-3230280" y="3238560"/>
            <a:ext cx="6856560" cy="3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76920"/>
            <a:ext cx="914400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未知"/>
          <p:cNvSpPr/>
          <p:nvPr/>
        </p:nvSpPr>
        <p:spPr>
          <a:xfrm>
            <a:off x="-247680" y="-22320"/>
            <a:ext cx="890640" cy="700884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>
            <a:off x="395280" y="3933720"/>
            <a:ext cx="216000" cy="24847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142920" y="3753000"/>
            <a:ext cx="179280" cy="230328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-58680"/>
            <a:ext cx="571680" cy="49608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未知"/>
          <p:cNvSpPr/>
          <p:nvPr/>
        </p:nvSpPr>
        <p:spPr>
          <a:xfrm>
            <a:off x="108000" y="-19080"/>
            <a:ext cx="576360" cy="29797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209440" y="-58680"/>
            <a:ext cx="1186920" cy="7045200"/>
            <a:chOff x="8209440" y="-58680"/>
            <a:chExt cx="1186920" cy="7045200"/>
          </a:xfrm>
        </p:grpSpPr>
        <p:sp>
          <p:nvSpPr>
            <p:cNvPr id="10" name="未知"/>
            <p:cNvSpPr/>
            <p:nvPr/>
          </p:nvSpPr>
          <p:spPr>
            <a:xfrm flipH="1">
              <a:off x="8209080" y="-22320"/>
              <a:ext cx="1186920" cy="700884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 flipH="1">
              <a:off x="8542080" y="3934080"/>
              <a:ext cx="284760" cy="248148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 flipH="1">
              <a:off x="8923320" y="3753360"/>
              <a:ext cx="236880" cy="23004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 flipH="1">
              <a:off x="8636040" y="-58680"/>
              <a:ext cx="759960" cy="568152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 flipH="1">
              <a:off x="8445960" y="-22320"/>
              <a:ext cx="759960" cy="29844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未知"/>
          <p:cNvSpPr/>
          <p:nvPr/>
        </p:nvSpPr>
        <p:spPr>
          <a:xfrm>
            <a:off x="-176040" y="189000"/>
            <a:ext cx="566640" cy="56847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未知"/>
          <p:cNvSpPr/>
          <p:nvPr/>
        </p:nvSpPr>
        <p:spPr>
          <a:xfrm>
            <a:off x="8461440" y="-130320"/>
            <a:ext cx="576360" cy="514044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1B74-010D-4B22-8E12-DC5945635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1672" t="0" r="50344" b="5005"/>
          <a:stretch/>
        </p:blipFill>
        <p:spPr>
          <a:xfrm>
            <a:off x="19080" y="44280"/>
            <a:ext cx="4373640" cy="5940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5400000">
            <a:off x="5555160" y="3236040"/>
            <a:ext cx="685476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rot="16200000">
            <a:off x="-3262320" y="3237480"/>
            <a:ext cx="6850080" cy="390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" y="6676920"/>
            <a:ext cx="914076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未知"/>
          <p:cNvSpPr/>
          <p:nvPr/>
        </p:nvSpPr>
        <p:spPr>
          <a:xfrm>
            <a:off x="-210960" y="0"/>
            <a:ext cx="892080" cy="7013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398520" y="3935520"/>
            <a:ext cx="216000" cy="24829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未知"/>
          <p:cNvSpPr/>
          <p:nvPr/>
        </p:nvSpPr>
        <p:spPr>
          <a:xfrm>
            <a:off x="146160" y="3754440"/>
            <a:ext cx="179280" cy="230184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未知"/>
          <p:cNvSpPr/>
          <p:nvPr/>
        </p:nvSpPr>
        <p:spPr>
          <a:xfrm>
            <a:off x="0" y="-58680"/>
            <a:ext cx="576360" cy="5681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未知"/>
          <p:cNvSpPr/>
          <p:nvPr/>
        </p:nvSpPr>
        <p:spPr>
          <a:xfrm>
            <a:off x="111240" y="-19080"/>
            <a:ext cx="576000" cy="2981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280360" y="-58680"/>
            <a:ext cx="1079280" cy="7045200"/>
            <a:chOff x="8280360" y="-58680"/>
            <a:chExt cx="1079280" cy="7045200"/>
          </a:xfrm>
        </p:grpSpPr>
        <p:sp>
          <p:nvSpPr>
            <p:cNvPr id="68" name="未知"/>
            <p:cNvSpPr/>
            <p:nvPr/>
          </p:nvSpPr>
          <p:spPr>
            <a:xfrm flipH="1">
              <a:off x="8280360" y="-22320"/>
              <a:ext cx="1079280" cy="700884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 flipH="1">
              <a:off x="8582760" y="3934080"/>
              <a:ext cx="258840" cy="248148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 flipH="1">
              <a:off x="8929440" y="3753360"/>
              <a:ext cx="215280" cy="23004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flipH="1">
              <a:off x="8668440" y="-58680"/>
              <a:ext cx="691200" cy="568152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flipH="1">
              <a:off x="8495280" y="-22320"/>
              <a:ext cx="691200" cy="29844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未知"/>
          <p:cNvSpPr/>
          <p:nvPr/>
        </p:nvSpPr>
        <p:spPr>
          <a:xfrm>
            <a:off x="-173160" y="-19080"/>
            <a:ext cx="571680" cy="56800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未知"/>
          <p:cNvSpPr/>
          <p:nvPr/>
        </p:nvSpPr>
        <p:spPr>
          <a:xfrm>
            <a:off x="8785080" y="-55440"/>
            <a:ext cx="576360" cy="51418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238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0FCC-055A-4440-960E-66CE1D4DA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720" y="238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竹子动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63640" y="1160640"/>
          <a:ext cx="7488360" cy="3363840"/>
        </p:xfrm>
        <a:graphic>
          <a:graphicData uri="http://schemas.openxmlformats.org/drawingml/2006/table">
            <a:tbl>
              <a:tblPr/>
              <a:tblGrid>
                <a:gridCol w="1116000"/>
                <a:gridCol w="1260360"/>
                <a:gridCol w="1187640"/>
                <a:gridCol w="1295280"/>
                <a:gridCol w="1368360"/>
                <a:gridCol w="1260720"/>
              </a:tblGrid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13680">
                      <a:solidFill>
                        <a:srgbClr val="99cc00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5760">
                      <a:solidFill>
                        <a:srgbClr val="35654b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 w="5760">
                      <a:solidFill>
                        <a:srgbClr val="35654b"/>
                      </a:solidFill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5654b"/>
                      </a:solidFill>
                    </a:lnL>
                    <a:lnR>
                      <a:noFill/>
                    </a:lnR>
                    <a:lnT w="5760">
                      <a:solidFill>
                        <a:srgbClr val="35654b"/>
                      </a:solidFill>
                    </a:lnT>
                    <a:lnB w="13680">
                      <a:solidFill>
                        <a:srgbClr val="99cc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220" name="" descr=""/>
          <p:cNvPicPr/>
          <p:nvPr/>
        </p:nvPicPr>
        <p:blipFill>
          <a:blip r:embed="rId19"/>
          <a:stretch/>
        </p:blipFill>
        <p:spPr>
          <a:xfrm rot="20416200">
            <a:off x="934560" y="1015560"/>
            <a:ext cx="11527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5640" y="1015920"/>
            <a:ext cx="1692360" cy="165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879640" y="1557360"/>
            <a:ext cx="55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40000" y="26780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3824280"/>
            <a:ext cx="5545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05476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47280" y="2133360"/>
            <a:ext cx="8029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009-F18C-4D34-95A3-5DFF7D484A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27440" y="137628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27440" y="234936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27440" y="338292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27440" y="4379760"/>
            <a:ext cx="35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620000" y="1207440"/>
            <a:ext cx="4823640" cy="974160"/>
            <a:chOff x="1620000" y="1207440"/>
            <a:chExt cx="4823640" cy="974160"/>
          </a:xfrm>
        </p:grpSpPr>
        <p:sp>
          <p:nvSpPr>
            <p:cNvPr id="124" name=""/>
            <p:cNvSpPr/>
            <p:nvPr/>
          </p:nvSpPr>
          <p:spPr>
            <a:xfrm>
              <a:off x="2303280" y="1844640"/>
              <a:ext cx="4140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 rot="3476400">
              <a:off x="1730880" y="1361160"/>
              <a:ext cx="73188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1945800" y="2552040"/>
            <a:ext cx="4534200" cy="909360"/>
            <a:chOff x="1945800" y="2552040"/>
            <a:chExt cx="4534200" cy="909360"/>
          </a:xfrm>
        </p:grpSpPr>
        <p:sp>
          <p:nvSpPr>
            <p:cNvPr id="127" name=""/>
            <p:cNvSpPr/>
            <p:nvPr/>
          </p:nvSpPr>
          <p:spPr>
            <a:xfrm>
              <a:off x="2555640" y="2806560"/>
              <a:ext cx="3924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 rot="20134800">
              <a:off x="2050560" y="2673000"/>
              <a:ext cx="73188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 rot="3476400">
            <a:off x="2072160" y="2351880"/>
            <a:ext cx="623880" cy="66672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334960" y="3631320"/>
            <a:ext cx="4145040" cy="766440"/>
            <a:chOff x="2334960" y="3631320"/>
            <a:chExt cx="4145040" cy="766440"/>
          </a:xfrm>
        </p:grpSpPr>
        <p:sp>
          <p:nvSpPr>
            <p:cNvPr id="131" name=""/>
            <p:cNvSpPr/>
            <p:nvPr/>
          </p:nvSpPr>
          <p:spPr>
            <a:xfrm>
              <a:off x="2771640" y="3840120"/>
              <a:ext cx="3708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 rot="20721600">
              <a:off x="2411280" y="3681000"/>
              <a:ext cx="4795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1798200" y="4249440"/>
            <a:ext cx="4645080" cy="746640"/>
            <a:chOff x="1798200" y="4249440"/>
            <a:chExt cx="4645080" cy="746640"/>
          </a:xfrm>
        </p:grpSpPr>
        <p:sp>
          <p:nvSpPr>
            <p:cNvPr id="134" name=""/>
            <p:cNvSpPr/>
            <p:nvPr/>
          </p:nvSpPr>
          <p:spPr>
            <a:xfrm>
              <a:off x="2303280" y="4860720"/>
              <a:ext cx="414000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 rot="4855800">
              <a:off x="1816560" y="4322160"/>
              <a:ext cx="660240" cy="60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26920" y="981000"/>
            <a:ext cx="7524720" cy="5076720"/>
            <a:chOff x="826920" y="981000"/>
            <a:chExt cx="7524720" cy="5076720"/>
          </a:xfrm>
        </p:grpSpPr>
        <p:sp>
          <p:nvSpPr>
            <p:cNvPr id="138" name=""/>
            <p:cNvSpPr/>
            <p:nvPr/>
          </p:nvSpPr>
          <p:spPr>
            <a:xfrm>
              <a:off x="1403280" y="1455840"/>
              <a:ext cx="6624720" cy="3240000"/>
            </a:xfrm>
            <a:prstGeom prst="roundRect">
              <a:avLst>
                <a:gd name="adj" fmla="val 36616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826920" y="981000"/>
              <a:ext cx="2770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03280" y="2608200"/>
              <a:ext cx="6948360" cy="3449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efefe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16360" y="1455840"/>
              <a:ext cx="1835280" cy="1152360"/>
            </a:xfrm>
            <a:prstGeom prst="rect">
              <a:avLst/>
            </a:prstGeom>
            <a:solidFill>
              <a:srgbClr val="cde5d8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422880" y="1817640"/>
            <a:ext cx="24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361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27280" y="2852640"/>
            <a:ext cx="626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27280" y="4119480"/>
            <a:ext cx="6265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84360" y="19890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68360" y="903960"/>
            <a:ext cx="6696000" cy="4469760"/>
            <a:chOff x="1368360" y="903960"/>
            <a:chExt cx="6696000" cy="4469760"/>
          </a:xfrm>
        </p:grpSpPr>
        <p:sp>
          <p:nvSpPr>
            <p:cNvPr id="148" name=""/>
            <p:cNvSpPr/>
            <p:nvPr/>
          </p:nvSpPr>
          <p:spPr>
            <a:xfrm>
              <a:off x="1368360" y="1592280"/>
              <a:ext cx="6696000" cy="3781440"/>
            </a:xfrm>
            <a:prstGeom prst="roundRect">
              <a:avLst>
                <a:gd name="adj" fmla="val 5542"/>
              </a:avLst>
            </a:prstGeom>
            <a:solidFill>
              <a:srgbClr val="ffffff"/>
            </a:solidFill>
            <a:ln w="3816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08160" y="1376280"/>
              <a:ext cx="2932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请在此添加段落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55640" y="1268280"/>
              <a:ext cx="1224000" cy="79236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1f3c2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4360" y="1197000"/>
              <a:ext cx="1224000" cy="792000"/>
            </a:xfrm>
            <a:prstGeom prst="ellipse">
              <a:avLst/>
            </a:prstGeom>
            <a:gradFill rotWithShape="0">
              <a:gsLst>
                <a:gs pos="0">
                  <a:srgbClr val="458361">
                    <a:alpha val="47058"/>
                  </a:srgbClr>
                </a:gs>
                <a:gs pos="100000">
                  <a:srgbClr val="1f3c2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 rot="2865600">
              <a:off x="1521000" y="1114200"/>
              <a:ext cx="86364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1655640" y="1959120"/>
            <a:ext cx="5940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1555920"/>
            <a:ext cx="658800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28000" y="1555920"/>
            <a:ext cx="457200" cy="1495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5320" y="10270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24000" y="1814400"/>
            <a:ext cx="518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3824280"/>
            <a:ext cx="658800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128000" y="3824280"/>
            <a:ext cx="457200" cy="1495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78920" y="329580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8361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4000" y="408312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56360" y="645336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宋体"/>
              </a:rPr>
              <a:t>PPT</a:t>
            </a:r>
            <a:r>
              <a:rPr b="0" lang="zh-CN" sz="1200" spc="-1" strike="noStrike">
                <a:solidFill>
                  <a:srgbClr val="1c1c1c"/>
                </a:solidFill>
                <a:latin typeface="宋体"/>
              </a:rPr>
              <a:t>模板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1015920"/>
            <a:ext cx="7093080" cy="22687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03280" y="1411200"/>
            <a:ext cx="6337440" cy="1477800"/>
            <a:chOff x="1403280" y="1411200"/>
            <a:chExt cx="6337440" cy="147780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rcRect l="0" t="1128" r="321" b="6896"/>
            <a:stretch/>
          </p:blipFill>
          <p:spPr>
            <a:xfrm>
              <a:off x="1403280" y="1412640"/>
              <a:ext cx="11336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519280" y="1411200"/>
              <a:ext cx="5221440" cy="14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484360" y="170028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500280"/>
            <a:ext cx="7093080" cy="226872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03280" y="3895560"/>
            <a:ext cx="6337440" cy="1477800"/>
            <a:chOff x="1403280" y="3895560"/>
            <a:chExt cx="6337440" cy="147780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rcRect l="0" t="1128" r="321" b="6896"/>
            <a:stretch/>
          </p:blipFill>
          <p:spPr>
            <a:xfrm>
              <a:off x="1403280" y="3897000"/>
              <a:ext cx="11336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519280" y="3895560"/>
              <a:ext cx="5221440" cy="14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484360" y="41846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63640" y="1341360"/>
            <a:ext cx="1763280" cy="1150920"/>
            <a:chOff x="863640" y="1341360"/>
            <a:chExt cx="1763280" cy="1150920"/>
          </a:xfrm>
        </p:grpSpPr>
        <p:sp>
          <p:nvSpPr>
            <p:cNvPr id="177" name=""/>
            <p:cNvSpPr/>
            <p:nvPr/>
          </p:nvSpPr>
          <p:spPr>
            <a:xfrm>
              <a:off x="863640" y="134136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79560" y="1453680"/>
              <a:ext cx="1012680" cy="925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06720" y="1902960"/>
              <a:ext cx="520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698920" y="126828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35280" y="141300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63640" y="2890800"/>
            <a:ext cx="1763280" cy="1150920"/>
            <a:chOff x="863640" y="2890800"/>
            <a:chExt cx="1763280" cy="1150920"/>
          </a:xfrm>
        </p:grpSpPr>
        <p:sp>
          <p:nvSpPr>
            <p:cNvPr id="183" name=""/>
            <p:cNvSpPr/>
            <p:nvPr/>
          </p:nvSpPr>
          <p:spPr>
            <a:xfrm>
              <a:off x="863640" y="289080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9560" y="3003120"/>
              <a:ext cx="1012680" cy="925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06720" y="3452400"/>
              <a:ext cx="520200" cy="0"/>
            </a:xfrm>
            <a:prstGeom prst="line">
              <a:avLst/>
            </a:prstGeom>
            <a:ln cap="rnd" w="28440">
              <a:solidFill>
                <a:srgbClr val="969696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698920" y="281772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35280" y="2962440"/>
            <a:ext cx="518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8720" y="4510080"/>
            <a:ext cx="1763280" cy="1150920"/>
            <a:chOff x="828720" y="4510080"/>
            <a:chExt cx="1763280" cy="1150920"/>
          </a:xfrm>
        </p:grpSpPr>
        <p:sp>
          <p:nvSpPr>
            <p:cNvPr id="189" name=""/>
            <p:cNvSpPr/>
            <p:nvPr/>
          </p:nvSpPr>
          <p:spPr>
            <a:xfrm>
              <a:off x="828720" y="4510080"/>
              <a:ext cx="1243080" cy="1150920"/>
            </a:xfrm>
            <a:prstGeom prst="ellipse">
              <a:avLst/>
            </a:prstGeom>
            <a:gradFill rotWithShape="0">
              <a:gsLst>
                <a:gs pos="0">
                  <a:srgbClr val="458361"/>
                </a:gs>
                <a:gs pos="100000">
                  <a:srgbClr val="cde5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44640" y="4622400"/>
              <a:ext cx="1012680" cy="925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71800" y="5071680"/>
              <a:ext cx="520200" cy="0"/>
            </a:xfrm>
            <a:prstGeom prst="line">
              <a:avLst/>
            </a:prstGeom>
            <a:ln cap="rnd" w="28440">
              <a:solidFill>
                <a:srgbClr val="35654b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664000" y="4437000"/>
            <a:ext cx="5184720" cy="122400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4581360"/>
            <a:ext cx="518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19280" y="1233360"/>
            <a:ext cx="7560720" cy="4427640"/>
            <a:chOff x="719280" y="1233360"/>
            <a:chExt cx="7560720" cy="4427640"/>
          </a:xfrm>
        </p:grpSpPr>
        <p:sp>
          <p:nvSpPr>
            <p:cNvPr id="196" name=""/>
            <p:cNvSpPr/>
            <p:nvPr/>
          </p:nvSpPr>
          <p:spPr>
            <a:xfrm>
              <a:off x="1655640" y="2241360"/>
              <a:ext cx="6624360" cy="3419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de5d8">
                    <a:alpha val="8000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719280" y="1233360"/>
              <a:ext cx="115200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 rot="15844800">
              <a:off x="658800" y="2070720"/>
              <a:ext cx="1152720" cy="8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 rot="8221200">
              <a:off x="1726560" y="1989000"/>
              <a:ext cx="1007640" cy="89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1835280" y="1484280"/>
            <a:ext cx="64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2889360"/>
            <a:ext cx="640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79640" y="4005360"/>
            <a:ext cx="64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2720" y="6093000"/>
            <a:ext cx="528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67640" y="1413000"/>
            <a:ext cx="8272440" cy="4303080"/>
            <a:chOff x="467640" y="1413000"/>
            <a:chExt cx="8272440" cy="43030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rcRect l="1672" t="0" r="50344" b="5005"/>
            <a:stretch/>
          </p:blipFill>
          <p:spPr>
            <a:xfrm>
              <a:off x="3409560" y="2839680"/>
              <a:ext cx="252468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未知"/>
            <p:cNvSpPr/>
            <p:nvPr/>
          </p:nvSpPr>
          <p:spPr>
            <a:xfrm>
              <a:off x="3250440" y="1413000"/>
              <a:ext cx="2556360" cy="142056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 rot="5400000">
              <a:off x="6692760" y="2091960"/>
              <a:ext cx="1317240" cy="277740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 flipH="1" flipV="1">
              <a:off x="3413520" y="4295520"/>
              <a:ext cx="2556360" cy="142056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 flipH="1" flipV="1" rot="5400000">
              <a:off x="1197360" y="2234520"/>
              <a:ext cx="1317240" cy="2777400"/>
            </a:xfrm>
            <a:custGeom>
              <a:avLst/>
              <a:gdLst/>
              <a:ahLst/>
              <a:rect l="l" t="t" r="r" b="b"/>
              <a:pathLst>
                <a:path w="873" h="895">
                  <a:moveTo>
                    <a:pt x="0" y="0"/>
                  </a:moveTo>
                  <a:lnTo>
                    <a:pt x="0" y="895"/>
                  </a:lnTo>
                  <a:lnTo>
                    <a:pt x="873" y="895"/>
                  </a:lnTo>
                </a:path>
              </a:pathLst>
            </a:custGeom>
            <a:noFill/>
            <a:ln w="2232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362400" y="146376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544500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3952800"/>
            <a:ext cx="271440" cy="27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84720" y="1808280"/>
            <a:ext cx="5256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449360"/>
            <a:ext cx="2556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4473720"/>
            <a:ext cx="5256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在此添加段落内容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623880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黑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黑体"/>
              </a:rPr>
              <a:t>幻灯片之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808080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808080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0:27:15Z</dcterms:created>
  <dc:creator/>
  <dc:description/>
  <dc:language>en-US</dc:language>
  <cp:lastModifiedBy>user</cp:lastModifiedBy>
  <dcterms:modified xsi:type="dcterms:W3CDTF">2015-07-04T06:05:04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