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AD3-C6AC-4F13-948A-FE5C048B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50A-848D-45DA-A9C1-E341CF35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8C3-8868-44BC-88B2-B2319F72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D71-B0BD-4535-B696-D848D27E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4B7-1713-43AF-BFD2-30E0EDD4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D9A-4C16-48B5-9E89-71BDBD8D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152-16C3-4D45-83E9-E782FB5F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061-372D-4B76-B6C4-66F7E87D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A2D-08AF-44BF-AEB2-2516954D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FBE-D16B-4126-BDB5-9BAEE03B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DAF-AB09-478B-AC12-D038BB27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D4C-9356-4F9B-9428-CD82CC3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3C19-788E-4517-A8F8-34A095BE300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3B8B-F3CD-4C7D-B5B7-B742C307E7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29162" t="4963" r="9568" b="6637"/>
          <a:stretch/>
        </p:blipFill>
        <p:spPr>
          <a:xfrm>
            <a:off x="3995640" y="907920"/>
            <a:ext cx="4940280" cy="4753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682560" y="493236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38cd5"/>
                </a:solidFill>
                <a:latin typeface="微软雅黑"/>
                <a:ea typeface="微软雅黑"/>
              </a:rPr>
              <a:t>宝宝夏季防蚊   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1835280" y="981000"/>
            <a:ext cx="432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0" spc="-1" strike="noStrike">
                <a:solidFill>
                  <a:srgbClr val="538cd5"/>
                </a:solidFill>
                <a:latin typeface="微软雅黑"/>
                <a:ea typeface="微软雅黑"/>
              </a:rPr>
              <a:t>6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17"/>
          <p:cNvSpPr/>
          <p:nvPr/>
        </p:nvSpPr>
        <p:spPr>
          <a:xfrm>
            <a:off x="1476360" y="4365720"/>
            <a:ext cx="1943280" cy="7110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9"/>
          <p:cNvSpPr/>
          <p:nvPr/>
        </p:nvSpPr>
        <p:spPr>
          <a:xfrm flipV="1">
            <a:off x="3418920" y="4572000"/>
            <a:ext cx="360360" cy="50472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.mp3" descr=""/>
          <p:cNvPicPr/>
          <p:nvPr/>
        </p:nvPicPr>
        <p:blipFill>
          <a:blip r:embed="rId2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13399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5480" y="403200"/>
            <a:ext cx="56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宝宝夏季防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招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4" descr=""/>
          <p:cNvPicPr/>
          <p:nvPr/>
        </p:nvPicPr>
        <p:blipFill>
          <a:blip r:embed="rId1"/>
          <a:stretch/>
        </p:blipFill>
        <p:spPr>
          <a:xfrm>
            <a:off x="-109440" y="763560"/>
            <a:ext cx="9174240" cy="612288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-31680" y="0"/>
            <a:ext cx="9175680" cy="112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ps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挂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蚊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3959280" y="5300640"/>
            <a:ext cx="5184720" cy="3988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蚊帐安全、无毒，不仅防蚊效果好，帐内小小的空间会给宝宝一种安全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31680" y="906480"/>
            <a:ext cx="9175680" cy="612288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-31680" y="0"/>
            <a:ext cx="9175680" cy="112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ps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给宝宝穿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袜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11280" y="1844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穿了袜子后，蚊子感觉人的皮肤湿度降低、皮表挥发物减少，会减少叮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rcRect l="17889" t="12934" r="17140" b="0"/>
          <a:stretch/>
        </p:blipFill>
        <p:spPr>
          <a:xfrm>
            <a:off x="3132000" y="1484280"/>
            <a:ext cx="6012000" cy="5373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611280" y="1844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蔬菜中有一些含有蚊子不喜欢的气味，如含胡萝卜素的蔬菜及大蒜等有辛辣味的蔬菜，宝宝吃下后，蚊子也会离远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-31680" y="0"/>
            <a:ext cx="9175680" cy="112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ps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多吃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蔬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9480"/>
          </a:xfrm>
          <a:prstGeom prst="rect">
            <a:avLst/>
          </a:prstGeom>
          <a:ln w="0">
            <a:noFill/>
          </a:ln>
        </p:spPr>
      </p:pic>
      <p:sp>
        <p:nvSpPr>
          <p:cNvPr id="60" name="矩形 4"/>
          <p:cNvSpPr/>
          <p:nvPr/>
        </p:nvSpPr>
        <p:spPr>
          <a:xfrm>
            <a:off x="-31680" y="0"/>
            <a:ext cx="9175680" cy="112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ps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勤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洗澡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勤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换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11280" y="1844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给宝宝勤洗澡、勤换衣，保持皮肤干燥清洁，可以减少蚊虫叮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6DC-D1BC-4D43-843A-F89C9F56DE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0" t="0" r="14899" b="0"/>
          <a:stretch/>
        </p:blipFill>
        <p:spPr>
          <a:xfrm>
            <a:off x="971640" y="1341360"/>
            <a:ext cx="1919160" cy="1440000"/>
          </a:xfrm>
          <a:prstGeom prst="rect">
            <a:avLst/>
          </a:prstGeom>
          <a:ln w="28440">
            <a:solidFill>
              <a:srgbClr val="538cd5"/>
            </a:solidFill>
            <a:miter/>
          </a:ln>
        </p:spPr>
      </p:pic>
      <p:pic>
        <p:nvPicPr>
          <p:cNvPr id="66" name="Picture 8" descr=""/>
          <p:cNvPicPr/>
          <p:nvPr/>
        </p:nvPicPr>
        <p:blipFill>
          <a:blip r:embed="rId2"/>
          <a:stretch/>
        </p:blipFill>
        <p:spPr>
          <a:xfrm>
            <a:off x="971640" y="3176640"/>
            <a:ext cx="1920960" cy="1439640"/>
          </a:xfrm>
          <a:prstGeom prst="rect">
            <a:avLst/>
          </a:prstGeom>
          <a:ln w="28440">
            <a:solidFill>
              <a:srgbClr val="538cd5"/>
            </a:solidFill>
            <a:miter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971640" y="5013360"/>
            <a:ext cx="1920960" cy="1440000"/>
          </a:xfrm>
          <a:prstGeom prst="rect">
            <a:avLst/>
          </a:prstGeom>
          <a:ln w="28440">
            <a:solidFill>
              <a:srgbClr val="538cd5"/>
            </a:solidFill>
            <a:miter/>
          </a:ln>
        </p:spPr>
      </p:pic>
      <p:sp>
        <p:nvSpPr>
          <p:cNvPr id="68" name="矩形 4"/>
          <p:cNvSpPr/>
          <p:nvPr/>
        </p:nvSpPr>
        <p:spPr>
          <a:xfrm>
            <a:off x="-31680" y="0"/>
            <a:ext cx="9175680" cy="112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ps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室内摆放驱蚊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花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2"/>
          <p:cNvSpPr/>
          <p:nvPr/>
        </p:nvSpPr>
        <p:spPr>
          <a:xfrm>
            <a:off x="3132000" y="1339920"/>
            <a:ext cx="5688000" cy="1441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茉莉花：花香浓郁，夏季置于室内，能杀死结核、痢 疾、白喉杆菌，蚊虫避而远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13"/>
          <p:cNvSpPr/>
          <p:nvPr/>
        </p:nvSpPr>
        <p:spPr>
          <a:xfrm>
            <a:off x="3132000" y="3176640"/>
            <a:ext cx="5688000" cy="1439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薄   荷：具有特殊的芬芳香气，蚊虫闻之会晕眩。被蚊叮虫咬后，用它的叶熬水敷用，有清凉、消炎、止痒等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14"/>
          <p:cNvSpPr/>
          <p:nvPr/>
        </p:nvSpPr>
        <p:spPr>
          <a:xfrm>
            <a:off x="3132000" y="5013360"/>
            <a:ext cx="5688000" cy="1440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万寿菊：有一种冲鼻气味，蚊虫不敢接近它，是一种特殊的优良天然驱虫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611280" y="1835280"/>
            <a:ext cx="3200400" cy="32004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268800" cy="3262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74" name="矩形 4"/>
          <p:cNvSpPr/>
          <p:nvPr/>
        </p:nvSpPr>
        <p:spPr>
          <a:xfrm>
            <a:off x="-31680" y="0"/>
            <a:ext cx="9175680" cy="112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Tips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选择</a:t>
            </a:r>
            <a:r>
              <a:rPr b="1" lang="zh-CN" sz="3600" spc="-1" strike="noStrike">
                <a:solidFill>
                  <a:srgbClr val="538cd5"/>
                </a:solidFill>
                <a:latin typeface="微软雅黑"/>
                <a:ea typeface="微软雅黑"/>
              </a:rPr>
              <a:t>物理类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驱蚊用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1511280" y="5151600"/>
            <a:ext cx="6516720" cy="1008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电蚊拍                                                    灭蚊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要使用化学类的驱蚊用品，如蚊香、电蚊香、杀虫喷雾剂，以免影响宝宝健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3:09:00Z</dcterms:created>
  <dc:creator>An</dc:creator>
  <dc:description/>
  <dc:language>en-US</dc:language>
  <cp:lastModifiedBy/>
  <dcterms:modified xsi:type="dcterms:W3CDTF">2015-07-11T14:14:56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