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42E-559C-4254-ADD3-E42E927B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32A-166F-4674-BA6C-A4EF5889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80F-0C1C-4321-A0DF-BCC2CA63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B5B-43C2-4489-9B8E-D4D9914D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627B-2890-4846-96E6-FE6125E5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9F0B-364C-42B5-8D36-A432D2A3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26E3-D508-426C-A255-93F32A48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E117-A417-4B07-B683-4E762F94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E396-CA05-473D-A18E-1CA3E8A8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F6C7-8F1F-4685-9083-E805505C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3305-AB80-4197-89CD-EEF4F81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9F9-AC80-42B8-95FE-21DEC620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A984-19F5-4629-91C6-EB7F114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F99-0672-40EB-AD7A-FB8918F3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A50E-E5DE-49EC-8565-36476A49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E627-6E54-4C6E-9E5D-8EA1B431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E73B-8A09-410E-915D-7A57A566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3CE-6CED-4603-B3F6-9CC8E974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DA7-1A79-4641-8F5B-0A5487AC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3F6-E1F4-42ED-9A8E-8C6A9134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C71-C0E9-464F-8152-91DD0BA6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906-000F-40B1-91EB-E179DE69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C86-947C-4E39-BAD4-5189116D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206-B0A5-4E62-848D-4D22E9E2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89FA-2DC7-4F61-8442-490A4F5A8426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1C97-C364-4530-B32C-45C93812E082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yundong/" TargetMode="External"/><Relationship Id="rId3" Type="http://schemas.openxmlformats.org/officeDocument/2006/relationships/hyperlink" Target="http://www.eeppt.com/moban/yundong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3962520"/>
            <a:ext cx="5790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Impact"/>
                <a:ea typeface="宋体"/>
              </a:rPr>
              <a:t>棒球运动</a:t>
            </a:r>
            <a:r>
              <a:rPr b="0" lang="zh-CN" sz="4400" spc="-1" strike="noStrike">
                <a:solidFill>
                  <a:srgbClr val="ff0000"/>
                </a:solidFill>
                <a:latin typeface="Impact"/>
                <a:ea typeface="宋体"/>
              </a:rPr>
              <a:t>PPT</a:t>
            </a:r>
            <a:r>
              <a:rPr b="0" lang="zh-CN" sz="4400" spc="-1" strike="noStrike">
                <a:solidFill>
                  <a:srgbClr val="ff0000"/>
                </a:solidFill>
                <a:latin typeface="Impact"/>
                <a:ea typeface="宋体"/>
              </a:rPr>
              <a:t>模板下载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571500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幻灯片之家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3504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657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7053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172200"/>
            <a:ext cx="660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体育运动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yund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4382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72388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6386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40384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6:40:54Z</dcterms:created>
  <dc:creator>eclipse</dc:creator>
  <dc:description/>
  <dc:language>en-US</dc:language>
  <cp:lastModifiedBy>微软用户</cp:lastModifiedBy>
  <dcterms:modified xsi:type="dcterms:W3CDTF">2015-07-05T06:49:19Z</dcterms:modified>
  <cp:revision>3</cp:revision>
  <dc:subject/>
  <dc:title>Baseball Season  Outfiel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