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jianjie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Box 2"/>
          <p:cNvSpPr/>
          <p:nvPr/>
        </p:nvSpPr>
        <p:spPr>
          <a:xfrm>
            <a:off x="0" y="2589120"/>
            <a:ext cx="928800" cy="167976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200000"/>
          </a:gra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askerville Old Face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2"/>
          <p:cNvSpPr/>
          <p:nvPr/>
        </p:nvSpPr>
        <p:spPr>
          <a:xfrm>
            <a:off x="741600" y="28526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Baskerville Old Face"/>
              </a:rPr>
              <a:t>h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直接连接符​​ 5"/>
          <p:cNvSpPr/>
          <p:nvPr/>
        </p:nvSpPr>
        <p:spPr>
          <a:xfrm>
            <a:off x="2604960" y="3860640"/>
            <a:ext cx="405468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5572080" y="3610080"/>
            <a:ext cx="33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7f7f7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688800" y="2908440"/>
            <a:ext cx="21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Bauhaus 93"/>
              </a:rPr>
              <a:t>18:58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56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91560" y="13413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白色简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2589120"/>
            <a:ext cx="928800" cy="167976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200000"/>
          </a:gra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askerville Old Face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799560" y="2852640"/>
            <a:ext cx="132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Baskerville Old Face"/>
              </a:rPr>
              <a:t>h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​​ 5"/>
          <p:cNvSpPr/>
          <p:nvPr/>
        </p:nvSpPr>
        <p:spPr>
          <a:xfrm>
            <a:off x="2604960" y="3860640"/>
            <a:ext cx="405468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572080" y="3610080"/>
            <a:ext cx="33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7f7f7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6688800" y="2908440"/>
            <a:ext cx="21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Bauhaus 93"/>
              </a:rPr>
              <a:t>18:58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0" y="2589120"/>
            <a:ext cx="928800" cy="167976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200000"/>
          </a:gra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askerville Old Face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801720" y="2852640"/>
            <a:ext cx="142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Baskerville Old Face"/>
              </a:rPr>
              <a:t>h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​​ 5"/>
          <p:cNvSpPr/>
          <p:nvPr/>
        </p:nvSpPr>
        <p:spPr>
          <a:xfrm>
            <a:off x="2604960" y="3860640"/>
            <a:ext cx="405468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572080" y="3610080"/>
            <a:ext cx="33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7f7f7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688800" y="2908440"/>
            <a:ext cx="21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Bauhaus 93"/>
              </a:rPr>
              <a:t>18:58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0" y="2589120"/>
            <a:ext cx="928800" cy="167976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200000"/>
          </a:gra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askerville Old Face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727200" y="2852640"/>
            <a:ext cx="174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Baskerville Old Face"/>
              </a:rPr>
              <a:t>ha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​​ 5"/>
          <p:cNvSpPr/>
          <p:nvPr/>
        </p:nvSpPr>
        <p:spPr>
          <a:xfrm>
            <a:off x="2604960" y="3860640"/>
            <a:ext cx="405468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5572080" y="3610080"/>
            <a:ext cx="33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7f7f7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6688800" y="2908440"/>
            <a:ext cx="21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Bauhaus 93"/>
              </a:rPr>
              <a:t>18:58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5661000"/>
            <a:ext cx="575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简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0" y="2589120"/>
            <a:ext cx="928800" cy="167976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200000"/>
          </a:gra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762120" y="2852640"/>
            <a:ext cx="159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Baskerville Old Face"/>
              </a:rPr>
              <a:t>o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​​ 5"/>
          <p:cNvSpPr/>
          <p:nvPr/>
        </p:nvSpPr>
        <p:spPr>
          <a:xfrm>
            <a:off x="2604960" y="3860640"/>
            <a:ext cx="405468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5572080" y="3610080"/>
            <a:ext cx="33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7f7f7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6688800" y="2908440"/>
            <a:ext cx="21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Bauhaus 93"/>
              </a:rPr>
              <a:t>18:58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57:46Z</dcterms:created>
  <dc:creator/>
  <dc:description/>
  <dc:language>en-US</dc:language>
  <cp:lastModifiedBy>GZB</cp:lastModifiedBy>
  <dcterms:modified xsi:type="dcterms:W3CDTF">2015-07-06T03:51:51Z</dcterms:modified>
  <cp:revision>103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dc01000000000001024140</vt:lpwstr>
  </property>
  <property fmtid="{D5CDD505-2E9C-101B-9397-08002B2CF9AE}" pid="4" name="Presentation">
    <vt:lpwstr>鍥捐〃6涓?</vt:lpwstr>
  </property>
  <property fmtid="{D5CDD505-2E9C-101B-9397-08002B2CF9AE}" pid="5" name="SlideDescription">
    <vt:lpwstr/>
  </property>
  <property fmtid="{D5CDD505-2E9C-101B-9397-08002B2CF9AE}" pid="6" name="Version">
    <vt:r8>1</vt:r8>
  </property>
</Properties>
</file>