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9E7-7789-49A7-A45E-433FCF10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B72-9FF6-495F-A28D-5826128F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DAB-A628-4103-B3AA-7F2007BA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0CA-E3B1-48B6-A7BC-D4882CEE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976A-D46B-45F1-A7A2-DC2BECAA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33F7-F26D-48CC-9206-D6FA11B9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1CFE-547E-427A-96BE-DE8EF49B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9F75-E1BE-4BCB-BF5F-2E3CFBC8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0D88-010F-43A8-AA34-0FE1E434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4811-1D30-4B49-8E2F-D626EA28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E9EF-13D9-4864-9074-C3888273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382E-0F86-4776-92C1-A8CBCF6D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CFB5-4B8C-4E95-A176-868DB78D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9FEB-E931-44D6-A963-7674AC3A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8489-410B-446B-9805-75108558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6E2E-FBC5-4432-9849-6DBAD79EB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11EB-8F5D-4FB4-AFC2-6C56771F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A40-6794-4993-886C-BF04CDB9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907-541B-4EDB-9F26-6FBEA38F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2B5-8E71-4415-B1B3-8D1FCB8E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DB06-5AC1-4D46-A626-3647F6CD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318E-32AE-4DA6-8D8E-5DFF1E94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CEA-928E-4AE9-8421-E03CB4D1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994-5E24-4515-BC67-3350FCE8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C0E6-4832-4F74-A1E5-35361BEC595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CAAF9F8-A91A-461E-9BA6-BFB2A8F06CE1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13:42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4BF6-7AD0-41FB-AD7B-952522A672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320"/>
              <a:ext cx="228600" cy="1368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200C-3A20-4E36-9E60-3C9A9281E4B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A6B0D1F-E691-45DD-BA0B-558C2C61F476}" type="datetime10">
              <a:rPr b="0" lang="en-US" sz="1000" spc="-1" strike="noStrike">
                <a:solidFill>
                  <a:srgbClr val="000000"/>
                </a:solidFill>
                <a:latin typeface="Arial"/>
              </a:rPr>
              <a:t>13:42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5FC966-DCD7-40F8-84D2-D47C9302413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560"/>
            <a:ext cx="8391600" cy="5791320"/>
            <a:chOff x="380880" y="304560"/>
            <a:chExt cx="8391600" cy="5791320"/>
          </a:xfrm>
        </p:grpSpPr>
        <p:sp>
          <p:nvSpPr>
            <p:cNvPr id="53" name=""/>
            <p:cNvSpPr/>
            <p:nvPr/>
          </p:nvSpPr>
          <p:spPr>
            <a:xfrm flipV="1">
              <a:off x="8312040" y="303840"/>
              <a:ext cx="457200" cy="45684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3840"/>
              <a:ext cx="7943760" cy="4568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400"/>
              <a:ext cx="7943760" cy="22824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400" y="761760"/>
              <a:ext cx="447840" cy="2282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1400" y="3581280"/>
              <a:ext cx="769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章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语言概述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语言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函数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nghai Distributed Computing and Technology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011-FC8F-4073-9B05-2598BDE805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316994-79CE-41C6-B525-D675DF4F02D4}" type="datetime8">
              <a:rPr lang="en-US"/>
              <a:t>07/28/26 13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1.1 C</a:t>
            </a:r>
            <a:r>
              <a:rPr b="0" lang="zh-CN" sz="4400" spc="-1" strike="noStrike">
                <a:solidFill>
                  <a:srgbClr val="420000"/>
                </a:solidFill>
                <a:latin typeface="Times New Roman"/>
              </a:rPr>
              <a:t>语言的特点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语言简洁、紧凑，使用方便、灵活。一共只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关键词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种语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运算符丰富。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种运算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数据类型丰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具有结构化的控制语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语法不太严格，程序设计自由度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允许直接访问物理地址，能进行位操作，能实现汇编语言的大部分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成的目标代码质量高，执行效率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nghai Distributed Computing and Technology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A6D-A8F8-4E62-9F43-0D07FDA9F0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B3240-DD62-4B27-AF7A-D8F5368A448A}" type="datetime8">
              <a:rPr lang="en-US"/>
              <a:t>07/28/26 13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2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程序的结构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由一个或多个函数组成。其中有一个函数名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它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程序的主函数，即入口函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：命令行界面输出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lo, everyon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in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f(“hello, everyone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14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nghai Distributed Computing and Technology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650-97B0-4FA6-AE4C-5D9B86B7FA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7CCAB-F783-4A3E-A5B5-07A3D0A163A2}" type="datetime8">
              <a:rPr lang="en-US"/>
              <a:t>07/28/26 13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2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程序的结构（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：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和（单函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in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{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求二数之和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*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, b, sum;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/* 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变量定义，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为二加数，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um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存放和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10; b=20;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/*a,b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赋初值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=a+b;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将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,b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之和存于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um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f(“10+20=%d”, sum);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/*</a:t>
            </a:r>
            <a:r>
              <a:rPr b="0" lang="zh-CN" sz="3200" spc="-1" strike="noStrike">
                <a:solidFill>
                  <a:srgbClr val="008000"/>
                </a:solidFill>
                <a:latin typeface="Times New Roman"/>
              </a:rPr>
              <a:t>输出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um*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nghai Distributed Computing and Technology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458D-CBB2-48E2-AF71-6676654025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61AE5-09AD-4829-9B61-0E8B650E7BD6}" type="datetime8">
              <a:rPr lang="en-US"/>
              <a:t>07/28/26 13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2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程序的结构（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例：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之间的素数之和。（多函数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* 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</a:rPr>
              <a:t>判断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k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</a:rPr>
              <a:t>是否为素数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</a:rPr>
              <a:t>当返回值大于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k/2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</a:rPr>
              <a:t>时，为素数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rime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k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=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&lt;=k/2 &amp;&amp; k%m!=0) ++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retur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ain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, j, s; 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/*s</a:t>
            </a:r>
            <a:r>
              <a:rPr b="0" lang="zh-CN" sz="1600" spc="-1" strike="noStrike">
                <a:solidFill>
                  <a:srgbClr val="008000"/>
                </a:solidFill>
                <a:latin typeface="Times New Roman"/>
              </a:rPr>
              <a:t>为素数之和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i=1; i&lt;=100; ++i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 = prime(i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j&gt;i/2) s = s +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ntf(“%d\n”,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hanghai Distributed Computing and Technology Cen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C1E-22AC-4A36-9A92-A9D455A776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8FFAC-54D1-42CF-9288-EECABDC3EAF1}" type="datetime8">
              <a:rPr lang="en-US"/>
              <a:t>07/28/26 13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00:51:41Z</dcterms:created>
  <dc:creator>Frank Fu</dc:creator>
  <dc:description/>
  <dc:language>en-US</dc:language>
  <cp:lastModifiedBy>gao</cp:lastModifiedBy>
  <dcterms:modified xsi:type="dcterms:W3CDTF">2015-07-09T10:47:04Z</dcterms:modified>
  <cp:revision>196</cp:revision>
  <dc:subject/>
  <dc:title>计算引论与C++程序设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