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DF3-6532-4CAF-970C-A256BEA5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0F8-08B4-416B-B6F6-C0AB4B0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59F-54A7-4A01-B1FD-73DC9286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EE0-AEA7-4904-B91D-00BB6D99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018-E9DA-435B-B5FE-0E9069BE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E7B-096F-4A46-BF5D-53AEE8B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8CE-372E-4463-A1CB-50FE6A2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3DF-6BBE-4687-A1F4-37D21FE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A4E-7B53-475D-A31A-A08F469D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655-104F-44D4-92A7-BC330F8E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05D-78BB-467D-8A81-D3A3CAB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1A6-CCB4-4899-88E0-AD38F9A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F28E-5AA7-4D17-B583-7CBCB69D2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273320" y="12193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8"/>
          <p:cNvPicPr/>
          <p:nvPr/>
        </p:nvPicPr>
        <p:blipFill>
          <a:blip r:embed="rId17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方正姚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80" y="60199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12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7520" y="1981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钓鱼的启示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钓鱼的人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隶书"/>
              </a:rPr>
              <a:t>美 味 鲈 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2004391413924438"/>
          <p:cNvPicPr/>
          <p:nvPr/>
        </p:nvPicPr>
        <p:blipFill>
          <a:blip r:embed="rId2"/>
          <a:stretch/>
        </p:blipFill>
        <p:spPr>
          <a:xfrm>
            <a:off x="1066680" y="1523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麒麟鲈鱼"/>
          <p:cNvPicPr/>
          <p:nvPr/>
        </p:nvPicPr>
        <p:blipFill>
          <a:blip r:embed="rId3"/>
          <a:stretch/>
        </p:blipFill>
        <p:spPr>
          <a:xfrm>
            <a:off x="1066680" y="3962520"/>
            <a:ext cx="3429000" cy="221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甜辣鲈鱼"/>
          <p:cNvPicPr/>
          <p:nvPr/>
        </p:nvPicPr>
        <p:blipFill>
          <a:blip r:embed="rId4"/>
          <a:stretch/>
        </p:blipFill>
        <p:spPr>
          <a:xfrm>
            <a:off x="4648320" y="3962520"/>
            <a:ext cx="342900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qzhluyu"/>
          <p:cNvPicPr/>
          <p:nvPr/>
        </p:nvPicPr>
        <p:blipFill>
          <a:blip r:embed="rId5"/>
          <a:stretch/>
        </p:blipFill>
        <p:spPr>
          <a:xfrm>
            <a:off x="4648320" y="15238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隶书"/>
              </a:rPr>
              <a:t>分析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父亲和“我”钓到一条怎样的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一条“我”以前从未见到过的大鲈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父亲为什么让“我”把鱼放回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因为距离开放捕捞鱼的时间还有两个小时，父亲不原意做违反规定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0958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请你朗读下面一段父亲告诫我的话，说说你对这句话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道德只是个简单的是与非的问题，但是实践起来却很难。要是人们从小受到像把钓到了大鲈鱼放回湖中这样严格的教育的话，就会获得道德实践的勇气和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隶书"/>
              </a:rPr>
              <a:t>比较下面的两句话，说说那句更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我把鱼钩从大鲈鱼的嘴唇上取下来，把它放回到湖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0" y="22096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我慢慢地把鱼钩从大鲈鱼的嘴唇上取下来，依依不舍地把它放回到湖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219320" y="45720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  <a:ea typeface="隶书"/>
              </a:rPr>
              <a:t>B</a:t>
            </a:r>
            <a:r>
              <a:rPr b="0" lang="zh-CN" sz="3600" spc="-1" strike="noStrike">
                <a:solidFill>
                  <a:srgbClr val="00ffff"/>
                </a:solidFill>
                <a:latin typeface="Arial"/>
                <a:ea typeface="隶书"/>
              </a:rPr>
              <a:t>更好一些。因为它形象地刻画出“我”沮丧的心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8A2-3294-491A-A8E1-47D7686C8C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隶书"/>
              </a:rPr>
              <a:t>但是，在人生的旅途中，我却不止一次地遇到了与那条鲈鱼相似的诱惑人的“鱼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隶书"/>
              </a:rPr>
              <a:t>这个“鱼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指人生中名利、财富等诱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这篇课文给了你什么样的</a:t>
            </a:r>
            <a:r>
              <a:rPr b="0" lang="zh-CN" sz="6600" spc="-1" strike="noStrike">
                <a:solidFill>
                  <a:srgbClr val="ffff66"/>
                </a:solidFill>
                <a:latin typeface="Arial"/>
                <a:ea typeface="隶书"/>
              </a:rPr>
              <a:t>启发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u=2454343471,2736686862&amp;gp=2"/>
          <p:cNvPicPr/>
          <p:nvPr/>
        </p:nvPicPr>
        <p:blipFill>
          <a:blip r:embed="rId2"/>
          <a:stretch/>
        </p:blipFill>
        <p:spPr>
          <a:xfrm>
            <a:off x="4648320" y="3733920"/>
            <a:ext cx="2666880" cy="16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3244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4267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3:22:48Z</dcterms:created>
  <dc:creator>An</dc:creator>
  <dc:description/>
  <dc:language>en-US</dc:language>
  <cp:lastModifiedBy/>
  <dcterms:modified xsi:type="dcterms:W3CDTF">2015-07-11T03:51:10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