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392-B9C7-48F4-8FFE-6B782898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BEC-B9BC-4CA8-AD28-F8628206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0B0-3992-40FD-AF3C-D1B73B01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980-E5CB-481B-B1D1-9B14D105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5F3-60C4-4097-B397-2822217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DE1-F0F5-4D13-A6C1-B6BFCD1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7E2-FB80-4007-B99E-4771E7D5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558-D033-4A03-9F54-6727C32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FD2-1DBC-4D0E-B92B-B521CB57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7ED-777A-4ABF-87E7-602625F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771-3BE6-469D-94DB-F5844F9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108-02DC-4617-8E86-9A565C1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125F-1BB8-4E02-8B8D-B56F081CEE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0515-ADAC-4160-97FC-BA4CC95227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2872440" y="206064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720" y="630864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DB6-C1E8-4AD1-A0D7-DA9362F74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第一PPT模板网-WWW.1PPT.COM</dc:creator>
  <dc:description/>
  <dc:language>en-US</dc:language>
  <cp:lastModifiedBy>User</cp:lastModifiedBy>
  <dcterms:modified xsi:type="dcterms:W3CDTF">2015-07-03T09:29:47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