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2.gif" ContentType="image/gif"/>
  <Override PartName="/ppt/media/image24.jpeg" ContentType="image/jpeg"/>
  <Override PartName="/ppt/media/image9.png" ContentType="image/png"/>
  <Override PartName="/ppt/media/image8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27.gif" ContentType="image/gi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8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png" ContentType="image/png"/>
  <Override PartName="/ppt/media/image16.wmf" ContentType="image/x-wmf"/>
  <Override PartName="/ppt/media/image14.wmf" ContentType="image/x-wmf"/>
  <Override PartName="/ppt/media/image25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CB88-F196-4D1B-804E-7E537E822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030E-411D-4A43-8826-29D40158E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17B8-2F9D-4EA4-9652-C0A33AC5F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B833-41B8-45A6-9BCD-9E5EB6EDD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0523-1AB7-45F6-B28F-AF8BCCFBC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E957-FD3D-4BD8-9DD6-84562B698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0BA1-149F-4505-8635-F5C6B5EA4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0724-0FC0-43A1-AF8F-91E6355E7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BE97-41AA-451E-8CD8-C1BB28B91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F59A-804C-4076-B046-B80BC800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FF7E-D248-44D5-9647-5C97819E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EDD4-285B-4152-8FD3-9C2F76A5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C23B2-EA49-429C-890F-9227D0E893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image" Target="../media/image18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gif"/><Relationship Id="rId3" Type="http://schemas.openxmlformats.org/officeDocument/2006/relationships/image" Target="../media/image28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1700280"/>
            <a:ext cx="8459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华文行楷"/>
                <a:ea typeface="华文行楷"/>
              </a:rPr>
              <a:t>17.1.2</a:t>
            </a:r>
            <a:r>
              <a:rPr b="1" lang="zh-CN" sz="8000" spc="-1" strike="noStrike">
                <a:solidFill>
                  <a:srgbClr val="ff3300"/>
                </a:solidFill>
                <a:latin typeface="华文行楷"/>
                <a:ea typeface="华文行楷"/>
              </a:rPr>
              <a:t>反比例函数的图象与性质（</a:t>
            </a:r>
            <a:r>
              <a:rPr b="1" lang="en-US" sz="8000" spc="-1" strike="noStrike">
                <a:solidFill>
                  <a:srgbClr val="ff3300"/>
                </a:solidFill>
                <a:latin typeface="华文行楷"/>
                <a:ea typeface="华文行楷"/>
              </a:rPr>
              <a:t>2</a:t>
            </a:r>
            <a:r>
              <a:rPr b="1" lang="zh-CN" sz="8000" spc="-1" strike="noStrike">
                <a:solidFill>
                  <a:srgbClr val="ff3300"/>
                </a:solidFill>
                <a:latin typeface="华文行楷"/>
                <a:ea typeface="华文行楷"/>
              </a:rPr>
              <a:t>）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9220320" cy="68580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8000" y="6237360"/>
            <a:ext cx="202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87480" y="76500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反比例函数图像和性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95280" y="549360"/>
            <a:ext cx="763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476280"/>
            <a:ext cx="842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</a:rPr>
              <a:t>你能解答第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(2)</a:t>
            </a:r>
            <a:r>
              <a:rPr b="1" lang="zh-CN" sz="6000" spc="-1" strike="noStrike">
                <a:solidFill>
                  <a:srgbClr val="3333cc"/>
                </a:solidFill>
                <a:latin typeface="Times New Roman"/>
              </a:rPr>
              <a:t>小题吗了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1773360"/>
            <a:ext cx="835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4360" y="1773360"/>
            <a:ext cx="87487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、如果点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,B(-1,y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(3,y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都在反比例函数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=k/x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的图象上，那么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的大小又如何呢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5867280" cy="509436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284720" y="-360"/>
            <a:ext cx="72072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想一想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150160" y="260280"/>
            <a:ext cx="2898000" cy="3431520"/>
            <a:chOff x="5150160" y="260280"/>
            <a:chExt cx="2898000" cy="3431520"/>
          </a:xfrm>
        </p:grpSpPr>
        <p:grpSp>
          <p:nvGrpSpPr>
            <p:cNvPr id="110" name=""/>
            <p:cNvGrpSpPr/>
            <p:nvPr/>
          </p:nvGrpSpPr>
          <p:grpSpPr>
            <a:xfrm>
              <a:off x="6791040" y="1326960"/>
              <a:ext cx="618480" cy="459720"/>
              <a:chOff x="6791040" y="1326960"/>
              <a:chExt cx="618480" cy="459720"/>
            </a:xfrm>
          </p:grpSpPr>
          <p:pic>
            <p:nvPicPr>
              <p:cNvPr id="11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791040" y="1479240"/>
                <a:ext cx="285480" cy="28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" name=""/>
              <p:cNvSpPr/>
              <p:nvPr/>
            </p:nvSpPr>
            <p:spPr>
              <a:xfrm>
                <a:off x="7043040" y="132696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7515000" y="2012760"/>
              <a:ext cx="495000" cy="628560"/>
              <a:chOff x="7515000" y="2012760"/>
              <a:chExt cx="495000" cy="628560"/>
            </a:xfrm>
          </p:grpSpPr>
          <p:pic>
            <p:nvPicPr>
              <p:cNvPr id="11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515000" y="2355840"/>
                <a:ext cx="285480" cy="285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" name=""/>
              <p:cNvSpPr/>
              <p:nvPr/>
            </p:nvSpPr>
            <p:spPr>
              <a:xfrm>
                <a:off x="7591680" y="201276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 flipH="1">
              <a:off x="6543000" y="1555560"/>
              <a:ext cx="3805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905520" y="1555560"/>
              <a:ext cx="0" cy="13716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543360" y="1536480"/>
              <a:ext cx="380520" cy="13716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6523920" y="2469960"/>
              <a:ext cx="106668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591320" y="2469960"/>
              <a:ext cx="0" cy="4572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524280" y="2469960"/>
              <a:ext cx="114264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5150160" y="2927160"/>
              <a:ext cx="1392840" cy="764640"/>
              <a:chOff x="5150160" y="2927160"/>
              <a:chExt cx="1392840" cy="764640"/>
            </a:xfrm>
          </p:grpSpPr>
          <p:grpSp>
            <p:nvGrpSpPr>
              <p:cNvPr id="123" name=""/>
              <p:cNvGrpSpPr/>
              <p:nvPr/>
            </p:nvGrpSpPr>
            <p:grpSpPr>
              <a:xfrm>
                <a:off x="5150160" y="3232080"/>
                <a:ext cx="687960" cy="459720"/>
                <a:chOff x="5150160" y="3232080"/>
                <a:chExt cx="687960" cy="459720"/>
              </a:xfrm>
            </p:grpSpPr>
            <p:pic>
              <p:nvPicPr>
                <p:cNvPr id="12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552640" y="3346560"/>
                  <a:ext cx="28548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" name=""/>
                <p:cNvSpPr/>
                <p:nvPr/>
              </p:nvSpPr>
              <p:spPr>
                <a:xfrm>
                  <a:off x="5150160" y="323208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" name=""/>
              <p:cNvSpPr/>
              <p:nvPr/>
            </p:nvSpPr>
            <p:spPr>
              <a:xfrm>
                <a:off x="5705280" y="2927160"/>
                <a:ext cx="837720" cy="53352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27" name="" descr=""/>
            <p:cNvPicPr/>
            <p:nvPr/>
          </p:nvPicPr>
          <p:blipFill>
            <a:blip r:embed="rId5"/>
            <a:stretch/>
          </p:blipFill>
          <p:spPr>
            <a:xfrm>
              <a:off x="6981480" y="260280"/>
              <a:ext cx="1066680" cy="106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" name=""/>
          <p:cNvSpPr/>
          <p:nvPr/>
        </p:nvSpPr>
        <p:spPr>
          <a:xfrm>
            <a:off x="0" y="260280"/>
            <a:ext cx="4427640" cy="38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、在一个反比例函数图象上任取两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过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别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轴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轴的平行线，与坐标轴围成的矩形面积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过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别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轴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轴的平行线，与坐标轴围成的矩形面积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什么关系？为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将反比例函数的图象绕原点旋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后，能与原来的图象重合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867564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观察反比例函数图象的两支曲线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回答下列问题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它们会与坐标轴相交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反比例函数的图象是轴对称图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反比例函数的图象是中心对称图形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220500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它们都不与坐标轴相交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4360" y="393372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是轴对称图形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它们有两条对称轴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16000" y="544500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是中心对称图形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对称中心是坐标原点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8000" y="6237360"/>
            <a:ext cx="202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24000" y="1125360"/>
            <a:ext cx="619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已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成反比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并且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 = 3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 = 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求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函数关系式。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9280" y="3645000"/>
            <a:ext cx="6264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已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成正比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并且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 = 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 = 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求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 = 1.5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值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rId1"/>
          </p:cNvPr>
          <p:cNvSpPr/>
          <p:nvPr/>
        </p:nvSpPr>
        <p:spPr>
          <a:xfrm>
            <a:off x="539640" y="404640"/>
            <a:ext cx="1219320" cy="45972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例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2706840"/>
            <a:ext cx="61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图形写出函数的解析式。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5435640" y="2133720"/>
            <a:ext cx="2732040" cy="2088720"/>
            <a:chOff x="5435640" y="2133720"/>
            <a:chExt cx="2732040" cy="2088720"/>
          </a:xfrm>
        </p:grpSpPr>
        <p:sp>
          <p:nvSpPr>
            <p:cNvPr id="139" name=""/>
            <p:cNvSpPr/>
            <p:nvPr/>
          </p:nvSpPr>
          <p:spPr>
            <a:xfrm>
              <a:off x="6870600" y="21369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940440" y="3310200"/>
              <a:ext cx="866880" cy="753840"/>
            </a:xfrm>
            <a:custGeom>
              <a:avLst/>
              <a:gdLst/>
              <a:ahLst/>
              <a:rect l="l" t="t" r="r" b="b"/>
              <a:pathLst>
                <a:path w="1033" h="1024">
                  <a:moveTo>
                    <a:pt x="1033" y="0"/>
                  </a:moveTo>
                  <a:cubicBezTo>
                    <a:pt x="730" y="18"/>
                    <a:pt x="428" y="37"/>
                    <a:pt x="256" y="208"/>
                  </a:cubicBezTo>
                  <a:cubicBezTo>
                    <a:pt x="84" y="379"/>
                    <a:pt x="42" y="701"/>
                    <a:pt x="0" y="1024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913360" y="2346480"/>
              <a:ext cx="811440" cy="682560"/>
            </a:xfrm>
            <a:custGeom>
              <a:avLst/>
              <a:gdLst/>
              <a:ahLst/>
              <a:rect l="l" t="t" r="r" b="b"/>
              <a:pathLst>
                <a:path w="1019" h="984">
                  <a:moveTo>
                    <a:pt x="1019" y="0"/>
                  </a:moveTo>
                  <a:cubicBezTo>
                    <a:pt x="954" y="286"/>
                    <a:pt x="890" y="572"/>
                    <a:pt x="720" y="736"/>
                  </a:cubicBezTo>
                  <a:cubicBezTo>
                    <a:pt x="550" y="900"/>
                    <a:pt x="275" y="942"/>
                    <a:pt x="0" y="984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807320" y="29275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945400" y="3148200"/>
              <a:ext cx="1914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831000" y="2133720"/>
              <a:ext cx="18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6850080" y="2249280"/>
              <a:ext cx="0" cy="197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799320" y="30625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435640" y="261000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Times New Roman"/>
                </a:rPr>
                <a:t>（</a:t>
              </a: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-3</a:t>
              </a:r>
              <a:r>
                <a:rPr b="1" lang="zh-CN" sz="1800" spc="-1" strike="noStrike">
                  <a:solidFill>
                    <a:srgbClr val="ff0000"/>
                  </a:solidFill>
                  <a:latin typeface="Times New Roman"/>
                </a:rPr>
                <a:t>，</a:t>
              </a: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zh-CN" sz="1800" spc="-1" strike="noStrike">
                  <a:solidFill>
                    <a:srgbClr val="ff0000"/>
                  </a:solidFill>
                  <a:latin typeface="Times New Roman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215040" y="2940120"/>
              <a:ext cx="71640" cy="71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696000" y="3833640"/>
            <a:ext cx="2448000" cy="3024360"/>
            <a:chOff x="6696000" y="3833640"/>
            <a:chExt cx="2448000" cy="3024360"/>
          </a:xfrm>
        </p:grpSpPr>
        <p:sp>
          <p:nvSpPr>
            <p:cNvPr id="150" name=""/>
            <p:cNvSpPr/>
            <p:nvPr/>
          </p:nvSpPr>
          <p:spPr>
            <a:xfrm>
              <a:off x="6696000" y="3833640"/>
              <a:ext cx="2376360" cy="3024360"/>
            </a:xfrm>
            <a:prstGeom prst="wedgeRoundRectCallout">
              <a:avLst>
                <a:gd name="adj1" fmla="val -70643"/>
                <a:gd name="adj2" fmla="val 66796"/>
                <a:gd name="adj3" fmla="val 16667"/>
              </a:avLst>
            </a:prstGeom>
            <a:solidFill>
              <a:srgbClr val="0000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6838920" y="3906720"/>
              <a:ext cx="2305080" cy="2906640"/>
              <a:chOff x="6838920" y="3906720"/>
              <a:chExt cx="2305080" cy="2906640"/>
            </a:xfrm>
          </p:grpSpPr>
          <p:sp>
            <p:nvSpPr>
              <p:cNvPr id="152" name=""/>
              <p:cNvSpPr/>
              <p:nvPr/>
            </p:nvSpPr>
            <p:spPr>
              <a:xfrm>
                <a:off x="6838920" y="3906720"/>
                <a:ext cx="2305080" cy="28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66"/>
                    </a:solidFill>
                    <a:latin typeface="Times New Roman"/>
                  </a:rPr>
                  <a:t>已知</a:t>
                </a:r>
                <a:r>
                  <a:rPr b="1" lang="en-US" sz="2000" spc="-1" strike="noStrike">
                    <a:solidFill>
                      <a:srgbClr val="ffff66"/>
                    </a:solidFill>
                    <a:latin typeface="Times New Roman"/>
                  </a:rPr>
                  <a:t>y</a:t>
                </a:r>
                <a:r>
                  <a:rPr b="1" lang="zh-CN" sz="2000" spc="-1" strike="noStrike">
                    <a:solidFill>
                      <a:srgbClr val="ffff66"/>
                    </a:solidFill>
                    <a:latin typeface="Times New Roman"/>
                  </a:rPr>
                  <a:t>与</a:t>
                </a:r>
                <a:r>
                  <a:rPr b="1" lang="en-US" sz="2000" spc="-1" strike="noStrike">
                    <a:solidFill>
                      <a:srgbClr val="ffff66"/>
                    </a:solidFill>
                    <a:latin typeface="Times New Roman"/>
                  </a:rPr>
                  <a:t>x</a:t>
                </a:r>
                <a:r>
                  <a:rPr b="1" lang="zh-CN" sz="2000" spc="-1" strike="noStrike">
                    <a:solidFill>
                      <a:srgbClr val="ffff66"/>
                    </a:solidFill>
                    <a:latin typeface="Times New Roman"/>
                  </a:rPr>
                  <a:t>成正比例，当</a:t>
                </a:r>
                <a:r>
                  <a:rPr b="1" lang="en-US" sz="2000" spc="-1" strike="noStrike">
                    <a:solidFill>
                      <a:srgbClr val="ffff66"/>
                    </a:solidFill>
                    <a:latin typeface="Times New Roman"/>
                  </a:rPr>
                  <a:t>x=3</a:t>
                </a:r>
                <a:r>
                  <a:rPr b="1" lang="zh-CN" sz="2000" spc="-1" strike="noStrike">
                    <a:solidFill>
                      <a:srgbClr val="ffff66"/>
                    </a:solidFill>
                    <a:latin typeface="Times New Roman"/>
                  </a:rPr>
                  <a:t>时</a:t>
                </a:r>
                <a:r>
                  <a:rPr b="1" lang="en-US" sz="2000" spc="-1" strike="noStrike">
                    <a:solidFill>
                      <a:srgbClr val="ffff66"/>
                    </a:solidFill>
                    <a:latin typeface="Times New Roman"/>
                  </a:rPr>
                  <a:t>y=4</a:t>
                </a:r>
                <a:r>
                  <a:rPr b="1" lang="zh-CN" sz="2000" spc="-1" strike="noStrike">
                    <a:solidFill>
                      <a:srgbClr val="ffff66"/>
                    </a:solidFill>
                    <a:latin typeface="Times New Roman"/>
                  </a:rPr>
                  <a:t>求</a:t>
                </a:r>
                <a:r>
                  <a:rPr b="1" lang="en-US" sz="2000" spc="-1" strike="noStrike">
                    <a:solidFill>
                      <a:srgbClr val="ffff66"/>
                    </a:solidFill>
                    <a:latin typeface="Times New Roman"/>
                  </a:rPr>
                  <a:t>x=1.5</a:t>
                </a:r>
                <a:r>
                  <a:rPr b="1" lang="zh-CN" sz="2000" spc="-1" strike="noStrike">
                    <a:solidFill>
                      <a:srgbClr val="ffff66"/>
                    </a:solidFill>
                    <a:latin typeface="Times New Roman"/>
                  </a:rPr>
                  <a:t>时</a:t>
                </a:r>
                <a:r>
                  <a:rPr b="1" lang="en-US" sz="2000" spc="-1" strike="noStrike">
                    <a:solidFill>
                      <a:srgbClr val="ffff66"/>
                    </a:solidFill>
                    <a:latin typeface="Times New Roman"/>
                  </a:rPr>
                  <a:t>y</a:t>
                </a:r>
                <a:r>
                  <a:rPr b="1" lang="zh-CN" sz="2000" spc="-1" strike="noStrike">
                    <a:solidFill>
                      <a:srgbClr val="ffff66"/>
                    </a:solidFill>
                    <a:latin typeface="Times New Roman"/>
                  </a:rPr>
                  <a:t>的值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66"/>
                    </a:solidFill>
                    <a:latin typeface="Times New Roman"/>
                  </a:rPr>
                  <a:t>解：设</a:t>
                </a:r>
                <a:r>
                  <a:rPr b="1" lang="en-US" sz="2000" spc="-1" strike="noStrike">
                    <a:solidFill>
                      <a:srgbClr val="ffff66"/>
                    </a:solidFill>
                    <a:latin typeface="Times New Roman"/>
                  </a:rPr>
                  <a:t>y=kx</a:t>
                </a:r>
                <a:r>
                  <a:rPr b="1" lang="en-US" sz="2000" spc="-1" strike="noStrike" baseline="30000">
                    <a:solidFill>
                      <a:srgbClr val="ffff66"/>
                    </a:solidFill>
                    <a:latin typeface="Times New Roman"/>
                  </a:rPr>
                  <a:t>2</a:t>
                </a:r>
                <a:r>
                  <a:rPr b="1" lang="en-US" sz="2000" spc="-1" strike="noStrike">
                    <a:solidFill>
                      <a:srgbClr val="ffff66"/>
                    </a:solidFill>
                    <a:latin typeface="Times New Roman"/>
                  </a:rPr>
                  <a:t>,</a:t>
                </a:r>
                <a:r>
                  <a:rPr b="1" lang="zh-CN" sz="2000" spc="-1" strike="noStrike">
                    <a:solidFill>
                      <a:srgbClr val="ffff66"/>
                    </a:solidFill>
                    <a:latin typeface="Times New Roman"/>
                  </a:rPr>
                  <a:t>因为   </a:t>
                </a:r>
                <a:r>
                  <a:rPr b="1" lang="en-US" sz="2000" spc="-1" strike="noStrike">
                    <a:solidFill>
                      <a:srgbClr val="ffff66"/>
                    </a:solidFill>
                    <a:latin typeface="Times New Roman"/>
                  </a:rPr>
                  <a:t>x=3</a:t>
                </a:r>
                <a:r>
                  <a:rPr b="1" lang="zh-CN" sz="2000" spc="-1" strike="noStrike">
                    <a:solidFill>
                      <a:srgbClr val="ffff66"/>
                    </a:solidFill>
                    <a:latin typeface="Times New Roman"/>
                  </a:rPr>
                  <a:t>时</a:t>
                </a:r>
                <a:r>
                  <a:rPr b="1" lang="en-US" sz="2000" spc="-1" strike="noStrike">
                    <a:solidFill>
                      <a:srgbClr val="ffff66"/>
                    </a:solidFill>
                    <a:latin typeface="Times New Roman"/>
                  </a:rPr>
                  <a:t>y=4</a:t>
                </a:r>
                <a:r>
                  <a:rPr b="1" lang="zh-CN" sz="2000" spc="-1" strike="noStrike">
                    <a:solidFill>
                      <a:srgbClr val="ffff66"/>
                    </a:solidFill>
                    <a:latin typeface="Times New Roman"/>
                  </a:rPr>
                  <a:t>，所以</a:t>
                </a:r>
                <a:r>
                  <a:rPr b="1" lang="en-US" sz="2000" spc="-1" strike="noStrike">
                    <a:solidFill>
                      <a:srgbClr val="ffff66"/>
                    </a:solidFill>
                    <a:latin typeface="Times New Roman"/>
                  </a:rPr>
                  <a:t>9k=4,</a:t>
                </a:r>
                <a:r>
                  <a:rPr b="1" lang="zh-CN" sz="2000" spc="-1" strike="noStrike">
                    <a:solidFill>
                      <a:srgbClr val="ffff66"/>
                    </a:solidFill>
                    <a:latin typeface="Times New Roman"/>
                  </a:rPr>
                  <a:t>所以</a:t>
                </a:r>
                <a:r>
                  <a:rPr b="1" lang="en-US" sz="2000" spc="-1" strike="noStrike">
                    <a:solidFill>
                      <a:srgbClr val="ffff66"/>
                    </a:solidFill>
                    <a:latin typeface="Times New Roman"/>
                  </a:rPr>
                  <a:t>k=     </a:t>
                </a:r>
                <a:r>
                  <a:rPr b="1" lang="zh-CN" sz="2000" spc="-1" strike="noStrike">
                    <a:solidFill>
                      <a:srgbClr val="ffff66"/>
                    </a:solidFill>
                    <a:latin typeface="Times New Roman"/>
                  </a:rPr>
                  <a:t>，当</a:t>
                </a:r>
                <a:r>
                  <a:rPr b="1" lang="en-US" sz="2000" spc="-1" strike="noStrike">
                    <a:solidFill>
                      <a:srgbClr val="ffff66"/>
                    </a:solidFill>
                    <a:latin typeface="Times New Roman"/>
                  </a:rPr>
                  <a:t>x=1.5</a:t>
                </a:r>
                <a:r>
                  <a:rPr b="1" lang="zh-CN" sz="2000" spc="-1" strike="noStrike">
                    <a:solidFill>
                      <a:srgbClr val="ffff66"/>
                    </a:solidFill>
                    <a:latin typeface="Times New Roman"/>
                  </a:rPr>
                  <a:t>时，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66"/>
                    </a:solidFill>
                    <a:latin typeface="Times New Roman"/>
                  </a:rPr>
                  <a:t>y=    </a:t>
                </a:r>
                <a:r>
                  <a:rPr b="1" lang="en-US" sz="2000" spc="-1" strike="noStrike">
                    <a:solidFill>
                      <a:srgbClr val="ffff66"/>
                    </a:solidFill>
                    <a:latin typeface="Times New Roman"/>
                    <a:ea typeface="Times New Roman"/>
                  </a:rPr>
                  <a:t>×(1.5)</a:t>
                </a:r>
                <a:r>
                  <a:rPr b="1" lang="en-US" sz="2000" spc="-1" strike="noStrike" baseline="30000">
                    <a:solidFill>
                      <a:srgbClr val="ffff66"/>
                    </a:solidFill>
                    <a:latin typeface="Times New Roman"/>
                    <a:ea typeface="Times New Roman"/>
                  </a:rPr>
                  <a:t>2</a:t>
                </a:r>
                <a:r>
                  <a:rPr b="1" lang="en-US" sz="2000" spc="-1" strike="noStrike">
                    <a:solidFill>
                      <a:srgbClr val="ffff66"/>
                    </a:solidFill>
                    <a:latin typeface="Times New Roman"/>
                    <a:ea typeface="Times New Roman"/>
                  </a:rPr>
                  <a:t>=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3" name=""/>
              <p:cNvGrpSpPr/>
              <p:nvPr/>
            </p:nvGrpSpPr>
            <p:grpSpPr>
              <a:xfrm>
                <a:off x="7196040" y="6232320"/>
                <a:ext cx="444600" cy="581040"/>
                <a:chOff x="7196040" y="6232320"/>
                <a:chExt cx="444600" cy="581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7208640" y="6445080"/>
                  <a:ext cx="432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66"/>
                      </a:solidFill>
                      <a:latin typeface="Times New Roman"/>
                    </a:rPr>
                    <a:t>9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7196040" y="6232320"/>
                  <a:ext cx="431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66"/>
                      </a:solidFill>
                      <a:latin typeface="Times New Roman"/>
                    </a:rPr>
                    <a:t>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7238880" y="6534000"/>
                  <a:ext cx="216000" cy="0"/>
                </a:xfrm>
                <a:prstGeom prst="line">
                  <a:avLst/>
                </a:prstGeom>
                <a:ln w="1908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8331120" y="5470560"/>
                <a:ext cx="444600" cy="580680"/>
                <a:chOff x="8331120" y="5470560"/>
                <a:chExt cx="444600" cy="58068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8343720" y="5682960"/>
                  <a:ext cx="432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66"/>
                      </a:solidFill>
                      <a:latin typeface="Times New Roman"/>
                    </a:rPr>
                    <a:t>9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8331120" y="5470560"/>
                  <a:ext cx="431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66"/>
                      </a:solidFill>
                      <a:latin typeface="Times New Roman"/>
                    </a:rPr>
                    <a:t>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8373960" y="5771880"/>
                  <a:ext cx="216000" cy="0"/>
                </a:xfrm>
                <a:prstGeom prst="line">
                  <a:avLst/>
                </a:prstGeom>
                <a:ln w="1908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539640" y="476280"/>
            <a:ext cx="8135640" cy="5706000"/>
            <a:chOff x="539640" y="476280"/>
            <a:chExt cx="8135640" cy="5706000"/>
          </a:xfrm>
        </p:grpSpPr>
        <p:sp>
          <p:nvSpPr>
            <p:cNvPr id="162" name=""/>
            <p:cNvSpPr/>
            <p:nvPr/>
          </p:nvSpPr>
          <p:spPr>
            <a:xfrm>
              <a:off x="618480" y="1123920"/>
              <a:ext cx="8056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39640" y="1123920"/>
              <a:ext cx="7977600" cy="159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函数                 的图象在第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_____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象限，在每个象限内，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y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随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的增大而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_____ 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.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双曲线              经过点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-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___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1768320" y="893880"/>
              <a:ext cx="1769760" cy="834840"/>
              <a:chOff x="1768320" y="893880"/>
              <a:chExt cx="1769760" cy="834840"/>
            </a:xfrm>
          </p:grpSpPr>
          <p:sp>
            <p:nvSpPr>
              <p:cNvPr id="165" name=""/>
              <p:cNvSpPr/>
              <p:nvPr/>
            </p:nvSpPr>
            <p:spPr>
              <a:xfrm>
                <a:off x="1768320" y="1081080"/>
                <a:ext cx="1195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y =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805480" y="1370160"/>
                <a:ext cx="592200" cy="12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866680" y="1208160"/>
                <a:ext cx="671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868480" y="893880"/>
                <a:ext cx="398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566080" y="1370160"/>
                <a:ext cx="158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2197440" y="1943280"/>
              <a:ext cx="1515600" cy="926640"/>
              <a:chOff x="2197440" y="1943280"/>
              <a:chExt cx="1515600" cy="926640"/>
            </a:xfrm>
          </p:grpSpPr>
          <p:sp>
            <p:nvSpPr>
              <p:cNvPr id="171" name=""/>
              <p:cNvSpPr/>
              <p:nvPr/>
            </p:nvSpPr>
            <p:spPr>
              <a:xfrm>
                <a:off x="2197440" y="2162160"/>
                <a:ext cx="87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y =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960640" y="2436480"/>
                <a:ext cx="592560" cy="12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041640" y="1943280"/>
                <a:ext cx="671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928600" y="2349360"/>
                <a:ext cx="705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3x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539640" y="2862360"/>
              <a:ext cx="8135640" cy="331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函数                的图象在二、四象限，则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的取值范围是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____ 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对于函数               ，当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&lt;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时，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y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随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的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_____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而增大，这部分图象在第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________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象限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函数            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y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随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的减小而增大，则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m= ____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47360" y="3625920"/>
              <a:ext cx="1515240" cy="927000"/>
              <a:chOff x="2547360" y="3625920"/>
              <a:chExt cx="1515240" cy="927000"/>
            </a:xfrm>
          </p:grpSpPr>
          <p:sp>
            <p:nvSpPr>
              <p:cNvPr id="177" name=""/>
              <p:cNvSpPr/>
              <p:nvPr/>
            </p:nvSpPr>
            <p:spPr>
              <a:xfrm>
                <a:off x="2547360" y="3845160"/>
                <a:ext cx="876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y =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310200" y="4119480"/>
                <a:ext cx="592200" cy="12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391200" y="3625920"/>
                <a:ext cx="671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278520" y="4032360"/>
                <a:ext cx="705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2x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1735200" y="2621160"/>
              <a:ext cx="1913760" cy="844200"/>
              <a:chOff x="1735200" y="2621160"/>
              <a:chExt cx="1913760" cy="844200"/>
            </a:xfrm>
          </p:grpSpPr>
          <p:sp>
            <p:nvSpPr>
              <p:cNvPr id="182" name=""/>
              <p:cNvSpPr/>
              <p:nvPr/>
            </p:nvSpPr>
            <p:spPr>
              <a:xfrm>
                <a:off x="2403360" y="2621160"/>
                <a:ext cx="1167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m-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610360" y="2944800"/>
                <a:ext cx="1038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4" name=""/>
              <p:cNvGrpSpPr/>
              <p:nvPr/>
            </p:nvGrpSpPr>
            <p:grpSpPr>
              <a:xfrm>
                <a:off x="1735200" y="2815920"/>
                <a:ext cx="1483200" cy="520560"/>
                <a:chOff x="1735200" y="2815920"/>
                <a:chExt cx="1483200" cy="52056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1735200" y="2815920"/>
                  <a:ext cx="8766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y =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2420640" y="3079080"/>
                  <a:ext cx="797760" cy="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7" name=""/>
            <p:cNvGrpSpPr/>
            <p:nvPr/>
          </p:nvGrpSpPr>
          <p:grpSpPr>
            <a:xfrm>
              <a:off x="1673640" y="4869000"/>
              <a:ext cx="3667680" cy="596880"/>
              <a:chOff x="1673640" y="4869000"/>
              <a:chExt cx="3667680" cy="596880"/>
            </a:xfrm>
          </p:grpSpPr>
          <p:sp>
            <p:nvSpPr>
              <p:cNvPr id="188" name=""/>
              <p:cNvSpPr/>
              <p:nvPr/>
            </p:nvSpPr>
            <p:spPr>
              <a:xfrm>
                <a:off x="1673640" y="4884480"/>
                <a:ext cx="3667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y =(2m+1)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m+2m-16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780000" y="4869000"/>
                <a:ext cx="317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680040" y="476280"/>
              <a:ext cx="1594440" cy="459720"/>
            </a:xfrm>
            <a:prstGeom prst="rect">
              <a:avLst/>
            </a:prstGeom>
            <a:gradFill rotWithShape="0">
              <a:gsLst>
                <a:gs pos="0">
                  <a:srgbClr val="525252"/>
                </a:gs>
                <a:gs pos="50000">
                  <a:srgbClr val="b2b2b2"/>
                </a:gs>
                <a:gs pos="100000">
                  <a:srgbClr val="525252"/>
                </a:gs>
              </a:gsLst>
              <a:lin ang="5400000"/>
            </a:gra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练习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4788000" y="1197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二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77080" y="400536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减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47640" y="341640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m &lt;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40360" y="4437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187280" y="551664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284720" y="163656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增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5076720" y="2116080"/>
            <a:ext cx="820800" cy="662400"/>
            <a:chOff x="5076720" y="2116080"/>
            <a:chExt cx="820800" cy="662400"/>
          </a:xfrm>
        </p:grpSpPr>
        <p:sp>
          <p:nvSpPr>
            <p:cNvPr id="198" name=""/>
            <p:cNvSpPr/>
            <p:nvPr/>
          </p:nvSpPr>
          <p:spPr>
            <a:xfrm>
              <a:off x="5076720" y="2249280"/>
              <a:ext cx="7761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465520" y="237960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465520" y="211608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08360" y="2455920"/>
              <a:ext cx="2160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389560" y="2450880"/>
              <a:ext cx="73080" cy="0"/>
            </a:xfrm>
            <a:prstGeom prst="line">
              <a:avLst/>
            </a:prstGeom>
            <a:ln w="2232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4932360" y="1844640"/>
            <a:ext cx="2015280" cy="1952640"/>
            <a:chOff x="4932360" y="1844640"/>
            <a:chExt cx="2015280" cy="1952640"/>
          </a:xfrm>
        </p:grpSpPr>
        <p:sp>
          <p:nvSpPr>
            <p:cNvPr id="204" name=""/>
            <p:cNvSpPr/>
            <p:nvPr/>
          </p:nvSpPr>
          <p:spPr>
            <a:xfrm>
              <a:off x="4932360" y="1852560"/>
              <a:ext cx="1944720" cy="1944720"/>
            </a:xfrm>
            <a:prstGeom prst="wedgeRoundRectCallout">
              <a:avLst>
                <a:gd name="adj1" fmla="val -45018"/>
                <a:gd name="adj2" fmla="val 96287"/>
                <a:gd name="adj3" fmla="val 16667"/>
              </a:avLst>
            </a:prstGeom>
            <a:solidFill>
              <a:srgbClr val="00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4995720" y="1844640"/>
              <a:ext cx="1951920" cy="1878840"/>
              <a:chOff x="4995720" y="1844640"/>
              <a:chExt cx="1951920" cy="1878840"/>
            </a:xfrm>
          </p:grpSpPr>
          <p:sp>
            <p:nvSpPr>
              <p:cNvPr id="206" name=""/>
              <p:cNvSpPr/>
              <p:nvPr/>
            </p:nvSpPr>
            <p:spPr>
              <a:xfrm>
                <a:off x="4995720" y="2970360"/>
                <a:ext cx="751320" cy="685080"/>
              </a:xfrm>
              <a:custGeom>
                <a:avLst/>
                <a:gdLst/>
                <a:ahLst/>
                <a:rect l="l" t="t" r="r" b="b"/>
                <a:pathLst>
                  <a:path w="1031" h="1024">
                    <a:moveTo>
                      <a:pt x="0" y="0"/>
                    </a:moveTo>
                    <a:cubicBezTo>
                      <a:pt x="225" y="22"/>
                      <a:pt x="451" y="45"/>
                      <a:pt x="623" y="216"/>
                    </a:cubicBezTo>
                    <a:cubicBezTo>
                      <a:pt x="795" y="387"/>
                      <a:pt x="913" y="705"/>
                      <a:pt x="1031" y="1024"/>
                    </a:cubicBez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7" name=""/>
              <p:cNvGrpSpPr/>
              <p:nvPr/>
            </p:nvGrpSpPr>
            <p:grpSpPr>
              <a:xfrm>
                <a:off x="5024880" y="1844640"/>
                <a:ext cx="1922760" cy="1878840"/>
                <a:chOff x="5024880" y="1844640"/>
                <a:chExt cx="1922760" cy="187884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5973120" y="2043360"/>
                  <a:ext cx="760680" cy="698040"/>
                </a:xfrm>
                <a:custGeom>
                  <a:avLst/>
                  <a:gdLst/>
                  <a:ahLst/>
                  <a:rect l="l" t="t" r="r" b="b"/>
                  <a:pathLst>
                    <a:path w="1179" h="953">
                      <a:moveTo>
                        <a:pt x="0" y="0"/>
                      </a:moveTo>
                      <a:cubicBezTo>
                        <a:pt x="106" y="306"/>
                        <a:pt x="212" y="612"/>
                        <a:pt x="408" y="771"/>
                      </a:cubicBezTo>
                      <a:cubicBezTo>
                        <a:pt x="604" y="930"/>
                        <a:pt x="891" y="941"/>
                        <a:pt x="1179" y="953"/>
                      </a:cubicBezTo>
                    </a:path>
                  </a:pathLst>
                </a:custGeom>
                <a:noFill/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9" name=""/>
                <p:cNvGrpSpPr/>
                <p:nvPr/>
              </p:nvGrpSpPr>
              <p:grpSpPr>
                <a:xfrm>
                  <a:off x="5024880" y="1844640"/>
                  <a:ext cx="1922760" cy="1878840"/>
                  <a:chOff x="5024880" y="1844640"/>
                  <a:chExt cx="1922760" cy="187884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>
                    <a:off x="5024880" y="2861280"/>
                    <a:ext cx="17535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flipV="1">
                    <a:off x="5865480" y="1901520"/>
                    <a:ext cx="0" cy="18219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598440" y="2757240"/>
                    <a:ext cx="3492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5623560" y="1844640"/>
                    <a:ext cx="3492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y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1403280" y="981000"/>
          <a:ext cx="7056360" cy="5192640"/>
        </p:xfrm>
        <a:graphic>
          <a:graphicData uri="http://schemas.openxmlformats.org/drawingml/2006/table">
            <a:tbl>
              <a:tblPr/>
              <a:tblGrid>
                <a:gridCol w="1440000"/>
                <a:gridCol w="2808000"/>
                <a:gridCol w="2808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函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正比例函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反比例函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解析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图象形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&gt;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&lt;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3492360" y="2405160"/>
            <a:ext cx="0" cy="187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41480" y="3284640"/>
            <a:ext cx="5616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916360" y="251604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位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930400" y="3238560"/>
            <a:ext cx="50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增减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492360" y="4186080"/>
            <a:ext cx="0" cy="1873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843280" y="5108400"/>
            <a:ext cx="56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916360" y="43228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位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916360" y="5041800"/>
            <a:ext cx="50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增减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44960" y="145584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y=kx  ( k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≠0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796000" y="1413000"/>
            <a:ext cx="2952720" cy="623880"/>
            <a:chOff x="5796000" y="1413000"/>
            <a:chExt cx="2952720" cy="623880"/>
          </a:xfrm>
        </p:grpSpPr>
        <p:sp>
          <p:nvSpPr>
            <p:cNvPr id="225" name=""/>
            <p:cNvSpPr/>
            <p:nvPr/>
          </p:nvSpPr>
          <p:spPr>
            <a:xfrm>
              <a:off x="6372360" y="1536480"/>
              <a:ext cx="23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( k</a:t>
              </a:r>
              <a:r>
                <a:rPr b="1" lang="zh-CN" sz="2000" spc="-1" strike="noStrike">
                  <a:solidFill>
                    <a:srgbClr val="ff3300"/>
                  </a:solidFill>
                  <a:latin typeface="Times New Roman"/>
                </a:rPr>
                <a:t>是常数</a:t>
              </a: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,k</a:t>
              </a: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≠0 </a:t>
              </a: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5796000" y="1413000"/>
              <a:ext cx="820800" cy="623880"/>
              <a:chOff x="5796000" y="1413000"/>
              <a:chExt cx="820800" cy="623880"/>
            </a:xfrm>
          </p:grpSpPr>
          <p:sp>
            <p:nvSpPr>
              <p:cNvPr id="227" name=""/>
              <p:cNvSpPr/>
              <p:nvPr/>
            </p:nvSpPr>
            <p:spPr>
              <a:xfrm>
                <a:off x="5796000" y="1545840"/>
                <a:ext cx="77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Times New Roman"/>
                  </a:rPr>
                  <a:t>y =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184800" y="1638000"/>
                <a:ext cx="43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Times New Roman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184800" y="1413000"/>
                <a:ext cx="43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Times New Roman"/>
                  </a:rPr>
                  <a:t>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227640" y="1752480"/>
                <a:ext cx="2160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1" name=""/>
          <p:cNvSpPr/>
          <p:nvPr/>
        </p:nvSpPr>
        <p:spPr>
          <a:xfrm>
            <a:off x="3173400" y="193212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直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881680" y="193212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双曲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433680" y="24210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一三象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92640" y="350028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随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的增大而增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710320" y="23922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一三象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867280" y="348624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随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的增大而减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463920" y="42642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二四象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637240" y="42498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二四象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19640" y="537372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随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的增大而减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867280" y="534528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随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的增大而增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79280" y="2133720"/>
            <a:ext cx="1079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50920" y="1989000"/>
            <a:ext cx="108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4500720" y="2450880"/>
            <a:ext cx="863280" cy="718920"/>
            <a:chOff x="4500720" y="2450880"/>
            <a:chExt cx="863280" cy="718920"/>
          </a:xfrm>
        </p:grpSpPr>
        <p:sp>
          <p:nvSpPr>
            <p:cNvPr id="244" name=""/>
            <p:cNvSpPr/>
            <p:nvPr/>
          </p:nvSpPr>
          <p:spPr>
            <a:xfrm>
              <a:off x="4500720" y="2823840"/>
              <a:ext cx="863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4916160" y="2450880"/>
              <a:ext cx="0" cy="71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4640040" y="2536560"/>
              <a:ext cx="550440" cy="577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4572000" y="4292280"/>
            <a:ext cx="863640" cy="718920"/>
            <a:chOff x="4572000" y="4292280"/>
            <a:chExt cx="863640" cy="718920"/>
          </a:xfrm>
        </p:grpSpPr>
        <p:sp>
          <p:nvSpPr>
            <p:cNvPr id="248" name=""/>
            <p:cNvSpPr/>
            <p:nvPr/>
          </p:nvSpPr>
          <p:spPr>
            <a:xfrm>
              <a:off x="4572000" y="4665240"/>
              <a:ext cx="86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4987800" y="4292280"/>
              <a:ext cx="0" cy="71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772160" y="4436640"/>
              <a:ext cx="504720" cy="504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7140600" y="2454120"/>
            <a:ext cx="863640" cy="719280"/>
            <a:chOff x="7140600" y="2454120"/>
            <a:chExt cx="863640" cy="719280"/>
          </a:xfrm>
        </p:grpSpPr>
        <p:sp>
          <p:nvSpPr>
            <p:cNvPr id="252" name=""/>
            <p:cNvSpPr/>
            <p:nvPr/>
          </p:nvSpPr>
          <p:spPr>
            <a:xfrm>
              <a:off x="7140600" y="2827080"/>
              <a:ext cx="86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7556400" y="2454120"/>
              <a:ext cx="0" cy="71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629480" y="2525400"/>
              <a:ext cx="219240" cy="255600"/>
            </a:xfrm>
            <a:custGeom>
              <a:avLst/>
              <a:gdLst/>
              <a:ahLst/>
              <a:rect l="l" t="t" r="r" b="b"/>
              <a:pathLst>
                <a:path w="138" h="115">
                  <a:moveTo>
                    <a:pt x="0" y="0"/>
                  </a:moveTo>
                  <a:cubicBezTo>
                    <a:pt x="0" y="37"/>
                    <a:pt x="1" y="74"/>
                    <a:pt x="24" y="93"/>
                  </a:cubicBezTo>
                  <a:cubicBezTo>
                    <a:pt x="47" y="112"/>
                    <a:pt x="92" y="113"/>
                    <a:pt x="138" y="11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269120" y="2874960"/>
              <a:ext cx="227160" cy="218880"/>
            </a:xfrm>
            <a:custGeom>
              <a:avLst/>
              <a:gdLst/>
              <a:ahLst/>
              <a:rect l="l" t="t" r="r" b="b"/>
              <a:pathLst>
                <a:path w="143" h="138">
                  <a:moveTo>
                    <a:pt x="0" y="7"/>
                  </a:moveTo>
                  <a:cubicBezTo>
                    <a:pt x="1" y="3"/>
                    <a:pt x="2" y="0"/>
                    <a:pt x="20" y="3"/>
                  </a:cubicBezTo>
                  <a:cubicBezTo>
                    <a:pt x="38" y="6"/>
                    <a:pt x="89" y="4"/>
                    <a:pt x="110" y="27"/>
                  </a:cubicBezTo>
                  <a:cubicBezTo>
                    <a:pt x="131" y="50"/>
                    <a:pt x="137" y="94"/>
                    <a:pt x="143" y="13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7121520" y="4282920"/>
            <a:ext cx="863640" cy="719280"/>
            <a:chOff x="7121520" y="4282920"/>
            <a:chExt cx="863640" cy="719280"/>
          </a:xfrm>
        </p:grpSpPr>
        <p:sp>
          <p:nvSpPr>
            <p:cNvPr id="257" name=""/>
            <p:cNvSpPr/>
            <p:nvPr/>
          </p:nvSpPr>
          <p:spPr>
            <a:xfrm>
              <a:off x="7121520" y="4655880"/>
              <a:ext cx="86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7537320" y="4282920"/>
              <a:ext cx="0" cy="71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83400" y="4690800"/>
              <a:ext cx="228600" cy="252360"/>
            </a:xfrm>
            <a:custGeom>
              <a:avLst/>
              <a:gdLst/>
              <a:ahLst/>
              <a:rect l="l" t="t" r="r" b="b"/>
              <a:pathLst>
                <a:path w="117" h="181">
                  <a:moveTo>
                    <a:pt x="117" y="0"/>
                  </a:moveTo>
                  <a:cubicBezTo>
                    <a:pt x="81" y="8"/>
                    <a:pt x="46" y="16"/>
                    <a:pt x="27" y="46"/>
                  </a:cubicBezTo>
                  <a:cubicBezTo>
                    <a:pt x="8" y="76"/>
                    <a:pt x="4" y="159"/>
                    <a:pt x="0" y="18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259760" y="4368600"/>
              <a:ext cx="228600" cy="231840"/>
            </a:xfrm>
            <a:custGeom>
              <a:avLst/>
              <a:gdLst/>
              <a:ahLst/>
              <a:rect l="l" t="t" r="r" b="b"/>
              <a:pathLst>
                <a:path w="144" h="146">
                  <a:moveTo>
                    <a:pt x="140" y="0"/>
                  </a:moveTo>
                  <a:lnTo>
                    <a:pt x="144" y="20"/>
                  </a:lnTo>
                  <a:cubicBezTo>
                    <a:pt x="141" y="40"/>
                    <a:pt x="144" y="98"/>
                    <a:pt x="120" y="119"/>
                  </a:cubicBezTo>
                  <a:cubicBezTo>
                    <a:pt x="96" y="140"/>
                    <a:pt x="48" y="143"/>
                    <a:pt x="0" y="14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250920" y="1581120"/>
            <a:ext cx="1042920" cy="222696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填表分析正比例函数和反比例函数的区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27640" y="1773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0" y="401760"/>
            <a:ext cx="1397160" cy="45972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练 习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47640" y="651240"/>
            <a:ext cx="3059280" cy="14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已知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lt;0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则函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同一坐标系中的图象大致是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266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206880" y="777960"/>
            <a:ext cx="618480" cy="796680"/>
            <a:chOff x="3206880" y="777960"/>
            <a:chExt cx="618480" cy="796680"/>
          </a:xfrm>
        </p:grpSpPr>
        <p:sp>
          <p:nvSpPr>
            <p:cNvPr id="267" name=""/>
            <p:cNvSpPr/>
            <p:nvPr/>
          </p:nvSpPr>
          <p:spPr>
            <a:xfrm>
              <a:off x="3379680" y="1209600"/>
              <a:ext cx="360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393720" y="105408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379680" y="777960"/>
              <a:ext cx="43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206880" y="1209600"/>
              <a:ext cx="144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108000" y="2441880"/>
            <a:ext cx="4392720" cy="14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已知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gt;0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则函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x+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同一坐标系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图象大致是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1116000" y="2806560"/>
            <a:ext cx="446040" cy="796680"/>
            <a:chOff x="1116000" y="2806560"/>
            <a:chExt cx="446040" cy="796680"/>
          </a:xfrm>
        </p:grpSpPr>
        <p:sp>
          <p:nvSpPr>
            <p:cNvPr id="273" name=""/>
            <p:cNvSpPr/>
            <p:nvPr/>
          </p:nvSpPr>
          <p:spPr>
            <a:xfrm>
              <a:off x="1116000" y="323820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130400" y="308268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116000" y="280656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108000" y="4218120"/>
            <a:ext cx="421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设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一切实数，在下列函数中，当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小时，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值总是增大的函数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8000" y="53730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y = -5x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-1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B)y</a:t>
            </a: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051080" y="5360400"/>
            <a:ext cx="387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-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4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538440" y="5208480"/>
            <a:ext cx="446040" cy="839520"/>
            <a:chOff x="3538440" y="5208480"/>
            <a:chExt cx="446040" cy="839520"/>
          </a:xfrm>
        </p:grpSpPr>
        <p:sp>
          <p:nvSpPr>
            <p:cNvPr id="280" name=""/>
            <p:cNvSpPr/>
            <p:nvPr/>
          </p:nvSpPr>
          <p:spPr>
            <a:xfrm>
              <a:off x="3538440" y="564012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552840" y="552744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538440" y="520848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4589640" y="260280"/>
            <a:ext cx="3438000" cy="2561760"/>
            <a:chOff x="4589640" y="260280"/>
            <a:chExt cx="3438000" cy="2561760"/>
          </a:xfrm>
        </p:grpSpPr>
        <p:grpSp>
          <p:nvGrpSpPr>
            <p:cNvPr id="284" name=""/>
            <p:cNvGrpSpPr/>
            <p:nvPr/>
          </p:nvGrpSpPr>
          <p:grpSpPr>
            <a:xfrm>
              <a:off x="5105520" y="272880"/>
              <a:ext cx="1257480" cy="1211040"/>
              <a:chOff x="5105520" y="272880"/>
              <a:chExt cx="1257480" cy="1211040"/>
            </a:xfrm>
          </p:grpSpPr>
          <p:sp>
            <p:nvSpPr>
              <p:cNvPr id="285" name=""/>
              <p:cNvSpPr/>
              <p:nvPr/>
            </p:nvSpPr>
            <p:spPr>
              <a:xfrm>
                <a:off x="5105520" y="960120"/>
                <a:ext cx="1152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V="1">
                <a:off x="5668920" y="404280"/>
                <a:ext cx="0" cy="1079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075360" y="904680"/>
                <a:ext cx="287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631120" y="272880"/>
                <a:ext cx="28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5249880" y="612720"/>
                <a:ext cx="838440" cy="70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621400" y="887400"/>
                <a:ext cx="287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宋体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187960" y="455400"/>
                <a:ext cx="420840" cy="436680"/>
              </a:xfrm>
              <a:custGeom>
                <a:avLst/>
                <a:gdLst/>
                <a:ahLst/>
                <a:rect l="l" t="t" r="r" b="b"/>
                <a:pathLst>
                  <a:path w="265" h="275">
                    <a:moveTo>
                      <a:pt x="265" y="0"/>
                    </a:moveTo>
                    <a:cubicBezTo>
                      <a:pt x="254" y="82"/>
                      <a:pt x="244" y="165"/>
                      <a:pt x="200" y="211"/>
                    </a:cubicBezTo>
                    <a:cubicBezTo>
                      <a:pt x="156" y="257"/>
                      <a:pt x="78" y="266"/>
                      <a:pt x="0" y="275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708880" y="1019160"/>
                <a:ext cx="333360" cy="393480"/>
              </a:xfrm>
              <a:custGeom>
                <a:avLst/>
                <a:gdLst/>
                <a:ahLst/>
                <a:rect l="l" t="t" r="r" b="b"/>
                <a:pathLst>
                  <a:path w="210" h="248">
                    <a:moveTo>
                      <a:pt x="210" y="8"/>
                    </a:moveTo>
                    <a:cubicBezTo>
                      <a:pt x="150" y="4"/>
                      <a:pt x="91" y="0"/>
                      <a:pt x="56" y="40"/>
                    </a:cubicBezTo>
                    <a:cubicBezTo>
                      <a:pt x="21" y="80"/>
                      <a:pt x="9" y="212"/>
                      <a:pt x="0" y="248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6770880" y="260280"/>
              <a:ext cx="1256760" cy="1211040"/>
              <a:chOff x="6770880" y="260280"/>
              <a:chExt cx="1256760" cy="1211040"/>
            </a:xfrm>
          </p:grpSpPr>
          <p:sp>
            <p:nvSpPr>
              <p:cNvPr id="294" name=""/>
              <p:cNvSpPr/>
              <p:nvPr/>
            </p:nvSpPr>
            <p:spPr>
              <a:xfrm>
                <a:off x="6770880" y="947520"/>
                <a:ext cx="1152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V="1">
                <a:off x="7333920" y="391680"/>
                <a:ext cx="0" cy="1079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740360" y="892080"/>
                <a:ext cx="28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296120" y="260280"/>
                <a:ext cx="28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6914880" y="600120"/>
                <a:ext cx="838080" cy="70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286400" y="874800"/>
                <a:ext cx="286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宋体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914880" y="1004760"/>
                <a:ext cx="344160" cy="407880"/>
              </a:xfrm>
              <a:custGeom>
                <a:avLst/>
                <a:gdLst/>
                <a:ahLst/>
                <a:rect l="l" t="t" r="r" b="b"/>
                <a:pathLst>
                  <a:path w="217" h="257">
                    <a:moveTo>
                      <a:pt x="0" y="12"/>
                    </a:moveTo>
                    <a:cubicBezTo>
                      <a:pt x="58" y="6"/>
                      <a:pt x="117" y="0"/>
                      <a:pt x="153" y="41"/>
                    </a:cubicBezTo>
                    <a:cubicBezTo>
                      <a:pt x="189" y="82"/>
                      <a:pt x="203" y="169"/>
                      <a:pt x="217" y="257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414920" y="547560"/>
                <a:ext cx="365040" cy="339840"/>
              </a:xfrm>
              <a:custGeom>
                <a:avLst/>
                <a:gdLst/>
                <a:ahLst/>
                <a:rect l="l" t="t" r="r" b="b"/>
                <a:pathLst>
                  <a:path w="230" h="214">
                    <a:moveTo>
                      <a:pt x="2" y="0"/>
                    </a:moveTo>
                    <a:cubicBezTo>
                      <a:pt x="1" y="65"/>
                      <a:pt x="0" y="130"/>
                      <a:pt x="38" y="166"/>
                    </a:cubicBezTo>
                    <a:cubicBezTo>
                      <a:pt x="76" y="202"/>
                      <a:pt x="198" y="206"/>
                      <a:pt x="230" y="214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4589640" y="803160"/>
              <a:ext cx="3438000" cy="2018880"/>
              <a:chOff x="4589640" y="803160"/>
              <a:chExt cx="3438000" cy="2018880"/>
            </a:xfrm>
          </p:grpSpPr>
          <p:grpSp>
            <p:nvGrpSpPr>
              <p:cNvPr id="303" name=""/>
              <p:cNvGrpSpPr/>
              <p:nvPr/>
            </p:nvGrpSpPr>
            <p:grpSpPr>
              <a:xfrm>
                <a:off x="5105520" y="1611360"/>
                <a:ext cx="1257120" cy="1210680"/>
                <a:chOff x="5105520" y="1611360"/>
                <a:chExt cx="1257120" cy="12106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5105520" y="2298240"/>
                  <a:ext cx="1152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5" name=""/>
                <p:cNvGrpSpPr/>
                <p:nvPr/>
              </p:nvGrpSpPr>
              <p:grpSpPr>
                <a:xfrm>
                  <a:off x="5187960" y="1611360"/>
                  <a:ext cx="1174680" cy="1210680"/>
                  <a:chOff x="5187960" y="1611360"/>
                  <a:chExt cx="1174680" cy="1210680"/>
                </a:xfrm>
              </p:grpSpPr>
              <p:sp>
                <p:nvSpPr>
                  <p:cNvPr id="306" name=""/>
                  <p:cNvSpPr/>
                  <p:nvPr/>
                </p:nvSpPr>
                <p:spPr>
                  <a:xfrm flipV="1">
                    <a:off x="5668920" y="1742760"/>
                    <a:ext cx="0" cy="1079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6075360" y="2242800"/>
                    <a:ext cx="2872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5630760" y="1611360"/>
                    <a:ext cx="2872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y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5621400" y="2225520"/>
                    <a:ext cx="287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宋体"/>
                      </a:rPr>
                      <a:t>0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5187960" y="1793520"/>
                    <a:ext cx="420840" cy="436320"/>
                  </a:xfrm>
                  <a:custGeom>
                    <a:avLst/>
                    <a:gdLst/>
                    <a:ahLst/>
                    <a:rect l="l" t="t" r="r" b="b"/>
                    <a:pathLst>
                      <a:path w="265" h="275">
                        <a:moveTo>
                          <a:pt x="265" y="0"/>
                        </a:moveTo>
                        <a:cubicBezTo>
                          <a:pt x="254" y="82"/>
                          <a:pt x="244" y="165"/>
                          <a:pt x="200" y="211"/>
                        </a:cubicBezTo>
                        <a:cubicBezTo>
                          <a:pt x="156" y="257"/>
                          <a:pt x="78" y="266"/>
                          <a:pt x="0" y="275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5708520" y="2357280"/>
                    <a:ext cx="333360" cy="39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0" h="248">
                        <a:moveTo>
                          <a:pt x="210" y="8"/>
                        </a:moveTo>
                        <a:cubicBezTo>
                          <a:pt x="150" y="4"/>
                          <a:pt x="91" y="0"/>
                          <a:pt x="56" y="40"/>
                        </a:cubicBezTo>
                        <a:cubicBezTo>
                          <a:pt x="21" y="80"/>
                          <a:pt x="9" y="212"/>
                          <a:pt x="0" y="248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5369040" y="1928520"/>
                    <a:ext cx="672840" cy="7617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3" name=""/>
              <p:cNvGrpSpPr/>
              <p:nvPr/>
            </p:nvGrpSpPr>
            <p:grpSpPr>
              <a:xfrm>
                <a:off x="6770880" y="1611360"/>
                <a:ext cx="1256760" cy="1210680"/>
                <a:chOff x="6770880" y="1611360"/>
                <a:chExt cx="1256760" cy="121068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6770880" y="2298240"/>
                  <a:ext cx="11520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flipV="1">
                  <a:off x="7333920" y="1742760"/>
                  <a:ext cx="0" cy="1079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740360" y="2242800"/>
                  <a:ext cx="2872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7296120" y="1611360"/>
                  <a:ext cx="286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y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7286400" y="2225520"/>
                  <a:ext cx="286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宋体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6999120" y="1923840"/>
                  <a:ext cx="672840" cy="7614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914880" y="2355480"/>
                  <a:ext cx="344160" cy="407520"/>
                </a:xfrm>
                <a:custGeom>
                  <a:avLst/>
                  <a:gdLst/>
                  <a:ahLst/>
                  <a:rect l="l" t="t" r="r" b="b"/>
                  <a:pathLst>
                    <a:path w="217" h="257">
                      <a:moveTo>
                        <a:pt x="0" y="12"/>
                      </a:moveTo>
                      <a:cubicBezTo>
                        <a:pt x="58" y="6"/>
                        <a:pt x="117" y="0"/>
                        <a:pt x="153" y="41"/>
                      </a:cubicBezTo>
                      <a:cubicBezTo>
                        <a:pt x="189" y="82"/>
                        <a:pt x="203" y="169"/>
                        <a:pt x="217" y="257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7414920" y="1898280"/>
                  <a:ext cx="365040" cy="339480"/>
                </a:xfrm>
                <a:custGeom>
                  <a:avLst/>
                  <a:gdLst/>
                  <a:ahLst/>
                  <a:rect l="l" t="t" r="r" b="b"/>
                  <a:pathLst>
                    <a:path w="230" h="214">
                      <a:moveTo>
                        <a:pt x="2" y="0"/>
                      </a:moveTo>
                      <a:cubicBezTo>
                        <a:pt x="1" y="65"/>
                        <a:pt x="0" y="130"/>
                        <a:pt x="38" y="166"/>
                      </a:cubicBezTo>
                      <a:cubicBezTo>
                        <a:pt x="76" y="202"/>
                        <a:pt x="198" y="206"/>
                        <a:pt x="230" y="214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2" name=""/>
              <p:cNvSpPr/>
              <p:nvPr/>
            </p:nvSpPr>
            <p:spPr>
              <a:xfrm>
                <a:off x="4589640" y="844560"/>
                <a:ext cx="4334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宋体"/>
                  </a:rPr>
                  <a:t>(A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320160" y="803160"/>
                <a:ext cx="4330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宋体"/>
                  </a:rPr>
                  <a:t>(B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631040" y="2124000"/>
                <a:ext cx="4334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宋体"/>
                  </a:rPr>
                  <a:t>(C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326280" y="2133360"/>
                <a:ext cx="4334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宋体"/>
                  </a:rPr>
                  <a:t>(D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6" name=""/>
          <p:cNvGrpSpPr/>
          <p:nvPr/>
        </p:nvGrpSpPr>
        <p:grpSpPr>
          <a:xfrm>
            <a:off x="4618080" y="2852640"/>
            <a:ext cx="3463560" cy="2531880"/>
            <a:chOff x="4618080" y="2852640"/>
            <a:chExt cx="3463560" cy="2531880"/>
          </a:xfrm>
        </p:grpSpPr>
        <p:sp>
          <p:nvSpPr>
            <p:cNvPr id="327" name=""/>
            <p:cNvSpPr/>
            <p:nvPr/>
          </p:nvSpPr>
          <p:spPr>
            <a:xfrm>
              <a:off x="4618080" y="3386160"/>
              <a:ext cx="433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(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4659480" y="2852640"/>
              <a:ext cx="3422160" cy="2531880"/>
              <a:chOff x="4659480" y="2852640"/>
              <a:chExt cx="3422160" cy="2531880"/>
            </a:xfrm>
          </p:grpSpPr>
          <p:grpSp>
            <p:nvGrpSpPr>
              <p:cNvPr id="329" name=""/>
              <p:cNvGrpSpPr/>
              <p:nvPr/>
            </p:nvGrpSpPr>
            <p:grpSpPr>
              <a:xfrm>
                <a:off x="5088240" y="2868480"/>
                <a:ext cx="1256760" cy="1211040"/>
                <a:chOff x="5088240" y="2868480"/>
                <a:chExt cx="1256760" cy="121104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5088240" y="3555720"/>
                  <a:ext cx="11520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 flipV="1">
                  <a:off x="5651280" y="2999880"/>
                  <a:ext cx="0" cy="1079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6057720" y="3500280"/>
                  <a:ext cx="2872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5613480" y="2868480"/>
                  <a:ext cx="286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y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 flipV="1">
                  <a:off x="5354640" y="3270240"/>
                  <a:ext cx="837720" cy="70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5603760" y="3483000"/>
                  <a:ext cx="286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宋体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5232240" y="3612960"/>
                  <a:ext cx="344160" cy="407880"/>
                </a:xfrm>
                <a:custGeom>
                  <a:avLst/>
                  <a:gdLst/>
                  <a:ahLst/>
                  <a:rect l="l" t="t" r="r" b="b"/>
                  <a:pathLst>
                    <a:path w="217" h="257">
                      <a:moveTo>
                        <a:pt x="0" y="12"/>
                      </a:moveTo>
                      <a:cubicBezTo>
                        <a:pt x="58" y="6"/>
                        <a:pt x="117" y="0"/>
                        <a:pt x="153" y="41"/>
                      </a:cubicBezTo>
                      <a:cubicBezTo>
                        <a:pt x="189" y="82"/>
                        <a:pt x="203" y="169"/>
                        <a:pt x="217" y="257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5732280" y="3155760"/>
                  <a:ext cx="365040" cy="339840"/>
                </a:xfrm>
                <a:custGeom>
                  <a:avLst/>
                  <a:gdLst/>
                  <a:ahLst/>
                  <a:rect l="l" t="t" r="r" b="b"/>
                  <a:pathLst>
                    <a:path w="230" h="214">
                      <a:moveTo>
                        <a:pt x="2" y="0"/>
                      </a:moveTo>
                      <a:cubicBezTo>
                        <a:pt x="1" y="65"/>
                        <a:pt x="0" y="130"/>
                        <a:pt x="38" y="166"/>
                      </a:cubicBezTo>
                      <a:cubicBezTo>
                        <a:pt x="76" y="202"/>
                        <a:pt x="198" y="206"/>
                        <a:pt x="230" y="214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6799320" y="2852640"/>
                <a:ext cx="1257480" cy="1211040"/>
                <a:chOff x="6799320" y="2852640"/>
                <a:chExt cx="1257480" cy="121104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6799320" y="3539880"/>
                  <a:ext cx="1152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flipV="1">
                  <a:off x="7362720" y="2984040"/>
                  <a:ext cx="0" cy="1079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7769160" y="3484440"/>
                  <a:ext cx="2876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7324920" y="2852640"/>
                  <a:ext cx="2872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y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7315200" y="3467160"/>
                  <a:ext cx="287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宋体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7137360" y="3055680"/>
                  <a:ext cx="673200" cy="7621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6943680" y="3597120"/>
                  <a:ext cx="344520" cy="407880"/>
                </a:xfrm>
                <a:custGeom>
                  <a:avLst/>
                  <a:gdLst/>
                  <a:ahLst/>
                  <a:rect l="l" t="t" r="r" b="b"/>
                  <a:pathLst>
                    <a:path w="217" h="257">
                      <a:moveTo>
                        <a:pt x="0" y="12"/>
                      </a:moveTo>
                      <a:cubicBezTo>
                        <a:pt x="58" y="6"/>
                        <a:pt x="117" y="0"/>
                        <a:pt x="153" y="41"/>
                      </a:cubicBezTo>
                      <a:cubicBezTo>
                        <a:pt x="189" y="82"/>
                        <a:pt x="203" y="169"/>
                        <a:pt x="217" y="257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7443720" y="3139920"/>
                  <a:ext cx="365400" cy="339840"/>
                </a:xfrm>
                <a:custGeom>
                  <a:avLst/>
                  <a:gdLst/>
                  <a:ahLst/>
                  <a:rect l="l" t="t" r="r" b="b"/>
                  <a:pathLst>
                    <a:path w="230" h="214">
                      <a:moveTo>
                        <a:pt x="2" y="0"/>
                      </a:moveTo>
                      <a:cubicBezTo>
                        <a:pt x="1" y="65"/>
                        <a:pt x="0" y="130"/>
                        <a:pt x="38" y="166"/>
                      </a:cubicBezTo>
                      <a:cubicBezTo>
                        <a:pt x="76" y="202"/>
                        <a:pt x="198" y="206"/>
                        <a:pt x="230" y="214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6348600" y="3344760"/>
                <a:ext cx="4334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宋体"/>
                  </a:rPr>
                  <a:t>(B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659480" y="4665600"/>
                <a:ext cx="4334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宋体"/>
                  </a:rPr>
                  <a:t>(C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355080" y="4674960"/>
                <a:ext cx="4330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宋体"/>
                  </a:rPr>
                  <a:t>(D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0" name=""/>
              <p:cNvGrpSpPr/>
              <p:nvPr/>
            </p:nvGrpSpPr>
            <p:grpSpPr>
              <a:xfrm>
                <a:off x="5121360" y="4165560"/>
                <a:ext cx="1257480" cy="1210680"/>
                <a:chOff x="5121360" y="4165560"/>
                <a:chExt cx="1257480" cy="12106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5121360" y="4852440"/>
                  <a:ext cx="1152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V="1">
                  <a:off x="5684760" y="4296960"/>
                  <a:ext cx="0" cy="1079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091200" y="4797000"/>
                  <a:ext cx="2876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5646960" y="4165560"/>
                  <a:ext cx="2872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y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 flipV="1">
                  <a:off x="5121360" y="4426920"/>
                  <a:ext cx="838080" cy="70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5637240" y="4779720"/>
                  <a:ext cx="287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宋体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5265720" y="4909680"/>
                  <a:ext cx="344520" cy="407520"/>
                </a:xfrm>
                <a:custGeom>
                  <a:avLst/>
                  <a:gdLst/>
                  <a:ahLst/>
                  <a:rect l="l" t="t" r="r" b="b"/>
                  <a:pathLst>
                    <a:path w="217" h="257">
                      <a:moveTo>
                        <a:pt x="0" y="12"/>
                      </a:moveTo>
                      <a:cubicBezTo>
                        <a:pt x="58" y="6"/>
                        <a:pt x="117" y="0"/>
                        <a:pt x="153" y="41"/>
                      </a:cubicBezTo>
                      <a:cubicBezTo>
                        <a:pt x="189" y="82"/>
                        <a:pt x="203" y="169"/>
                        <a:pt x="217" y="257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5765760" y="4452480"/>
                  <a:ext cx="365400" cy="339480"/>
                </a:xfrm>
                <a:custGeom>
                  <a:avLst/>
                  <a:gdLst/>
                  <a:ahLst/>
                  <a:rect l="l" t="t" r="r" b="b"/>
                  <a:pathLst>
                    <a:path w="230" h="214">
                      <a:moveTo>
                        <a:pt x="2" y="0"/>
                      </a:moveTo>
                      <a:cubicBezTo>
                        <a:pt x="1" y="65"/>
                        <a:pt x="0" y="130"/>
                        <a:pt x="38" y="166"/>
                      </a:cubicBezTo>
                      <a:cubicBezTo>
                        <a:pt x="76" y="202"/>
                        <a:pt x="198" y="206"/>
                        <a:pt x="230" y="214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"/>
              <p:cNvGrpSpPr/>
              <p:nvPr/>
            </p:nvGrpSpPr>
            <p:grpSpPr>
              <a:xfrm>
                <a:off x="6824880" y="4173480"/>
                <a:ext cx="1256760" cy="1211040"/>
                <a:chOff x="6824880" y="4173480"/>
                <a:chExt cx="1256760" cy="121104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6824880" y="4860720"/>
                  <a:ext cx="11520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 flipV="1">
                  <a:off x="7387920" y="4304880"/>
                  <a:ext cx="0" cy="1079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7794360" y="4805280"/>
                  <a:ext cx="2872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7350120" y="4173480"/>
                  <a:ext cx="286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y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7340400" y="4788000"/>
                  <a:ext cx="286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宋体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6994440" y="4572000"/>
                  <a:ext cx="672840" cy="7621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6968880" y="4917960"/>
                  <a:ext cx="344160" cy="407880"/>
                </a:xfrm>
                <a:custGeom>
                  <a:avLst/>
                  <a:gdLst/>
                  <a:ahLst/>
                  <a:rect l="l" t="t" r="r" b="b"/>
                  <a:pathLst>
                    <a:path w="217" h="257">
                      <a:moveTo>
                        <a:pt x="0" y="12"/>
                      </a:moveTo>
                      <a:cubicBezTo>
                        <a:pt x="58" y="6"/>
                        <a:pt x="117" y="0"/>
                        <a:pt x="153" y="41"/>
                      </a:cubicBezTo>
                      <a:cubicBezTo>
                        <a:pt x="189" y="82"/>
                        <a:pt x="203" y="169"/>
                        <a:pt x="217" y="257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7468920" y="4460760"/>
                  <a:ext cx="365040" cy="339840"/>
                </a:xfrm>
                <a:custGeom>
                  <a:avLst/>
                  <a:gdLst/>
                  <a:ahLst/>
                  <a:rect l="l" t="t" r="r" b="b"/>
                  <a:pathLst>
                    <a:path w="230" h="214">
                      <a:moveTo>
                        <a:pt x="2" y="0"/>
                      </a:moveTo>
                      <a:cubicBezTo>
                        <a:pt x="1" y="65"/>
                        <a:pt x="0" y="130"/>
                        <a:pt x="38" y="166"/>
                      </a:cubicBezTo>
                      <a:cubicBezTo>
                        <a:pt x="76" y="202"/>
                        <a:pt x="198" y="206"/>
                        <a:pt x="230" y="214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68" name=""/>
          <p:cNvSpPr/>
          <p:nvPr/>
        </p:nvSpPr>
        <p:spPr>
          <a:xfrm>
            <a:off x="4464000" y="292428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276720" y="175752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932200" y="335772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543480" y="484812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0" y="762120"/>
            <a:ext cx="891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已知反比例函数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增大而减小，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值和表达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2590920" y="533520"/>
            <a:ext cx="3214440" cy="84132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228600" y="304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补充练习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533520" y="1752480"/>
            <a:ext cx="559116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547640" y="476280"/>
            <a:ext cx="1440000" cy="45972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课堂小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1330200" y="954720"/>
            <a:ext cx="10947240" cy="5061600"/>
            <a:chOff x="1330200" y="954720"/>
            <a:chExt cx="10947240" cy="5061600"/>
          </a:xfrm>
        </p:grpSpPr>
        <p:sp>
          <p:nvSpPr>
            <p:cNvPr id="378" name=""/>
            <p:cNvSpPr/>
            <p:nvPr/>
          </p:nvSpPr>
          <p:spPr>
            <a:xfrm>
              <a:off x="1330200" y="954720"/>
              <a:ext cx="7634160" cy="506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请大家围绕以下三个问题小结本节课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 ①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什么是反比例函数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 ②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反比例函数的图象是什么样子的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 ③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反比例函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的性质是什么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9" name=""/>
            <p:cNvGrpSpPr/>
            <p:nvPr/>
          </p:nvGrpSpPr>
          <p:grpSpPr>
            <a:xfrm>
              <a:off x="3779640" y="3898800"/>
              <a:ext cx="8497800" cy="941760"/>
              <a:chOff x="3779640" y="3898800"/>
              <a:chExt cx="8497800" cy="941760"/>
            </a:xfrm>
          </p:grpSpPr>
          <p:grpSp>
            <p:nvGrpSpPr>
              <p:cNvPr id="380" name=""/>
              <p:cNvGrpSpPr/>
              <p:nvPr/>
            </p:nvGrpSpPr>
            <p:grpSpPr>
              <a:xfrm>
                <a:off x="3779640" y="3898800"/>
                <a:ext cx="8497800" cy="941760"/>
                <a:chOff x="3779640" y="3898800"/>
                <a:chExt cx="8497800" cy="94176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3779640" y="4214880"/>
                  <a:ext cx="8497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            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</a:rPr>
                    <a:t>（   是常数，     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</a:rPr>
                    <a:t>）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2" name=""/>
                <p:cNvGrpSpPr/>
                <p:nvPr/>
              </p:nvGrpSpPr>
              <p:grpSpPr>
                <a:xfrm>
                  <a:off x="3865320" y="3898800"/>
                  <a:ext cx="1222200" cy="941760"/>
                  <a:chOff x="3865320" y="3898800"/>
                  <a:chExt cx="1222200" cy="941760"/>
                </a:xfrm>
              </p:grpSpPr>
              <p:sp>
                <p:nvSpPr>
                  <p:cNvPr id="383" name=""/>
                  <p:cNvSpPr/>
                  <p:nvPr/>
                </p:nvSpPr>
                <p:spPr>
                  <a:xfrm>
                    <a:off x="3865320" y="4127400"/>
                    <a:ext cx="77616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y =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4570200" y="4416480"/>
                    <a:ext cx="5173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4647960" y="4259160"/>
                    <a:ext cx="43164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4644720" y="3898800"/>
                    <a:ext cx="43200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k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87" name=""/>
              <p:cNvSpPr/>
              <p:nvPr/>
            </p:nvSpPr>
            <p:spPr>
              <a:xfrm>
                <a:off x="6916680" y="4168800"/>
                <a:ext cx="431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317920" y="4154400"/>
                <a:ext cx="431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176960" y="4168800"/>
                <a:ext cx="431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≠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0" name=""/>
          <p:cNvSpPr/>
          <p:nvPr/>
        </p:nvSpPr>
        <p:spPr>
          <a:xfrm>
            <a:off x="3132000" y="476280"/>
            <a:ext cx="1116000" cy="45972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思考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Times New Roman"/>
              </a:rPr>
              <a:t>例题：根据反比例函数图象确定字母系数取值范围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5076720" y="1773360"/>
            <a:ext cx="3382920" cy="3476520"/>
            <a:chOff x="5076720" y="1773360"/>
            <a:chExt cx="3382920" cy="3476520"/>
          </a:xfrm>
        </p:grpSpPr>
        <p:grpSp>
          <p:nvGrpSpPr>
            <p:cNvPr id="393" name=""/>
            <p:cNvGrpSpPr/>
            <p:nvPr/>
          </p:nvGrpSpPr>
          <p:grpSpPr>
            <a:xfrm>
              <a:off x="5076720" y="1773360"/>
              <a:ext cx="3382920" cy="3456000"/>
              <a:chOff x="5076720" y="1773360"/>
              <a:chExt cx="3382920" cy="3456000"/>
            </a:xfrm>
          </p:grpSpPr>
          <p:sp>
            <p:nvSpPr>
              <p:cNvPr id="394" name=""/>
              <p:cNvSpPr/>
              <p:nvPr/>
            </p:nvSpPr>
            <p:spPr>
              <a:xfrm>
                <a:off x="5076720" y="3429000"/>
                <a:ext cx="302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160" rIns="101160" tIns="-50400" bIns="-50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V="1">
                <a:off x="6516720" y="1773360"/>
                <a:ext cx="0" cy="345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160" rIns="101160" tIns="50400" bIns="50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227640" y="3429000"/>
                <a:ext cx="431640" cy="37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920" rIns="97920" tIns="48960" bIns="4896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7740720" y="3500640"/>
                <a:ext cx="718920" cy="37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920" rIns="97920" tIns="48960" bIns="4896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156360" y="1773360"/>
                <a:ext cx="502920" cy="37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920" rIns="97920" tIns="48960" bIns="4896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99" name="" descr=""/>
            <p:cNvPicPr/>
            <p:nvPr/>
          </p:nvPicPr>
          <p:blipFill>
            <a:blip r:embed="rId1"/>
            <a:stretch/>
          </p:blipFill>
          <p:spPr>
            <a:xfrm>
              <a:off x="7107120" y="4365720"/>
              <a:ext cx="133992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5148000" y="2060640"/>
              <a:ext cx="1295640" cy="1297080"/>
            </a:xfrm>
            <a:custGeom>
              <a:avLst/>
              <a:gdLst/>
              <a:ahLst/>
              <a:rect l="l" t="t" r="r" b="b"/>
              <a:pathLst>
                <a:path w="816" h="817">
                  <a:moveTo>
                    <a:pt x="0" y="817"/>
                  </a:moveTo>
                  <a:cubicBezTo>
                    <a:pt x="249" y="817"/>
                    <a:pt x="499" y="817"/>
                    <a:pt x="635" y="681"/>
                  </a:cubicBezTo>
                  <a:cubicBezTo>
                    <a:pt x="771" y="545"/>
                    <a:pt x="786" y="113"/>
                    <a:pt x="816" y="0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1160" rIns="101160" tIns="50400" bIns="504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588000" y="3441960"/>
              <a:ext cx="1224000" cy="1282680"/>
            </a:xfrm>
            <a:custGeom>
              <a:avLst/>
              <a:gdLst/>
              <a:ahLst/>
              <a:rect l="l" t="t" r="r" b="b"/>
              <a:pathLst>
                <a:path w="771" h="808">
                  <a:moveTo>
                    <a:pt x="771" y="37"/>
                  </a:moveTo>
                  <a:cubicBezTo>
                    <a:pt x="540" y="18"/>
                    <a:pt x="310" y="0"/>
                    <a:pt x="182" y="128"/>
                  </a:cubicBezTo>
                  <a:cubicBezTo>
                    <a:pt x="54" y="256"/>
                    <a:pt x="27" y="532"/>
                    <a:pt x="0" y="808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1160" rIns="101160" tIns="50400" bIns="504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900000" y="1773360"/>
            <a:ext cx="3382920" cy="3456000"/>
            <a:chOff x="900000" y="1773360"/>
            <a:chExt cx="3382920" cy="3456000"/>
          </a:xfrm>
        </p:grpSpPr>
        <p:pic>
          <p:nvPicPr>
            <p:cNvPr id="403" name="" descr=""/>
            <p:cNvPicPr/>
            <p:nvPr/>
          </p:nvPicPr>
          <p:blipFill>
            <a:blip r:embed="rId2"/>
            <a:stretch/>
          </p:blipFill>
          <p:spPr>
            <a:xfrm>
              <a:off x="2933640" y="2211480"/>
              <a:ext cx="1244520" cy="851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04" name=""/>
            <p:cNvGrpSpPr/>
            <p:nvPr/>
          </p:nvGrpSpPr>
          <p:grpSpPr>
            <a:xfrm>
              <a:off x="900000" y="1773360"/>
              <a:ext cx="3382920" cy="3456000"/>
              <a:chOff x="900000" y="1773360"/>
              <a:chExt cx="3382920" cy="3456000"/>
            </a:xfrm>
          </p:grpSpPr>
          <p:grpSp>
            <p:nvGrpSpPr>
              <p:cNvPr id="405" name=""/>
              <p:cNvGrpSpPr/>
              <p:nvPr/>
            </p:nvGrpSpPr>
            <p:grpSpPr>
              <a:xfrm>
                <a:off x="900000" y="1773360"/>
                <a:ext cx="3382920" cy="3456000"/>
                <a:chOff x="900000" y="1773360"/>
                <a:chExt cx="3382920" cy="345600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900000" y="3429000"/>
                  <a:ext cx="3024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1160" rIns="101160" tIns="-50400" bIns="-50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flipV="1">
                  <a:off x="2340000" y="1773360"/>
                  <a:ext cx="0" cy="345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1160" rIns="101160" tIns="50400" bIns="50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2050920" y="3429000"/>
                  <a:ext cx="4316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7920" rIns="97920" tIns="48960" bIns="4896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3564000" y="3500640"/>
                  <a:ext cx="7189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7920" rIns="97920" tIns="48960" bIns="4896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1979640" y="1773360"/>
                  <a:ext cx="5029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7920" rIns="97920" tIns="48960" bIns="4896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y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1" name=""/>
              <p:cNvSpPr/>
              <p:nvPr/>
            </p:nvSpPr>
            <p:spPr>
              <a:xfrm>
                <a:off x="2544480" y="2133720"/>
                <a:ext cx="1090800" cy="1150920"/>
              </a:xfrm>
              <a:custGeom>
                <a:avLst/>
                <a:gdLst/>
                <a:ahLst/>
                <a:rect l="l" t="t" r="r" b="b"/>
                <a:pathLst>
                  <a:path w="597" h="680">
                    <a:moveTo>
                      <a:pt x="7" y="0"/>
                    </a:moveTo>
                    <a:cubicBezTo>
                      <a:pt x="3" y="215"/>
                      <a:pt x="0" y="431"/>
                      <a:pt x="98" y="544"/>
                    </a:cubicBezTo>
                    <a:cubicBezTo>
                      <a:pt x="196" y="657"/>
                      <a:pt x="396" y="668"/>
                      <a:pt x="597" y="680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160" rIns="101160" tIns="50400" bIns="504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187280" y="3524400"/>
                <a:ext cx="1008000" cy="1200240"/>
              </a:xfrm>
              <a:custGeom>
                <a:avLst/>
                <a:gdLst/>
                <a:ahLst/>
                <a:rect l="l" t="t" r="r" b="b"/>
                <a:pathLst>
                  <a:path w="635" h="756">
                    <a:moveTo>
                      <a:pt x="0" y="31"/>
                    </a:moveTo>
                    <a:cubicBezTo>
                      <a:pt x="174" y="15"/>
                      <a:pt x="348" y="0"/>
                      <a:pt x="454" y="121"/>
                    </a:cubicBezTo>
                    <a:cubicBezTo>
                      <a:pt x="560" y="242"/>
                      <a:pt x="597" y="499"/>
                      <a:pt x="635" y="756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160" rIns="101160" tIns="50400" bIns="504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3" name=""/>
          <p:cNvSpPr/>
          <p:nvPr/>
        </p:nvSpPr>
        <p:spPr>
          <a:xfrm>
            <a:off x="108000" y="6237360"/>
            <a:ext cx="202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00" y="404640"/>
            <a:ext cx="85690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学习目标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进一步熟悉作函数图象的步骤，会做反比例函数的图象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体会函数的三种表示方法的相互转化，对函数进行认识上的整合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逐步提高从函数图象中获取信息的能力，探索并掌握反比例函数的主要性质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已知函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=k(x+1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=k/x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那么它们在同一坐标系中的图象大致位置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457200" y="2209680"/>
            <a:ext cx="1828800" cy="1980720"/>
            <a:chOff x="457200" y="2209680"/>
            <a:chExt cx="1828800" cy="1980720"/>
          </a:xfrm>
        </p:grpSpPr>
        <p:sp>
          <p:nvSpPr>
            <p:cNvPr id="416" name=""/>
            <p:cNvSpPr/>
            <p:nvPr/>
          </p:nvSpPr>
          <p:spPr>
            <a:xfrm>
              <a:off x="457200" y="320040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1160" rIns="101160" tIns="-50400" bIns="-50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1143000" y="2285640"/>
              <a:ext cx="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1160" rIns="101160" tIns="50400" bIns="50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38080" y="3200400"/>
              <a:ext cx="22860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48960" bIns="4896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38080" y="2209680"/>
              <a:ext cx="22860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48960" bIns="4896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981080" y="3200400"/>
              <a:ext cx="30492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48960" bIns="4896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2514600" y="2209680"/>
            <a:ext cx="1828800" cy="1980720"/>
            <a:chOff x="2514600" y="2209680"/>
            <a:chExt cx="1828800" cy="1980720"/>
          </a:xfrm>
        </p:grpSpPr>
        <p:sp>
          <p:nvSpPr>
            <p:cNvPr id="422" name=""/>
            <p:cNvSpPr/>
            <p:nvPr/>
          </p:nvSpPr>
          <p:spPr>
            <a:xfrm>
              <a:off x="2514600" y="320040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1160" rIns="101160" tIns="-50400" bIns="-50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3200400" y="2285640"/>
              <a:ext cx="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1160" rIns="101160" tIns="50400" bIns="50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895480" y="3200400"/>
              <a:ext cx="22860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48960" bIns="4896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895480" y="2209680"/>
              <a:ext cx="22860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48960" bIns="4896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038480" y="3200400"/>
              <a:ext cx="30492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48960" bIns="4896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4572000" y="2209680"/>
            <a:ext cx="1828800" cy="1980720"/>
            <a:chOff x="4572000" y="2209680"/>
            <a:chExt cx="1828800" cy="1980720"/>
          </a:xfrm>
        </p:grpSpPr>
        <p:sp>
          <p:nvSpPr>
            <p:cNvPr id="428" name=""/>
            <p:cNvSpPr/>
            <p:nvPr/>
          </p:nvSpPr>
          <p:spPr>
            <a:xfrm>
              <a:off x="4572000" y="320040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1160" rIns="101160" tIns="-50400" bIns="-50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5257800" y="2285640"/>
              <a:ext cx="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1160" rIns="101160" tIns="50400" bIns="50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952880" y="3200400"/>
              <a:ext cx="22860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48960" bIns="4896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952880" y="2209680"/>
              <a:ext cx="22860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48960" bIns="4896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095880" y="3200400"/>
              <a:ext cx="30492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48960" bIns="4896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6705720" y="2209680"/>
            <a:ext cx="1828800" cy="1980720"/>
            <a:chOff x="6705720" y="2209680"/>
            <a:chExt cx="1828800" cy="1980720"/>
          </a:xfrm>
        </p:grpSpPr>
        <p:sp>
          <p:nvSpPr>
            <p:cNvPr id="434" name=""/>
            <p:cNvSpPr/>
            <p:nvPr/>
          </p:nvSpPr>
          <p:spPr>
            <a:xfrm>
              <a:off x="6705720" y="320040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1160" rIns="101160" tIns="-50400" bIns="-50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7391520" y="2285640"/>
              <a:ext cx="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1160" rIns="101160" tIns="50400" bIns="50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86600" y="3200400"/>
              <a:ext cx="22860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48960" bIns="4896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086600" y="2209680"/>
              <a:ext cx="22860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48960" bIns="4896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229600" y="3200400"/>
              <a:ext cx="30492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48960" bIns="4896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685800" y="2514600"/>
            <a:ext cx="1295280" cy="12193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2743200"/>
            <a:ext cx="990360" cy="12193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876920" y="2819520"/>
            <a:ext cx="1143000" cy="9144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705720" y="2743200"/>
            <a:ext cx="1295280" cy="13716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33520" y="2209680"/>
            <a:ext cx="533160" cy="914400"/>
          </a:xfrm>
          <a:custGeom>
            <a:avLst/>
            <a:gdLst/>
            <a:ahLst/>
            <a:rect l="l" t="t" r="r" b="b"/>
            <a:pathLst>
              <a:path w="336" h="576">
                <a:moveTo>
                  <a:pt x="288" y="0"/>
                </a:moveTo>
                <a:cubicBezTo>
                  <a:pt x="312" y="168"/>
                  <a:pt x="336" y="336"/>
                  <a:pt x="288" y="432"/>
                </a:cubicBezTo>
                <a:cubicBezTo>
                  <a:pt x="240" y="528"/>
                  <a:pt x="120" y="552"/>
                  <a:pt x="0" y="57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295280" y="3276720"/>
            <a:ext cx="609840" cy="609480"/>
          </a:xfrm>
          <a:custGeom>
            <a:avLst/>
            <a:gdLst/>
            <a:ahLst/>
            <a:rect l="l" t="t" r="r" b="b"/>
            <a:pathLst>
              <a:path w="384" h="384">
                <a:moveTo>
                  <a:pt x="384" y="0"/>
                </a:moveTo>
                <a:cubicBezTo>
                  <a:pt x="272" y="16"/>
                  <a:pt x="160" y="32"/>
                  <a:pt x="96" y="96"/>
                </a:cubicBezTo>
                <a:cubicBezTo>
                  <a:pt x="32" y="160"/>
                  <a:pt x="16" y="272"/>
                  <a:pt x="0" y="384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410080" y="3352680"/>
            <a:ext cx="609840" cy="609840"/>
          </a:xfrm>
          <a:custGeom>
            <a:avLst/>
            <a:gdLst/>
            <a:ahLst/>
            <a:rect l="l" t="t" r="r" b="b"/>
            <a:pathLst>
              <a:path w="384" h="384">
                <a:moveTo>
                  <a:pt x="384" y="0"/>
                </a:moveTo>
                <a:cubicBezTo>
                  <a:pt x="272" y="16"/>
                  <a:pt x="160" y="32"/>
                  <a:pt x="96" y="96"/>
                </a:cubicBezTo>
                <a:cubicBezTo>
                  <a:pt x="32" y="160"/>
                  <a:pt x="16" y="272"/>
                  <a:pt x="0" y="384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572000" y="2209680"/>
            <a:ext cx="533520" cy="914400"/>
          </a:xfrm>
          <a:custGeom>
            <a:avLst/>
            <a:gdLst/>
            <a:ahLst/>
            <a:rect l="l" t="t" r="r" b="b"/>
            <a:pathLst>
              <a:path w="336" h="576">
                <a:moveTo>
                  <a:pt x="288" y="0"/>
                </a:moveTo>
                <a:cubicBezTo>
                  <a:pt x="312" y="168"/>
                  <a:pt x="336" y="336"/>
                  <a:pt x="288" y="432"/>
                </a:cubicBezTo>
                <a:cubicBezTo>
                  <a:pt x="240" y="528"/>
                  <a:pt x="120" y="552"/>
                  <a:pt x="0" y="57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340080" y="2438280"/>
            <a:ext cx="546120" cy="685800"/>
          </a:xfrm>
          <a:custGeom>
            <a:avLst/>
            <a:gdLst/>
            <a:ahLst/>
            <a:rect l="l" t="t" r="r" b="b"/>
            <a:pathLst>
              <a:path w="344" h="432">
                <a:moveTo>
                  <a:pt x="8" y="0"/>
                </a:moveTo>
                <a:cubicBezTo>
                  <a:pt x="4" y="108"/>
                  <a:pt x="0" y="216"/>
                  <a:pt x="56" y="288"/>
                </a:cubicBezTo>
                <a:cubicBezTo>
                  <a:pt x="112" y="360"/>
                  <a:pt x="228" y="396"/>
                  <a:pt x="344" y="432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352680"/>
            <a:ext cx="457200" cy="609840"/>
          </a:xfrm>
          <a:custGeom>
            <a:avLst/>
            <a:gdLst/>
            <a:ahLst/>
            <a:rect l="l" t="t" r="r" b="b"/>
            <a:pathLst>
              <a:path w="288" h="384">
                <a:moveTo>
                  <a:pt x="0" y="0"/>
                </a:moveTo>
                <a:cubicBezTo>
                  <a:pt x="96" y="16"/>
                  <a:pt x="192" y="32"/>
                  <a:pt x="240" y="96"/>
                </a:cubicBezTo>
                <a:cubicBezTo>
                  <a:pt x="288" y="160"/>
                  <a:pt x="288" y="272"/>
                  <a:pt x="288" y="384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467480" y="2438280"/>
            <a:ext cx="546120" cy="685800"/>
          </a:xfrm>
          <a:custGeom>
            <a:avLst/>
            <a:gdLst/>
            <a:ahLst/>
            <a:rect l="l" t="t" r="r" b="b"/>
            <a:pathLst>
              <a:path w="344" h="432">
                <a:moveTo>
                  <a:pt x="8" y="0"/>
                </a:moveTo>
                <a:cubicBezTo>
                  <a:pt x="4" y="108"/>
                  <a:pt x="0" y="216"/>
                  <a:pt x="56" y="288"/>
                </a:cubicBezTo>
                <a:cubicBezTo>
                  <a:pt x="112" y="360"/>
                  <a:pt x="228" y="396"/>
                  <a:pt x="344" y="432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781680" y="3429000"/>
            <a:ext cx="457200" cy="609480"/>
          </a:xfrm>
          <a:custGeom>
            <a:avLst/>
            <a:gdLst/>
            <a:ahLst/>
            <a:rect l="l" t="t" r="r" b="b"/>
            <a:pathLst>
              <a:path w="288" h="384">
                <a:moveTo>
                  <a:pt x="0" y="0"/>
                </a:moveTo>
                <a:cubicBezTo>
                  <a:pt x="96" y="16"/>
                  <a:pt x="192" y="32"/>
                  <a:pt x="240" y="96"/>
                </a:cubicBezTo>
                <a:cubicBezTo>
                  <a:pt x="288" y="160"/>
                  <a:pt x="288" y="272"/>
                  <a:pt x="288" y="384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572000"/>
            <a:ext cx="533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895480" y="4572000"/>
            <a:ext cx="533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029200" y="4495680"/>
            <a:ext cx="457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086600" y="4495680"/>
            <a:ext cx="457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A15C-9971-4848-BFF4-87F70A48D6C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"/>
          <p:cNvGrpSpPr/>
          <p:nvPr/>
        </p:nvGrpSpPr>
        <p:grpSpPr>
          <a:xfrm>
            <a:off x="324000" y="260280"/>
            <a:ext cx="8456040" cy="5979600"/>
            <a:chOff x="324000" y="260280"/>
            <a:chExt cx="8456040" cy="5979600"/>
          </a:xfrm>
        </p:grpSpPr>
        <p:pic>
          <p:nvPicPr>
            <p:cNvPr id="459" name="" descr=""/>
            <p:cNvPicPr/>
            <p:nvPr/>
          </p:nvPicPr>
          <p:blipFill>
            <a:blip r:embed="rId1"/>
            <a:stretch/>
          </p:blipFill>
          <p:spPr>
            <a:xfrm>
              <a:off x="363240" y="260280"/>
              <a:ext cx="8416800" cy="2868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60" name=""/>
            <p:cNvGrpSpPr/>
            <p:nvPr/>
          </p:nvGrpSpPr>
          <p:grpSpPr>
            <a:xfrm>
              <a:off x="324000" y="3714840"/>
              <a:ext cx="8219880" cy="2525040"/>
              <a:chOff x="324000" y="3714840"/>
              <a:chExt cx="8219880" cy="2525040"/>
            </a:xfrm>
          </p:grpSpPr>
          <p:sp>
            <p:nvSpPr>
              <p:cNvPr id="461" name=""/>
              <p:cNvSpPr/>
              <p:nvPr/>
            </p:nvSpPr>
            <p:spPr>
              <a:xfrm>
                <a:off x="324000" y="4764240"/>
                <a:ext cx="1688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V="1">
                <a:off x="1110960" y="3924360"/>
                <a:ext cx="0" cy="173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610560" y="4149720"/>
                <a:ext cx="1014120" cy="112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112040" y="480060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788840" y="4745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869040" y="390528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000080" y="566100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34880" y="4821480"/>
                <a:ext cx="563040" cy="726840"/>
              </a:xfrm>
              <a:custGeom>
                <a:avLst/>
                <a:gdLst/>
                <a:ahLst/>
                <a:rect l="l" t="t" r="r" b="b"/>
                <a:pathLst>
                  <a:path w="453" h="589">
                    <a:moveTo>
                      <a:pt x="0" y="0"/>
                    </a:moveTo>
                    <a:cubicBezTo>
                      <a:pt x="144" y="41"/>
                      <a:pt x="288" y="83"/>
                      <a:pt x="363" y="181"/>
                    </a:cubicBezTo>
                    <a:cubicBezTo>
                      <a:pt x="438" y="279"/>
                      <a:pt x="445" y="434"/>
                      <a:pt x="453" y="58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223640" y="4037040"/>
                <a:ext cx="733320" cy="615960"/>
              </a:xfrm>
              <a:custGeom>
                <a:avLst/>
                <a:gdLst/>
                <a:ahLst/>
                <a:rect l="l" t="t" r="r" b="b"/>
                <a:pathLst>
                  <a:path w="454" h="499">
                    <a:moveTo>
                      <a:pt x="0" y="0"/>
                    </a:moveTo>
                    <a:cubicBezTo>
                      <a:pt x="30" y="140"/>
                      <a:pt x="60" y="280"/>
                      <a:pt x="136" y="363"/>
                    </a:cubicBezTo>
                    <a:cubicBezTo>
                      <a:pt x="212" y="446"/>
                      <a:pt x="333" y="472"/>
                      <a:pt x="454" y="49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85080" y="56628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73440" y="4721400"/>
                <a:ext cx="1760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V="1">
                <a:off x="5394240" y="3876840"/>
                <a:ext cx="0" cy="174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004360" y="465300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100560" y="4702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140800" y="385776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689360" y="4778640"/>
                <a:ext cx="586800" cy="731520"/>
              </a:xfrm>
              <a:custGeom>
                <a:avLst/>
                <a:gdLst/>
                <a:ahLst/>
                <a:rect l="l" t="t" r="r" b="b"/>
                <a:pathLst>
                  <a:path w="453" h="589">
                    <a:moveTo>
                      <a:pt x="0" y="0"/>
                    </a:moveTo>
                    <a:cubicBezTo>
                      <a:pt x="144" y="41"/>
                      <a:pt x="288" y="83"/>
                      <a:pt x="363" y="181"/>
                    </a:cubicBezTo>
                    <a:cubicBezTo>
                      <a:pt x="438" y="279"/>
                      <a:pt x="445" y="434"/>
                      <a:pt x="453" y="58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511600" y="3989520"/>
                <a:ext cx="764640" cy="620640"/>
              </a:xfrm>
              <a:custGeom>
                <a:avLst/>
                <a:gdLst/>
                <a:ahLst/>
                <a:rect l="l" t="t" r="r" b="b"/>
                <a:pathLst>
                  <a:path w="454" h="499">
                    <a:moveTo>
                      <a:pt x="0" y="0"/>
                    </a:moveTo>
                    <a:cubicBezTo>
                      <a:pt x="30" y="140"/>
                      <a:pt x="60" y="280"/>
                      <a:pt x="136" y="363"/>
                    </a:cubicBezTo>
                    <a:cubicBezTo>
                      <a:pt x="212" y="446"/>
                      <a:pt x="333" y="472"/>
                      <a:pt x="454" y="49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860720" y="4076640"/>
                <a:ext cx="998280" cy="129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732360" y="4808520"/>
                <a:ext cx="1720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V="1">
                <a:off x="7608600" y="3775320"/>
                <a:ext cx="0" cy="1885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>
                <a:off x="7164000" y="4149720"/>
                <a:ext cx="969840" cy="115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486920" y="56610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795720" y="3957840"/>
                <a:ext cx="688680" cy="730080"/>
              </a:xfrm>
              <a:custGeom>
                <a:avLst/>
                <a:gdLst/>
                <a:ahLst/>
                <a:rect l="l" t="t" r="r" b="b"/>
                <a:pathLst>
                  <a:path w="409" h="499">
                    <a:moveTo>
                      <a:pt x="409" y="0"/>
                    </a:moveTo>
                    <a:cubicBezTo>
                      <a:pt x="397" y="139"/>
                      <a:pt x="386" y="279"/>
                      <a:pt x="318" y="362"/>
                    </a:cubicBezTo>
                    <a:cubicBezTo>
                      <a:pt x="250" y="445"/>
                      <a:pt x="125" y="472"/>
                      <a:pt x="0" y="49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734240" y="4991040"/>
                <a:ext cx="688320" cy="609840"/>
              </a:xfrm>
              <a:custGeom>
                <a:avLst/>
                <a:gdLst/>
                <a:ahLst/>
                <a:rect l="l" t="t" r="r" b="b"/>
                <a:pathLst>
                  <a:path w="499" h="454">
                    <a:moveTo>
                      <a:pt x="499" y="0"/>
                    </a:moveTo>
                    <a:cubicBezTo>
                      <a:pt x="359" y="7"/>
                      <a:pt x="219" y="15"/>
                      <a:pt x="136" y="91"/>
                    </a:cubicBezTo>
                    <a:cubicBezTo>
                      <a:pt x="53" y="167"/>
                      <a:pt x="26" y="310"/>
                      <a:pt x="0" y="45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8235000" y="44449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673040" y="37148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670160" y="47246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411280" y="4773600"/>
                <a:ext cx="172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V="1">
                <a:off x="3274920" y="3836880"/>
                <a:ext cx="0" cy="187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842920" y="4124520"/>
                <a:ext cx="1079280" cy="158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255120" y="441180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925440" y="47736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3349440" y="3764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3060720" y="578016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555640" y="3979800"/>
                <a:ext cx="598320" cy="648000"/>
              </a:xfrm>
              <a:custGeom>
                <a:avLst/>
                <a:gdLst/>
                <a:ahLst/>
                <a:rect l="l" t="t" r="r" b="b"/>
                <a:pathLst>
                  <a:path w="377" h="408">
                    <a:moveTo>
                      <a:pt x="363" y="0"/>
                    </a:moveTo>
                    <a:cubicBezTo>
                      <a:pt x="370" y="125"/>
                      <a:pt x="377" y="250"/>
                      <a:pt x="317" y="318"/>
                    </a:cubicBezTo>
                    <a:cubicBezTo>
                      <a:pt x="257" y="386"/>
                      <a:pt x="128" y="397"/>
                      <a:pt x="0" y="40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348000" y="4916520"/>
                <a:ext cx="575640" cy="647640"/>
              </a:xfrm>
              <a:custGeom>
                <a:avLst/>
                <a:gdLst/>
                <a:ahLst/>
                <a:rect l="l" t="t" r="r" b="b"/>
                <a:pathLst>
                  <a:path w="363" h="408">
                    <a:moveTo>
                      <a:pt x="363" y="0"/>
                    </a:moveTo>
                    <a:cubicBezTo>
                      <a:pt x="256" y="11"/>
                      <a:pt x="150" y="23"/>
                      <a:pt x="90" y="91"/>
                    </a:cubicBezTo>
                    <a:cubicBezTo>
                      <a:pt x="30" y="159"/>
                      <a:pt x="15" y="283"/>
                      <a:pt x="0" y="40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7" name=""/>
          <p:cNvSpPr/>
          <p:nvPr/>
        </p:nvSpPr>
        <p:spPr>
          <a:xfrm>
            <a:off x="1620720" y="2492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348000" y="1628640"/>
            <a:ext cx="5184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268360" y="307008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0" y="0"/>
            <a:ext cx="9220320" cy="68580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990720" y="3048120"/>
            <a:ext cx="7086600" cy="251136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6477120" y="304920"/>
            <a:ext cx="2438280" cy="1447560"/>
          </a:xfrm>
          <a:prstGeom prst="cloudCallout">
            <a:avLst>
              <a:gd name="adj1" fmla="val -84375"/>
              <a:gd name="adj2" fmla="val 151097"/>
            </a:avLst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2"/>
          <a:stretch/>
        </p:blipFill>
        <p:spPr>
          <a:xfrm>
            <a:off x="684360" y="5334120"/>
            <a:ext cx="4495680" cy="152388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 txBox="1"/>
          <p:nvPr/>
        </p:nvSpPr>
        <p:spPr>
          <a:xfrm>
            <a:off x="762120" y="914400"/>
            <a:ext cx="609588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ff66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再见！</a:t>
            </a:r>
            <a:endParaRPr b="1" i="1" lang="en-US" sz="4800" spc="1" strike="noStrike">
              <a:ln w="12600">
                <a:solidFill>
                  <a:srgbClr val="800080"/>
                </a:solidFill>
                <a:miter/>
              </a:ln>
              <a:solidFill>
                <a:srgbClr val="ff66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3"/>
          <a:stretch/>
        </p:blipFill>
        <p:spPr>
          <a:xfrm>
            <a:off x="8381880" y="6095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/>
          <p:nvPr/>
        </p:nvSpPr>
        <p:spPr>
          <a:xfrm>
            <a:off x="1476360" y="630864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知识回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762120"/>
            <a:ext cx="85345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写出反比例函数的表达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反比例函数的图象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反比例函数                  的图象在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象限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反比例函数                经过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m,2)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值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反比例函数              的图象经过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,-3)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则它的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达式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13716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双曲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90920" y="1905120"/>
            <a:ext cx="1066680" cy="847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590920" y="2514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620120" y="2666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2590920" y="37339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981080" y="4267080"/>
            <a:ext cx="1143000" cy="908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019920" y="2057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二、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4648320" y="457200"/>
            <a:ext cx="3352680" cy="874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51360" y="0"/>
            <a:ext cx="127800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复习回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51360" y="0"/>
            <a:ext cx="127800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复习回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838080"/>
            <a:ext cx="8229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1.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反比例函数是一个怎样的图象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2.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反比例函数的图象的位置与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k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有怎样关系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63400" y="5373720"/>
            <a:ext cx="566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当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k&gt;0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时，两支曲线分别位于第一、三象限内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当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k&lt;0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时，两支曲线分别位于第二、四象限内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8360" y="26370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反比例函数的图象是双曲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30826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观察反比例函数                                        的图象，回答下列问题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666880" y="0"/>
            <a:ext cx="3353040" cy="10825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3886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）函数图象分别位于哪几个象限内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248520" y="38862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第一、三象限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4876920"/>
            <a:ext cx="555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x&gt;0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时，图象在第一象限；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x&lt;0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时，图象在第三象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87280" y="602136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在每一个象限内，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随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的增大而减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4419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）当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取什么值时，图象在第一象限？当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取什么值时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图象在第三象限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551664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）在每个象限内，随着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值的增大，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的值怎样变化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8458200" cy="26211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65040" y="173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267080" y="0"/>
            <a:ext cx="3962520" cy="10177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16760" y="304920"/>
            <a:ext cx="3646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=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那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图象有又什么共同特征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4495680"/>
            <a:ext cx="86868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）函数图象分别位于哪个象限内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x&gt;0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时，图象在第四象限；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x&lt;0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时，图象在第二象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6386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）在每个象限内，随着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值的增大，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的值怎样变化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2120" y="617220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在每一个象限内，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随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的增大而增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141300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反比例函数             的图象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&gt;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在每一象限内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值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值的增大而减小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&lt;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在每一象限内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值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值的增大而增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905120" y="1219320"/>
            <a:ext cx="990360" cy="9586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228600"/>
            <a:ext cx="21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知识归纳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8000" y="6237360"/>
            <a:ext cx="202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228600" y="303120"/>
            <a:ext cx="3581280" cy="687240"/>
            <a:chOff x="228600" y="303120"/>
            <a:chExt cx="3581280" cy="687240"/>
          </a:xfrm>
        </p:grpSpPr>
        <p:grpSp>
          <p:nvGrpSpPr>
            <p:cNvPr id="85" name=""/>
            <p:cNvGrpSpPr/>
            <p:nvPr/>
          </p:nvGrpSpPr>
          <p:grpSpPr>
            <a:xfrm>
              <a:off x="228600" y="303120"/>
              <a:ext cx="2362320" cy="520200"/>
              <a:chOff x="228600" y="303120"/>
              <a:chExt cx="2362320" cy="520200"/>
            </a:xfrm>
          </p:grpSpPr>
          <p:sp>
            <p:nvSpPr>
              <p:cNvPr id="86" name=""/>
              <p:cNvSpPr/>
              <p:nvPr/>
            </p:nvSpPr>
            <p:spPr>
              <a:xfrm>
                <a:off x="228600" y="351720"/>
                <a:ext cx="236232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      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随堂练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108880" y="303120"/>
                <a:ext cx="1832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2590920" y="304560"/>
              <a:ext cx="121896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533520" cy="53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"/>
          <p:cNvSpPr/>
          <p:nvPr/>
        </p:nvSpPr>
        <p:spPr>
          <a:xfrm>
            <a:off x="609480" y="1371600"/>
            <a:ext cx="8305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下列函数中，其图象位于第一、三象限的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_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其所在的象限内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增大而增大的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762120" y="2438280"/>
            <a:ext cx="6933960" cy="981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705720" y="137160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）（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）（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29400" y="1828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习题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5.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533520"/>
            <a:ext cx="8077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下列函数中，其图象位于第一、三象限的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其所在的象限内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增大而增大的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6777000" cy="9813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2590920"/>
            <a:ext cx="87631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已知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(-2,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,B(-1,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,C(3,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都在反比例函数            的图象上，比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、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大小关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858000" y="236232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3505320"/>
            <a:ext cx="8458200" cy="26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解：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Gungsuh"/>
              </a:rPr>
              <a:t>∵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Gungsuh"/>
              </a:rPr>
              <a:t>k=4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Gungsuh"/>
              </a:rPr>
              <a:t>     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MS Mincho"/>
              </a:rPr>
              <a:t>∴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图象在第一、三象限内，每一象限内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随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的增大而减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Gungsuh"/>
              </a:rPr>
              <a:t>∵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Gungsuh"/>
              </a:rPr>
              <a:t>x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  <a:ea typeface="Gungsuh"/>
              </a:rPr>
              <a:t>1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Gungsuh"/>
              </a:rPr>
              <a:t>&lt;x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  <a:ea typeface="Gungsuh"/>
              </a:rPr>
              <a:t>2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Gungsuh"/>
              </a:rPr>
              <a:t>&lt;0  ,    x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  <a:ea typeface="Gungsuh"/>
              </a:rPr>
              <a:t>3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Gungsuh"/>
              </a:rPr>
              <a:t>=3&gt;0,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MS Mincho"/>
              </a:rPr>
              <a:t>∴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点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(-2,y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，点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B(-1,y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在第三象限点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(3,y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在第一象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MS Mincho"/>
              </a:rPr>
              <a:t>∴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MS Mincho"/>
              </a:rPr>
              <a:t>y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  <a:ea typeface="MS Mincho"/>
              </a:rPr>
              <a:t>3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MS Mincho"/>
              </a:rPr>
              <a:t>&gt;0, y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  <a:ea typeface="MS Mincho"/>
              </a:rPr>
              <a:t>2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MS Mincho"/>
              </a:rPr>
              <a:t>&lt;y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  <a:ea typeface="MS Mincho"/>
              </a:rPr>
              <a:t>1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MS Mincho"/>
              </a:rPr>
              <a:t>&lt;0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即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MS Mincho"/>
              </a:rPr>
              <a:t>y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  <a:ea typeface="MS Mincho"/>
              </a:rPr>
              <a:t>2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Gungsuh"/>
              </a:rPr>
              <a:t>&lt;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  <a:ea typeface="MS Mincho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MS Mincho"/>
              </a:rPr>
              <a:t>y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  <a:ea typeface="MS Mincho"/>
              </a:rPr>
              <a:t>1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Gungsuh"/>
              </a:rPr>
              <a:t>&lt;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  <a:ea typeface="MS Mincho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MS Mincho"/>
              </a:rPr>
              <a:t>0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Gungsuh"/>
              </a:rPr>
              <a:t>&lt;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  <a:ea typeface="MS Mincho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MS Mincho"/>
              </a:rPr>
              <a:t>y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  <a:ea typeface="MS Mincho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72200" y="45720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）（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）（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9907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0199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你能解答第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小题吗了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0T03:06:45Z</dcterms:created>
  <dc:creator>An</dc:creator>
  <dc:description/>
  <dc:language>en-US</dc:language>
  <cp:lastModifiedBy/>
  <dcterms:modified xsi:type="dcterms:W3CDTF">2015-07-11T05:59:29Z</dcterms:modified>
  <cp:revision>6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