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DB1-4537-4FE9-BDC0-CA279231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7A9-A217-4432-8EF1-2AB30200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956-3CB4-48F3-AC11-31B28137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4A11-A22E-4505-B986-0D58F930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E336-B302-4D32-89C4-24BD0253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D405-E565-4E4F-836C-70A34652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951-2C74-4DFE-8730-A27CBA0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7F44-7FEC-47BF-A4E5-D35820E5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11BD-93B6-4E04-82B6-0D36AAE7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32E2-4193-41AA-ACAC-5C416964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8D8-5C38-4E62-8C7E-7AF5F38F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888F-289C-4BDD-A7BB-2514D4E7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13D8-F3D9-482F-95E2-4431223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B358-09FE-4EE7-9BE2-828154C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25A1-B9A6-4AB7-AEE7-D997A953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574-E24F-402A-97C8-A07E9291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D8F4-6D14-4522-A792-E1782718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EEB-DC51-4573-95B6-1CC35DC4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6D5-E91C-4794-8377-7E09F39A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7F7F-9D26-48EC-AB31-3A61648C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5A1-9BD9-44C4-8625-9229EA9C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AE2-9208-475C-84D7-B2C1A788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357E-17D4-46AE-AFDD-91BDFD21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833-F8E8-471C-B8C2-308D257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822240" indent="-228600">
              <a:spcBef>
                <a:spcPts val="575"/>
              </a:spcBef>
              <a:buClr>
                <a:srgbClr val="aec7d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228600">
              <a:spcBef>
                <a:spcPts val="575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371600" indent="-228600">
              <a:spcBef>
                <a:spcPts val="575"/>
              </a:spcBef>
              <a:buClr>
                <a:srgbClr val="c32d2e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ounded Rectangle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65160" y="1449360"/>
            <a:ext cx="9007560" cy="152712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69840" y="1397160"/>
            <a:ext cx="9004320" cy="1206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71280" y="2976480"/>
            <a:ext cx="9010800" cy="11124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7dec9"/>
                </a:solidFill>
                <a:latin typeface="Corbe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2621-62D8-4613-BBB0-CF5231B84FF4}" type="datetime">
              <a:rPr b="0" lang="zh-CN" sz="1400" spc="-1" strike="noStrike">
                <a:solidFill>
                  <a:srgbClr val="e7dec9"/>
                </a:solidFill>
                <a:latin typeface="Corbel"/>
                <a:ea typeface="楷体_GB2312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B17-F6E4-4ECB-93E1-A6DB1A7B05C5}" type="slidenum">
              <a:rPr b="0" lang="en-US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7dec9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575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822240" indent="-228600">
              <a:spcBef>
                <a:spcPts val="575"/>
              </a:spcBef>
              <a:buClr>
                <a:srgbClr val="aec7d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228600">
              <a:spcBef>
                <a:spcPts val="575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4" marL="1371600" indent="-228600">
              <a:spcBef>
                <a:spcPts val="575"/>
              </a:spcBef>
              <a:buClr>
                <a:srgbClr val="c32d2e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7dec9"/>
                </a:solidFill>
                <a:latin typeface="Corbel"/>
                <a:ea typeface="楷体_GB2312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B04D-6B91-45C2-9CDB-0E0B5BE51C88}" type="datetime">
              <a:rPr b="0" lang="zh-CN" sz="1400" spc="-1" strike="noStrike">
                <a:solidFill>
                  <a:srgbClr val="e7dec9"/>
                </a:solidFill>
                <a:latin typeface="Corbel"/>
                <a:ea typeface="楷体_GB2312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FDA6-B43B-4130-835E-1E282CBD94C3}" type="slidenum">
              <a:rPr b="0" lang="zh-CN" sz="14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e7dec9"/>
                </a:solidFill>
                <a:latin typeface="Corbel"/>
                <a:ea typeface="楷体_GB2312"/>
              </a:rPr>
              <a:t>公司名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4382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25880" y="1447920"/>
            <a:ext cx="36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公司会议灰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演示文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主要支出领域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9" name="Diagram 3" descr=""/>
          <p:cNvPicPr/>
          <p:nvPr/>
        </p:nvPicPr>
        <p:blipFill>
          <a:blip r:embed="rId1"/>
          <a:stretch/>
        </p:blipFill>
        <p:spPr>
          <a:xfrm>
            <a:off x="871560" y="1450800"/>
            <a:ext cx="7858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总人数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结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276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</a:rPr>
              <a:t>使用规范说明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orbel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9EEB-4596-4781-B46D-2F980C056A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下一阶段的目标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17" name="Diagram 3" descr=""/>
          <p:cNvPicPr/>
          <p:nvPr/>
        </p:nvPicPr>
        <p:blipFill>
          <a:blip r:embed="rId1"/>
          <a:stretch/>
        </p:blipFill>
        <p:spPr>
          <a:xfrm>
            <a:off x="841320" y="1450800"/>
            <a:ext cx="788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总结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总结关键成功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/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挑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重申关键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感谢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议程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审查关键目标和关键成功因素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我们如何做？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组织概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公司面临的最重要问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对前期目标的审查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目标进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收入和利润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主要支出领域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总人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下一阶段的目标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7dec9"/>
                </a:solidFill>
                <a:latin typeface="Corbel"/>
                <a:ea typeface="楷体_GB2312"/>
              </a:rPr>
              <a:t>审查关键目标</a:t>
            </a:r>
            <a:br>
              <a:rPr sz="3600"/>
            </a:br>
            <a:r>
              <a:rPr b="0" lang="zh-CN" sz="3600" spc="-1" strike="noStrike">
                <a:solidFill>
                  <a:srgbClr val="e7dec9"/>
                </a:solidFill>
                <a:latin typeface="Corbel"/>
                <a:ea typeface="楷体_GB2312"/>
              </a:rPr>
              <a:t>和关键成功因素</a:t>
            </a:r>
            <a:endParaRPr b="0" lang="en-US" sz="36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95" name="Diagram 3" descr=""/>
          <p:cNvPicPr/>
          <p:nvPr/>
        </p:nvPicPr>
        <p:blipFill>
          <a:blip r:embed="rId1"/>
          <a:stretch/>
        </p:blipFill>
        <p:spPr>
          <a:xfrm>
            <a:off x="914400" y="1347840"/>
            <a:ext cx="77724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我们做得如何？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针对每个目标简要概述工作成果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组织概述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99" name="Diagram 3" descr=""/>
          <p:cNvPicPr/>
          <p:nvPr/>
        </p:nvPicPr>
        <p:blipFill>
          <a:blip r:embed="rId1"/>
          <a:stretch/>
        </p:blipFill>
        <p:spPr>
          <a:xfrm>
            <a:off x="841320" y="1450800"/>
            <a:ext cx="788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公司面临的最重要问题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解决任何突出问题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对前几个目标的审查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3" name="Diagram 3" descr=""/>
          <p:cNvPicPr/>
          <p:nvPr/>
        </p:nvPicPr>
        <p:blipFill>
          <a:blip r:embed="rId1"/>
          <a:stretch/>
        </p:blipFill>
        <p:spPr>
          <a:xfrm>
            <a:off x="914400" y="1359000"/>
            <a:ext cx="77724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目标进度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3891a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orbel"/>
                <a:ea typeface="楷体_GB2312"/>
              </a:rPr>
              <a:t>关键财务结果概述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收入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利润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主要支出领域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47560" indent="-228600">
              <a:spcBef>
                <a:spcPts val="374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orbel"/>
                <a:ea typeface="楷体_GB2312"/>
              </a:rPr>
              <a:t>总人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7dec9"/>
                </a:solidFill>
                <a:latin typeface="Corbel"/>
                <a:ea typeface="楷体_GB2312"/>
              </a:rPr>
              <a:t>收入和利润</a:t>
            </a:r>
            <a:endParaRPr b="0" lang="en-US" sz="4000" spc="-1" strike="noStrike">
              <a:solidFill>
                <a:srgbClr val="e7dec9"/>
              </a:solidFill>
              <a:latin typeface="Corbel"/>
            </a:endParaRPr>
          </a:p>
        </p:txBody>
      </p:sp>
      <p:pic>
        <p:nvPicPr>
          <p:cNvPr id="107" name="Diagram 3" descr=""/>
          <p:cNvPicPr/>
          <p:nvPr/>
        </p:nvPicPr>
        <p:blipFill>
          <a:blip r:embed="rId1"/>
          <a:stretch/>
        </p:blipFill>
        <p:spPr>
          <a:xfrm>
            <a:off x="914400" y="1359000"/>
            <a:ext cx="77724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27:20Z</dcterms:created>
  <dc:creator>An</dc:creator>
  <dc:description/>
  <dc:language>en-US</dc:language>
  <cp:lastModifiedBy/>
  <dcterms:modified xsi:type="dcterms:W3CDTF">2015-07-11T06:06:0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