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AA0-9922-4ADF-9559-554AF63A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4258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DBA-6571-40DF-8989-02D43B8C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3EE-3818-47D2-AA02-A044F1E7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702-4A7B-4C4C-8CC0-A5590299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22D7-D988-431F-ACE9-2103C3FB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87B2-7A09-42EC-915B-144C957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03A9-A018-4EE0-B8B2-AC302FF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B8F2-5C6F-426D-8606-E78741AF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2B78-F95A-4785-B769-58C606F7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8C2A-D016-4F5C-8A5E-408E9A86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289B-D408-40D2-ACCF-BE93344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74E-7463-4FB1-81E3-6B099FC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F052-5115-4281-8A6A-52F64E5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4013-6A94-4667-9AC4-EC6F06D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4258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9E98-210A-4673-9C44-4B487C02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6EEC-3527-4F51-9C06-664B0445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F5F5-1BAE-490B-92CF-CCFFEF3C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82C-A691-4B52-BC39-1D74CAF0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B8E-6CF9-466E-8326-9DE7D580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3A2-4113-456E-8DA0-8A40FA9A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9E2-A6C4-432D-9900-CD16B4D4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025-0BD5-48E8-8211-A88F988E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C83-515D-466A-A13D-9DBD358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17F-871C-4941-A99A-8CD49CE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8377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015C-EFF7-4F57-B5A2-3DBD9556699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89F8-CF2D-49AE-BE3F-5F79204DAA0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gongy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Impact"/>
                <a:ea typeface="宋体"/>
              </a:rPr>
              <a:t>钢铁工业</a:t>
            </a:r>
            <a:r>
              <a:rPr b="1" lang="en-US" sz="45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1480" y="5721480"/>
            <a:ext cx="68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工业制造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gongy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325-0F7D-4165-B6AC-86A00C88CA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127620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6880" y="127620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267080" y="127620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4:47Z</dcterms:created>
  <dc:creator>eclipse</dc:creator>
  <dc:description/>
  <dc:language>en-US</dc:language>
  <cp:lastModifiedBy>微软用户</cp:lastModifiedBy>
  <dcterms:modified xsi:type="dcterms:W3CDTF">2015-07-11T15:07:53Z</dcterms:modified>
  <cp:revision>1</cp:revision>
  <dc:subject/>
  <dc:title>Extreme Mach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