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1"/>
          <p:cNvSpPr/>
          <p:nvPr/>
        </p:nvSpPr>
        <p:spPr>
          <a:xfrm>
            <a:off x="0" y="6168960"/>
            <a:ext cx="9144000" cy="68580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2" descr="GearsLT_footer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9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40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84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28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808080"/>
              </a:buClr>
              <a:buSzPct val="9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0" y="338040"/>
            <a:ext cx="9144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pic>
        <p:nvPicPr>
          <p:cNvPr id="5" name="Picture 33" descr="HewConsforPPT_"/>
          <p:cNvPicPr/>
          <p:nvPr/>
        </p:nvPicPr>
        <p:blipFill>
          <a:blip r:embed="rId4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5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0E82B3E-BC78-469E-A382-28F500B2C91E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6"/>
          <p:cNvSpPr/>
          <p:nvPr/>
        </p:nvSpPr>
        <p:spPr>
          <a:xfrm>
            <a:off x="0" y="6168960"/>
            <a:ext cx="9144000" cy="68580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7" descr="GearsLT_footer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9552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0" y="338040"/>
            <a:ext cx="9144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684000" y="1406520"/>
            <a:ext cx="16002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772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808080"/>
              </a:buClr>
              <a:buSzPct val="9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pic>
        <p:nvPicPr>
          <p:cNvPr id="48" name="Picture 28" descr="HewConsforPPT_"/>
          <p:cNvPicPr/>
          <p:nvPr/>
        </p:nvPicPr>
        <p:blipFill>
          <a:blip r:embed="rId4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9"/>
          <p:cNvSpPr/>
          <p:nvPr/>
        </p:nvSpPr>
        <p:spPr>
          <a:xfrm>
            <a:off x="685800" y="639756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[MM/DD/YYYY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0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62623D8-0612-4500-B92F-2F0232124603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3655800"/>
            <a:ext cx="776916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0" y="6168960"/>
            <a:ext cx="9144000" cy="69552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HewConsforPPT_"/>
          <p:cNvPicPr/>
          <p:nvPr/>
        </p:nvPicPr>
        <p:blipFill>
          <a:blip r:embed="rId2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685800" y="639756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[MM/DD/YYYY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3FED701-27A8-4BCF-947C-C3495E275BE7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iStock_000001664717Medium"/>
          <p:cNvPicPr/>
          <p:nvPr/>
        </p:nvPicPr>
        <p:blipFill>
          <a:blip r:embed="rId3"/>
          <a:stretch/>
        </p:blipFill>
        <p:spPr>
          <a:xfrm>
            <a:off x="0" y="0"/>
            <a:ext cx="9144000" cy="34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4"/>
          <p:cNvSpPr/>
          <p:nvPr/>
        </p:nvSpPr>
        <p:spPr>
          <a:xfrm>
            <a:off x="0" y="3984480"/>
            <a:ext cx="9144000" cy="180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4360" y="6297480"/>
            <a:ext cx="5322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To protect the confidential and proprietary information included in this material, it may not be disclosed or provided to any third parties without the approval of Hewitt Associates 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LLC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HewConsPPT_1inch"/>
          <p:cNvPicPr/>
          <p:nvPr/>
        </p:nvPicPr>
        <p:blipFill>
          <a:blip r:embed="rId2"/>
          <a:stretch/>
        </p:blipFill>
        <p:spPr>
          <a:xfrm>
            <a:off x="7315200" y="595944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Stock_000001664717Medium"/>
          <p:cNvPicPr/>
          <p:nvPr/>
        </p:nvPicPr>
        <p:blipFill>
          <a:blip r:embed="rId3"/>
          <a:stretch/>
        </p:blipFill>
        <p:spPr>
          <a:xfrm>
            <a:off x="0" y="0"/>
            <a:ext cx="9144000" cy="3430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40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84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28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808080"/>
              </a:buClr>
              <a:buSzPct val="9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1"/>
          <p:cNvSpPr/>
          <p:nvPr/>
        </p:nvSpPr>
        <p:spPr>
          <a:xfrm>
            <a:off x="1447920" y="2743200"/>
            <a:ext cx="64767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1447920" y="4014720"/>
            <a:ext cx="647676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6720" y="4140000"/>
            <a:ext cx="82058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c6b"/>
                </a:solidFill>
                <a:latin typeface="Arial"/>
              </a:rPr>
              <a:t>Creating Sustainable Change through Organizational Alignment and Managing an Increasingly Diverse Workforce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63c6b"/>
                </a:solidFill>
                <a:latin typeface="Arial"/>
              </a:rPr>
              <a:t>February 18, 2008</a:t>
            </a:r>
            <a:endParaRPr b="1" lang="en-US" sz="24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4000" y="3546000"/>
            <a:ext cx="7559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3c6b"/>
                </a:solidFill>
                <a:latin typeface="Arial"/>
              </a:rPr>
              <a:t>NASSCOM India Leadership Forum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4560" y="915840"/>
            <a:ext cx="23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国外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8"/>
          <p:cNvSpPr/>
          <p:nvPr/>
        </p:nvSpPr>
        <p:spPr>
          <a:xfrm rot="19977600">
            <a:off x="4594320" y="4599000"/>
            <a:ext cx="4032000" cy="368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Managing Change…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grpSp>
        <p:nvGrpSpPr>
          <p:cNvPr id="179" name="Group 20"/>
          <p:cNvGrpSpPr/>
          <p:nvPr/>
        </p:nvGrpSpPr>
        <p:grpSpPr>
          <a:xfrm>
            <a:off x="409680" y="1189080"/>
            <a:ext cx="3706200" cy="4817520"/>
            <a:chOff x="409680" y="1189080"/>
            <a:chExt cx="3706200" cy="4817520"/>
          </a:xfrm>
        </p:grpSpPr>
        <p:pic>
          <p:nvPicPr>
            <p:cNvPr id="180" name="Picture 21" descr=""/>
            <p:cNvPicPr/>
            <p:nvPr/>
          </p:nvPicPr>
          <p:blipFill>
            <a:blip r:embed="rId1"/>
            <a:stretch/>
          </p:blipFill>
          <p:spPr>
            <a:xfrm>
              <a:off x="409680" y="1189080"/>
              <a:ext cx="3706200" cy="48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22"/>
            <p:cNvSpPr/>
            <p:nvPr/>
          </p:nvSpPr>
          <p:spPr>
            <a:xfrm>
              <a:off x="2721600" y="5793120"/>
              <a:ext cx="1394280" cy="213480"/>
            </a:xfrm>
            <a:prstGeom prst="rect">
              <a:avLst/>
            </a:pr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6"/>
          <p:cNvSpPr/>
          <p:nvPr/>
        </p:nvSpPr>
        <p:spPr>
          <a:xfrm>
            <a:off x="4359240" y="1092240"/>
            <a:ext cx="20066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nge i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come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ly Qu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6489720" y="3365640"/>
            <a:ext cx="20368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ition i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-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ual &amp; S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460600" y="2709720"/>
            <a:ext cx="1600200" cy="457200"/>
          </a:xfrm>
          <a:prstGeom prst="rect">
            <a:avLst/>
          </a:prstGeom>
          <a:gradFill rotWithShape="0">
            <a:gsLst>
              <a:gs pos="0">
                <a:srgbClr val="fcfabd"/>
              </a:gs>
              <a:gs pos="100000">
                <a:srgbClr val="f2e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18e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68200" y="274320"/>
            <a:ext cx="78724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The Human Dynamic in Change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 rot="16200000">
            <a:off x="-688320" y="3399480"/>
            <a:ext cx="185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Organization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593240" y="591804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57200" y="2405160"/>
            <a:ext cx="19051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s exci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ompany is taking a bold ste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460600" y="2786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Fear/uncertai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05120" y="3298680"/>
            <a:ext cx="15238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is mean for me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my priorities now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3908520" y="3908520"/>
            <a:ext cx="1600200" cy="457200"/>
          </a:xfrm>
          <a:prstGeom prst="rect">
            <a:avLst/>
          </a:prstGeom>
          <a:gradFill rotWithShape="0">
            <a:gsLst>
              <a:gs pos="0">
                <a:srgbClr val="ffb5b7"/>
              </a:gs>
              <a:gs pos="100000">
                <a:srgbClr val="ff959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95b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908520" y="398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Par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3832200" y="4441680"/>
            <a:ext cx="19051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’t act with all this uncertaint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highest priority is to stay on top of the integration new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6095880" y="2481120"/>
            <a:ext cx="1600200" cy="457200"/>
          </a:xfrm>
          <a:prstGeom prst="rect">
            <a:avLst/>
          </a:prstGeom>
          <a:gradFill rotWithShape="0">
            <a:gsLst>
              <a:gs pos="0">
                <a:srgbClr val="fcfabd"/>
              </a:gs>
              <a:gs pos="100000">
                <a:srgbClr val="f2e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18e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6095880" y="2557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858000" y="2994120"/>
            <a:ext cx="182880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is leaving, I better get 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ard, but we can do i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7238880" y="1185840"/>
            <a:ext cx="184320" cy="368280"/>
          </a:xfrm>
          <a:prstGeom prst="rect">
            <a:avLst/>
          </a:prstGeom>
          <a:gradFill rotWithShape="0">
            <a:gsLst>
              <a:gs pos="0">
                <a:srgbClr val="dcf6dc"/>
              </a:gs>
              <a:gs pos="100000">
                <a:srgbClr val="8ce2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48854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7238880" y="12621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7162920" y="1652760"/>
            <a:ext cx="17524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right thing to d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succe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6248520" y="4995720"/>
            <a:ext cx="183960" cy="368280"/>
          </a:xfrm>
          <a:prstGeom prst="rect">
            <a:avLst/>
          </a:prstGeom>
          <a:gradFill rotWithShape="0">
            <a:gsLst>
              <a:gs pos="0">
                <a:srgbClr val="d2e9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6248520" y="50720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Depa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6184800" y="530064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something I want to be part o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238880" y="438624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do what is necessary to surv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AutoShape 23"/>
          <p:cNvCxnSpPr>
            <a:stCxn id="205" idx="3"/>
            <a:endCxn id="184" idx="0"/>
          </p:cNvCxnSpPr>
          <p:nvPr/>
        </p:nvCxnSpPr>
        <p:spPr>
          <a:xfrm>
            <a:off x="717120" y="2055960"/>
            <a:ext cx="2543760" cy="6544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24"/>
          <p:cNvCxnSpPr>
            <a:stCxn id="184" idx="2"/>
            <a:endCxn id="192" idx="1"/>
          </p:cNvCxnSpPr>
          <p:nvPr/>
        </p:nvCxnSpPr>
        <p:spPr>
          <a:xfrm flipH="1" rot="16200000">
            <a:off x="3105720" y="3320640"/>
            <a:ext cx="956520" cy="6483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25"/>
          <p:cNvCxnSpPr>
            <a:stCxn id="192" idx="3"/>
            <a:endCxn id="194" idx="2"/>
          </p:cNvCxnSpPr>
          <p:nvPr/>
        </p:nvCxnSpPr>
        <p:spPr>
          <a:xfrm flipV="1">
            <a:off x="5508720" y="2937960"/>
            <a:ext cx="1388160" cy="118512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26"/>
          <p:cNvCxnSpPr>
            <a:stCxn id="194" idx="0"/>
            <a:endCxn id="197" idx="1"/>
          </p:cNvCxnSpPr>
          <p:nvPr/>
        </p:nvCxnSpPr>
        <p:spPr>
          <a:xfrm flipH="1" flipV="1" rot="5400000">
            <a:off x="6511680" y="1753920"/>
            <a:ext cx="1111680" cy="3434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27"/>
          <p:cNvCxnSpPr>
            <a:stCxn id="191" idx="3"/>
            <a:endCxn id="200" idx="1"/>
          </p:cNvCxnSpPr>
          <p:nvPr/>
        </p:nvCxnSpPr>
        <p:spPr>
          <a:xfrm>
            <a:off x="5508360" y="4136760"/>
            <a:ext cx="740520" cy="10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10" name="AutoShape 28"/>
          <p:cNvCxnSpPr>
            <a:stCxn id="191" idx="3"/>
            <a:endCxn id="211" idx="1"/>
          </p:cNvCxnSpPr>
          <p:nvPr/>
        </p:nvCxnSpPr>
        <p:spPr>
          <a:xfrm>
            <a:off x="5508720" y="4136760"/>
            <a:ext cx="173088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11" name="Rectangle 29"/>
          <p:cNvSpPr/>
          <p:nvPr/>
        </p:nvSpPr>
        <p:spPr>
          <a:xfrm>
            <a:off x="7238880" y="3908520"/>
            <a:ext cx="1600200" cy="457200"/>
          </a:xfrm>
          <a:prstGeom prst="rect">
            <a:avLst/>
          </a:prstGeom>
          <a:gradFill rotWithShape="0">
            <a:gsLst>
              <a:gs pos="0">
                <a:srgbClr val="ffb5b7"/>
              </a:gs>
              <a:gs pos="100000">
                <a:srgbClr val="ff959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7391520" y="4005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Withdraw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533520" y="1871640"/>
            <a:ext cx="183960" cy="368280"/>
          </a:xfrm>
          <a:prstGeom prst="rect">
            <a:avLst/>
          </a:prstGeom>
          <a:gradFill rotWithShape="0">
            <a:gsLst>
              <a:gs pos="0">
                <a:srgbClr val="dcf6dc"/>
              </a:gs>
              <a:gs pos="100000">
                <a:srgbClr val="8ce2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48854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2"/>
          <p:cNvSpPr/>
          <p:nvPr/>
        </p:nvSpPr>
        <p:spPr>
          <a:xfrm>
            <a:off x="533520" y="177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Early euph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4"/>
          <p:cNvSpPr/>
          <p:nvPr/>
        </p:nvSpPr>
        <p:spPr>
          <a:xfrm>
            <a:off x="57240" y="762120"/>
            <a:ext cx="9163080" cy="5181480"/>
          </a:xfrm>
          <a:custGeom>
            <a:avLst/>
            <a:gdLst>
              <a:gd name="textAreaLeft" fmla="*/ 0 w 9163080"/>
              <a:gd name="textAreaRight" fmla="*/ 9163440 w 916308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608" h="3024">
                <a:moveTo>
                  <a:pt x="0" y="0"/>
                </a:moveTo>
                <a:lnTo>
                  <a:pt x="0" y="3024"/>
                </a:lnTo>
                <a:lnTo>
                  <a:pt x="4608" y="30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Curved Connector 36"/>
          <p:cNvCxnSpPr/>
          <p:nvPr/>
        </p:nvCxnSpPr>
        <p:spPr>
          <a:xfrm>
            <a:off x="4051440" y="1041480"/>
            <a:ext cx="4839120" cy="1473840"/>
          </a:xfrm>
          <a:prstGeom prst="curvedConnector5">
            <a:avLst>
              <a:gd name="adj1" fmla="val 49996"/>
              <a:gd name="adj2" fmla="val 49987"/>
              <a:gd name="adj3" fmla="val 49996"/>
            </a:avLst>
          </a:prstGeom>
          <a:ln w="12600">
            <a:solidFill>
              <a:srgbClr val="000000"/>
            </a:solidFill>
            <a:prstDash val="lgDashDot"/>
            <a:miter/>
          </a:ln>
        </p:spPr>
      </p:cxnSp>
      <p:cxnSp>
        <p:nvCxnSpPr>
          <p:cNvPr id="216" name="Curved Connector 38"/>
          <p:cNvCxnSpPr/>
          <p:nvPr/>
        </p:nvCxnSpPr>
        <p:spPr>
          <a:xfrm rot="5400000">
            <a:off x="-508680" y="2018880"/>
            <a:ext cx="4305960" cy="245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prstDash val="dash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Object 2" descr=""/>
          <p:cNvPicPr/>
          <p:nvPr/>
        </p:nvPicPr>
        <p:blipFill>
          <a:blip r:embed="rId1"/>
          <a:stretch/>
        </p:blipFill>
        <p:spPr>
          <a:xfrm>
            <a:off x="318960" y="669960"/>
            <a:ext cx="83520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Engaging Employees Across Diverse Geographies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939960" y="1498680"/>
            <a:ext cx="7683480" cy="4381560"/>
          </a:xfrm>
          <a:prstGeom prst="rect">
            <a:avLst/>
          </a:prstGeom>
          <a:solidFill>
            <a:srgbClr val="6280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838080" y="1130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6222960" y="1117440"/>
            <a:ext cx="25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6"/>
          <p:cNvSpPr/>
          <p:nvPr/>
        </p:nvSpPr>
        <p:spPr>
          <a:xfrm>
            <a:off x="939960" y="1511280"/>
            <a:ext cx="7657920" cy="43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1917720" y="3594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5651640" y="3009960"/>
            <a:ext cx="22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996120" y="58294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0"/>
          <p:cNvSpPr/>
          <p:nvPr/>
        </p:nvSpPr>
        <p:spPr>
          <a:xfrm>
            <a:off x="7912080" y="581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4388040" y="58165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63c6b"/>
                </a:solidFill>
                <a:latin typeface="Arial"/>
              </a:rPr>
              <a:t>使用规范说明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08:21:39Z</dcterms:created>
  <dc:creator>Administrator</dc:creator>
  <dc:description/>
  <dc:language>en-US</dc:language>
  <cp:lastModifiedBy>a</cp:lastModifiedBy>
  <dcterms:modified xsi:type="dcterms:W3CDTF">2015-07-11T15:18:15Z</dcterms:modified>
  <cp:revision>1</cp:revision>
  <dc:subject/>
  <dc:title>Creating Sustainable Change through Organizational Alignment and Managing an Increasingly Diverse Workforce  February 18, 200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