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D0EF-852F-461C-8658-ABCF37E806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0880" y="248508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7775-138B-4669-BC9D-DDB1157A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27060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F200-A5B9-47B2-BB67-546CD44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28744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19400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8088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28744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419400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336A-2588-449F-A152-1853517C61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B65A2-FD43-4D0D-8F87-F6D2300AB8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6825F-BDB0-4A97-8D57-C0B2E7D1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21A4F-3BD7-48C8-93C1-4622324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BBB41-7E9D-408A-AC20-79CDC09B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BFEAF-A9D8-4286-843C-B7D92508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5639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6C806-C819-4A5F-B47B-ECC98567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7D94E-2F30-492E-9E6E-AE8CD19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11BD-3F18-469B-979E-2DF32EA1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7060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EBD98-569B-4AD9-AE65-B449A1A1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94DD5-C8E2-4395-984F-A767EE84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0880" y="248508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791AC-72DD-4A51-833B-3EA4AC9F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27060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F887D-0108-4F4F-A61D-1B0100A5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28744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194000" y="228600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088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28744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194000" y="2485080"/>
            <a:ext cx="1815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B344C-E895-430C-9912-2CFEA918A5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8FB0-F1F7-488E-93BD-44BB63E2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0BD0-29DC-4A6A-9F68-0941638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3C56-935F-4773-9DD6-CAE2EC76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563904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CE44-5E9B-46A8-B759-5AEB1F16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DBD6-2CA5-457D-991F-2A626DE5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70600" y="248508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01C2-2381-4A6B-AAF3-9E3B496A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600" y="2286000"/>
            <a:ext cx="2751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2485080"/>
            <a:ext cx="5639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22CA-6C94-4657-81AC-89B6057A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920" y="501480"/>
            <a:ext cx="1108080" cy="336600"/>
            <a:chOff x="7920" y="501480"/>
            <a:chExt cx="1108080" cy="336600"/>
          </a:xfrm>
        </p:grpSpPr>
        <p:sp>
          <p:nvSpPr>
            <p:cNvPr id="1" name=""/>
            <p:cNvSpPr/>
            <p:nvPr/>
          </p:nvSpPr>
          <p:spPr>
            <a:xfrm>
              <a:off x="7920" y="7617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920" y="67752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20" y="58572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6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355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355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355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355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355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355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14800" y="64004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19EF-28BB-44E6-9F28-389E444DD922}" type="slidenum">
              <a:rPr b="0" lang="en-US" sz="1200" spc="-1" strike="noStrike">
                <a:solidFill>
                  <a:srgbClr val="0e35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580160" y="6384960"/>
            <a:ext cx="9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143000" y="457200"/>
            <a:ext cx="13032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96" y="0"/>
                </a:moveTo>
                <a:lnTo>
                  <a:pt x="0" y="0"/>
                </a:lnTo>
                <a:lnTo>
                  <a:pt x="0" y="288"/>
                </a:lnTo>
                <a:lnTo>
                  <a:pt x="96" y="288"/>
                </a:lnTo>
              </a:path>
            </a:pathLst>
          </a:custGeom>
          <a:noFill/>
          <a:ln w="9360">
            <a:solidFill>
              <a:srgbClr val="0e35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5311800" y="457200"/>
            <a:ext cx="3832200" cy="457200"/>
            <a:chOff x="5311800" y="457200"/>
            <a:chExt cx="3832200" cy="457200"/>
          </a:xfrm>
        </p:grpSpPr>
        <p:sp>
          <p:nvSpPr>
            <p:cNvPr id="12" name=""/>
            <p:cNvSpPr/>
            <p:nvPr/>
          </p:nvSpPr>
          <p:spPr>
            <a:xfrm>
              <a:off x="5432400" y="78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30960" y="52236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0e35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3"/>
          </p:nvPr>
        </p:nvSpPr>
        <p:spPr>
          <a:xfrm>
            <a:off x="4568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355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4"/>
          </p:nvPr>
        </p:nvSpPr>
        <p:spPr>
          <a:xfrm>
            <a:off x="3428640" y="6454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e355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CDA0-49E2-4410-A30A-4486E4CF0772}" type="slidenum">
              <a:rPr b="0" lang="en-US" sz="1200" spc="-1" strike="noStrike">
                <a:solidFill>
                  <a:srgbClr val="0e35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83480" y="64008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355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e3558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e3558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5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e3558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5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e355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5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e355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35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5639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国外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2040" y="229716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7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2884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66688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2323800" y="24004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2433240" y="24116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cb68d"/>
              </a:gs>
              <a:gs pos="100000">
                <a:srgbClr val="cc3300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3505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70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外国ppt模板</a:t>
            </a:r>
            <a:r>
              <a:rPr b="0" lang="en-US" sz="1800" spc="-1" strike="noStrike">
                <a:solidFill>
                  <a:srgbClr val="0e3558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06699"/>
              </a:gs>
              <a:gs pos="100000">
                <a:srgbClr val="005a8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297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00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03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06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09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12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49960" y="50356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cb9a8"/>
                </a:gs>
                <a:gs pos="100000">
                  <a:srgbClr val="cc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33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e1700"/>
              </a:gs>
              <a:gs pos="100000">
                <a:srgbClr val="cc33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d1b00"/>
              </a:gs>
              <a:gs pos="50000">
                <a:srgbClr val="cc3300"/>
              </a:gs>
              <a:gs pos="100000">
                <a:srgbClr val="6d1b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cc3300">
                  <a:alpha val="0"/>
                </a:srgbClr>
              </a:gs>
              <a:gs pos="100000">
                <a:srgbClr val="812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19" name="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57760" y="287352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75040" y="288288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e3558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33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40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48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62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67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7255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277812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906080" y="3050640"/>
            <a:ext cx="1703880" cy="2679120"/>
            <a:chOff x="4906080" y="3050640"/>
            <a:chExt cx="1703880" cy="2679120"/>
          </a:xfrm>
        </p:grpSpPr>
        <p:grpSp>
          <p:nvGrpSpPr>
            <p:cNvPr id="380" name=""/>
            <p:cNvGrpSpPr/>
            <p:nvPr/>
          </p:nvGrpSpPr>
          <p:grpSpPr>
            <a:xfrm>
              <a:off x="4906080" y="3229200"/>
              <a:ext cx="1577160" cy="2500560"/>
              <a:chOff x="4906080" y="3229200"/>
              <a:chExt cx="1577160" cy="2500560"/>
            </a:xfrm>
          </p:grpSpPr>
          <p:sp>
            <p:nvSpPr>
              <p:cNvPr id="381" name=""/>
              <p:cNvSpPr/>
              <p:nvPr/>
            </p:nvSpPr>
            <p:spPr>
              <a:xfrm rot="3876600">
                <a:off x="44427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3876600">
                <a:off x="5947560" y="51688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400000" y="3050640"/>
              <a:ext cx="1209960" cy="1918800"/>
              <a:chOff x="5400000" y="3050640"/>
              <a:chExt cx="1209960" cy="1918800"/>
            </a:xfrm>
          </p:grpSpPr>
          <p:sp>
            <p:nvSpPr>
              <p:cNvPr id="384" name=""/>
              <p:cNvSpPr/>
              <p:nvPr/>
            </p:nvSpPr>
            <p:spPr>
              <a:xfrm flipV="1" rot="3876600">
                <a:off x="5044320" y="37962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 rot="3876600">
                <a:off x="6181560" y="45471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427640" y="2128680"/>
            <a:ext cx="1439640" cy="1440000"/>
            <a:chOff x="4427640" y="2128680"/>
            <a:chExt cx="1439640" cy="1440000"/>
          </a:xfrm>
        </p:grpSpPr>
        <p:sp>
          <p:nvSpPr>
            <p:cNvPr id="387" name=""/>
            <p:cNvSpPr/>
            <p:nvPr/>
          </p:nvSpPr>
          <p:spPr>
            <a:xfrm>
              <a:off x="4427640" y="212868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27640" y="212868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22680" y="222228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22680" y="222552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84600" y="228600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601880" y="2303280"/>
              <a:ext cx="1090440" cy="1092240"/>
              <a:chOff x="4601880" y="2303280"/>
              <a:chExt cx="1090440" cy="1092240"/>
            </a:xfrm>
          </p:grpSpPr>
          <p:sp>
            <p:nvSpPr>
              <p:cNvPr id="393" name=""/>
              <p:cNvSpPr/>
              <p:nvPr/>
            </p:nvSpPr>
            <p:spPr>
              <a:xfrm>
                <a:off x="4601880" y="23032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15560" y="230940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27080" y="23198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86120" y="23475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397" name=""/>
          <p:cNvGrpSpPr/>
          <p:nvPr/>
        </p:nvGrpSpPr>
        <p:grpSpPr>
          <a:xfrm>
            <a:off x="7138080" y="3123720"/>
            <a:ext cx="1703880" cy="2679120"/>
            <a:chOff x="7138080" y="3123720"/>
            <a:chExt cx="1703880" cy="2679120"/>
          </a:xfrm>
        </p:grpSpPr>
        <p:grpSp>
          <p:nvGrpSpPr>
            <p:cNvPr id="398" name=""/>
            <p:cNvGrpSpPr/>
            <p:nvPr/>
          </p:nvGrpSpPr>
          <p:grpSpPr>
            <a:xfrm>
              <a:off x="7138080" y="3302280"/>
              <a:ext cx="1577160" cy="2500560"/>
              <a:chOff x="7138080" y="3302280"/>
              <a:chExt cx="1577160" cy="2500560"/>
            </a:xfrm>
          </p:grpSpPr>
          <p:sp>
            <p:nvSpPr>
              <p:cNvPr id="399" name=""/>
              <p:cNvSpPr/>
              <p:nvPr/>
            </p:nvSpPr>
            <p:spPr>
              <a:xfrm rot="3876600">
                <a:off x="6674760" y="42735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3876600">
                <a:off x="8179560" y="524196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7632000" y="3123720"/>
              <a:ext cx="1209960" cy="1918800"/>
              <a:chOff x="7632000" y="3123720"/>
              <a:chExt cx="1209960" cy="1918800"/>
            </a:xfrm>
          </p:grpSpPr>
          <p:sp>
            <p:nvSpPr>
              <p:cNvPr id="402" name=""/>
              <p:cNvSpPr/>
              <p:nvPr/>
            </p:nvSpPr>
            <p:spPr>
              <a:xfrm flipV="1" rot="3876600">
                <a:off x="7276320" y="386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3876600">
                <a:off x="8413560" y="462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42200" y="196992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58120" y="208296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559560" y="2085840"/>
            <a:ext cx="1501920" cy="15004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32640" y="215892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653160" y="2179800"/>
            <a:ext cx="1311480" cy="1309680"/>
            <a:chOff x="6653160" y="2179800"/>
            <a:chExt cx="1311480" cy="1309680"/>
          </a:xfrm>
        </p:grpSpPr>
        <p:sp>
          <p:nvSpPr>
            <p:cNvPr id="410" name=""/>
            <p:cNvSpPr/>
            <p:nvPr/>
          </p:nvSpPr>
          <p:spPr>
            <a:xfrm>
              <a:off x="6653160" y="217980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69720" y="218700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83400" y="219960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54680" y="223308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858760" y="3050280"/>
            <a:ext cx="1703880" cy="2679480"/>
            <a:chOff x="2858760" y="3050280"/>
            <a:chExt cx="1703880" cy="2679480"/>
          </a:xfrm>
        </p:grpSpPr>
        <p:grpSp>
          <p:nvGrpSpPr>
            <p:cNvPr id="415" name=""/>
            <p:cNvGrpSpPr/>
            <p:nvPr/>
          </p:nvGrpSpPr>
          <p:grpSpPr>
            <a:xfrm>
              <a:off x="2858760" y="3229200"/>
              <a:ext cx="1577160" cy="2500560"/>
              <a:chOff x="2858760" y="3229200"/>
              <a:chExt cx="1577160" cy="2500560"/>
            </a:xfrm>
          </p:grpSpPr>
          <p:sp>
            <p:nvSpPr>
              <p:cNvPr id="416" name=""/>
              <p:cNvSpPr/>
              <p:nvPr/>
            </p:nvSpPr>
            <p:spPr>
              <a:xfrm rot="3876600">
                <a:off x="239544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876600">
                <a:off x="3900240" y="51688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352680" y="3050280"/>
              <a:ext cx="1209960" cy="1918800"/>
              <a:chOff x="3352680" y="3050280"/>
              <a:chExt cx="1209960" cy="1918800"/>
            </a:xfrm>
          </p:grpSpPr>
          <p:sp>
            <p:nvSpPr>
              <p:cNvPr id="419" name=""/>
              <p:cNvSpPr/>
              <p:nvPr/>
            </p:nvSpPr>
            <p:spPr>
              <a:xfrm flipV="1" rot="3876600">
                <a:off x="2997000" y="37958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 rot="3876600">
                <a:off x="4134240" y="45468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2379600" y="2128680"/>
            <a:ext cx="1440000" cy="1440000"/>
            <a:chOff x="2379600" y="2128680"/>
            <a:chExt cx="1440000" cy="1440000"/>
          </a:xfrm>
        </p:grpSpPr>
        <p:sp>
          <p:nvSpPr>
            <p:cNvPr id="422" name=""/>
            <p:cNvSpPr/>
            <p:nvPr/>
          </p:nvSpPr>
          <p:spPr>
            <a:xfrm>
              <a:off x="2379600" y="21286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79600" y="21286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75000" y="222228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75000" y="222552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36920" y="228600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554200" y="2303280"/>
              <a:ext cx="1090800" cy="1092240"/>
              <a:chOff x="2554200" y="2303280"/>
              <a:chExt cx="1090800" cy="1092240"/>
            </a:xfrm>
          </p:grpSpPr>
          <p:sp>
            <p:nvSpPr>
              <p:cNvPr id="428" name=""/>
              <p:cNvSpPr/>
              <p:nvPr/>
            </p:nvSpPr>
            <p:spPr>
              <a:xfrm>
                <a:off x="2554200" y="230328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56788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579400" y="231984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38440" y="234756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875880" y="3050280"/>
            <a:ext cx="1703880" cy="2679480"/>
            <a:chOff x="875880" y="3050280"/>
            <a:chExt cx="1703880" cy="2679480"/>
          </a:xfrm>
        </p:grpSpPr>
        <p:grpSp>
          <p:nvGrpSpPr>
            <p:cNvPr id="433" name=""/>
            <p:cNvGrpSpPr/>
            <p:nvPr/>
          </p:nvGrpSpPr>
          <p:grpSpPr>
            <a:xfrm>
              <a:off x="875880" y="3229200"/>
              <a:ext cx="1577160" cy="2500560"/>
              <a:chOff x="875880" y="3229200"/>
              <a:chExt cx="1577160" cy="2500560"/>
            </a:xfrm>
          </p:grpSpPr>
          <p:sp>
            <p:nvSpPr>
              <p:cNvPr id="434" name=""/>
              <p:cNvSpPr/>
              <p:nvPr/>
            </p:nvSpPr>
            <p:spPr>
              <a:xfrm rot="3876600">
                <a:off x="412560" y="42004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3876600">
                <a:off x="1917360" y="51688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1369800" y="3050280"/>
              <a:ext cx="1209960" cy="1918800"/>
              <a:chOff x="1369800" y="3050280"/>
              <a:chExt cx="1209960" cy="1918800"/>
            </a:xfrm>
          </p:grpSpPr>
          <p:sp>
            <p:nvSpPr>
              <p:cNvPr id="437" name=""/>
              <p:cNvSpPr/>
              <p:nvPr/>
            </p:nvSpPr>
            <p:spPr>
              <a:xfrm flipV="1" rot="3876600">
                <a:off x="1014120" y="37958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 rot="3876600">
                <a:off x="2151360" y="45468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396720" y="2128680"/>
            <a:ext cx="1440000" cy="1440000"/>
            <a:chOff x="396720" y="2128680"/>
            <a:chExt cx="1440000" cy="1440000"/>
          </a:xfrm>
        </p:grpSpPr>
        <p:sp>
          <p:nvSpPr>
            <p:cNvPr id="440" name=""/>
            <p:cNvSpPr/>
            <p:nvPr/>
          </p:nvSpPr>
          <p:spPr>
            <a:xfrm>
              <a:off x="396720" y="21286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6720" y="212868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2120" y="222228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2120" y="222552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4040" y="228600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571320" y="2303280"/>
              <a:ext cx="1090800" cy="1092240"/>
              <a:chOff x="571320" y="2303280"/>
              <a:chExt cx="1090800" cy="1092240"/>
            </a:xfrm>
          </p:grpSpPr>
          <p:sp>
            <p:nvSpPr>
              <p:cNvPr id="446" name=""/>
              <p:cNvSpPr/>
              <p:nvPr/>
            </p:nvSpPr>
            <p:spPr>
              <a:xfrm>
                <a:off x="571320" y="230328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5000" y="23094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6520" y="231984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5560" y="234756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 rot="3925800">
            <a:off x="8964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3925800">
            <a:off x="14022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e355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3925800">
            <a:off x="28728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3925800">
            <a:off x="33786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e355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3925800">
            <a:off x="4930200" y="40730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3925800">
            <a:off x="5436000" y="3784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e355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3925800">
            <a:off x="7144920" y="423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3925800">
            <a:off x="7650720" y="39434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e3558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7796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6840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49840" y="1479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795000" y="1436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3558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8" idx="3"/>
            <a:endCxn id="459" idx="1"/>
          </p:cNvCxnSpPr>
          <p:nvPr/>
        </p:nvCxnSpPr>
        <p:spPr>
          <a:xfrm>
            <a:off x="1514160" y="1663200"/>
            <a:ext cx="1222920" cy="1080"/>
          </a:xfrm>
          <a:prstGeom prst="straightConnector1">
            <a:avLst/>
          </a:prstGeom>
          <a:ln w="9360">
            <a:solidFill>
              <a:srgbClr val="0e3558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9" idx="3"/>
            <a:endCxn id="460" idx="1"/>
          </p:cNvCxnSpPr>
          <p:nvPr/>
        </p:nvCxnSpPr>
        <p:spPr>
          <a:xfrm>
            <a:off x="3504960" y="1663200"/>
            <a:ext cx="1213560" cy="1080"/>
          </a:xfrm>
          <a:prstGeom prst="straightConnector1">
            <a:avLst/>
          </a:prstGeom>
          <a:ln w="9360">
            <a:solidFill>
              <a:srgbClr val="0e3558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60" idx="3"/>
            <a:endCxn id="461" idx="1"/>
          </p:cNvCxnSpPr>
          <p:nvPr/>
        </p:nvCxnSpPr>
        <p:spPr>
          <a:xfrm>
            <a:off x="5486040" y="1663200"/>
            <a:ext cx="1220040" cy="2520"/>
          </a:xfrm>
          <a:prstGeom prst="straightConnector1">
            <a:avLst/>
          </a:prstGeom>
          <a:ln w="9360">
            <a:solidFill>
              <a:srgbClr val="0e355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a5340"/>
              </a:gs>
              <a:gs pos="100000">
                <a:srgbClr val="5cb68d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b3d5d"/>
              </a:gs>
              <a:gs pos="100000">
                <a:srgbClr val="3b86c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d5d"/>
              </a:gs>
              <a:gs pos="100000">
                <a:srgbClr val="3b86c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5340"/>
              </a:gs>
              <a:gs pos="100000">
                <a:srgbClr val="5cb68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111680" y="1630080"/>
            <a:ext cx="6436800" cy="1387800"/>
            <a:chOff x="1111680" y="1630080"/>
            <a:chExt cx="6436800" cy="1387800"/>
          </a:xfrm>
        </p:grpSpPr>
        <p:sp>
          <p:nvSpPr>
            <p:cNvPr id="478" name="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98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286360" y="2026800"/>
              <a:ext cx="932040" cy="131760"/>
              <a:chOff x="2286360" y="2026800"/>
              <a:chExt cx="932040" cy="131760"/>
            </a:xfrm>
          </p:grpSpPr>
          <p:sp>
            <p:nvSpPr>
              <p:cNvPr id="480" name="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375640" y="20278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7728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5252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 rot="3418800">
              <a:off x="304308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2a5340"/>
                </a:gs>
              </a:gsLst>
              <a:lin ang="198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4007520" y="2026800"/>
              <a:ext cx="932040" cy="131760"/>
              <a:chOff x="4007520" y="2026800"/>
              <a:chExt cx="932040" cy="131760"/>
            </a:xfrm>
          </p:grpSpPr>
          <p:sp>
            <p:nvSpPr>
              <p:cNvPr id="486" name=""/>
              <p:cNvSpPr/>
              <p:nvPr/>
            </p:nvSpPr>
            <p:spPr>
              <a:xfrm>
                <a:off x="400752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096800" y="20278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79844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7368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 rot="3418800">
              <a:off x="4692240" y="17892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98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5728680" y="2026800"/>
              <a:ext cx="1218600" cy="131760"/>
              <a:chOff x="5728680" y="2026800"/>
              <a:chExt cx="1218600" cy="131760"/>
            </a:xfrm>
          </p:grpSpPr>
          <p:sp>
            <p:nvSpPr>
              <p:cNvPr id="492" name=""/>
              <p:cNvSpPr/>
              <p:nvPr/>
            </p:nvSpPr>
            <p:spPr>
              <a:xfrm>
                <a:off x="5728680" y="20268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4532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762600" y="20289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61240" y="20700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rot="3418800">
              <a:off x="6413400" y="17892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2a5340"/>
                </a:gs>
              </a:gsLst>
              <a:lin ang="198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85800" y="182880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e3558"/>
                      </a:solidFill>
                    </a:lnR>
                    <a:lnT>
                      <a:noFill/>
                    </a:lnT>
                    <a:lnB w="5760">
                      <a:solidFill>
                        <a:srgbClr val="0e355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e3558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5cb68d"/>
                        </a:gs>
                        <a:gs pos="100000">
                          <a:srgbClr val="aad8c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e355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e3558"/>
                      </a:solidFill>
                    </a:lnL>
                    <a:lnR w="5760">
                      <a:solidFill>
                        <a:srgbClr val="0e3558"/>
                      </a:solidFill>
                    </a:lnR>
                    <a:lnT w="5760">
                      <a:solidFill>
                        <a:srgbClr val="0e3558"/>
                      </a:solidFill>
                    </a:lnT>
                    <a:lnB w="5760">
                      <a:solidFill>
                        <a:srgbClr val="0e3558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601200" y="679320"/>
            <a:ext cx="7379280" cy="5581080"/>
            <a:chOff x="601200" y="679320"/>
            <a:chExt cx="7379280" cy="5581080"/>
          </a:xfrm>
        </p:grpSpPr>
        <p:sp>
          <p:nvSpPr>
            <p:cNvPr id="508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d7c5c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b86cb"/>
                </a:gs>
                <a:gs pos="100000">
                  <a:srgbClr val="295d8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932400"/>
                </a:gs>
                <a:gs pos="100000">
                  <a:srgbClr val="cc330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a5340"/>
                </a:gs>
                <a:gs pos="100000">
                  <a:srgbClr val="5cb68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1a1c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20539200">
              <a:off x="1019520" y="158328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1a1c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cc3300">
                    <a:alpha val="19215"/>
                  </a:srgbClr>
                </a:gs>
                <a:gs pos="100000">
                  <a:srgbClr val="dc76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3-D Pie Chart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Marketing 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93800" y="21621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76520" y="13716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13520" y="27687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781680" y="3948120"/>
            <a:ext cx="1544760" cy="1766880"/>
            <a:chOff x="6781680" y="3948120"/>
            <a:chExt cx="1544760" cy="1766880"/>
          </a:xfrm>
        </p:grpSpPr>
        <p:sp>
          <p:nvSpPr>
            <p:cNvPr id="532" name=""/>
            <p:cNvSpPr/>
            <p:nvPr/>
          </p:nvSpPr>
          <p:spPr>
            <a:xfrm>
              <a:off x="6933960" y="54100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81680" y="3948120"/>
              <a:ext cx="1544760" cy="15447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15160" y="39844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02060"/>
                </a:gs>
                <a:gs pos="100000">
                  <a:srgbClr val="33339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72040" y="40384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4246e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3"/>
            <a:stretch/>
          </p:blipFill>
          <p:spPr>
            <a:xfrm>
              <a:off x="6815160" y="403848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7131240" y="45673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800600" y="3948120"/>
            <a:ext cx="1544760" cy="1766880"/>
            <a:chOff x="4800600" y="3948120"/>
            <a:chExt cx="1544760" cy="1766880"/>
          </a:xfrm>
        </p:grpSpPr>
        <p:sp>
          <p:nvSpPr>
            <p:cNvPr id="539" name=""/>
            <p:cNvSpPr/>
            <p:nvPr/>
          </p:nvSpPr>
          <p:spPr>
            <a:xfrm>
              <a:off x="4952880" y="54100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00600" y="3948120"/>
              <a:ext cx="1544760" cy="1544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34080" y="39844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55480"/>
                </a:gs>
                <a:gs pos="100000">
                  <a:srgbClr val="3b86cb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90960" y="40384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a6092"/>
                </a:gs>
                <a:gs pos="100000">
                  <a:srgbClr val="3b86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pic>
          <p:nvPicPr>
            <p:cNvPr id="543" name="" descr=""/>
            <p:cNvPicPr/>
            <p:nvPr/>
          </p:nvPicPr>
          <p:blipFill>
            <a:blip r:embed="rId5"/>
            <a:stretch/>
          </p:blipFill>
          <p:spPr>
            <a:xfrm>
              <a:off x="4834080" y="403848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5150160" y="45673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819520" y="3948120"/>
            <a:ext cx="1544400" cy="1766880"/>
            <a:chOff x="2819520" y="3948120"/>
            <a:chExt cx="1544400" cy="1766880"/>
          </a:xfrm>
        </p:grpSpPr>
        <p:sp>
          <p:nvSpPr>
            <p:cNvPr id="546" name=""/>
            <p:cNvSpPr/>
            <p:nvPr/>
          </p:nvSpPr>
          <p:spPr>
            <a:xfrm>
              <a:off x="2971440" y="54100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19520" y="3948120"/>
              <a:ext cx="1544400" cy="15447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52640" y="398448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812000"/>
                </a:gs>
                <a:gs pos="100000">
                  <a:srgbClr val="cc330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09520" y="40384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9324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pic>
          <p:nvPicPr>
            <p:cNvPr id="550" name="" descr=""/>
            <p:cNvPicPr/>
            <p:nvPr/>
          </p:nvPicPr>
          <p:blipFill>
            <a:blip r:embed="rId7"/>
            <a:stretch/>
          </p:blipFill>
          <p:spPr>
            <a:xfrm>
              <a:off x="2852640" y="403848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168720" y="45673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880920" y="3948120"/>
            <a:ext cx="1544760" cy="1766880"/>
            <a:chOff x="880920" y="3948120"/>
            <a:chExt cx="1544760" cy="1766880"/>
          </a:xfrm>
        </p:grpSpPr>
        <p:sp>
          <p:nvSpPr>
            <p:cNvPr id="553" name=""/>
            <p:cNvSpPr/>
            <p:nvPr/>
          </p:nvSpPr>
          <p:spPr>
            <a:xfrm>
              <a:off x="990360" y="54100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80920" y="3948120"/>
              <a:ext cx="1544760" cy="15447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4400" y="39844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a7359"/>
                </a:gs>
                <a:gs pos="100000">
                  <a:srgbClr val="5cb68d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71280" y="40384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28365"/>
                </a:gs>
                <a:gs pos="100000">
                  <a:srgbClr val="5cb6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9"/>
            <a:stretch/>
          </p:blipFill>
          <p:spPr>
            <a:xfrm>
              <a:off x="914400" y="403848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1230480" y="45673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762120" y="3123720"/>
            <a:ext cx="5029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62120" y="228600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e3558"/>
                    </a:gs>
                    <a:gs pos="100000">
                      <a:srgbClr val="3b86cb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e3558"/>
                  </a:gs>
                  <a:gs pos="100000">
                    <a:srgbClr val="3b86cb"/>
                  </a:gs>
                </a:gsLst>
                <a:lin ang="10800000"/>
              </a:gradFill>
              <a:effectLst>
                <a:outerShdw dist="71785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828800" y="1871640"/>
            <a:ext cx="762120" cy="665280"/>
            <a:chOff x="1828800" y="1871640"/>
            <a:chExt cx="762120" cy="665280"/>
          </a:xfrm>
        </p:grpSpPr>
        <p:sp>
          <p:nvSpPr>
            <p:cNvPr id="102" name=""/>
            <p:cNvSpPr/>
            <p:nvPr/>
          </p:nvSpPr>
          <p:spPr>
            <a:xfrm>
              <a:off x="1834920" y="1882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18716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3080" y="191088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35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828800" y="2786040"/>
            <a:ext cx="762120" cy="665280"/>
            <a:chOff x="1828800" y="2786040"/>
            <a:chExt cx="762120" cy="665280"/>
          </a:xfrm>
        </p:grpSpPr>
        <p:sp>
          <p:nvSpPr>
            <p:cNvPr id="106" name=""/>
            <p:cNvSpPr/>
            <p:nvPr/>
          </p:nvSpPr>
          <p:spPr>
            <a:xfrm>
              <a:off x="1834920" y="27972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8800" y="2786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3080" y="282528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b86cb"/>
                </a:gs>
                <a:gs pos="100000">
                  <a:srgbClr val="1b3d5d"/>
                </a:gs>
              </a:gsLst>
              <a:lin ang="135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38280" y="2481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70120" y="1947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27520" y="196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395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70120" y="2862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27520" y="288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828800" y="3678120"/>
            <a:ext cx="762120" cy="665280"/>
            <a:chOff x="1828800" y="3678120"/>
            <a:chExt cx="762120" cy="665280"/>
          </a:xfrm>
        </p:grpSpPr>
        <p:sp>
          <p:nvSpPr>
            <p:cNvPr id="116" name=""/>
            <p:cNvSpPr/>
            <p:nvPr/>
          </p:nvSpPr>
          <p:spPr>
            <a:xfrm>
              <a:off x="1834920" y="3689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36781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3080" y="37173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35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28800" y="4592520"/>
            <a:ext cx="762120" cy="665280"/>
            <a:chOff x="1828800" y="4592520"/>
            <a:chExt cx="762120" cy="665280"/>
          </a:xfrm>
        </p:grpSpPr>
        <p:sp>
          <p:nvSpPr>
            <p:cNvPr id="120" name=""/>
            <p:cNvSpPr/>
            <p:nvPr/>
          </p:nvSpPr>
          <p:spPr>
            <a:xfrm>
              <a:off x="1834920" y="46036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45925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73080" y="46317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b86cb"/>
                </a:gs>
                <a:gs pos="100000">
                  <a:srgbClr val="1b3d5d"/>
                </a:gs>
              </a:gsLst>
              <a:lin ang="13500000"/>
            </a:gradFill>
            <a:ln w="9360">
              <a:solidFill>
                <a:srgbClr val="0e35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38280" y="4287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70120" y="3754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7520" y="377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02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70120" y="46688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3558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27520" y="4691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2004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3840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fd7ed"/>
              </a:gs>
              <a:gs pos="100000">
                <a:srgbClr val="3b86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fd7ed"/>
              </a:gs>
              <a:gs pos="100000">
                <a:srgbClr val="3b86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619280"/>
              <a:ext cx="2998440" cy="1458360"/>
              <a:chOff x="3048120" y="1619280"/>
              <a:chExt cx="2998440" cy="1458360"/>
            </a:xfrm>
          </p:grpSpPr>
          <p:sp>
            <p:nvSpPr>
              <p:cNvPr id="137" name=""/>
              <p:cNvSpPr/>
              <p:nvPr/>
            </p:nvSpPr>
            <p:spPr>
              <a:xfrm>
                <a:off x="3080880" y="16657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218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48120" y="161928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e7a38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e3558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189240" y="147636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b86cb"/>
                </a:gs>
                <a:gs pos="100000">
                  <a:srgbClr val="1b3d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24160" y="148428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9d3eb"/>
                </a:gs>
                <a:gs pos="100000">
                  <a:srgbClr val="3b86c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1160" y="149688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b86cb">
                    <a:alpha val="48235"/>
                  </a:srgbClr>
                </a:gs>
                <a:gs pos="100000">
                  <a:srgbClr val="2e69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82920" y="152388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b86c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82960" y="1676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30120" y="1144440"/>
            <a:ext cx="8294400" cy="5187960"/>
            <a:chOff x="330120" y="1144440"/>
            <a:chExt cx="8294400" cy="5187960"/>
          </a:xfrm>
        </p:grpSpPr>
        <p:sp>
          <p:nvSpPr>
            <p:cNvPr id="147" name=""/>
            <p:cNvSpPr/>
            <p:nvPr/>
          </p:nvSpPr>
          <p:spPr>
            <a:xfrm rot="20241600">
              <a:off x="1043280" y="236628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1d1d1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4469760" y="22132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7402320" y="24721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2830680" y="540540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5677560" y="4772520"/>
              <a:ext cx="120780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1882080" y="37659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92960" y="152388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61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62520" y="301536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3b86cb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50280" y="467568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5cb68d"/>
                </a:gs>
                <a:gs pos="100000">
                  <a:srgbClr val="20403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44600" y="40593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4560" y="1746720"/>
              <a:ext cx="1221480" cy="12488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111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26760" y="3462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33880" y="197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8400" y="224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85880" y="4506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44760" y="5115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48720" y="333504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e3558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12720" y="1971000"/>
              <a:ext cx="1841760" cy="1415880"/>
            </a:xfrm>
            <a:prstGeom prst="line">
              <a:avLst/>
            </a:prstGeom>
            <a:ln w="9360">
              <a:solidFill>
                <a:srgbClr val="0e355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cxnSp>
          <p:nvCxnSpPr>
            <p:cNvPr id="165" name=""/>
            <p:cNvCxnSpPr/>
            <p:nvPr/>
          </p:nvCxnSpPr>
          <p:spPr>
            <a:xfrm flipH="1">
              <a:off x="471600" y="1970640"/>
              <a:ext cx="1953720" cy="1080"/>
            </a:xfrm>
            <a:prstGeom prst="straightConnector1">
              <a:avLst/>
            </a:prstGeom>
            <a:ln w="9360">
              <a:solidFill>
                <a:srgbClr val="0e3558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330120" y="152388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e3558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54545">
                  <a:alpha val="12156"/>
                </a:srgbClr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69696"/>
              </a:gs>
              <a:gs pos="100000">
                <a:srgbClr val="45454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69696"/>
              </a:gs>
              <a:gs pos="100000">
                <a:srgbClr val="bbbbbb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bbbbb">
                  <a:alpha val="12156"/>
                </a:srgbClr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894760" y="1752480"/>
            <a:ext cx="3197520" cy="2890800"/>
            <a:chOff x="2894760" y="1752480"/>
            <a:chExt cx="3197520" cy="2890800"/>
          </a:xfrm>
        </p:grpSpPr>
        <p:sp>
          <p:nvSpPr>
            <p:cNvPr id="188" name=""/>
            <p:cNvSpPr/>
            <p:nvPr/>
          </p:nvSpPr>
          <p:spPr>
            <a:xfrm flipH="1" rot="16200000">
              <a:off x="2812680" y="28659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c2d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5400000">
              <a:off x="5682960" y="28116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c2d6"/>
                </a:gs>
                <a:gs pos="100000">
                  <a:srgbClr val="0066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10800000">
              <a:off x="4250880" y="431640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c2d6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22720" y="1752480"/>
              <a:ext cx="256680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8880" y="1896840"/>
              <a:ext cx="22726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2440" y="203184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33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2440" y="203184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34560" y="216360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6d1b00"/>
                </a:gs>
                <a:gs pos="50000">
                  <a:srgbClr val="cc3300"/>
                </a:gs>
                <a:gs pos="100000">
                  <a:srgbClr val="6d1b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4560" y="216360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3d5d"/>
              </a:gs>
              <a:gs pos="50000">
                <a:srgbClr val="3b86cb"/>
              </a:gs>
              <a:gs pos="100000">
                <a:srgbClr val="1b3d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b86cb"/>
              </a:gs>
              <a:gs pos="100000">
                <a:srgbClr val="1b3d5d"/>
              </a:gs>
            </a:gsLst>
            <a:lin ang="5400000"/>
          </a:gradFill>
          <a:ln w="255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cb68d"/>
              </a:gs>
              <a:gs pos="100000">
                <a:srgbClr val="2a5340"/>
              </a:gs>
            </a:gsLst>
            <a:lin ang="5400000"/>
          </a:gradFill>
          <a:ln w="255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3558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3558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97000" y="45720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3558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28494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33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276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cc33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6912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d1b00"/>
              </a:gs>
              <a:gs pos="50000">
                <a:srgbClr val="cc3300"/>
              </a:gs>
              <a:gs pos="100000">
                <a:srgbClr val="6d1b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22096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c3300">
                  <a:alpha val="0"/>
                </a:srgbClr>
              </a:gs>
              <a:gs pos="100000">
                <a:srgbClr val="812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06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33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20509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33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9676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b1b52"/>
              </a:gs>
              <a:gs pos="50000">
                <a:srgbClr val="333399"/>
              </a:gs>
              <a:gs pos="100000">
                <a:srgbClr val="1b1b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8560" y="21956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333399">
                  <a:alpha val="0"/>
                </a:srgbClr>
              </a:gs>
              <a:gs pos="100000">
                <a:srgbClr val="202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22860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017720" y="2311560"/>
            <a:ext cx="1636560" cy="1636560"/>
            <a:chOff x="1017720" y="2311560"/>
            <a:chExt cx="1636560" cy="1636560"/>
          </a:xfrm>
        </p:grpSpPr>
        <p:sp>
          <p:nvSpPr>
            <p:cNvPr id="231" name=""/>
            <p:cNvSpPr/>
            <p:nvPr/>
          </p:nvSpPr>
          <p:spPr>
            <a:xfrm>
              <a:off x="10177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38600" y="23205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555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44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86c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1b3d5d"/>
              </a:gs>
              <a:gs pos="100000">
                <a:srgbClr val="3b86c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38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f486d"/>
              </a:gs>
              <a:gs pos="50000">
                <a:srgbClr val="3b86cb"/>
              </a:gs>
              <a:gs pos="100000">
                <a:srgbClr val="1f48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86cb">
                  <a:alpha val="0"/>
                </a:srgbClr>
              </a:gs>
              <a:gs pos="100000">
                <a:srgbClr val="2554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2744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54440" y="2311560"/>
            <a:ext cx="1636560" cy="1636560"/>
            <a:chOff x="3754440" y="2311560"/>
            <a:chExt cx="1636560" cy="1636560"/>
          </a:xfrm>
        </p:grpSpPr>
        <p:sp>
          <p:nvSpPr>
            <p:cNvPr id="241" name=""/>
            <p:cNvSpPr/>
            <p:nvPr/>
          </p:nvSpPr>
          <p:spPr>
            <a:xfrm>
              <a:off x="375444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75320" y="23205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9224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8116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500880" y="2311560"/>
            <a:ext cx="1636560" cy="1636560"/>
            <a:chOff x="6500880" y="2311560"/>
            <a:chExt cx="1636560" cy="1636560"/>
          </a:xfrm>
        </p:grpSpPr>
        <p:sp>
          <p:nvSpPr>
            <p:cNvPr id="246" name=""/>
            <p:cNvSpPr/>
            <p:nvPr/>
          </p:nvSpPr>
          <p:spPr>
            <a:xfrm>
              <a:off x="650088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21760" y="23205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3868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760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e355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049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3844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9136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e35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355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522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54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864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e35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3558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e355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e35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4C3A-5EE2-4528-BC2C-0D9CA5CC09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15-07-11T15:09:0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