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BD7-916B-4C03-A132-50CEFF1B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3C0-A751-48B5-9AE7-1E22A7B8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350-AC90-4637-A42B-4C87B29C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878-ED60-4694-9DD6-21AFA46E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706-3AD1-4356-825C-DC23D3D4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41F-8929-45C1-9B3F-76FA7D2A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73A-8A7A-4257-A677-B767DD6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E04-4491-4561-BEA4-A0EFB932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AE0-EDA0-482E-AD7B-6BC6FF82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FD4-9FDF-4A37-B024-644DCD5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905-CBA6-4E41-A221-6E22215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EA8-9A5F-44AE-8F77-4631CF9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095-6DD8-4E95-9472-F7A777B444C9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51520" y="90972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恭喜发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3780000" y="5877000"/>
            <a:ext cx="780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EAD-5AA9-4297-A8D4-AF49B8534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2:05:25Z</dcterms:created>
  <dc:creator>An</dc:creator>
  <dc:description/>
  <dc:language>en-US</dc:language>
  <cp:lastModifiedBy/>
  <dcterms:modified xsi:type="dcterms:W3CDTF">2015-07-11T14:25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