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BF2-97BE-4C00-9EA1-1FDF9A53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91D-C3ED-4710-A11E-4985298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04E-D796-4E96-BB6E-126D857D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C63-1977-4C0C-A281-76104319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7AE-0DED-4397-A138-D8BA3F3C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80C-75CF-48D6-9799-299207B8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D25-8285-49B2-BF60-58952A41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E87-CB5A-4B82-AA29-7611400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C51-7B30-41B5-8D09-49725AB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B77-8CEF-44C0-8529-1F1AB35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657-8FE1-4E51-921A-9C4B4BE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7A1-0FF0-403F-9873-70AF65FE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5C9-7A1B-4AFE-ACFD-AC37B08DFF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E2D-82C4-4E64-9F0D-9BB2332A0F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5165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113184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166840" y="1924200"/>
            <a:ext cx="5826240" cy="173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482840" y="979560"/>
            <a:ext cx="6041880" cy="3313080"/>
            <a:chOff x="1482840" y="979560"/>
            <a:chExt cx="6041880" cy="3313080"/>
          </a:xfrm>
        </p:grpSpPr>
        <p:grpSp>
          <p:nvGrpSpPr>
            <p:cNvPr id="47" name="Group 3"/>
            <p:cNvGrpSpPr/>
            <p:nvPr/>
          </p:nvGrpSpPr>
          <p:grpSpPr>
            <a:xfrm>
              <a:off x="3145680" y="1669320"/>
              <a:ext cx="2624040" cy="2623320"/>
              <a:chOff x="3145680" y="1669320"/>
              <a:chExt cx="2624040" cy="2623320"/>
            </a:xfrm>
          </p:grpSpPr>
          <p:sp>
            <p:nvSpPr>
              <p:cNvPr id="48" name="椭圆​​ 3"/>
              <p:cNvSpPr/>
              <p:nvPr/>
            </p:nvSpPr>
            <p:spPr>
              <a:xfrm>
                <a:off x="3145680" y="1669320"/>
                <a:ext cx="2624040" cy="262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椭圆​​ 4"/>
              <p:cNvSpPr/>
              <p:nvPr/>
            </p:nvSpPr>
            <p:spPr>
              <a:xfrm>
                <a:off x="3472200" y="1985760"/>
                <a:ext cx="1990800" cy="199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椭圆​​ 6"/>
            <p:cNvSpPr/>
            <p:nvPr/>
          </p:nvSpPr>
          <p:spPr>
            <a:xfrm>
              <a:off x="2872080" y="3150360"/>
              <a:ext cx="1142640" cy="1142280"/>
            </a:xfrm>
            <a:prstGeom prst="ellipse">
              <a:avLst/>
            </a:prstGeom>
            <a:solidFill>
              <a:srgbClr val="f7964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​​ 7"/>
            <p:cNvSpPr/>
            <p:nvPr/>
          </p:nvSpPr>
          <p:spPr>
            <a:xfrm>
              <a:off x="3886560" y="1337760"/>
              <a:ext cx="1142640" cy="1142280"/>
            </a:xfrm>
            <a:prstGeom prst="ellipse">
              <a:avLst/>
            </a:prstGeom>
            <a:solidFill>
              <a:srgbClr val="538cd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​​ 8"/>
            <p:cNvSpPr/>
            <p:nvPr/>
          </p:nvSpPr>
          <p:spPr>
            <a:xfrm>
              <a:off x="4832640" y="3150360"/>
              <a:ext cx="1142640" cy="114228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926440" y="2258280"/>
              <a:ext cx="360" cy="722520"/>
              <a:chOff x="2926440" y="2258280"/>
              <a:chExt cx="360" cy="722520"/>
            </a:xfrm>
          </p:grpSpPr>
          <p:sp>
            <p:nvSpPr>
              <p:cNvPr id="54" name="直接连接符​​ 10"/>
              <p:cNvSpPr/>
              <p:nvPr/>
            </p:nvSpPr>
            <p:spPr>
              <a:xfrm>
                <a:off x="2926440" y="2258280"/>
                <a:ext cx="0" cy="722520"/>
              </a:xfrm>
              <a:prstGeom prst="line">
                <a:avLst/>
              </a:prstGeom>
              <a:ln w="76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6440" y="225828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193000" y="979560"/>
              <a:ext cx="360" cy="722520"/>
              <a:chOff x="5193000" y="979560"/>
              <a:chExt cx="360" cy="722520"/>
            </a:xfrm>
          </p:grpSpPr>
          <p:sp>
            <p:nvSpPr>
              <p:cNvPr id="57" name="直接连接符​​ 12"/>
              <p:cNvSpPr/>
              <p:nvPr/>
            </p:nvSpPr>
            <p:spPr>
              <a:xfrm>
                <a:off x="5193000" y="979560"/>
                <a:ext cx="0" cy="722520"/>
              </a:xfrm>
              <a:prstGeom prst="line">
                <a:avLst/>
              </a:prstGeom>
              <a:ln w="7632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5193000" y="97956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6064560" y="2566800"/>
              <a:ext cx="360" cy="722520"/>
              <a:chOff x="6064560" y="2566800"/>
              <a:chExt cx="360" cy="722520"/>
            </a:xfrm>
          </p:grpSpPr>
          <p:sp>
            <p:nvSpPr>
              <p:cNvPr id="60" name="直接连接符​​ 13"/>
              <p:cNvSpPr/>
              <p:nvPr/>
            </p:nvSpPr>
            <p:spPr>
              <a:xfrm>
                <a:off x="6064560" y="2566800"/>
                <a:ext cx="0" cy="72252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64560" y="256680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30"/>
            <p:cNvSpPr/>
            <p:nvPr/>
          </p:nvSpPr>
          <p:spPr>
            <a:xfrm>
              <a:off x="5293080" y="98244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0"/>
            <p:cNvSpPr/>
            <p:nvPr/>
          </p:nvSpPr>
          <p:spPr>
            <a:xfrm>
              <a:off x="6159960" y="258480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0"/>
            <p:cNvSpPr/>
            <p:nvPr/>
          </p:nvSpPr>
          <p:spPr>
            <a:xfrm>
              <a:off x="1482840" y="227628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>
              <a:off x="3754080" y="2480400"/>
              <a:ext cx="1333800" cy="787320"/>
            </a:xfrm>
            <a:prstGeom prst="triangle">
              <a:avLst>
                <a:gd name="adj" fmla="val 50000"/>
              </a:avLst>
            </a:prstGeom>
            <a:solidFill>
              <a:srgbClr val="a5a5a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1"/>
          <p:cNvSpPr/>
          <p:nvPr/>
        </p:nvSpPr>
        <p:spPr>
          <a:xfrm>
            <a:off x="4070520" y="28353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45165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B8B-CF14-4CE3-9D93-1407166D37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1450800" y="743040"/>
            <a:ext cx="6218280" cy="3652200"/>
            <a:chOff x="1450800" y="743040"/>
            <a:chExt cx="6218280" cy="3652200"/>
          </a:xfrm>
        </p:grpSpPr>
        <p:sp>
          <p:nvSpPr>
            <p:cNvPr id="72" name="五边形 2"/>
            <p:cNvSpPr/>
            <p:nvPr/>
          </p:nvSpPr>
          <p:spPr>
            <a:xfrm>
              <a:off x="1459080" y="1924200"/>
              <a:ext cx="1842120" cy="119484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64" y="0"/>
                  </a:lnTo>
                  <a:lnTo>
                    <a:pt x="21600" y="10800"/>
                  </a:lnTo>
                  <a:lnTo>
                    <a:pt x="162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38cd5"/>
            </a:solidFill>
            <a:ln w="25560">
              <a:solidFill>
                <a:srgbClr val="538c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燕尾形 6"/>
            <p:cNvSpPr/>
            <p:nvPr/>
          </p:nvSpPr>
          <p:spPr>
            <a:xfrm>
              <a:off x="58867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7"/>
            <p:cNvSpPr/>
            <p:nvPr/>
          </p:nvSpPr>
          <p:spPr>
            <a:xfrm>
              <a:off x="44305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燕尾形 8"/>
            <p:cNvSpPr/>
            <p:nvPr/>
          </p:nvSpPr>
          <p:spPr>
            <a:xfrm>
              <a:off x="29743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7"/>
            <p:cNvSpPr/>
            <p:nvPr/>
          </p:nvSpPr>
          <p:spPr>
            <a:xfrm>
              <a:off x="1598760" y="347832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0"/>
            <p:cNvSpPr/>
            <p:nvPr/>
          </p:nvSpPr>
          <p:spPr>
            <a:xfrm>
              <a:off x="4573440" y="347832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450800" y="3119400"/>
              <a:ext cx="360" cy="1181160"/>
              <a:chOff x="1450800" y="3119400"/>
              <a:chExt cx="360" cy="1181160"/>
            </a:xfrm>
          </p:grpSpPr>
          <p:sp>
            <p:nvSpPr>
              <p:cNvPr id="79" name="直接连接符 4"/>
              <p:cNvSpPr/>
              <p:nvPr/>
            </p:nvSpPr>
            <p:spPr>
              <a:xfrm>
                <a:off x="1450800" y="3119400"/>
                <a:ext cx="0" cy="1181160"/>
              </a:xfrm>
              <a:prstGeom prst="line">
                <a:avLst/>
              </a:prstGeom>
              <a:ln w="19080">
                <a:solidFill>
                  <a:srgbClr val="538cd5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450800" y="311940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961000" y="743040"/>
              <a:ext cx="360" cy="1181160"/>
              <a:chOff x="2961000" y="743040"/>
              <a:chExt cx="360" cy="1181160"/>
            </a:xfrm>
          </p:grpSpPr>
          <p:sp>
            <p:nvSpPr>
              <p:cNvPr id="82" name="直接连接符 22"/>
              <p:cNvSpPr/>
              <p:nvPr/>
            </p:nvSpPr>
            <p:spPr>
              <a:xfrm>
                <a:off x="2961000" y="743040"/>
                <a:ext cx="0" cy="1181160"/>
              </a:xfrm>
              <a:prstGeom prst="line">
                <a:avLst/>
              </a:prstGeom>
              <a:ln w="19080">
                <a:solidFill>
                  <a:srgbClr val="92d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2961000" y="74304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23"/>
            <p:cNvSpPr/>
            <p:nvPr/>
          </p:nvSpPr>
          <p:spPr>
            <a:xfrm>
              <a:off x="3128760" y="95256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430520" y="3119400"/>
              <a:ext cx="360" cy="1181160"/>
              <a:chOff x="4430520" y="3119400"/>
              <a:chExt cx="360" cy="1181160"/>
            </a:xfrm>
          </p:grpSpPr>
          <p:sp>
            <p:nvSpPr>
              <p:cNvPr id="86" name="直接连接符 24"/>
              <p:cNvSpPr/>
              <p:nvPr/>
            </p:nvSpPr>
            <p:spPr>
              <a:xfrm>
                <a:off x="4430520" y="3119400"/>
                <a:ext cx="0" cy="1181160"/>
              </a:xfrm>
              <a:prstGeom prst="line">
                <a:avLst/>
              </a:prstGeom>
              <a:ln w="1908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4430520" y="311940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886720" y="743040"/>
              <a:ext cx="360" cy="1181160"/>
              <a:chOff x="5886720" y="743040"/>
              <a:chExt cx="360" cy="1181160"/>
            </a:xfrm>
          </p:grpSpPr>
          <p:sp>
            <p:nvSpPr>
              <p:cNvPr id="89" name="直接连接符 25"/>
              <p:cNvSpPr/>
              <p:nvPr/>
            </p:nvSpPr>
            <p:spPr>
              <a:xfrm>
                <a:off x="5886720" y="743040"/>
                <a:ext cx="0" cy="1181160"/>
              </a:xfrm>
              <a:prstGeom prst="line">
                <a:avLst/>
              </a:prstGeom>
              <a:ln w="19080">
                <a:solidFill>
                  <a:srgbClr val="4bacc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886720" y="74304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6"/>
            <p:cNvSpPr/>
            <p:nvPr/>
          </p:nvSpPr>
          <p:spPr>
            <a:xfrm>
              <a:off x="6028920" y="95256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116000" y="995400"/>
            <a:ext cx="7020000" cy="3872160"/>
            <a:chOff x="1116000" y="995400"/>
            <a:chExt cx="7020000" cy="3872160"/>
          </a:xfrm>
        </p:grpSpPr>
        <p:grpSp>
          <p:nvGrpSpPr>
            <p:cNvPr id="93" name="Group 3"/>
            <p:cNvGrpSpPr/>
            <p:nvPr/>
          </p:nvGrpSpPr>
          <p:grpSpPr>
            <a:xfrm>
              <a:off x="1154880" y="995400"/>
              <a:ext cx="6858360" cy="2780280"/>
              <a:chOff x="1154880" y="995400"/>
              <a:chExt cx="6858360" cy="2780280"/>
            </a:xfrm>
          </p:grpSpPr>
          <p:sp>
            <p:nvSpPr>
              <p:cNvPr id="94" name="椭圆 53"/>
              <p:cNvSpPr/>
              <p:nvPr/>
            </p:nvSpPr>
            <p:spPr>
              <a:xfrm>
                <a:off x="1348200" y="2448360"/>
                <a:ext cx="1109880" cy="1110240"/>
              </a:xfrm>
              <a:prstGeom prst="ellipse">
                <a:avLst/>
              </a:pr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4"/>
              <p:cNvSpPr/>
              <p:nvPr/>
            </p:nvSpPr>
            <p:spPr>
              <a:xfrm>
                <a:off x="1463760" y="2563920"/>
                <a:ext cx="878760" cy="879120"/>
              </a:xfrm>
              <a:prstGeom prst="ellipse">
                <a:avLst/>
              </a:prstGeom>
              <a:solidFill>
                <a:srgbClr val="538cd5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椭圆 57"/>
              <p:cNvSpPr/>
              <p:nvPr/>
            </p:nvSpPr>
            <p:spPr>
              <a:xfrm>
                <a:off x="3139920" y="2008440"/>
                <a:ext cx="1109880" cy="111024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4"/>
              <p:cNvSpPr/>
              <p:nvPr/>
            </p:nvSpPr>
            <p:spPr>
              <a:xfrm>
                <a:off x="3255480" y="2124360"/>
                <a:ext cx="878760" cy="879120"/>
              </a:xfrm>
              <a:prstGeom prst="ellipse">
                <a:avLst/>
              </a:prstGeom>
              <a:solidFill>
                <a:srgbClr val="92d050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椭圆 61"/>
              <p:cNvSpPr/>
              <p:nvPr/>
            </p:nvSpPr>
            <p:spPr>
              <a:xfrm>
                <a:off x="4993560" y="1453320"/>
                <a:ext cx="1109880" cy="1110240"/>
              </a:xfrm>
              <a:prstGeom prst="ellipse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椭圆 4"/>
              <p:cNvSpPr/>
              <p:nvPr/>
            </p:nvSpPr>
            <p:spPr>
              <a:xfrm>
                <a:off x="5109120" y="1568880"/>
                <a:ext cx="878760" cy="879120"/>
              </a:xfrm>
              <a:prstGeom prst="ellipse">
                <a:avLst/>
              </a:prstGeom>
              <a:solidFill>
                <a:srgbClr val="f79646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69"/>
              <p:cNvSpPr/>
              <p:nvPr/>
            </p:nvSpPr>
            <p:spPr>
              <a:xfrm>
                <a:off x="6685200" y="995400"/>
                <a:ext cx="1109880" cy="1110240"/>
              </a:xfrm>
              <a:prstGeom prst="ellipse">
                <a:avLst/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4"/>
              <p:cNvSpPr/>
              <p:nvPr/>
            </p:nvSpPr>
            <p:spPr>
              <a:xfrm>
                <a:off x="6800760" y="1110960"/>
                <a:ext cx="878760" cy="879120"/>
              </a:xfrm>
              <a:prstGeom prst="ellipse">
                <a:avLst/>
              </a:prstGeom>
              <a:solidFill>
                <a:srgbClr val="4bacc6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1154880" y="2230920"/>
                <a:ext cx="6858360" cy="1544760"/>
                <a:chOff x="1154880" y="2230920"/>
                <a:chExt cx="6858360" cy="1544760"/>
              </a:xfrm>
            </p:grpSpPr>
            <p:sp>
              <p:nvSpPr>
                <p:cNvPr id="103" name="任意多边形 46"/>
                <p:cNvSpPr/>
                <p:nvPr/>
              </p:nvSpPr>
              <p:spPr>
                <a:xfrm>
                  <a:off x="1154880" y="3260880"/>
                  <a:ext cx="1802160" cy="51480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任意多边形 47"/>
                <p:cNvSpPr/>
                <p:nvPr/>
              </p:nvSpPr>
              <p:spPr>
                <a:xfrm>
                  <a:off x="2957040" y="2745720"/>
                  <a:ext cx="1802160" cy="51516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任意多边形 48"/>
                <p:cNvSpPr/>
                <p:nvPr/>
              </p:nvSpPr>
              <p:spPr>
                <a:xfrm>
                  <a:off x="4759200" y="2230920"/>
                  <a:ext cx="1802160" cy="51480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6561360" y="2230920"/>
                  <a:ext cx="1451880" cy="360"/>
                  <a:chOff x="6561360" y="2230920"/>
                  <a:chExt cx="1451880" cy="360"/>
                </a:xfrm>
              </p:grpSpPr>
              <p:sp>
                <p:nvSpPr>
                  <p:cNvPr id="107" name="直接连接符 72"/>
                  <p:cNvSpPr/>
                  <p:nvPr/>
                </p:nvSpPr>
                <p:spPr>
                  <a:xfrm>
                    <a:off x="6561360" y="2230920"/>
                    <a:ext cx="1451880" cy="0"/>
                  </a:xfrm>
                  <a:prstGeom prst="line">
                    <a:avLst/>
                  </a:prstGeom>
                  <a:ln w="76320">
                    <a:solidFill>
                      <a:srgbClr val="a5a5a5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6561360" y="2230920"/>
                    <a:ext cx="1451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9" name="TextBox 30"/>
            <p:cNvSpPr/>
            <p:nvPr/>
          </p:nvSpPr>
          <p:spPr>
            <a:xfrm>
              <a:off x="1116000" y="3861000"/>
              <a:ext cx="1574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30"/>
            <p:cNvSpPr/>
            <p:nvPr/>
          </p:nvSpPr>
          <p:spPr>
            <a:xfrm>
              <a:off x="2957040" y="3419280"/>
              <a:ext cx="1574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30"/>
            <p:cNvSpPr/>
            <p:nvPr/>
          </p:nvSpPr>
          <p:spPr>
            <a:xfrm>
              <a:off x="4761360" y="2924640"/>
              <a:ext cx="15746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30"/>
            <p:cNvSpPr/>
            <p:nvPr/>
          </p:nvSpPr>
          <p:spPr>
            <a:xfrm>
              <a:off x="6561360" y="2369160"/>
              <a:ext cx="15746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08000" y="135000"/>
            <a:ext cx="772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340000" y="22352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anWangYenHeavy"/>
                <a:ea typeface="HanWangYenHeavy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08:46:00Z</dcterms:created>
  <dc:creator>An</dc:creator>
  <dc:description/>
  <dc:language>en-US</dc:language>
  <cp:lastModifiedBy/>
  <dcterms:modified xsi:type="dcterms:W3CDTF">2015-07-11T14:25:2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