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A823-A3A9-4F3B-98CF-81D107F2A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287C-4126-48F5-87F5-C2FB7518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9BF1-17D3-47BC-960D-DCD0A7B1D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D65F-1300-4356-B1D2-108C0DE84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CAA4-300F-4144-A5B7-3881F080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5765-39E2-4752-ADF8-09D2B4CE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F81B-9978-4518-A20A-E7174ED2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CF49-F1D8-4757-ABC3-6D51BDBD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D193-5F90-4629-B1F2-5FA9D2ED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BBD4-325D-4E7D-9588-AD185932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11A8-0805-4E84-BC3C-17341374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1531-F51A-4094-9D4D-6D29ECEC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1E66-22E3-429B-B935-12C501C490C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5400-7FB4-4E2A-A17F-154F9FBF543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5"/>
          <p:cNvSpPr/>
          <p:nvPr/>
        </p:nvSpPr>
        <p:spPr>
          <a:xfrm>
            <a:off x="2400480" y="4516560"/>
            <a:ext cx="45720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2508120" y="1357200"/>
            <a:ext cx="76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48000" y="11253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6000" y="549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蝴蝶淡雅柔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8"/>
          <p:cNvSpPr/>
          <p:nvPr/>
        </p:nvSpPr>
        <p:spPr>
          <a:xfrm>
            <a:off x="-3708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9"/>
          <p:cNvSpPr/>
          <p:nvPr/>
        </p:nvSpPr>
        <p:spPr>
          <a:xfrm>
            <a:off x="5083920" y="2357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9"/>
          <p:cNvSpPr/>
          <p:nvPr/>
        </p:nvSpPr>
        <p:spPr>
          <a:xfrm>
            <a:off x="2154960" y="4500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/>
          <p:cNvSpPr/>
          <p:nvPr/>
        </p:nvSpPr>
        <p:spPr>
          <a:xfrm>
            <a:off x="1797840" y="1928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3297960" y="3286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4798080" y="4500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8"/>
          <p:cNvSpPr/>
          <p:nvPr/>
        </p:nvSpPr>
        <p:spPr>
          <a:xfrm>
            <a:off x="-3708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9"/>
          <p:cNvSpPr/>
          <p:nvPr/>
        </p:nvSpPr>
        <p:spPr>
          <a:xfrm>
            <a:off x="4155120" y="1928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9"/>
          <p:cNvSpPr/>
          <p:nvPr/>
        </p:nvSpPr>
        <p:spPr>
          <a:xfrm>
            <a:off x="1797840" y="2428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"/>
          <p:cNvSpPr/>
          <p:nvPr/>
        </p:nvSpPr>
        <p:spPr>
          <a:xfrm>
            <a:off x="1654920" y="4572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5"/>
          <p:cNvSpPr/>
          <p:nvPr/>
        </p:nvSpPr>
        <p:spPr>
          <a:xfrm>
            <a:off x="4869720" y="4357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87280" y="6237360"/>
            <a:ext cx="676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571680" y="4287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2797920" y="2143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2797920" y="3429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2940840" y="4714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-69120" y="42876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3226680" y="3571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4798080" y="2928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1083600" y="3143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3226680" y="5143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-37080" y="42876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2643120" y="49291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2154960" y="1928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4583880" y="4929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4655160" y="2000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-6912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2286000" y="28576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/>
          <p:cNvSpPr/>
          <p:nvPr/>
        </p:nvSpPr>
        <p:spPr>
          <a:xfrm>
            <a:off x="4012200" y="2214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4583880" y="3786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2440800" y="4286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8"/>
          <p:cNvSpPr/>
          <p:nvPr/>
        </p:nvSpPr>
        <p:spPr>
          <a:xfrm>
            <a:off x="3420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1940760" y="3857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3583800" y="4857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2369160" y="2857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4583880" y="3714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8"/>
          <p:cNvSpPr/>
          <p:nvPr/>
        </p:nvSpPr>
        <p:spPr>
          <a:xfrm>
            <a:off x="-3708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3297960" y="1714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1654920" y="3143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5083920" y="3143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5"/>
          <p:cNvSpPr/>
          <p:nvPr/>
        </p:nvSpPr>
        <p:spPr>
          <a:xfrm>
            <a:off x="3440880" y="4500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92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"/>
          <p:cNvSpPr/>
          <p:nvPr/>
        </p:nvSpPr>
        <p:spPr>
          <a:xfrm>
            <a:off x="-3708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3297960" y="2428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4941000" y="3357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1726200" y="3429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5"/>
          <p:cNvSpPr/>
          <p:nvPr/>
        </p:nvSpPr>
        <p:spPr>
          <a:xfrm>
            <a:off x="3369600" y="4500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50AC-3962-4651-89DC-5D4164B7EC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An</dc:creator>
  <dc:description/>
  <dc:language>en-US</dc:language>
  <cp:lastModifiedBy/>
  <dcterms:modified xsi:type="dcterms:W3CDTF">2015-07-11T06:47:48Z</dcterms:modified>
  <cp:revision>4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