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2E8F-BB35-43BE-965B-188E5BB18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0DC6-FDA8-47E0-AE19-BAC18F8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194E-2D07-4F18-91AF-9419C67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4DE7-9CC4-4624-9563-6167CB380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9F4E-6AFB-44F8-BA08-C938B06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EA6E-0B05-40DE-A4FD-6E7DA1B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8E94-A588-4717-AFD4-CBC3BE3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B172-3A79-4E48-AC1F-637042D8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4B1D-4983-4918-863B-AFF9CC1D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5D81-89C0-478A-8259-3CBDDCE1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F44C-DF53-4CCF-A8C5-AD5DD4E6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B640-C8AB-4E81-ADF2-FE33963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01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51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Picture 150" descr="2_1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Text Box 126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80FB-9C7B-413B-B7E4-785395D1BEB7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9" name="Oval 152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Oval 153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Oval 154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Oval 155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3" name="Picture 157" descr="3_2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4" descr="01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03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04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05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06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09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7" name="Picture 141" descr="07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02_1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3_2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6629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花朵</a:t>
            </a:r>
            <a:r>
              <a:rPr b="0" lang="en-US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PPT</a:t>
            </a:r>
            <a:r>
              <a:rPr b="0" lang="zh-CN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4680" y="357336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f21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cf21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AutoShape 42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7" name="AutoShape 43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9" name="AutoShape 45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ad67d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AutoShape 48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79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533520" y="2494080"/>
            <a:ext cx="4586040" cy="4173480"/>
          </a:xfrm>
          <a:custGeom>
            <a:avLst/>
            <a:gdLst>
              <a:gd name="textAreaLeft" fmla="*/ 0 w 4586040"/>
              <a:gd name="textAreaRight" fmla="*/ 4586400 w 458604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144440" y="313200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1528920" y="3613320"/>
            <a:ext cx="2503440" cy="227772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277720"/>
              <a:gd name="textAreaBottom" fmla="*/ 820080 h 227772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1851120" y="399888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ce5ab"/>
              </a:gs>
              <a:gs pos="100000">
                <a:srgbClr val="f7bc2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bd2f3"/>
              </a:gs>
              <a:gs pos="100000">
                <a:srgbClr val="a28be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1eaa9"/>
              </a:gs>
              <a:gs pos="100000">
                <a:srgbClr val="8ac92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bfeaf2"/>
              </a:gs>
              <a:gs pos="100000">
                <a:srgbClr val="5bc9d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3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keke</dc:creator>
  <dc:description/>
  <dc:language>en-US</dc:language>
  <cp:lastModifiedBy>jccook</cp:lastModifiedBy>
  <dcterms:modified xsi:type="dcterms:W3CDTF">2015-07-07T00:27:51Z</dcterms:modified>
  <cp:revision>4</cp:revision>
  <dc:subject/>
  <dc:title>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