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044-E59B-4CBF-96FA-37550D47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BFC-AC74-4231-856B-1D0F053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F32-25C4-457B-A7E9-1F8466B1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59A-4EBE-49ED-B62A-A5E3E950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963-3A39-4833-8AA0-4F6C6D01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2D5-6856-45A4-B603-4ECDE2B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49B-A38B-4C4C-9967-6945A46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6AC-24DF-4EF1-9E43-DAE6FE6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1BD-A61B-4454-AA07-0C17A47F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0FD-CAED-480A-9C85-31DFCF1C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281-AAE0-4782-A0B1-E9BEF01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9ED-A161-4040-843A-3C098EB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BG_0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1B9-888D-4557-A7A1-707B85B94AAC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1" descr="BG_022.jpg"/>
          <p:cNvPicPr/>
          <p:nvPr/>
        </p:nvPicPr>
        <p:blipFill>
          <a:blip r:embed="rId1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"/>
          <p:cNvSpPr/>
          <p:nvPr/>
        </p:nvSpPr>
        <p:spPr>
          <a:xfrm>
            <a:off x="1559520" y="1197000"/>
            <a:ext cx="30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韩国情人节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513240" y="2355840"/>
            <a:ext cx="3170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1 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2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3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4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5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Line 40"/>
          <p:cNvSpPr/>
          <p:nvPr/>
        </p:nvSpPr>
        <p:spPr>
          <a:xfrm flipV="1">
            <a:off x="3429000" y="-360"/>
            <a:ext cx="0" cy="578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571920" y="1857240"/>
            <a:ext cx="165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Times New Roman"/>
                <a:ea typeface="HC헤드라인1"/>
              </a:rPr>
              <a:t>Contents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8" name="Picture 7" descr="group"/>
          <p:cNvPicPr/>
          <p:nvPr/>
        </p:nvPicPr>
        <p:blipFill>
          <a:blip r:embed="rId1"/>
          <a:stretch/>
        </p:blipFill>
        <p:spPr>
          <a:xfrm>
            <a:off x="1571760" y="2786040"/>
            <a:ext cx="1547640" cy="123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136-FF80-4516-8FF0-D618EA190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096920" y="360360"/>
            <a:ext cx="17748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1"/>
          <p:cNvGrpSpPr/>
          <p:nvPr/>
        </p:nvGrpSpPr>
        <p:grpSpPr>
          <a:xfrm>
            <a:off x="646200" y="2316240"/>
            <a:ext cx="7924680" cy="4133880"/>
            <a:chOff x="646200" y="2316240"/>
            <a:chExt cx="7924680" cy="4133880"/>
          </a:xfrm>
        </p:grpSpPr>
        <p:pic>
          <p:nvPicPr>
            <p:cNvPr id="55" name="AutoShape 51" descr=""/>
            <p:cNvPicPr/>
            <p:nvPr/>
          </p:nvPicPr>
          <p:blipFill>
            <a:blip r:embed="rId2"/>
            <a:stretch/>
          </p:blipFill>
          <p:spPr>
            <a:xfrm>
              <a:off x="646200" y="2316240"/>
              <a:ext cx="792468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3560" y="2406600"/>
              <a:ext cx="768852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" name="AutoShape 39"/>
          <p:cNvSpPr/>
          <p:nvPr/>
        </p:nvSpPr>
        <p:spPr>
          <a:xfrm>
            <a:off x="395280" y="1500120"/>
            <a:ext cx="8424720" cy="5357880"/>
          </a:xfrm>
          <a:prstGeom prst="roundRect">
            <a:avLst>
              <a:gd name="adj" fmla="val 4019"/>
            </a:avLst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8" name="Picture 28" descr="J:\png\Old_Paper\02_128.png"/>
          <p:cNvPicPr/>
          <p:nvPr/>
        </p:nvPicPr>
        <p:blipFill>
          <a:blip r:embed="rId3"/>
          <a:stretch/>
        </p:blipFill>
        <p:spPr>
          <a:xfrm>
            <a:off x="457200" y="2397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4"/>
          <a:stretch/>
        </p:blipFill>
        <p:spPr>
          <a:xfrm>
            <a:off x="517680" y="334800"/>
            <a:ext cx="853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2963160" y="328608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/>
  <dc:description/>
  <dc:language>en-US</dc:language>
  <cp:lastModifiedBy/>
  <dcterms:modified xsi:type="dcterms:W3CDTF">2015-07-11T06:46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