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4F0F-D2A5-4289-B3AC-34B532E8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04A4-1DB5-4A13-8CC6-0CD76C4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1BE6-14E6-424B-A251-E2747635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3EC6-2E4A-4CC2-8398-0ADED79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43DD-DA19-4C7D-B972-D9A7A5B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C89D-A3EB-411F-BB91-7670C746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1FBD-39E4-49BF-B91D-3FC785B5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DA65-862C-4EAD-855A-C55FA667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E891-3B2E-4FA9-B03C-F46F6B6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5B36-811B-445F-9330-2B3DA6B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3D92-F26B-41EB-B04C-A07398A1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313956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699440"/>
            <a:ext cx="264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C595-99E8-4F1E-90DB-C09C6122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91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69944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3139560"/>
            <a:ext cx="40158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6994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426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4AB1796-0423-4D61-9854-712CD53BAEC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91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3139560"/>
            <a:ext cx="822960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 algn="r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 algn="r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 algn="r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6A9-B5FE-4B44-A28F-EF661549DE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51A0-BDDC-4249-9FFB-DFC8EA8643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8360" y="54450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54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33600" y="4365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虎年大吉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60720" y="5589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CEA9-7864-4C2F-988F-F98D7023C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64B0-763F-43D3-96C6-ACFD4ECFD0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/>
  <dcterms:modified xsi:type="dcterms:W3CDTF">2015-07-11T14:18:06Z</dcterms:modified>
  <cp:revision>2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e04000000000001024140</vt:lpwstr>
  </property>
</Properties>
</file>