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04C-DD35-4519-8E10-4F8894AF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740-ABDA-4629-8E3C-156DEE75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D72-34BD-4693-9D1C-550AD15B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38E-9687-4811-A3CC-7F745D79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C9E-0BD8-4F25-8418-FA62F3EC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5DB9-2FEA-4E3E-8A9D-466783C0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5DA-3B7B-4DD2-95FC-971EC58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9DB5-42BC-4375-AD14-BBF9E2C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2B23-80BE-4324-85E4-A34F0873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585-0BAE-4484-B752-1E3F9AC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7D01-3BC5-4529-A107-99DAD6B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4A3-B9DF-44E3-976C-7B817979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2D2-F1A7-4B65-83BB-902F7DE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431-B83D-450C-B126-4177F4D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AC16-CCE9-4F9A-868A-4BF832E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8AF-C514-4E3A-A78E-B75C44AA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94A0-4A2B-4C55-A7CA-15EF0523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D14-5E24-4C82-9AE1-309CDCB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D1A-1258-4B41-84B8-F76F6DA1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79B-4862-4A27-8AE4-12AFF1FE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DA0-E972-47D3-8AF2-3EAE632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D1F-2393-46F3-B44F-97ECAD4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565-1C02-40EE-8E72-990F3C8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FE7-D225-46B2-87AD-18335D1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74E-62F2-4A9E-9587-C9E6597B5D72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B574-9600-416A-A234-0E7A85E93B8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436000" y="1700280"/>
            <a:ext cx="1212120" cy="4536000"/>
            <a:chOff x="5436000" y="1700280"/>
            <a:chExt cx="1212120" cy="4536000"/>
          </a:xfrm>
        </p:grpSpPr>
        <p:sp>
          <p:nvSpPr>
            <p:cNvPr id="82" name=""/>
            <p:cNvSpPr/>
            <p:nvPr/>
          </p:nvSpPr>
          <p:spPr>
            <a:xfrm flipH="1">
              <a:off x="5458320" y="3693960"/>
              <a:ext cx="787680" cy="2501280"/>
            </a:xfrm>
            <a:custGeom>
              <a:avLst/>
              <a:gdLst/>
              <a:ahLst/>
              <a:rect l="l" t="t" r="r" b="b"/>
              <a:pathLst>
                <a:path w="4447" h="7557">
                  <a:moveTo>
                    <a:pt x="1499" y="7557"/>
                  </a:moveTo>
                  <a:lnTo>
                    <a:pt x="0" y="7557"/>
                  </a:lnTo>
                  <a:lnTo>
                    <a:pt x="1468" y="0"/>
                  </a:lnTo>
                  <a:lnTo>
                    <a:pt x="4447" y="7557"/>
                  </a:lnTo>
                  <a:lnTo>
                    <a:pt x="3546" y="7557"/>
                  </a:lnTo>
                  <a:lnTo>
                    <a:pt x="3500" y="7473"/>
                  </a:lnTo>
                  <a:lnTo>
                    <a:pt x="3448" y="7380"/>
                  </a:lnTo>
                  <a:lnTo>
                    <a:pt x="3391" y="7279"/>
                  </a:lnTo>
                  <a:lnTo>
                    <a:pt x="3329" y="7174"/>
                  </a:lnTo>
                  <a:lnTo>
                    <a:pt x="3262" y="7064"/>
                  </a:lnTo>
                  <a:lnTo>
                    <a:pt x="3192" y="6950"/>
                  </a:lnTo>
                  <a:lnTo>
                    <a:pt x="3119" y="6836"/>
                  </a:lnTo>
                  <a:lnTo>
                    <a:pt x="3042" y="6721"/>
                  </a:lnTo>
                  <a:lnTo>
                    <a:pt x="2962" y="6609"/>
                  </a:lnTo>
                  <a:lnTo>
                    <a:pt x="2882" y="6498"/>
                  </a:lnTo>
                  <a:lnTo>
                    <a:pt x="2799" y="6391"/>
                  </a:lnTo>
                  <a:lnTo>
                    <a:pt x="2714" y="6290"/>
                  </a:lnTo>
                  <a:lnTo>
                    <a:pt x="2630" y="6196"/>
                  </a:lnTo>
                  <a:lnTo>
                    <a:pt x="2544" y="6110"/>
                  </a:lnTo>
                  <a:lnTo>
                    <a:pt x="2461" y="6033"/>
                  </a:lnTo>
                  <a:lnTo>
                    <a:pt x="2376" y="5968"/>
                  </a:lnTo>
                  <a:lnTo>
                    <a:pt x="2293" y="5915"/>
                  </a:lnTo>
                  <a:lnTo>
                    <a:pt x="2212" y="5876"/>
                  </a:lnTo>
                  <a:lnTo>
                    <a:pt x="2133" y="5852"/>
                  </a:lnTo>
                  <a:lnTo>
                    <a:pt x="2056" y="5844"/>
                  </a:lnTo>
                  <a:lnTo>
                    <a:pt x="1983" y="5855"/>
                  </a:lnTo>
                  <a:lnTo>
                    <a:pt x="1912" y="5885"/>
                  </a:lnTo>
                  <a:lnTo>
                    <a:pt x="1845" y="5936"/>
                  </a:lnTo>
                  <a:lnTo>
                    <a:pt x="1784" y="6008"/>
                  </a:lnTo>
                  <a:lnTo>
                    <a:pt x="1726" y="6104"/>
                  </a:lnTo>
                  <a:lnTo>
                    <a:pt x="1674" y="6227"/>
                  </a:lnTo>
                  <a:lnTo>
                    <a:pt x="1628" y="6374"/>
                  </a:lnTo>
                  <a:lnTo>
                    <a:pt x="1589" y="6550"/>
                  </a:lnTo>
                  <a:lnTo>
                    <a:pt x="1554" y="6754"/>
                  </a:lnTo>
                  <a:lnTo>
                    <a:pt x="1529" y="6989"/>
                  </a:lnTo>
                  <a:lnTo>
                    <a:pt x="1510" y="7256"/>
                  </a:lnTo>
                  <a:lnTo>
                    <a:pt x="1499" y="7557"/>
                  </a:lnTo>
                  <a:close/>
                </a:path>
              </a:pathLst>
            </a:custGeom>
            <a:solidFill>
              <a:srgbClr val="5e5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435640" y="3693960"/>
              <a:ext cx="603000" cy="2501280"/>
            </a:xfrm>
            <a:custGeom>
              <a:avLst/>
              <a:gdLst/>
              <a:ahLst/>
              <a:rect l="l" t="t" r="r" b="b"/>
              <a:pathLst>
                <a:path w="3399" h="7557">
                  <a:moveTo>
                    <a:pt x="294" y="0"/>
                  </a:moveTo>
                  <a:lnTo>
                    <a:pt x="3399" y="7557"/>
                  </a:lnTo>
                  <a:lnTo>
                    <a:pt x="2938" y="7557"/>
                  </a:lnTo>
                  <a:lnTo>
                    <a:pt x="0" y="2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726520" y="1700280"/>
              <a:ext cx="921600" cy="4536000"/>
            </a:xfrm>
            <a:custGeom>
              <a:avLst/>
              <a:gdLst/>
              <a:ahLst/>
              <a:rect l="l" t="t" r="r" b="b"/>
              <a:pathLst>
                <a:path w="5203" h="13686">
                  <a:moveTo>
                    <a:pt x="0" y="13686"/>
                  </a:moveTo>
                  <a:lnTo>
                    <a:pt x="3987" y="13686"/>
                  </a:lnTo>
                  <a:lnTo>
                    <a:pt x="5203" y="335"/>
                  </a:lnTo>
                  <a:lnTo>
                    <a:pt x="4993" y="0"/>
                  </a:lnTo>
                  <a:lnTo>
                    <a:pt x="1595" y="672"/>
                  </a:lnTo>
                  <a:lnTo>
                    <a:pt x="0" y="13686"/>
                  </a:lnTo>
                  <a:close/>
                </a:path>
              </a:pathLst>
            </a:custGeom>
            <a:solidFill>
              <a:srgbClr val="b4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13560" y="1700280"/>
              <a:ext cx="321840" cy="4536000"/>
            </a:xfrm>
            <a:custGeom>
              <a:avLst/>
              <a:gdLst/>
              <a:ahLst/>
              <a:rect l="l" t="t" r="r" b="b"/>
              <a:pathLst>
                <a:path w="1812" h="13686">
                  <a:moveTo>
                    <a:pt x="1812" y="356"/>
                  </a:moveTo>
                  <a:lnTo>
                    <a:pt x="532" y="13686"/>
                  </a:lnTo>
                  <a:lnTo>
                    <a:pt x="0" y="13686"/>
                  </a:lnTo>
                  <a:lnTo>
                    <a:pt x="1538" y="0"/>
                  </a:lnTo>
                  <a:lnTo>
                    <a:pt x="1812" y="356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22280" y="1813680"/>
              <a:ext cx="787680" cy="4339800"/>
            </a:xfrm>
            <a:custGeom>
              <a:avLst/>
              <a:gdLst/>
              <a:ahLst/>
              <a:rect l="l" t="t" r="r" b="b"/>
              <a:pathLst>
                <a:path w="4448" h="13099">
                  <a:moveTo>
                    <a:pt x="3022" y="13099"/>
                  </a:moveTo>
                  <a:lnTo>
                    <a:pt x="0" y="13099"/>
                  </a:lnTo>
                  <a:lnTo>
                    <a:pt x="1553" y="588"/>
                  </a:lnTo>
                  <a:lnTo>
                    <a:pt x="4448" y="0"/>
                  </a:lnTo>
                  <a:lnTo>
                    <a:pt x="3022" y="13099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30640" y="2016720"/>
              <a:ext cx="455760" cy="1813680"/>
            </a:xfrm>
            <a:custGeom>
              <a:avLst/>
              <a:gdLst/>
              <a:ahLst/>
              <a:rect l="l" t="t" r="r" b="b"/>
              <a:pathLst>
                <a:path w="2574" h="5472">
                  <a:moveTo>
                    <a:pt x="476" y="0"/>
                  </a:moveTo>
                  <a:lnTo>
                    <a:pt x="0" y="3331"/>
                  </a:lnTo>
                  <a:lnTo>
                    <a:pt x="2434" y="5472"/>
                  </a:lnTo>
                  <a:lnTo>
                    <a:pt x="2574" y="403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71680" y="3198600"/>
              <a:ext cx="436680" cy="1641960"/>
            </a:xfrm>
            <a:custGeom>
              <a:avLst/>
              <a:gdLst/>
              <a:ahLst/>
              <a:rect l="l" t="t" r="r" b="b"/>
              <a:pathLst>
                <a:path w="2461" h="4953">
                  <a:moveTo>
                    <a:pt x="2461" y="2099"/>
                  </a:moveTo>
                  <a:lnTo>
                    <a:pt x="56" y="0"/>
                  </a:lnTo>
                  <a:lnTo>
                    <a:pt x="0" y="867"/>
                  </a:lnTo>
                  <a:lnTo>
                    <a:pt x="2182" y="4953"/>
                  </a:lnTo>
                  <a:lnTo>
                    <a:pt x="2461" y="2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9" name=""/>
          <p:cNvSpPr/>
          <p:nvPr/>
        </p:nvSpPr>
        <p:spPr>
          <a:xfrm rot="679800">
            <a:off x="237960" y="5428800"/>
            <a:ext cx="1081080" cy="1079640"/>
          </a:xfrm>
          <a:custGeom>
            <a:avLst/>
            <a:gdLst>
              <a:gd name="textAreaLeft" fmla="*/ 254160 w 1081080"/>
              <a:gd name="textAreaRight" fmla="*/ 826200 w 1081080"/>
              <a:gd name="textAreaTop" fmla="*/ 126720 h 1079640"/>
              <a:gd name="textAreaBottom" fmla="*/ 677160 h 10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"/>
          <p:cNvSpPr/>
          <p:nvPr/>
        </p:nvSpPr>
        <p:spPr>
          <a:xfrm rot="3244800">
            <a:off x="1258920" y="5877000"/>
            <a:ext cx="649440" cy="836640"/>
          </a:xfrm>
          <a:custGeom>
            <a:avLst/>
            <a:gdLst>
              <a:gd name="textAreaLeft" fmla="*/ 152640 w 649440"/>
              <a:gd name="textAreaRight" fmla="*/ 496440 w 64944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"/>
          <p:cNvSpPr/>
          <p:nvPr/>
        </p:nvSpPr>
        <p:spPr>
          <a:xfrm rot="19290000">
            <a:off x="324000" y="4797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 rot="1825800">
            <a:off x="899640" y="48690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 rot="19275000">
            <a:off x="125280" y="6159240"/>
            <a:ext cx="432000" cy="503280"/>
          </a:xfrm>
          <a:custGeom>
            <a:avLst/>
            <a:gdLst>
              <a:gd name="textAreaLeft" fmla="*/ 101520 w 432000"/>
              <a:gd name="textAreaRight" fmla="*/ 330120 w 43200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 rot="3244800">
            <a:off x="215640" y="3679560"/>
            <a:ext cx="144360" cy="217440"/>
          </a:xfrm>
          <a:custGeom>
            <a:avLst/>
            <a:gdLst>
              <a:gd name="textAreaLeft" fmla="*/ 33840 w 144360"/>
              <a:gd name="textAreaRight" fmla="*/ 110520 w 14436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 rot="19641000">
            <a:off x="108000" y="422064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/>
          <p:cNvSpPr/>
          <p:nvPr/>
        </p:nvSpPr>
        <p:spPr>
          <a:xfrm rot="19369200">
            <a:off x="171000" y="337032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67640" y="2205000"/>
            <a:ext cx="71748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692280"/>
            <a:ext cx="938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00ff">
                  <a:alpha val="41176"/>
                </a:srgbClr>
              </a:gs>
              <a:gs pos="100000">
                <a:srgbClr val="750075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 flipH="1" rot="14233200">
            <a:off x="-239040" y="3125520"/>
            <a:ext cx="1622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9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42328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783640" y="549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6720" y="6308640"/>
            <a:ext cx="381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flipH="1">
            <a:off x="6084720" y="2276640"/>
            <a:ext cx="2740320" cy="398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rcRect l="63606" t="0" r="9364" b="6793"/>
          <a:stretch/>
        </p:blipFill>
        <p:spPr>
          <a:xfrm>
            <a:off x="6083280" y="2276640"/>
            <a:ext cx="289080" cy="381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679800">
            <a:off x="1611360" y="-864720"/>
            <a:ext cx="468360" cy="649080"/>
          </a:xfrm>
          <a:custGeom>
            <a:avLst/>
            <a:gdLst>
              <a:gd name="textAreaLeft" fmla="*/ 109800 w 468360"/>
              <a:gd name="textAreaRight" fmla="*/ 358200 w 468360"/>
              <a:gd name="textAreaTop" fmla="*/ 76320 h 649080"/>
              <a:gd name="textAreaBottom" fmla="*/ 407160 h 64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"/>
          <p:cNvSpPr/>
          <p:nvPr/>
        </p:nvSpPr>
        <p:spPr>
          <a:xfrm rot="3244800">
            <a:off x="1585800" y="-2183760"/>
            <a:ext cx="409680" cy="561960"/>
          </a:xfrm>
          <a:custGeom>
            <a:avLst/>
            <a:gdLst>
              <a:gd name="textAreaLeft" fmla="*/ 96120 w 409680"/>
              <a:gd name="textAreaRight" fmla="*/ 313200 w 409680"/>
              <a:gd name="textAreaTop" fmla="*/ 65880 h 561960"/>
              <a:gd name="textAreaBottom" fmla="*/ 352440 h 561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 rot="19290000">
            <a:off x="712800" y="-3384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"/>
          <p:cNvSpPr/>
          <p:nvPr/>
        </p:nvSpPr>
        <p:spPr>
          <a:xfrm rot="3244800">
            <a:off x="3744720" y="-3232080"/>
            <a:ext cx="144720" cy="217440"/>
          </a:xfrm>
          <a:custGeom>
            <a:avLst/>
            <a:gdLst>
              <a:gd name="textAreaLeft" fmla="*/ 33840 w 144720"/>
              <a:gd name="textAreaRight" fmla="*/ 110880 w 14472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 rot="19641000">
            <a:off x="2626920" y="-2763720"/>
            <a:ext cx="266760" cy="23796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7960"/>
              <a:gd name="textAreaBottom" fmla="*/ 149400 h 237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 rot="19369200">
            <a:off x="667800" y="-481140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 rot="19641000">
            <a:off x="1108080" y="-482616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"/>
          <p:cNvSpPr/>
          <p:nvPr/>
        </p:nvSpPr>
        <p:spPr>
          <a:xfrm rot="3474000">
            <a:off x="2959200" y="-24174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1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 rot="3244800">
            <a:off x="2703240" y="-1686960"/>
            <a:ext cx="409680" cy="561960"/>
          </a:xfrm>
          <a:custGeom>
            <a:avLst/>
            <a:gdLst>
              <a:gd name="textAreaLeft" fmla="*/ 96120 w 409680"/>
              <a:gd name="textAreaRight" fmla="*/ 313200 w 409680"/>
              <a:gd name="textAreaTop" fmla="*/ 65880 h 561960"/>
              <a:gd name="textAreaBottom" fmla="*/ 352440 h 561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 rot="3244800">
            <a:off x="674640" y="-3351240"/>
            <a:ext cx="144720" cy="217440"/>
          </a:xfrm>
          <a:custGeom>
            <a:avLst/>
            <a:gdLst>
              <a:gd name="textAreaLeft" fmla="*/ 33840 w 144720"/>
              <a:gd name="textAreaRight" fmla="*/ 110880 w 14472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 rot="19641000">
            <a:off x="2187360" y="-3673080"/>
            <a:ext cx="266400" cy="237960"/>
          </a:xfrm>
          <a:custGeom>
            <a:avLst/>
            <a:gdLst>
              <a:gd name="textAreaLeft" fmla="*/ 62640 w 266400"/>
              <a:gd name="textAreaRight" fmla="*/ 203760 w 266400"/>
              <a:gd name="textAreaTop" fmla="*/ 27720 h 237960"/>
              <a:gd name="textAreaBottom" fmla="*/ 149400 h 237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 rot="19369200">
            <a:off x="3058920" y="-4274640"/>
            <a:ext cx="180720" cy="109440"/>
          </a:xfrm>
          <a:custGeom>
            <a:avLst/>
            <a:gdLst>
              <a:gd name="textAreaLeft" fmla="*/ 42480 w 180720"/>
              <a:gd name="textAreaRight" fmla="*/ 138240 w 18072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 rot="19641000">
            <a:off x="2627280" y="-449280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5877000"/>
            <a:ext cx="647280" cy="503280"/>
            <a:chOff x="5508720" y="5877000"/>
            <a:chExt cx="647280" cy="503280"/>
          </a:xfrm>
        </p:grpSpPr>
        <p:sp>
          <p:nvSpPr>
            <p:cNvPr id="121" name=""/>
            <p:cNvSpPr/>
            <p:nvPr/>
          </p:nvSpPr>
          <p:spPr>
            <a:xfrm>
              <a:off x="5952240" y="5879520"/>
              <a:ext cx="42480" cy="103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5560" y="6157440"/>
              <a:ext cx="70920" cy="8388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77800" y="6192000"/>
              <a:ext cx="74520" cy="8028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19480" y="5978160"/>
              <a:ext cx="236520" cy="22608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3720" y="6058440"/>
              <a:ext cx="68400" cy="6444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16000" y="6339240"/>
              <a:ext cx="112320" cy="3456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0840" y="6272640"/>
              <a:ext cx="37440" cy="1076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08720" y="6130440"/>
              <a:ext cx="236520" cy="22716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92600" y="6211800"/>
              <a:ext cx="66960" cy="6408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18680" y="5898960"/>
              <a:ext cx="174600" cy="16704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0960" y="5958360"/>
              <a:ext cx="48960" cy="4788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0200" y="5996880"/>
              <a:ext cx="143640" cy="1368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10600" y="6046200"/>
              <a:ext cx="41040" cy="381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7040" y="5877000"/>
              <a:ext cx="174240" cy="166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9320" y="5936400"/>
              <a:ext cx="48960" cy="4788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4400" y="6027840"/>
              <a:ext cx="184680" cy="17784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0280" y="6091920"/>
              <a:ext cx="52560" cy="493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0240" y="6090840"/>
              <a:ext cx="111960" cy="3564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59280" y="6166080"/>
              <a:ext cx="205560" cy="1965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1640" y="6236640"/>
              <a:ext cx="58320" cy="5580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2440" y="6238080"/>
              <a:ext cx="41400" cy="103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48360" y="5877000"/>
            <a:ext cx="507600" cy="503280"/>
            <a:chOff x="5148360" y="5877000"/>
            <a:chExt cx="507600" cy="503280"/>
          </a:xfrm>
        </p:grpSpPr>
        <p:sp>
          <p:nvSpPr>
            <p:cNvPr id="143" name=""/>
            <p:cNvSpPr/>
            <p:nvPr/>
          </p:nvSpPr>
          <p:spPr>
            <a:xfrm>
              <a:off x="5496120" y="5879520"/>
              <a:ext cx="33120" cy="103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7120" y="6157440"/>
              <a:ext cx="55800" cy="8388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6280" y="6192000"/>
              <a:ext cx="58320" cy="8028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70560" y="5978160"/>
              <a:ext cx="185400" cy="22608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6800" y="6058440"/>
              <a:ext cx="53640" cy="6444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32240" y="6339240"/>
              <a:ext cx="88200" cy="3456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22600" y="6272640"/>
              <a:ext cx="29160" cy="1076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6130440"/>
              <a:ext cx="185400" cy="22716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4240" y="6211800"/>
              <a:ext cx="52560" cy="6408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1360" y="5898960"/>
              <a:ext cx="136800" cy="16704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40320" y="5958360"/>
              <a:ext cx="38520" cy="4788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8680" y="5996880"/>
              <a:ext cx="112680" cy="1368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28280" y="6046200"/>
              <a:ext cx="32400" cy="381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4640" y="5877000"/>
              <a:ext cx="136800" cy="166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600" y="5936400"/>
              <a:ext cx="38160" cy="4788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6240" y="6027840"/>
              <a:ext cx="144720" cy="17784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8080" y="6091920"/>
              <a:ext cx="41400" cy="493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57360" y="6090840"/>
              <a:ext cx="87840" cy="3564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4920" y="6166080"/>
              <a:ext cx="161280" cy="1965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1800" y="6236640"/>
              <a:ext cx="45720" cy="5580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0640" y="6238080"/>
              <a:ext cx="32400" cy="103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48760" y="6021360"/>
            <a:ext cx="543960" cy="285480"/>
            <a:chOff x="8348760" y="6021360"/>
            <a:chExt cx="543960" cy="285480"/>
          </a:xfrm>
        </p:grpSpPr>
        <p:sp>
          <p:nvSpPr>
            <p:cNvPr id="166" name=""/>
            <p:cNvSpPr/>
            <p:nvPr/>
          </p:nvSpPr>
          <p:spPr>
            <a:xfrm>
              <a:off x="8721360" y="6022440"/>
              <a:ext cx="35640" cy="58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08120" y="6180840"/>
              <a:ext cx="59760" cy="4752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3320" y="6200280"/>
              <a:ext cx="62640" cy="4572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94000" y="6078960"/>
              <a:ext cx="198720" cy="1285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64920" y="6124320"/>
              <a:ext cx="57600" cy="3636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38760" y="6283800"/>
              <a:ext cx="94320" cy="1944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5240" y="6246000"/>
              <a:ext cx="31320" cy="608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8760" y="6165360"/>
              <a:ext cx="198720" cy="12888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19320" y="6211440"/>
              <a:ext cx="56160" cy="3636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9400" y="6033600"/>
              <a:ext cx="146880" cy="94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61600" y="6067440"/>
              <a:ext cx="41400" cy="2736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91960" y="6089400"/>
              <a:ext cx="120600" cy="7776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34440" y="6117480"/>
              <a:ext cx="34560" cy="2160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73680" y="6021360"/>
              <a:ext cx="146520" cy="94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25880" y="6054840"/>
              <a:ext cx="41040" cy="2736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96360" y="6107040"/>
              <a:ext cx="155160" cy="10116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1800" y="6143400"/>
              <a:ext cx="44280" cy="2808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58480" y="6142680"/>
              <a:ext cx="94320" cy="2016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9360" y="6185520"/>
              <a:ext cx="172800" cy="11160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20200" y="6225480"/>
              <a:ext cx="48960" cy="3168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4800" y="6226560"/>
              <a:ext cx="34920" cy="58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639280" y="5950080"/>
            <a:ext cx="504720" cy="429840"/>
            <a:chOff x="8639280" y="5950080"/>
            <a:chExt cx="504720" cy="429840"/>
          </a:xfrm>
        </p:grpSpPr>
        <p:sp>
          <p:nvSpPr>
            <p:cNvPr id="188" name=""/>
            <p:cNvSpPr/>
            <p:nvPr/>
          </p:nvSpPr>
          <p:spPr>
            <a:xfrm>
              <a:off x="8984880" y="5951880"/>
              <a:ext cx="33120" cy="8856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65160" y="6189840"/>
              <a:ext cx="55440" cy="7164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05040" y="6219360"/>
              <a:ext cx="57960" cy="6876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59680" y="6036840"/>
              <a:ext cx="184320" cy="1933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25200" y="6105240"/>
              <a:ext cx="53280" cy="5508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22800" y="6345360"/>
              <a:ext cx="87480" cy="2952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12440" y="6288120"/>
              <a:ext cx="29160" cy="9180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39280" y="6166440"/>
              <a:ext cx="184320" cy="19440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04800" y="6236280"/>
              <a:ext cx="52200" cy="5472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80840" y="5968800"/>
              <a:ext cx="13608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29440" y="6019560"/>
              <a:ext cx="38160" cy="4104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79240" y="6052680"/>
              <a:ext cx="111960" cy="1170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18480" y="6094800"/>
              <a:ext cx="32040" cy="327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54840" y="5950080"/>
              <a:ext cx="13572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03440" y="6000840"/>
              <a:ext cx="38160" cy="4104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76080" y="6078960"/>
              <a:ext cx="143640" cy="15192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27560" y="6133680"/>
              <a:ext cx="41040" cy="421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48280" y="6132960"/>
              <a:ext cx="87480" cy="3060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834400" y="6197400"/>
              <a:ext cx="160200" cy="1677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90920" y="6257520"/>
              <a:ext cx="45360" cy="4752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69400" y="6258600"/>
              <a:ext cx="32400" cy="8856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00720" y="5950080"/>
            <a:ext cx="795240" cy="429840"/>
            <a:chOff x="4500720" y="5950080"/>
            <a:chExt cx="795240" cy="429840"/>
          </a:xfrm>
        </p:grpSpPr>
        <p:sp>
          <p:nvSpPr>
            <p:cNvPr id="210" name=""/>
            <p:cNvSpPr/>
            <p:nvPr/>
          </p:nvSpPr>
          <p:spPr>
            <a:xfrm>
              <a:off x="5045400" y="5951880"/>
              <a:ext cx="52200" cy="8856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72120" y="6189840"/>
              <a:ext cx="87480" cy="7164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7080" y="6219360"/>
              <a:ext cx="91800" cy="6876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5440" y="6036840"/>
              <a:ext cx="290520" cy="1933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8760" y="6105240"/>
              <a:ext cx="84240" cy="5508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2480" y="6345360"/>
              <a:ext cx="138240" cy="2952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3600" y="6288120"/>
              <a:ext cx="46080" cy="9180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00720" y="6166440"/>
              <a:ext cx="290520" cy="19440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4040" y="6236280"/>
              <a:ext cx="82440" cy="5472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1600" y="5968800"/>
              <a:ext cx="21456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7920" y="6019560"/>
              <a:ext cx="60480" cy="4104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4080" y="6052680"/>
              <a:ext cx="176400" cy="1170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000" y="6094800"/>
              <a:ext cx="50760" cy="327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3240" y="5950080"/>
              <a:ext cx="21420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59560" y="6000840"/>
              <a:ext cx="60120" cy="4104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720" y="6078960"/>
              <a:ext cx="226800" cy="15192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97720" y="6133680"/>
              <a:ext cx="64800" cy="421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15120" y="6132960"/>
              <a:ext cx="137880" cy="3060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08520" y="6197400"/>
              <a:ext cx="252720" cy="1677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97440" y="6257520"/>
              <a:ext cx="71640" cy="4752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1280" y="6258600"/>
              <a:ext cx="51120" cy="8856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"/>
          <p:cNvSpPr/>
          <p:nvPr/>
        </p:nvSpPr>
        <p:spPr>
          <a:xfrm>
            <a:off x="1069200" y="11253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婚庆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-0.00973 1.33842 E">
                                      <p:cBhvr>
                                        <p:cTn id="6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0.10643 1.3338 E">
                                      <p:cBhvr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2.96296E-006 L 0.03923 1.71135 E">
                                      <p:cBhvr>
                                        <p:cTn id="1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88889E-006 2.59259E-006 L 0.11927 1.90416 E">
                                      <p:cBhvr>
                                        <p:cTn id="12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313 -0.1787 L -0.16337 1.67292 E">
                                      <p:cBhvr>
                                        <p:cTn id="14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.55556E-007 -2.96296E-006 L -0.16024 1.85162 E">
                                      <p:cBhvr>
                                        <p:cTn id="16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8.33333E-007 -2.59259E-006 C 0.0566 0.0882 0.11319 0.17639 0.1 0.30857 C 0.0868 0.44074 -0.0724 0.63148 -0.07917 0.79329 C -0.08594 0.95463 0.04392 1.1838 0.05972 1.27824 C 0.07552 1.37222 0.01892 1.33727 0.01528 1.35648 C 0.01163 1.3757 0.02448 1.38426 0.0375 1.39306 E">
                                      <p:cBhvr>
                                        <p:cTn id="1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5.55556E-006 -7.77778E-006 C -0.03124 0.2493 -0.06232 0.49884 -0.03333 0.64976 C -0.00433 0.80092 0.16407 0.80879 0.17362 0.90717 C 0.18317 1.00578 0.05348 1.13958 0.02362 1.24073 C -0.00624 1.34166 -0.0059 1.42708 -0.00555 1.51273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1007 0.03009 C -0.06441 0.18495 -0.13889 0.33981 -0.12431 0.45092 C -0.10973 0.56203 0.08298 0.56898 0.09757 0.69676 C 0.11215 0.82453 -0.0316 1.09815 -0.03681 1.21759 C -0.04202 1.33703 0.02829 1.3912 0.06632 1.41342 C 0.10434 1.43565 0.16632 1.35856 0.19132 1.35092 C 0.21632 1.34328 0.21632 1.35532 0.21632 1.36759 E">
                                      <p:cBhvr>
                                        <p:cTn id="2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44444E-006 -2.22222E-006 L 0.02952 2.1338 E">
                                      <p:cBhvr>
                                        <p:cTn id="2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836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ff0000">
                  <a:alpha val="60000"/>
                </a:srgbClr>
              </a:gs>
              <a:gs pos="100000">
                <a:srgbClr val="750000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"/>
          <p:cNvSpPr/>
          <p:nvPr/>
        </p:nvSpPr>
        <p:spPr>
          <a:xfrm rot="679800">
            <a:off x="237960" y="5428800"/>
            <a:ext cx="1081080" cy="1079640"/>
          </a:xfrm>
          <a:custGeom>
            <a:avLst/>
            <a:gdLst>
              <a:gd name="textAreaLeft" fmla="*/ 254160 w 1081080"/>
              <a:gd name="textAreaRight" fmla="*/ 826200 w 1081080"/>
              <a:gd name="textAreaTop" fmla="*/ 126720 h 1079640"/>
              <a:gd name="textAreaBottom" fmla="*/ 677160 h 10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"/>
          <p:cNvSpPr/>
          <p:nvPr/>
        </p:nvSpPr>
        <p:spPr>
          <a:xfrm rot="3244800">
            <a:off x="1258920" y="5877000"/>
            <a:ext cx="649440" cy="836640"/>
          </a:xfrm>
          <a:custGeom>
            <a:avLst/>
            <a:gdLst>
              <a:gd name="textAreaLeft" fmla="*/ 152640 w 649440"/>
              <a:gd name="textAreaRight" fmla="*/ 496440 w 64944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"/>
          <p:cNvSpPr/>
          <p:nvPr/>
        </p:nvSpPr>
        <p:spPr>
          <a:xfrm rot="19290000">
            <a:off x="324000" y="4797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"/>
          <p:cNvSpPr/>
          <p:nvPr/>
        </p:nvSpPr>
        <p:spPr>
          <a:xfrm rot="1825800">
            <a:off x="899640" y="48690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"/>
          <p:cNvSpPr/>
          <p:nvPr/>
        </p:nvSpPr>
        <p:spPr>
          <a:xfrm rot="19275000">
            <a:off x="125280" y="6159240"/>
            <a:ext cx="432000" cy="503280"/>
          </a:xfrm>
          <a:custGeom>
            <a:avLst/>
            <a:gdLst>
              <a:gd name="textAreaLeft" fmla="*/ 101520 w 432000"/>
              <a:gd name="textAreaRight" fmla="*/ 330120 w 43200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"/>
          <p:cNvSpPr/>
          <p:nvPr/>
        </p:nvSpPr>
        <p:spPr>
          <a:xfrm rot="3244800">
            <a:off x="215640" y="3679560"/>
            <a:ext cx="144360" cy="217440"/>
          </a:xfrm>
          <a:custGeom>
            <a:avLst/>
            <a:gdLst>
              <a:gd name="textAreaLeft" fmla="*/ 33840 w 144360"/>
              <a:gd name="textAreaRight" fmla="*/ 110520 w 14436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"/>
          <p:cNvSpPr/>
          <p:nvPr/>
        </p:nvSpPr>
        <p:spPr>
          <a:xfrm rot="19641000">
            <a:off x="108000" y="422064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"/>
          <p:cNvSpPr/>
          <p:nvPr/>
        </p:nvSpPr>
        <p:spPr>
          <a:xfrm rot="19369200">
            <a:off x="171000" y="337032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7640" y="2205000"/>
            <a:ext cx="71748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692280"/>
            <a:ext cx="938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00ff">
                  <a:alpha val="41176"/>
                </a:srgbClr>
              </a:gs>
              <a:gs pos="100000">
                <a:srgbClr val="750075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"/>
          <p:cNvSpPr/>
          <p:nvPr/>
        </p:nvSpPr>
        <p:spPr>
          <a:xfrm flipH="1" rot="14233200">
            <a:off x="-239040" y="3125520"/>
            <a:ext cx="1622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9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flipH="1">
            <a:off x="8388000" y="5661000"/>
            <a:ext cx="755640" cy="100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872-6A3A-4521-A6E3-88F6FA44D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919560" y="-296640"/>
            <a:ext cx="2055960" cy="1887120"/>
            <a:chOff x="6919560" y="-296640"/>
            <a:chExt cx="2055960" cy="1887120"/>
          </a:xfrm>
        </p:grpSpPr>
        <p:sp>
          <p:nvSpPr>
            <p:cNvPr id="254" name=""/>
            <p:cNvSpPr/>
            <p:nvPr/>
          </p:nvSpPr>
          <p:spPr>
            <a:xfrm flipH="1" rot="15880800">
              <a:off x="8216640" y="514080"/>
              <a:ext cx="716400" cy="469440"/>
            </a:xfrm>
            <a:custGeom>
              <a:avLst/>
              <a:gdLst>
                <a:gd name="textAreaLeft" fmla="*/ 168120 w 716400"/>
                <a:gd name="textAreaRight" fmla="*/ 547560 w 716400"/>
                <a:gd name="textAreaTop" fmla="*/ 55080 h 469440"/>
                <a:gd name="textAreaBottom" fmla="*/ 294480 h 469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3315800">
              <a:off x="8516880" y="1012680"/>
              <a:ext cx="282240" cy="554400"/>
            </a:xfrm>
            <a:custGeom>
              <a:avLst/>
              <a:gdLst>
                <a:gd name="textAreaLeft" fmla="*/ 66600 w 282240"/>
                <a:gd name="textAreaRight" fmla="*/ 216000 w 282240"/>
                <a:gd name="textAreaTop" fmla="*/ 65160 h 554400"/>
                <a:gd name="textAreaBottom" fmla="*/ 347760 h 55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2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8870600">
              <a:off x="8008200" y="477720"/>
              <a:ext cx="334080" cy="187560"/>
            </a:xfrm>
            <a:custGeom>
              <a:avLst/>
              <a:gdLst>
                <a:gd name="textAreaLeft" fmla="*/ 78480 w 334080"/>
                <a:gd name="textAreaRight" fmla="*/ 255600 w 334080"/>
                <a:gd name="textAreaTop" fmla="*/ 21960 h 187560"/>
                <a:gd name="textAreaBottom" fmla="*/ 117720 h 187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7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4734200">
              <a:off x="8037000" y="827280"/>
              <a:ext cx="238680" cy="156600"/>
            </a:xfrm>
            <a:custGeom>
              <a:avLst/>
              <a:gdLst>
                <a:gd name="textAreaLeft" fmla="*/ 56160 w 238680"/>
                <a:gd name="textAreaRight" fmla="*/ 182520 w 238680"/>
                <a:gd name="textAreaTop" fmla="*/ 18360 h 156600"/>
                <a:gd name="textAreaBottom" fmla="*/ 98280 h 156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38160">
              <a:solidFill>
                <a:srgbClr val="ff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8885600">
              <a:off x="8653680" y="370800"/>
              <a:ext cx="285840" cy="218880"/>
            </a:xfrm>
            <a:custGeom>
              <a:avLst/>
              <a:gdLst>
                <a:gd name="textAreaLeft" fmla="*/ 67320 w 285840"/>
                <a:gd name="textAreaRight" fmla="*/ 218880 w 285840"/>
                <a:gd name="textAreaTop" fmla="*/ 25560 h 218880"/>
                <a:gd name="textAreaBottom" fmla="*/ 137160 h 218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38160">
              <a:solidFill>
                <a:srgbClr val="ff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3315800">
              <a:off x="7632360" y="249480"/>
              <a:ext cx="62280" cy="144000"/>
            </a:xfrm>
            <a:custGeom>
              <a:avLst/>
              <a:gdLst>
                <a:gd name="textAreaLeft" fmla="*/ 14040 w 62280"/>
                <a:gd name="textAreaRight" fmla="*/ 47160 w 62280"/>
                <a:gd name="textAreaTop" fmla="*/ 16920 h 144000"/>
                <a:gd name="textAreaBottom" fmla="*/ 90360 h 144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2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8519600">
              <a:off x="7819200" y="268560"/>
              <a:ext cx="176760" cy="103320"/>
            </a:xfrm>
            <a:custGeom>
              <a:avLst/>
              <a:gdLst>
                <a:gd name="textAreaLeft" fmla="*/ 41400 w 176760"/>
                <a:gd name="textAreaRight" fmla="*/ 135360 w 176760"/>
                <a:gd name="textAreaTop" fmla="*/ 11880 h 103320"/>
                <a:gd name="textAreaBottom" fmla="*/ 64800 h 103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3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18791400">
              <a:off x="7450560" y="268200"/>
              <a:ext cx="119880" cy="47520"/>
            </a:xfrm>
            <a:custGeom>
              <a:avLst/>
              <a:gdLst>
                <a:gd name="textAreaLeft" fmla="*/ 28080 w 119880"/>
                <a:gd name="textAreaRight" fmla="*/ 91800 w 119880"/>
                <a:gd name="textAreaTop" fmla="*/ 5400 h 47520"/>
                <a:gd name="textAreaBottom" fmla="*/ 29880 h 47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6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560600">
              <a:off x="7219440" y="146880"/>
              <a:ext cx="475560" cy="1031400"/>
            </a:xfrm>
            <a:custGeom>
              <a:avLst/>
              <a:gdLst/>
              <a:ahLst/>
              <a:rect l="l" t="t" r="r" b="b"/>
              <a:pathLst>
                <a:path w="2305" h="1994">
                  <a:moveTo>
                    <a:pt x="2042" y="249"/>
                  </a:moveTo>
                  <a:cubicBezTo>
                    <a:pt x="1993" y="279"/>
                    <a:pt x="1895" y="343"/>
                    <a:pt x="1743" y="427"/>
                  </a:cubicBezTo>
                  <a:cubicBezTo>
                    <a:pt x="1591" y="511"/>
                    <a:pt x="1187" y="572"/>
                    <a:pt x="1130" y="755"/>
                  </a:cubicBezTo>
                  <a:cubicBezTo>
                    <a:pt x="1073" y="938"/>
                    <a:pt x="1588" y="1322"/>
                    <a:pt x="1402" y="1526"/>
                  </a:cubicBezTo>
                  <a:cubicBezTo>
                    <a:pt x="1216" y="1730"/>
                    <a:pt x="0" y="1960"/>
                    <a:pt x="15" y="1977"/>
                  </a:cubicBezTo>
                  <a:cubicBezTo>
                    <a:pt x="30" y="1994"/>
                    <a:pt x="1305" y="1827"/>
                    <a:pt x="1494" y="1629"/>
                  </a:cubicBezTo>
                  <a:cubicBezTo>
                    <a:pt x="1683" y="1431"/>
                    <a:pt x="1080" y="1000"/>
                    <a:pt x="1149" y="791"/>
                  </a:cubicBezTo>
                  <a:cubicBezTo>
                    <a:pt x="1218" y="582"/>
                    <a:pt x="1714" y="509"/>
                    <a:pt x="1907" y="377"/>
                  </a:cubicBezTo>
                  <a:cubicBezTo>
                    <a:pt x="2100" y="245"/>
                    <a:pt x="2222" y="79"/>
                    <a:pt x="2305" y="0"/>
                  </a:cubicBezTo>
                </a:path>
              </a:pathLst>
            </a:custGeom>
            <a:solidFill>
              <a:srgbClr val="ff0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327400">
              <a:off x="7519320" y="-248760"/>
              <a:ext cx="705600" cy="1572120"/>
            </a:xfrm>
            <a:custGeom>
              <a:avLst/>
              <a:gdLst/>
              <a:ahLst/>
              <a:rect l="l" t="t" r="r" b="b"/>
              <a:pathLst>
                <a:path w="2305" h="1994">
                  <a:moveTo>
                    <a:pt x="2042" y="249"/>
                  </a:moveTo>
                  <a:cubicBezTo>
                    <a:pt x="1993" y="279"/>
                    <a:pt x="1895" y="343"/>
                    <a:pt x="1743" y="427"/>
                  </a:cubicBezTo>
                  <a:cubicBezTo>
                    <a:pt x="1591" y="511"/>
                    <a:pt x="1187" y="572"/>
                    <a:pt x="1130" y="755"/>
                  </a:cubicBezTo>
                  <a:cubicBezTo>
                    <a:pt x="1073" y="938"/>
                    <a:pt x="1588" y="1322"/>
                    <a:pt x="1402" y="1526"/>
                  </a:cubicBezTo>
                  <a:cubicBezTo>
                    <a:pt x="1216" y="1730"/>
                    <a:pt x="0" y="1960"/>
                    <a:pt x="15" y="1977"/>
                  </a:cubicBezTo>
                  <a:cubicBezTo>
                    <a:pt x="30" y="1994"/>
                    <a:pt x="1305" y="1827"/>
                    <a:pt x="1494" y="1629"/>
                  </a:cubicBezTo>
                  <a:cubicBezTo>
                    <a:pt x="1683" y="1431"/>
                    <a:pt x="1080" y="1000"/>
                    <a:pt x="1149" y="791"/>
                  </a:cubicBezTo>
                  <a:cubicBezTo>
                    <a:pt x="1218" y="582"/>
                    <a:pt x="1714" y="509"/>
                    <a:pt x="1907" y="377"/>
                  </a:cubicBezTo>
                  <a:cubicBezTo>
                    <a:pt x="2100" y="245"/>
                    <a:pt x="2222" y="79"/>
                    <a:pt x="2305" y="0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196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0:28:26Z</dcterms:created>
  <dc:creator>微软用户</dc:creator>
  <dc:description/>
  <dc:language>en-US</dc:language>
  <cp:lastModifiedBy>微软用户</cp:lastModifiedBy>
  <dcterms:modified xsi:type="dcterms:W3CDTF">2015-07-11T15:43:4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