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8E5A-8FC3-4B21-B97E-AAEC99A4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912-7E33-4578-A089-176E3EC8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A483-4C35-46BC-A6FD-C4B08935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61B-47A0-48E3-BB78-795AE2F7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48B-FA48-48E7-8A32-B638B0AF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C4F-F22E-4801-9EF4-B79FC983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761E-3E9F-47DD-81B2-145CF3A7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91D-FC14-436D-B806-90022A1A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F2E-5FCA-4286-9BEE-64EF9B09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A2D2-C9DF-430D-8A3F-26581D52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0F43-E391-4008-A2CD-481D97D9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BE97-35B1-4D21-9C98-9D77FAD2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9E51-A06A-4E8E-B27A-44E0ACFA883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22FE-C02D-4434-A431-F8F6DAEB224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155520" y="663480"/>
            <a:ext cx="8809200" cy="60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9" descr=""/>
          <p:cNvPicPr/>
          <p:nvPr/>
        </p:nvPicPr>
        <p:blipFill>
          <a:blip r:embed="rId2"/>
          <a:stretch/>
        </p:blipFill>
        <p:spPr>
          <a:xfrm>
            <a:off x="5508720" y="1509840"/>
            <a:ext cx="3476520" cy="51591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"/>
          <p:cNvPicPr/>
          <p:nvPr/>
        </p:nvPicPr>
        <p:blipFill>
          <a:blip r:embed="rId3"/>
          <a:stretch/>
        </p:blipFill>
        <p:spPr>
          <a:xfrm>
            <a:off x="324000" y="3583080"/>
            <a:ext cx="4032000" cy="3065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6" name="图片 11" descr=""/>
          <p:cNvPicPr/>
          <p:nvPr/>
        </p:nvPicPr>
        <p:blipFill>
          <a:blip r:embed="rId4"/>
          <a:stretch/>
        </p:blipFill>
        <p:spPr>
          <a:xfrm>
            <a:off x="252360" y="765000"/>
            <a:ext cx="4083120" cy="27244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2629080" y="1413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0280" y="693720"/>
            <a:ext cx="42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接电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BD0C-C12A-4C20-ABA6-28C42F553C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 www.1ppt.com</cp:keywords>
  <dc:language>en-US</dc:language>
  <cp:lastModifiedBy>lenovo</cp:lastModifiedBy>
  <dcterms:modified xsi:type="dcterms:W3CDTF">2015-07-11T15:43:54Z</dcterms:modified>
  <cp:revision>945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