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01E-A7E4-4298-AAB0-8A87C00B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C00-082E-428D-A32B-846DA5E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85E-4E2A-4AE4-A7D5-55EE5484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E14-2186-4A1F-ABA0-48DFBBF0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38A-E662-40F4-A00A-C5809878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878-3B4D-43ED-BCFA-8AEAF64A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814-C5BD-4F61-B906-7B039A95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B94-0959-4519-8DF8-0933BEE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286-9137-4FB5-9AA3-57EA74DB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322-EB4F-4D2F-91FE-AB2B3D1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D79-B419-4D4D-905D-C26B6BC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53C-FD2A-4E5B-BC43-DBD6020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74AA-A4ED-4CF0-816B-E37E608813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liyongbo\Desktop\mbkp\模板-0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7040" y="16905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873320" y="770040"/>
            <a:ext cx="28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简单是种艺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liyongbo\Desktop\mbkp\模板-0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liyongbo\Desktop\mbkp\模板-0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liyongbo\Desktop\mbkp\模板-0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liyongbo\Desktop\mbkp\模板-0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liyongbo\Desktop\mbkp\模板-0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728-5B2F-47EF-BED3-F4E7672787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liyongbo\Desktop\mbkp\模板-06.jpg"/>
          <p:cNvPicPr/>
          <p:nvPr/>
        </p:nvPicPr>
        <p:blipFill>
          <a:blip r:embed="rId1"/>
          <a:stretch/>
        </p:blipFill>
        <p:spPr>
          <a:xfrm>
            <a:off x="-12600" y="-12600"/>
            <a:ext cx="12190320" cy="6872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liyongbo\Desktop\mbkp\模板-08.jpg"/>
          <p:cNvPicPr/>
          <p:nvPr/>
        </p:nvPicPr>
        <p:blipFill>
          <a:blip r:embed="rId1"/>
          <a:srcRect l="115" t="0" r="0" b="0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liyongbo\Desktop\mbkp\模板-09.jpg"/>
          <p:cNvPicPr/>
          <p:nvPr/>
        </p:nvPicPr>
        <p:blipFill>
          <a:blip r:embed="rId1"/>
          <a:stretch/>
        </p:blipFill>
        <p:spPr>
          <a:xfrm>
            <a:off x="0" y="-4680"/>
            <a:ext cx="121921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28:21Z</dcterms:created>
  <dc:creator>An</dc:creator>
  <dc:description/>
  <dc:language>en-US</dc:language>
  <cp:lastModifiedBy/>
  <dcterms:modified xsi:type="dcterms:W3CDTF">2015-07-11T07:10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