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F4B-CA65-4680-BE06-F1A88BF3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CF0-1419-40CB-8B6A-3E0B0FDA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E69-C445-453F-BF4B-C4048183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D57-4F71-4161-8940-D56CB89C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BCE-828E-402C-BEB3-83A93A16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0D7-64F0-4853-9388-423EE177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C8B-1275-441D-9F30-0D54CD02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D97-9039-4678-BBD9-103AD10C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DAE-6EBE-4E9F-B5D0-86CF2150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0C32-CEB1-4E6C-AD6B-CF6D7FF9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3061-D813-477E-9DF0-4392085E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E42-4ED8-4EA9-865F-E8F3914B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2B93-62AF-45B7-BB6A-572098766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2708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酒店业职业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3573360"/>
            <a:ext cx="8351640" cy="0"/>
          </a:xfrm>
          <a:prstGeom prst="line">
            <a:avLst/>
          </a:prstGeom>
          <a:ln w="28440">
            <a:solidFill>
              <a:srgbClr val="81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407664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8480" y="762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電話接線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5720" y="129384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Telephone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5840" y="2044800"/>
            <a:ext cx="221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晉升機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Promotion Opport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14800" y="2057400"/>
            <a:ext cx="283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電話接線經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Telephone Services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29120" y="2743200"/>
            <a:ext cx="300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電話接線主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Telephone Services Super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34560" y="3429000"/>
            <a:ext cx="199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電話接線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Telephone Op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operator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3733920" cy="31273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  <p:transition spd="med">
    <p:pull dir="u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3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74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7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31760" y="758880"/>
            <a:ext cx="13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華康中黑體"/>
              </a:rPr>
              <a:t>你能勝任嗎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華康中黑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1760" y="130644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華康中黑體"/>
              </a:rPr>
              <a:t>Are you Qualifi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78120" y="1905120"/>
            <a:ext cx="452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華康中黑體"/>
              </a:rPr>
              <a:t>Personality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華康中黑體"/>
              </a:rPr>
              <a:t>性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Pleasant &amp; Courteous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友善及有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Helpful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樂於助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Adaptable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易於適應各種工作環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Decisive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思考敏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With a sense of humour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富幽默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66600" y="4724280"/>
            <a:ext cx="390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華康中黑體"/>
              </a:rPr>
              <a:t>Appearance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華康中黑體"/>
              </a:rPr>
              <a:t>儀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Presentable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大方得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With Friendly Smile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笑容可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4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74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44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31760" y="758880"/>
            <a:ext cx="13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華康中黑體"/>
              </a:rPr>
              <a:t>你能勝任嗎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華康中黑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1760" y="129384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華康中黑體"/>
              </a:rPr>
              <a:t>Are you Qualifi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1760" y="2470320"/>
            <a:ext cx="668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華康中黑體"/>
              </a:rPr>
              <a:t>Education &amp; Skill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華康中黑體"/>
              </a:rPr>
              <a:t>學歷及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From 3 Standard or Above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中三程度或以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Vocational Training Preferred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有專業訓練為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Good Spoken English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良好英文水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Ability to speak another language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能操其他外語更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especially for you" descr=""/>
          <p:cNvPicPr/>
          <p:nvPr/>
        </p:nvPicPr>
        <p:blipFill>
          <a:blip r:embed="rId1"/>
          <a:stretch/>
        </p:blipFill>
        <p:spPr>
          <a:xfrm>
            <a:off x="3200400" y="2066760"/>
            <a:ext cx="2743200" cy="2724480"/>
          </a:xfrm>
          <a:prstGeom prst="rect">
            <a:avLst/>
          </a:prstGeom>
          <a:ln w="0">
            <a:noFill/>
          </a:ln>
        </p:spPr>
      </p:pic>
      <p:pic>
        <p:nvPicPr>
          <p:cNvPr id="134" name="look at this" descr=""/>
          <p:cNvPicPr/>
          <p:nvPr/>
        </p:nvPicPr>
        <p:blipFill>
          <a:blip r:embed="rId2"/>
          <a:stretch/>
        </p:blipFill>
        <p:spPr>
          <a:xfrm>
            <a:off x="6858000" y="152280"/>
            <a:ext cx="1895400" cy="1551240"/>
          </a:xfrm>
          <a:prstGeom prst="rect">
            <a:avLst/>
          </a:prstGeom>
          <a:ln w="0">
            <a:noFill/>
          </a:ln>
        </p:spPr>
      </p:pic>
      <p:pic>
        <p:nvPicPr>
          <p:cNvPr id="135" name="career development" descr=""/>
          <p:cNvPicPr/>
          <p:nvPr/>
        </p:nvPicPr>
        <p:blipFill>
          <a:blip r:embed="rId3"/>
          <a:stretch/>
        </p:blipFill>
        <p:spPr>
          <a:xfrm>
            <a:off x="0" y="0"/>
            <a:ext cx="2630520" cy="2622600"/>
          </a:xfrm>
          <a:prstGeom prst="rect">
            <a:avLst/>
          </a:prstGeom>
          <a:ln w="0">
            <a:noFill/>
          </a:ln>
        </p:spPr>
      </p:pic>
      <p:pic>
        <p:nvPicPr>
          <p:cNvPr id="136" name="education &amp; training" descr=""/>
          <p:cNvPicPr/>
          <p:nvPr/>
        </p:nvPicPr>
        <p:blipFill>
          <a:blip r:embed="rId4"/>
          <a:stretch/>
        </p:blipFill>
        <p:spPr>
          <a:xfrm>
            <a:off x="609480" y="2122560"/>
            <a:ext cx="2630520" cy="2612880"/>
          </a:xfrm>
          <a:prstGeom prst="rect">
            <a:avLst/>
          </a:prstGeom>
          <a:ln w="0">
            <a:noFill/>
          </a:ln>
        </p:spPr>
      </p:pic>
      <p:pic>
        <p:nvPicPr>
          <p:cNvPr id="137" name="grantuity" descr=""/>
          <p:cNvPicPr/>
          <p:nvPr/>
        </p:nvPicPr>
        <p:blipFill>
          <a:blip r:embed="rId5"/>
          <a:stretch/>
        </p:blipFill>
        <p:spPr>
          <a:xfrm>
            <a:off x="228600" y="4208400"/>
            <a:ext cx="2597040" cy="2649600"/>
          </a:xfrm>
          <a:prstGeom prst="rect">
            <a:avLst/>
          </a:prstGeom>
          <a:ln w="0">
            <a:noFill/>
          </a:ln>
        </p:spPr>
      </p:pic>
      <p:pic>
        <p:nvPicPr>
          <p:cNvPr id="138" name="medical scheme" descr=""/>
          <p:cNvPicPr/>
          <p:nvPr/>
        </p:nvPicPr>
        <p:blipFill>
          <a:blip r:embed="rId6"/>
          <a:stretch/>
        </p:blipFill>
        <p:spPr>
          <a:xfrm>
            <a:off x="3255840" y="4245120"/>
            <a:ext cx="2630520" cy="2612880"/>
          </a:xfrm>
          <a:prstGeom prst="rect">
            <a:avLst/>
          </a:prstGeom>
          <a:ln w="0">
            <a:noFill/>
          </a:ln>
        </p:spPr>
      </p:pic>
      <p:pic>
        <p:nvPicPr>
          <p:cNvPr id="139" name="meet many faces" descr=""/>
          <p:cNvPicPr/>
          <p:nvPr/>
        </p:nvPicPr>
        <p:blipFill>
          <a:blip r:embed="rId7"/>
          <a:stretch/>
        </p:blipFill>
        <p:spPr>
          <a:xfrm>
            <a:off x="6095880" y="3962520"/>
            <a:ext cx="2630520" cy="2612880"/>
          </a:xfrm>
          <a:prstGeom prst="rect">
            <a:avLst/>
          </a:prstGeom>
          <a:ln w="0">
            <a:noFill/>
          </a:ln>
        </p:spPr>
      </p:pic>
      <p:pic>
        <p:nvPicPr>
          <p:cNvPr id="140" name="Pfund" descr=""/>
          <p:cNvPicPr/>
          <p:nvPr/>
        </p:nvPicPr>
        <p:blipFill>
          <a:blip r:embed="rId8"/>
          <a:stretch/>
        </p:blipFill>
        <p:spPr>
          <a:xfrm>
            <a:off x="6629400" y="1828800"/>
            <a:ext cx="2325600" cy="2327400"/>
          </a:xfrm>
          <a:prstGeom prst="rect">
            <a:avLst/>
          </a:prstGeom>
          <a:ln w="0">
            <a:noFill/>
          </a:ln>
        </p:spPr>
      </p:pic>
      <p:pic>
        <p:nvPicPr>
          <p:cNvPr id="141" name="show your competence" descr=""/>
          <p:cNvPicPr/>
          <p:nvPr/>
        </p:nvPicPr>
        <p:blipFill>
          <a:blip r:embed="rId9"/>
          <a:stretch/>
        </p:blipFill>
        <p:spPr>
          <a:xfrm>
            <a:off x="4343400" y="0"/>
            <a:ext cx="2630520" cy="2612880"/>
          </a:xfrm>
          <a:prstGeom prst="rect">
            <a:avLst/>
          </a:prstGeom>
          <a:ln w="0">
            <a:noFill/>
          </a:ln>
        </p:spPr>
      </p:pic>
      <p:pic>
        <p:nvPicPr>
          <p:cNvPr id="142" name="staff activities" descr=""/>
          <p:cNvPicPr/>
          <p:nvPr/>
        </p:nvPicPr>
        <p:blipFill>
          <a:blip r:embed="rId10"/>
          <a:stretch/>
        </p:blipFill>
        <p:spPr>
          <a:xfrm>
            <a:off x="2209680" y="0"/>
            <a:ext cx="2597400" cy="2649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ank You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5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74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華康中黑體"/>
              </a:rPr>
              <a:t>歡迎加入酒店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28520" y="2057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Welcome to Hotel Indu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welcom" descr=""/>
          <p:cNvPicPr/>
          <p:nvPr/>
        </p:nvPicPr>
        <p:blipFill>
          <a:blip r:embed="rId2"/>
          <a:stretch/>
        </p:blipFill>
        <p:spPr>
          <a:xfrm>
            <a:off x="3251160" y="2971800"/>
            <a:ext cx="2639880" cy="3392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43200" y="380880"/>
            <a:ext cx="3657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酒店部門架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86280" y="1066680"/>
            <a:ext cx="2971800" cy="7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總經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760920"/>
            <a:ext cx="1143000" cy="9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營業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ing &amp;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3760920"/>
            <a:ext cx="1066680" cy="9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客務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3760920"/>
            <a:ext cx="1066680" cy="9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飲食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od &amp; Be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760920"/>
            <a:ext cx="1524240" cy="7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管家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3760920"/>
            <a:ext cx="1066680" cy="7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保安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43800" y="3760920"/>
            <a:ext cx="1447920" cy="9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工程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air &amp;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105520"/>
            <a:ext cx="1219320" cy="9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人力資源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5105520"/>
            <a:ext cx="1066680" cy="7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會計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5105520"/>
            <a:ext cx="1066680" cy="9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公關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5105520"/>
            <a:ext cx="1371600" cy="7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採購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5248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3526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33526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3526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33526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29600" y="33526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33526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3352680"/>
            <a:ext cx="0" cy="1676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3352680"/>
            <a:ext cx="0" cy="1676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3352680"/>
            <a:ext cx="0" cy="1676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1520" y="3352680"/>
            <a:ext cx="0" cy="1676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2133720"/>
            <a:ext cx="1676160" cy="7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駐店經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p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3880" y="243828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297180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  <a:ea typeface="華康中黑體"/>
              </a:rPr>
              <a:t>職位介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46440" y="762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侍應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640" y="129384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Food &amp; Beverage Waiter/Wai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5840" y="2044800"/>
            <a:ext cx="221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晉升機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Promotion Opport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53040" y="205740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飲食部經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Food &amp; Beverage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10960" y="274320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飲食部副經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Assistant Food &amp; Beverage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48600" y="3429000"/>
            <a:ext cx="202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餐廳經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Restaura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25840" y="4114800"/>
            <a:ext cx="22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總領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Head Waiter / Wait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22440" y="480060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部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Cap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3800" y="5486400"/>
            <a:ext cx="16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侍應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Waiter/Wait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AITER" descr=""/>
          <p:cNvPicPr/>
          <p:nvPr/>
        </p:nvPicPr>
        <p:blipFill>
          <a:blip r:embed="rId2"/>
          <a:stretch/>
        </p:blipFill>
        <p:spPr>
          <a:xfrm>
            <a:off x="838080" y="2666880"/>
            <a:ext cx="2217960" cy="38862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  <p:transition spd="med">
    <p:pull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1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74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22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85600" y="7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廚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5000" y="12938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C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5840" y="2044800"/>
            <a:ext cx="221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晉升機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Promotion Opport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58480" y="2057400"/>
            <a:ext cx="15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行政總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Executive Che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8720" y="2743200"/>
            <a:ext cx="112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總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Sous Che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06680" y="3429000"/>
            <a:ext cx="65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廚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C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92240" y="4114800"/>
            <a:ext cx="168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學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Apprentice C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ook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2454480" cy="379584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924360" y="6021360"/>
            <a:ext cx="5184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2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74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48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46440" y="762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房務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4280" y="129384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Room Atte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5840" y="2044800"/>
            <a:ext cx="221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晉升機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Promotion Opport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07400" y="2057400"/>
            <a:ext cx="232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行政管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Executive Housekee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36200" y="2724120"/>
            <a:ext cx="227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助理管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Assistant Housekee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26000" y="339084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總領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Head Super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37520" y="4057560"/>
            <a:ext cx="166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房務領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Floor Super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49760" y="4724280"/>
            <a:ext cx="164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房務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Room Attend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ttendant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3467160" cy="33732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  <p:transition spd="med">
    <p:pull dir="l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74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22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46440" y="762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行李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5000" y="12938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Bell Atte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5840" y="2044800"/>
            <a:ext cx="221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晉升機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Promotion Opport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33560" y="2057400"/>
            <a:ext cx="163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禮賓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Chief Conci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74320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行李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Bell Cap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28600" y="3429000"/>
            <a:ext cx="144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行李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Bell Attend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ell attendant" descr=""/>
          <p:cNvPicPr/>
          <p:nvPr/>
        </p:nvPicPr>
        <p:blipFill>
          <a:blip r:embed="rId2"/>
          <a:stretch/>
        </p:blipFill>
        <p:spPr>
          <a:xfrm>
            <a:off x="1295280" y="2666880"/>
            <a:ext cx="1911600" cy="390528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  <p:transition spd="med">
    <p:pull dir="r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3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74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22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46440" y="762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接待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5000" y="1293840"/>
            <a:ext cx="43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Front Desk Clerk / Reception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5840" y="2044800"/>
            <a:ext cx="221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晉升機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Promotion Opport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51840" y="2057400"/>
            <a:ext cx="209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大堂經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Front Office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13000" y="2724120"/>
            <a:ext cx="297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大堂副經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Assistant Front Office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70640" y="3390840"/>
            <a:ext cx="186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副經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Assista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01440" y="4057560"/>
            <a:ext cx="219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款接部主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Front Desk Super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06160" y="4724280"/>
            <a:ext cx="299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款接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Front Desk Clerk / Reception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INLINE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3140280" cy="36576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  <p:transition spd="med">
    <p:pull dir="d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3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74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22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13:36Z</dcterms:created>
  <dc:creator/>
  <dc:description/>
  <cp:keywords>酒店 职业介绍</cp:keywords>
  <dc:language>en-US</dc:language>
  <cp:lastModifiedBy/>
  <dcterms:modified xsi:type="dcterms:W3CDTF">2015-07-09T13:15:3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