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B6C-74E3-464A-945D-215C1FF2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278-3229-4BB9-A587-EFA8A40D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670-376C-49B5-BCB1-FCF50D48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5F5-1304-4C6E-AFBB-3F7E5FF8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2EA-FE43-4B6B-BE1E-F1F3A590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894-128D-4758-B6CE-5709B2B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7DDA-6FEA-4A0B-AEC6-6720F392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AE5-FBDF-4F87-A416-8F86A43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0837-3C5B-40A7-B602-2CCA03B4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65B2-3CBF-42F3-8C36-B9A7F1D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8C5-4BB5-48B6-BA12-E7BB286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43D-EF05-46D4-A168-A993DCFE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4CF-AAE7-4834-A360-E07ECBC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FA0-F184-4227-A967-D96698C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59A-9C09-4CFD-B7C2-16A42DCB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ABAC-2CD2-42BA-BC63-AA81C3AF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447-8882-4C53-AE9B-88BDB68F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AFE-D668-4267-9EE1-546CF811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B19-EE8F-498F-9374-1ABE362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CC8-20B4-4A07-BEFD-C8755AD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9F3-96B4-4124-BA58-2582A04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6E1-3B74-40F1-A973-2B623AB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019-C5C6-44EE-B6CF-37EE3D1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521-D8C4-4723-9384-994C7B9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F77-1D86-4C81-B0A3-7C48D40B684D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0130-1375-4C50-B5BC-279FD449EC19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39152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计算机</a:t>
            </a: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模板在线下载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181120"/>
            <a:ext cx="6934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51040" y="3894120"/>
            <a:ext cx="6242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计算机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952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8954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66880" y="74628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670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8672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467480" y="76212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743920" y="4111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5200" y="4111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960" y="4111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4160" y="4111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51:36Z</dcterms:created>
  <dc:creator>eclipse</dc:creator>
  <dc:description/>
  <dc:language>en-US</dc:language>
  <cp:lastModifiedBy>微软用户</cp:lastModifiedBy>
  <dcterms:modified xsi:type="dcterms:W3CDTF">2015-07-05T07:02:17Z</dcterms:modified>
  <cp:revision>2</cp:revision>
  <dc:subject/>
  <dc:title>BUSINESS RE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