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24.jpeg" ContentType="image/jpeg"/>
  <Override PartName="/ppt/media/image30.jpeg" ContentType="image/jpeg"/>
  <Override PartName="/ppt/media/image13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49C-127A-49A3-92D7-FE234DBA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4E5-D482-4DF5-B798-ABA9878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B1E-C38D-4866-8774-565BC64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FBA-5306-48C2-9DA1-791840B7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B24A-6574-477E-B27D-C17626F2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C326-841C-4C66-9242-159C1F8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871F-E60F-4214-8F1F-8BCA711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04D3-569B-40F2-BE46-25183C3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3B4-A2F8-4334-9855-2AD0DFEF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B6C-9FA5-4A92-87AB-142CEE8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F1FA-5D47-43BF-90CA-959EA24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B07-6A9A-4E8E-A1F2-E687C208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58C9-54B0-441E-BEE2-7B8CB93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73B7-6B91-45F3-B70F-881DBD1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3A4C-F5A8-4E0D-8750-3DCC04FA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430-D5B7-4D90-A5D7-59602CE3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955A-9153-4DEB-9178-E593CD20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A86-2860-4A2D-BF2E-01A0FF13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F79-F057-469C-96F1-07884B76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7EF-C32A-40D6-82B9-8BFB58FF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8B2-04A6-4EAA-B472-F572D27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7A0-72D1-4172-B384-065F3CD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6AF-25DD-46CF-93AE-E31FFF2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1AB-3439-4C4D-9209-DCCB89B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C92-9301-4DEF-AAB2-8A120C7B485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68880" y="13600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84520" y="530640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DEB-B1E7-486D-84DD-BF3065AB13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600200" y="380988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d882"/>
                </a:solidFill>
                <a:latin typeface="宋体"/>
              </a:rPr>
              <a:t>二、建设社会主义精神文明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ecd882"/>
              </a:solidFill>
              <a:latin typeface="宋体"/>
              <a:ea typeface="宋体"/>
            </a:endParaRPr>
          </a:p>
        </p:txBody>
      </p:sp>
      <p:sp>
        <p:nvSpPr>
          <p:cNvPr id="209" name=""/>
          <p:cNvSpPr/>
          <p:nvPr/>
        </p:nvSpPr>
        <p:spPr>
          <a:xfrm>
            <a:off x="2906640" y="234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81240" y="2971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2286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）建设社会主义精神文明，必须大力发展文化事业和文化产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4920" y="152280"/>
            <a:ext cx="8533800" cy="2971800"/>
            <a:chOff x="304920" y="152280"/>
            <a:chExt cx="8533800" cy="2971800"/>
          </a:xfrm>
        </p:grpSpPr>
        <p:pic>
          <p:nvPicPr>
            <p:cNvPr id="309" name="2932,9ffc4,dcf,1%5B1%5D" descr=""/>
            <p:cNvPicPr/>
            <p:nvPr/>
          </p:nvPicPr>
          <p:blipFill>
            <a:blip r:embed="rId1"/>
            <a:stretch/>
          </p:blipFill>
          <p:spPr>
            <a:xfrm>
              <a:off x="304920" y="152280"/>
              <a:ext cx="28951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419360" y="2057400"/>
              <a:ext cx="4419360" cy="1066680"/>
            </a:xfrm>
            <a:prstGeom prst="cloudCallout">
              <a:avLst>
                <a:gd name="adj1" fmla="val -53125"/>
                <a:gd name="adj2" fmla="val 69939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5160" y="213336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ahoma"/>
                </a:rPr>
                <a:t>江泽民在党的十六大报告中指出：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04920" y="3429000"/>
            <a:ext cx="8686800" cy="3199320"/>
            <a:chOff x="304920" y="3429000"/>
            <a:chExt cx="8686800" cy="3199320"/>
          </a:xfrm>
        </p:grpSpPr>
        <p:grpSp>
          <p:nvGrpSpPr>
            <p:cNvPr id="313" name=""/>
            <p:cNvGrpSpPr/>
            <p:nvPr/>
          </p:nvGrpSpPr>
          <p:grpSpPr>
            <a:xfrm>
              <a:off x="304920" y="3429000"/>
              <a:ext cx="8686800" cy="3199320"/>
              <a:chOff x="304920" y="3429000"/>
              <a:chExt cx="8686800" cy="31993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309240" y="3445200"/>
                <a:ext cx="8677080" cy="3165840"/>
                <a:chOff x="309240" y="3445200"/>
                <a:chExt cx="8677080" cy="31658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09240" y="3445200"/>
                  <a:ext cx="8677080" cy="3165840"/>
                </a:xfrm>
                <a:prstGeom prst="rect">
                  <a:avLst/>
                </a:prstGeom>
                <a:solidFill>
                  <a:srgbClr val="fff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309240" y="3445200"/>
                  <a:ext cx="8677080" cy="3164760"/>
                  <a:chOff x="309240" y="3445200"/>
                  <a:chExt cx="8677080" cy="31647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09240" y="3445200"/>
                    <a:ext cx="8677080" cy="3164760"/>
                  </a:xfrm>
                  <a:prstGeom prst="rect">
                    <a:avLst/>
                  </a:prstGeom>
                  <a:solidFill>
                    <a:srgbClr val="fffb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693e38"/>
                        </a:solidFill>
                        <a:latin typeface="宋体"/>
                      </a:rPr>
                      <a:t>国家支持和保障文化公益事业，并鼓励它们增强自身发展活力。坚持和完善支持文化公益事业发展的政策措施，扶持党和国家重要的新闻媒体和社会科学研究机构，扶持体现民族特色和国家水准的重大文化项目和艺术院团，扶持对重要文化遗产和优秀民间艺术的保护工作，扶持老少边穷地区和中西部地区的文化发展。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693e38"/>
                        </a:solidFill>
                        <a:latin typeface="宋体"/>
                      </a:rPr>
                      <a:t>完善文化产业政策，支持文化产业发展，增强我国文化产业的整体实力和竞争力。 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09240" y="3445200"/>
                    <a:ext cx="8677080" cy="3164760"/>
                  </a:xfrm>
                  <a:prstGeom prst="rect">
                    <a:avLst/>
                  </a:prstGeom>
                  <a:noFill/>
                  <a:ln w="0">
                    <a:solidFill>
                      <a:srgbClr val="fffbf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304920" y="3429000"/>
                <a:ext cx="8686800" cy="3199320"/>
              </a:xfrm>
              <a:prstGeom prst="rect">
                <a:avLst/>
              </a:prstGeom>
              <a:noFill/>
              <a:ln w="9360">
                <a:solidFill>
                  <a:srgbClr val="db33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20" name="0005" descr=""/>
            <p:cNvPicPr/>
            <p:nvPr/>
          </p:nvPicPr>
          <p:blipFill>
            <a:blip r:embed="rId2"/>
            <a:stretch/>
          </p:blipFill>
          <p:spPr>
            <a:xfrm>
              <a:off x="8610840" y="6248520"/>
              <a:ext cx="285480" cy="28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9900ff"/>
                </a:solidFill>
                <a:latin typeface="Tahoma"/>
              </a:rPr>
              <a:t>）建设社会主义精神文明必须立足于中国特色社会主义实践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3505320"/>
            <a:ext cx="2895480" cy="2895480"/>
            <a:chOff x="228600" y="3505320"/>
            <a:chExt cx="2895480" cy="2895480"/>
          </a:xfrm>
        </p:grpSpPr>
        <p:sp>
          <p:nvSpPr>
            <p:cNvPr id="323" name=""/>
            <p:cNvSpPr/>
            <p:nvPr/>
          </p:nvSpPr>
          <p:spPr>
            <a:xfrm>
              <a:off x="228600" y="3505320"/>
              <a:ext cx="2895480" cy="2895480"/>
            </a:xfrm>
            <a:prstGeom prst="flowChartMultidocumen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920" y="419112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离开了建设中国特色的社会主义实践，……就说不清楚；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124080" y="3429000"/>
            <a:ext cx="2895480" cy="2895480"/>
            <a:chOff x="3124080" y="3429000"/>
            <a:chExt cx="2895480" cy="2895480"/>
          </a:xfrm>
        </p:grpSpPr>
        <p:sp>
          <p:nvSpPr>
            <p:cNvPr id="326" name=""/>
            <p:cNvSpPr/>
            <p:nvPr/>
          </p:nvSpPr>
          <p:spPr>
            <a:xfrm>
              <a:off x="3124080" y="3429000"/>
              <a:ext cx="2895480" cy="2895480"/>
            </a:xfrm>
            <a:prstGeom prst="flowChartMultidocumen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76360" y="411480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离开了建设中国特色的社会主义实践，……就会懵懵懂懂；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019920" y="3429000"/>
            <a:ext cx="2895480" cy="2895480"/>
            <a:chOff x="6019920" y="3429000"/>
            <a:chExt cx="2895480" cy="2895480"/>
          </a:xfrm>
        </p:grpSpPr>
        <p:sp>
          <p:nvSpPr>
            <p:cNvPr id="329" name=""/>
            <p:cNvSpPr/>
            <p:nvPr/>
          </p:nvSpPr>
          <p:spPr>
            <a:xfrm>
              <a:off x="6019920" y="3429000"/>
              <a:ext cx="2895480" cy="2895480"/>
            </a:xfrm>
            <a:prstGeom prst="flowChartMultidocumen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6240" y="411480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离开了建设中国特色的社会主义实践，……从而失去生机和活力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62120" y="2209680"/>
            <a:ext cx="7848000" cy="609480"/>
            <a:chOff x="762120" y="2209680"/>
            <a:chExt cx="7848000" cy="609480"/>
          </a:xfrm>
        </p:grpSpPr>
        <p:sp>
          <p:nvSpPr>
            <p:cNvPr id="332" name=""/>
            <p:cNvSpPr/>
            <p:nvPr/>
          </p:nvSpPr>
          <p:spPr>
            <a:xfrm>
              <a:off x="6476760" y="2209680"/>
              <a:ext cx="137124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924680" y="2286000"/>
              <a:ext cx="6854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3300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为什么？</a:t>
              </a:r>
              <a:endParaRPr b="1" lang="en-US" sz="24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120" y="2209680"/>
              <a:ext cx="137124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209680" y="2209680"/>
              <a:ext cx="6854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3300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为什么？</a:t>
              </a:r>
              <a:endParaRPr b="1" lang="en-US" sz="24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3560" y="2209680"/>
              <a:ext cx="137124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5181480" y="2209680"/>
              <a:ext cx="6854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3300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为什么？</a:t>
              </a:r>
              <a:endParaRPr b="1" lang="en-US" sz="24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7000" y="6219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088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）人民群众是精神文明创建活动的主体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人民群众在社会主义精神文明创建活动中，创造了丰富多彩的形式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1828800"/>
            <a:ext cx="2209680" cy="2295360"/>
            <a:chOff x="304920" y="1828800"/>
            <a:chExt cx="2209680" cy="2295360"/>
          </a:xfrm>
        </p:grpSpPr>
        <p:grpSp>
          <p:nvGrpSpPr>
            <p:cNvPr id="342" name=""/>
            <p:cNvGrpSpPr/>
            <p:nvPr/>
          </p:nvGrpSpPr>
          <p:grpSpPr>
            <a:xfrm>
              <a:off x="304920" y="1828800"/>
              <a:ext cx="2209680" cy="1914480"/>
              <a:chOff x="304920" y="1828800"/>
              <a:chExt cx="2209680" cy="1914480"/>
            </a:xfrm>
          </p:grpSpPr>
          <p:pic>
            <p:nvPicPr>
              <p:cNvPr id="343" name="images%5B66%5D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828800"/>
                <a:ext cx="2209680" cy="14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 txBox="1"/>
              <p:nvPr/>
            </p:nvSpPr>
            <p:spPr>
              <a:xfrm>
                <a:off x="381240" y="3429000"/>
                <a:ext cx="188568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讲文明树新风的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sp>
          <p:nvSpPr>
            <p:cNvPr id="345" name=""/>
            <p:cNvSpPr txBox="1"/>
            <p:nvPr/>
          </p:nvSpPr>
          <p:spPr>
            <a:xfrm>
              <a:off x="381240" y="3809880"/>
              <a:ext cx="18856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各种创建活动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819520" y="1828800"/>
            <a:ext cx="2057400" cy="2219400"/>
            <a:chOff x="2819520" y="1828800"/>
            <a:chExt cx="2057400" cy="2219400"/>
          </a:xfrm>
        </p:grpSpPr>
        <p:sp>
          <p:nvSpPr>
            <p:cNvPr id="347" name=""/>
            <p:cNvSpPr txBox="1"/>
            <p:nvPr/>
          </p:nvSpPr>
          <p:spPr>
            <a:xfrm>
              <a:off x="3048120" y="3429000"/>
              <a:ext cx="157176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创先争优等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819520" y="1828800"/>
              <a:ext cx="2057400" cy="2219400"/>
              <a:chOff x="2819520" y="1828800"/>
              <a:chExt cx="2057400" cy="2219400"/>
            </a:xfrm>
          </p:grpSpPr>
          <p:pic>
            <p:nvPicPr>
              <p:cNvPr id="349" name="images%5B59%5D" descr="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1828800"/>
                <a:ext cx="2057400" cy="14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 txBox="1"/>
              <p:nvPr/>
            </p:nvSpPr>
            <p:spPr>
              <a:xfrm>
                <a:off x="3200400" y="3733920"/>
                <a:ext cx="125748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各种活动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5181480" y="1295280"/>
            <a:ext cx="1600200" cy="2590920"/>
            <a:chOff x="5181480" y="1295280"/>
            <a:chExt cx="1600200" cy="2590920"/>
          </a:xfrm>
        </p:grpSpPr>
        <p:pic>
          <p:nvPicPr>
            <p:cNvPr id="352" name="希望工程" descr=""/>
            <p:cNvPicPr/>
            <p:nvPr/>
          </p:nvPicPr>
          <p:blipFill>
            <a:blip r:embed="rId3"/>
            <a:stretch/>
          </p:blipFill>
          <p:spPr>
            <a:xfrm>
              <a:off x="5181480" y="1295280"/>
              <a:ext cx="15746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 txBox="1"/>
            <p:nvPr/>
          </p:nvSpPr>
          <p:spPr>
            <a:xfrm>
              <a:off x="5181480" y="3504960"/>
              <a:ext cx="160020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希望工程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086600" y="1295280"/>
            <a:ext cx="1828800" cy="2562120"/>
            <a:chOff x="7086600" y="1295280"/>
            <a:chExt cx="1828800" cy="2562120"/>
          </a:xfrm>
        </p:grpSpPr>
        <p:pic>
          <p:nvPicPr>
            <p:cNvPr id="355" name="送温暖" descr=""/>
            <p:cNvPicPr/>
            <p:nvPr/>
          </p:nvPicPr>
          <p:blipFill>
            <a:blip r:embed="rId4"/>
            <a:stretch/>
          </p:blipFill>
          <p:spPr>
            <a:xfrm>
              <a:off x="7086600" y="1295280"/>
              <a:ext cx="1828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 txBox="1"/>
            <p:nvPr/>
          </p:nvSpPr>
          <p:spPr>
            <a:xfrm>
              <a:off x="7086600" y="3504960"/>
              <a:ext cx="1809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送温暖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04920" y="4267080"/>
            <a:ext cx="1904760" cy="2181240"/>
            <a:chOff x="304920" y="4267080"/>
            <a:chExt cx="1904760" cy="2181240"/>
          </a:xfrm>
        </p:grpSpPr>
        <p:pic>
          <p:nvPicPr>
            <p:cNvPr id="358" name="幸福工程" descr=""/>
            <p:cNvPicPr/>
            <p:nvPr/>
          </p:nvPicPr>
          <p:blipFill>
            <a:blip r:embed="rId5"/>
            <a:stretch/>
          </p:blipFill>
          <p:spPr>
            <a:xfrm>
              <a:off x="304920" y="4267080"/>
              <a:ext cx="1904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304920" y="6095880"/>
              <a:ext cx="18284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幸福工程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666880" y="4267080"/>
            <a:ext cx="1981080" cy="2181240"/>
            <a:chOff x="2666880" y="4267080"/>
            <a:chExt cx="1981080" cy="2181240"/>
          </a:xfrm>
        </p:grpSpPr>
        <p:pic>
          <p:nvPicPr>
            <p:cNvPr id="361" name="春蕾计划2" descr=""/>
            <p:cNvPicPr/>
            <p:nvPr/>
          </p:nvPicPr>
          <p:blipFill>
            <a:blip r:embed="rId6"/>
            <a:stretch/>
          </p:blipFill>
          <p:spPr>
            <a:xfrm>
              <a:off x="2743200" y="4267080"/>
              <a:ext cx="1904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 txBox="1"/>
            <p:nvPr/>
          </p:nvSpPr>
          <p:spPr>
            <a:xfrm>
              <a:off x="2666880" y="6095880"/>
              <a:ext cx="19051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春蕾计划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876920" y="4267080"/>
            <a:ext cx="1752480" cy="2181240"/>
            <a:chOff x="4876920" y="4267080"/>
            <a:chExt cx="1752480" cy="2181240"/>
          </a:xfrm>
        </p:grpSpPr>
        <p:pic>
          <p:nvPicPr>
            <p:cNvPr id="364" name="扶残助残2" descr=""/>
            <p:cNvPicPr/>
            <p:nvPr/>
          </p:nvPicPr>
          <p:blipFill>
            <a:blip r:embed="rId7"/>
            <a:stretch/>
          </p:blipFill>
          <p:spPr>
            <a:xfrm>
              <a:off x="4876920" y="4267080"/>
              <a:ext cx="1752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 txBox="1"/>
            <p:nvPr/>
          </p:nvSpPr>
          <p:spPr>
            <a:xfrm>
              <a:off x="4876920" y="6095880"/>
              <a:ext cx="17524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扶残助残”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58000" y="4267080"/>
            <a:ext cx="2057400" cy="2295360"/>
            <a:chOff x="6858000" y="4267080"/>
            <a:chExt cx="2057400" cy="2295360"/>
          </a:xfrm>
        </p:grpSpPr>
        <p:pic>
          <p:nvPicPr>
            <p:cNvPr id="367" name="公益活动" descr=""/>
            <p:cNvPicPr/>
            <p:nvPr/>
          </p:nvPicPr>
          <p:blipFill>
            <a:blip r:embed="rId8"/>
            <a:stretch/>
          </p:blipFill>
          <p:spPr>
            <a:xfrm>
              <a:off x="6858000" y="4267080"/>
              <a:ext cx="20574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 txBox="1"/>
            <p:nvPr/>
          </p:nvSpPr>
          <p:spPr>
            <a:xfrm>
              <a:off x="7010280" y="5943600"/>
              <a:ext cx="157176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“</a:t>
              </a: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手拉手”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7162920" y="6248160"/>
              <a:ext cx="12571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爱心活动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19520" y="1066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如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0"/>
            <a:ext cx="8534520" cy="6926400"/>
            <a:chOff x="0" y="0"/>
            <a:chExt cx="8534520" cy="6926400"/>
          </a:xfrm>
        </p:grpSpPr>
        <p:pic>
          <p:nvPicPr>
            <p:cNvPr id="372" name="青年文明号活动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73392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保护环境" descr=""/>
            <p:cNvPicPr/>
            <p:nvPr/>
          </p:nvPicPr>
          <p:blipFill>
            <a:blip r:embed="rId2"/>
            <a:stretch/>
          </p:blipFill>
          <p:spPr>
            <a:xfrm>
              <a:off x="0" y="3581280"/>
              <a:ext cx="3733920" cy="334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4" name=""/>
            <p:cNvGrpSpPr/>
            <p:nvPr/>
          </p:nvGrpSpPr>
          <p:grpSpPr>
            <a:xfrm>
              <a:off x="4114800" y="380880"/>
              <a:ext cx="4419720" cy="1295280"/>
              <a:chOff x="4114800" y="380880"/>
              <a:chExt cx="4419720" cy="12952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380880"/>
                <a:ext cx="4419720" cy="1295280"/>
              </a:xfrm>
              <a:prstGeom prst="wedgeRoundRectCallout">
                <a:avLst>
                  <a:gd name="adj1" fmla="val 3342"/>
                  <a:gd name="adj2" fmla="val 99143"/>
                  <a:gd name="adj3" fmla="val 16667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114800" y="457200"/>
                <a:ext cx="4419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ahoma"/>
                  </a:rPr>
                  <a:t>（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Tahoma"/>
                  </a:rPr>
                  <a:t>3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Tahoma"/>
                  </a:rPr>
                  <a:t>）人民群众参与精神文明创建活动的意义</a:t>
                </a: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4038480" y="2514600"/>
            <a:ext cx="4952880" cy="4191120"/>
            <a:chOff x="4038480" y="2514600"/>
            <a:chExt cx="4952880" cy="4191120"/>
          </a:xfrm>
        </p:grpSpPr>
        <p:sp>
          <p:nvSpPr>
            <p:cNvPr id="378" name=""/>
            <p:cNvSpPr/>
            <p:nvPr/>
          </p:nvSpPr>
          <p:spPr>
            <a:xfrm>
              <a:off x="4038480" y="2514600"/>
              <a:ext cx="4952880" cy="4191120"/>
            </a:xfrm>
            <a:custGeom>
              <a:avLst/>
              <a:gdLst/>
              <a:ahLst/>
              <a:rect l="l" t="t" r="r" b="b"/>
              <a:pathLst>
                <a:path w="2956" h="2288">
                  <a:moveTo>
                    <a:pt x="180" y="403"/>
                  </a:moveTo>
                  <a:cubicBezTo>
                    <a:pt x="139" y="279"/>
                    <a:pt x="188" y="221"/>
                    <a:pt x="279" y="160"/>
                  </a:cubicBezTo>
                  <a:cubicBezTo>
                    <a:pt x="288" y="154"/>
                    <a:pt x="335" y="145"/>
                    <a:pt x="342" y="142"/>
                  </a:cubicBezTo>
                  <a:cubicBezTo>
                    <a:pt x="474" y="93"/>
                    <a:pt x="604" y="79"/>
                    <a:pt x="738" y="43"/>
                  </a:cubicBezTo>
                  <a:cubicBezTo>
                    <a:pt x="809" y="24"/>
                    <a:pt x="841" y="15"/>
                    <a:pt x="918" y="7"/>
                  </a:cubicBezTo>
                  <a:cubicBezTo>
                    <a:pt x="1005" y="11"/>
                    <a:pt x="1095" y="0"/>
                    <a:pt x="1179" y="25"/>
                  </a:cubicBezTo>
                  <a:cubicBezTo>
                    <a:pt x="1204" y="32"/>
                    <a:pt x="1217" y="65"/>
                    <a:pt x="1242" y="70"/>
                  </a:cubicBezTo>
                  <a:cubicBezTo>
                    <a:pt x="1289" y="79"/>
                    <a:pt x="1338" y="75"/>
                    <a:pt x="1386" y="79"/>
                  </a:cubicBezTo>
                  <a:cubicBezTo>
                    <a:pt x="1690" y="102"/>
                    <a:pt x="1999" y="100"/>
                    <a:pt x="2304" y="106"/>
                  </a:cubicBezTo>
                  <a:cubicBezTo>
                    <a:pt x="2319" y="109"/>
                    <a:pt x="2336" y="107"/>
                    <a:pt x="2349" y="115"/>
                  </a:cubicBezTo>
                  <a:cubicBezTo>
                    <a:pt x="2357" y="120"/>
                    <a:pt x="2366" y="136"/>
                    <a:pt x="2358" y="142"/>
                  </a:cubicBezTo>
                  <a:cubicBezTo>
                    <a:pt x="2338" y="156"/>
                    <a:pt x="2310" y="154"/>
                    <a:pt x="2286" y="160"/>
                  </a:cubicBezTo>
                  <a:cubicBezTo>
                    <a:pt x="2256" y="167"/>
                    <a:pt x="2214" y="191"/>
                    <a:pt x="2187" y="205"/>
                  </a:cubicBezTo>
                  <a:cubicBezTo>
                    <a:pt x="2275" y="264"/>
                    <a:pt x="2362" y="268"/>
                    <a:pt x="2466" y="277"/>
                  </a:cubicBezTo>
                  <a:cubicBezTo>
                    <a:pt x="2531" y="293"/>
                    <a:pt x="2598" y="295"/>
                    <a:pt x="2664" y="304"/>
                  </a:cubicBezTo>
                  <a:cubicBezTo>
                    <a:pt x="2695" y="324"/>
                    <a:pt x="2723" y="347"/>
                    <a:pt x="2754" y="367"/>
                  </a:cubicBezTo>
                  <a:cubicBezTo>
                    <a:pt x="2771" y="419"/>
                    <a:pt x="2756" y="467"/>
                    <a:pt x="2727" y="511"/>
                  </a:cubicBezTo>
                  <a:cubicBezTo>
                    <a:pt x="2736" y="517"/>
                    <a:pt x="2744" y="525"/>
                    <a:pt x="2754" y="529"/>
                  </a:cubicBezTo>
                  <a:cubicBezTo>
                    <a:pt x="2768" y="534"/>
                    <a:pt x="2791" y="525"/>
                    <a:pt x="2799" y="538"/>
                  </a:cubicBezTo>
                  <a:cubicBezTo>
                    <a:pt x="2808" y="554"/>
                    <a:pt x="2793" y="574"/>
                    <a:pt x="2790" y="592"/>
                  </a:cubicBezTo>
                  <a:cubicBezTo>
                    <a:pt x="2793" y="619"/>
                    <a:pt x="2791" y="647"/>
                    <a:pt x="2799" y="673"/>
                  </a:cubicBezTo>
                  <a:cubicBezTo>
                    <a:pt x="2812" y="715"/>
                    <a:pt x="2865" y="732"/>
                    <a:pt x="2898" y="754"/>
                  </a:cubicBezTo>
                  <a:cubicBezTo>
                    <a:pt x="2904" y="763"/>
                    <a:pt x="2917" y="770"/>
                    <a:pt x="2916" y="781"/>
                  </a:cubicBezTo>
                  <a:cubicBezTo>
                    <a:pt x="2914" y="804"/>
                    <a:pt x="2897" y="823"/>
                    <a:pt x="2889" y="844"/>
                  </a:cubicBezTo>
                  <a:cubicBezTo>
                    <a:pt x="2877" y="878"/>
                    <a:pt x="2869" y="917"/>
                    <a:pt x="2862" y="952"/>
                  </a:cubicBezTo>
                  <a:cubicBezTo>
                    <a:pt x="2878" y="1033"/>
                    <a:pt x="2874" y="1045"/>
                    <a:pt x="2925" y="1096"/>
                  </a:cubicBezTo>
                  <a:cubicBezTo>
                    <a:pt x="2934" y="1141"/>
                    <a:pt x="2956" y="1201"/>
                    <a:pt x="2934" y="1249"/>
                  </a:cubicBezTo>
                  <a:cubicBezTo>
                    <a:pt x="2921" y="1276"/>
                    <a:pt x="2880" y="1321"/>
                    <a:pt x="2880" y="1321"/>
                  </a:cubicBezTo>
                  <a:cubicBezTo>
                    <a:pt x="2874" y="1340"/>
                    <a:pt x="2853" y="1355"/>
                    <a:pt x="2853" y="1375"/>
                  </a:cubicBezTo>
                  <a:cubicBezTo>
                    <a:pt x="2853" y="1849"/>
                    <a:pt x="2855" y="1569"/>
                    <a:pt x="2889" y="1798"/>
                  </a:cubicBezTo>
                  <a:cubicBezTo>
                    <a:pt x="2899" y="1867"/>
                    <a:pt x="2893" y="1933"/>
                    <a:pt x="2925" y="1996"/>
                  </a:cubicBezTo>
                  <a:cubicBezTo>
                    <a:pt x="2922" y="2014"/>
                    <a:pt x="2934" y="2050"/>
                    <a:pt x="2916" y="2050"/>
                  </a:cubicBezTo>
                  <a:cubicBezTo>
                    <a:pt x="2750" y="2054"/>
                    <a:pt x="2499" y="1989"/>
                    <a:pt x="2313" y="1978"/>
                  </a:cubicBezTo>
                  <a:cubicBezTo>
                    <a:pt x="2161" y="1981"/>
                    <a:pt x="1979" y="1925"/>
                    <a:pt x="1845" y="2014"/>
                  </a:cubicBezTo>
                  <a:cubicBezTo>
                    <a:pt x="1839" y="2023"/>
                    <a:pt x="1829" y="2030"/>
                    <a:pt x="1827" y="2041"/>
                  </a:cubicBezTo>
                  <a:cubicBezTo>
                    <a:pt x="1825" y="2053"/>
                    <a:pt x="1842" y="2066"/>
                    <a:pt x="1836" y="2077"/>
                  </a:cubicBezTo>
                  <a:cubicBezTo>
                    <a:pt x="1827" y="2092"/>
                    <a:pt x="1806" y="2094"/>
                    <a:pt x="1791" y="2104"/>
                  </a:cubicBezTo>
                  <a:cubicBezTo>
                    <a:pt x="1743" y="2136"/>
                    <a:pt x="1701" y="2149"/>
                    <a:pt x="1647" y="2167"/>
                  </a:cubicBezTo>
                  <a:cubicBezTo>
                    <a:pt x="1644" y="2176"/>
                    <a:pt x="1636" y="2185"/>
                    <a:pt x="1638" y="2194"/>
                  </a:cubicBezTo>
                  <a:cubicBezTo>
                    <a:pt x="1643" y="2222"/>
                    <a:pt x="1690" y="2288"/>
                    <a:pt x="1665" y="2275"/>
                  </a:cubicBezTo>
                  <a:cubicBezTo>
                    <a:pt x="1541" y="2213"/>
                    <a:pt x="1405" y="2222"/>
                    <a:pt x="1269" y="2212"/>
                  </a:cubicBezTo>
                  <a:cubicBezTo>
                    <a:pt x="1039" y="2154"/>
                    <a:pt x="813" y="2092"/>
                    <a:pt x="576" y="2068"/>
                  </a:cubicBezTo>
                  <a:cubicBezTo>
                    <a:pt x="588" y="2074"/>
                    <a:pt x="618" y="2098"/>
                    <a:pt x="612" y="2086"/>
                  </a:cubicBezTo>
                  <a:cubicBezTo>
                    <a:pt x="598" y="2059"/>
                    <a:pt x="491" y="1979"/>
                    <a:pt x="477" y="1969"/>
                  </a:cubicBezTo>
                  <a:cubicBezTo>
                    <a:pt x="373" y="1896"/>
                    <a:pt x="266" y="1826"/>
                    <a:pt x="162" y="1753"/>
                  </a:cubicBezTo>
                  <a:cubicBezTo>
                    <a:pt x="103" y="1712"/>
                    <a:pt x="59" y="1657"/>
                    <a:pt x="0" y="1618"/>
                  </a:cubicBezTo>
                  <a:cubicBezTo>
                    <a:pt x="83" y="1601"/>
                    <a:pt x="179" y="1599"/>
                    <a:pt x="252" y="1555"/>
                  </a:cubicBezTo>
                  <a:cubicBezTo>
                    <a:pt x="270" y="1502"/>
                    <a:pt x="236" y="1479"/>
                    <a:pt x="207" y="1438"/>
                  </a:cubicBezTo>
                  <a:cubicBezTo>
                    <a:pt x="125" y="1323"/>
                    <a:pt x="189" y="1387"/>
                    <a:pt x="90" y="1303"/>
                  </a:cubicBezTo>
                  <a:cubicBezTo>
                    <a:pt x="77" y="1257"/>
                    <a:pt x="59" y="1228"/>
                    <a:pt x="45" y="1186"/>
                  </a:cubicBezTo>
                  <a:cubicBezTo>
                    <a:pt x="51" y="1162"/>
                    <a:pt x="49" y="1134"/>
                    <a:pt x="63" y="1114"/>
                  </a:cubicBezTo>
                  <a:cubicBezTo>
                    <a:pt x="72" y="1101"/>
                    <a:pt x="136" y="1059"/>
                    <a:pt x="162" y="1042"/>
                  </a:cubicBezTo>
                  <a:cubicBezTo>
                    <a:pt x="195" y="943"/>
                    <a:pt x="129" y="779"/>
                    <a:pt x="108" y="673"/>
                  </a:cubicBezTo>
                  <a:cubicBezTo>
                    <a:pt x="115" y="560"/>
                    <a:pt x="91" y="498"/>
                    <a:pt x="180" y="439"/>
                  </a:cubicBezTo>
                  <a:cubicBezTo>
                    <a:pt x="202" y="406"/>
                    <a:pt x="208" y="417"/>
                    <a:pt x="180" y="40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19360" y="2971800"/>
              <a:ext cx="4343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ahoma"/>
                </a:rPr>
                <a:t>各具特色的精神文明创建活动，使人们在自觉参与的过程中思想感情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得到</a:t>
              </a:r>
              <a:r>
                <a:rPr b="1" lang="zh-CN" sz="2400" spc="-1" strike="noStrike">
                  <a:solidFill>
                    <a:srgbClr val="ffff00"/>
                  </a:solidFill>
                  <a:latin typeface="Tahoma"/>
                </a:rPr>
                <a:t>熏陶，思想觉悟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得到</a:t>
              </a:r>
              <a:r>
                <a:rPr b="1" lang="zh-CN" sz="2400" spc="-1" strike="noStrike">
                  <a:solidFill>
                    <a:srgbClr val="ffff00"/>
                  </a:solidFill>
                  <a:latin typeface="Tahoma"/>
                </a:rPr>
                <a:t>启发，精神生活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得到</a:t>
              </a:r>
              <a:r>
                <a:rPr b="1" lang="zh-CN" sz="2400" spc="-1" strike="noStrike">
                  <a:solidFill>
                    <a:srgbClr val="ffff00"/>
                  </a:solidFill>
                  <a:latin typeface="Tahoma"/>
                </a:rPr>
                <a:t>充实，道德意识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得到</a:t>
              </a:r>
              <a:r>
                <a:rPr b="1" lang="zh-CN" sz="2400" spc="-1" strike="noStrike">
                  <a:solidFill>
                    <a:srgbClr val="ffff00"/>
                  </a:solidFill>
                  <a:latin typeface="Tahoma"/>
                </a:rPr>
                <a:t>增强，道德境界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得到</a:t>
              </a:r>
              <a:r>
                <a:rPr b="1" lang="zh-CN" sz="2400" spc="-1" strike="noStrike">
                  <a:solidFill>
                    <a:srgbClr val="ffff00"/>
                  </a:solidFill>
                  <a:latin typeface="Tahoma"/>
                </a:rPr>
                <a:t>升华。这对整个中华民族的精神面貌，正在产生不可估量的积极影响。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3B5-28A3-49E1-B200-21234FA134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9900ff"/>
                </a:solidFill>
                <a:latin typeface="Tahoma"/>
              </a:rPr>
              <a:t>）投身于社会主义精神文明建设的伟大实践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4" name="环保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385" name="送戏下乡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文艺表演2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114640" cy="2084400"/>
          </a:xfrm>
          <a:prstGeom prst="rect">
            <a:avLst/>
          </a:prstGeom>
          <a:ln w="0">
            <a:noFill/>
          </a:ln>
        </p:spPr>
      </p:pic>
      <p:pic>
        <p:nvPicPr>
          <p:cNvPr id="387" name="保护母亲河" descr=""/>
          <p:cNvPicPr/>
          <p:nvPr/>
        </p:nvPicPr>
        <p:blipFill>
          <a:blip r:embed="rId4"/>
          <a:stretch/>
        </p:blipFill>
        <p:spPr>
          <a:xfrm>
            <a:off x="6477120" y="44956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388" name="images%5B57%5D" descr=""/>
          <p:cNvPicPr/>
          <p:nvPr/>
        </p:nvPicPr>
        <p:blipFill>
          <a:blip r:embed="rId5"/>
          <a:stretch/>
        </p:blipFill>
        <p:spPr>
          <a:xfrm>
            <a:off x="3505320" y="990720"/>
            <a:ext cx="236196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389" name=""/>
          <p:cNvGrpSpPr/>
          <p:nvPr/>
        </p:nvGrpSpPr>
        <p:grpSpPr>
          <a:xfrm>
            <a:off x="2895480" y="4572000"/>
            <a:ext cx="3047760" cy="2057040"/>
            <a:chOff x="2895480" y="4572000"/>
            <a:chExt cx="3047760" cy="2057040"/>
          </a:xfrm>
        </p:grpSpPr>
        <p:pic>
          <p:nvPicPr>
            <p:cNvPr id="390" name="保护母亲河1" descr=""/>
            <p:cNvPicPr/>
            <p:nvPr/>
          </p:nvPicPr>
          <p:blipFill>
            <a:blip r:embed="rId6"/>
            <a:stretch/>
          </p:blipFill>
          <p:spPr>
            <a:xfrm>
              <a:off x="2895480" y="4572000"/>
              <a:ext cx="1011960" cy="20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images%5B84%5D" descr=""/>
            <p:cNvPicPr/>
            <p:nvPr/>
          </p:nvPicPr>
          <p:blipFill>
            <a:blip r:embed="rId7"/>
            <a:stretch/>
          </p:blipFill>
          <p:spPr>
            <a:xfrm>
              <a:off x="3833280" y="4572000"/>
              <a:ext cx="2109960" cy="194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"/>
          <p:cNvSpPr/>
          <p:nvPr/>
        </p:nvSpPr>
        <p:spPr>
          <a:xfrm>
            <a:off x="304920" y="3200400"/>
            <a:ext cx="8534160" cy="520560"/>
          </a:xfrm>
          <a:prstGeom prst="rect">
            <a:avLst/>
          </a:prstGeom>
          <a:solidFill>
            <a:srgbClr val="cfdb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青年学生应积极投身于社会主义精神文明建设的伟大实践中去，做新时期中国先进文化的传传播者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4920" y="3200400"/>
            <a:ext cx="8458200" cy="990720"/>
            <a:chOff x="304920" y="3200400"/>
            <a:chExt cx="8458200" cy="990720"/>
          </a:xfrm>
        </p:grpSpPr>
        <p:sp>
          <p:nvSpPr>
            <p:cNvPr id="394" name=""/>
            <p:cNvSpPr/>
            <p:nvPr/>
          </p:nvSpPr>
          <p:spPr>
            <a:xfrm>
              <a:off x="304920" y="3200400"/>
              <a:ext cx="8458200" cy="990720"/>
            </a:xfrm>
            <a:prstGeom prst="flowChartProcess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520" y="3200400"/>
              <a:ext cx="80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ahoma"/>
                </a:rPr>
                <a:t>在社会主义精神文明建设的伟大实践中，青年学生应该怎么办？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96" name="0005" descr=""/>
          <p:cNvPicPr/>
          <p:nvPr/>
        </p:nvPicPr>
        <p:blipFill>
          <a:blip r:embed="rId8"/>
          <a:stretch/>
        </p:blipFill>
        <p:spPr>
          <a:xfrm>
            <a:off x="8858160" y="64008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5720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有人认为，建设社会主义精神文明是国家的事情，与个人无关，请联系实际谈谈你的看法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480" y="22860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2057400"/>
            <a:ext cx="8686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答（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）社会主义精神文明创建活动，作为社会主义建设实践的重要组成部分，离不开广大人民群众的参与。人民群众的参与，是社会主义精神文明和社会主义文化根深叶茂的土壤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）人民群众的参与有利于创造丰富多彩的精神文明活动形式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）参与社会主义精神文明建设，对个人具有重要意义。在自觉参与创建社会主义精神文明的过程中，人们的思想情感得到熏陶，思想觉悟得到启发，精神生活得到充实，道德意识得到增强，道德境界得到升华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）投身到社会主义精神文明建设的伟大实践中，做新时期中国先进文化的传播者和建设者，是当代中国青年成长、成才的必然选择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0005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692360" y="6399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f89f7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388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二、建设社会主义精神文明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762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根本目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培育“四有”公民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09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发展教育、科学和文化事业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838080"/>
            <a:ext cx="9144000" cy="1396800"/>
            <a:chOff x="0" y="838080"/>
            <a:chExt cx="9144000" cy="1396800"/>
          </a:xfrm>
        </p:grpSpPr>
        <p:sp>
          <p:nvSpPr>
            <p:cNvPr id="214" name=""/>
            <p:cNvSpPr/>
            <p:nvPr/>
          </p:nvSpPr>
          <p:spPr>
            <a:xfrm>
              <a:off x="0" y="1218960"/>
              <a:ext cx="914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33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990033"/>
                  </a:solidFill>
                  <a:latin typeface="Tahoma"/>
                </a:rPr>
                <a:t>1</a:t>
              </a:r>
              <a:r>
                <a:rPr b="1" lang="zh-CN" sz="2400" spc="-1" strike="noStrike">
                  <a:solidFill>
                    <a:srgbClr val="990033"/>
                  </a:solidFill>
                  <a:latin typeface="Tahoma"/>
                </a:rPr>
                <a:t>）在当代中国，发展先进文化，就是建设社会主义精神文明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33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990033"/>
                  </a:solidFill>
                  <a:latin typeface="Tahoma"/>
                </a:rPr>
                <a:t>2</a:t>
              </a:r>
              <a:r>
                <a:rPr b="1" lang="zh-CN" sz="2400" spc="-1" strike="noStrike">
                  <a:solidFill>
                    <a:srgbClr val="990033"/>
                  </a:solidFill>
                  <a:latin typeface="Tahoma"/>
                </a:rPr>
                <a:t>）建设社会主义精神文明的根本任务</a:t>
              </a:r>
              <a:r>
                <a:rPr b="1" lang="en-US" sz="2400" spc="-1" strike="noStrike">
                  <a:solidFill>
                    <a:srgbClr val="990033"/>
                  </a:solidFill>
                  <a:latin typeface="Tahoma"/>
                </a:rPr>
                <a:t>(</a:t>
              </a:r>
              <a:r>
                <a:rPr b="1" lang="zh-CN" sz="2400" spc="-1" strike="noStrike">
                  <a:solidFill>
                    <a:srgbClr val="990033"/>
                  </a:solidFill>
                  <a:latin typeface="Tahoma"/>
                </a:rPr>
                <a:t>发展先进文化的根本目标</a:t>
              </a:r>
              <a:r>
                <a:rPr b="1" lang="en-US" sz="2400" spc="-1" strike="noStrike">
                  <a:solidFill>
                    <a:srgbClr val="990033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15" name="000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029200" y="838080"/>
              <a:ext cx="28584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0" y="2362320"/>
            <a:ext cx="8991720" cy="1877040"/>
            <a:chOff x="0" y="2362320"/>
            <a:chExt cx="8991720" cy="1877040"/>
          </a:xfrm>
        </p:grpSpPr>
        <p:sp>
          <p:nvSpPr>
            <p:cNvPr id="217" name=""/>
            <p:cNvSpPr/>
            <p:nvPr/>
          </p:nvSpPr>
          <p:spPr>
            <a:xfrm>
              <a:off x="0" y="2667240"/>
              <a:ext cx="89917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）建设社会主义精神文明，必须大力发展教育事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）建设社会主义精神文明，必须大力发展科学事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）建设社会主义精神文明，必须大力发展文化事业和文化产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18" name="0005" descr=""/>
            <p:cNvPicPr/>
            <p:nvPr/>
          </p:nvPicPr>
          <p:blipFill>
            <a:blip r:embed="rId2"/>
            <a:stretch/>
          </p:blipFill>
          <p:spPr>
            <a:xfrm>
              <a:off x="5181480" y="2362320"/>
              <a:ext cx="2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228600" y="4267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亿万人民的创建活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4419720"/>
            <a:ext cx="8839080" cy="2466360"/>
            <a:chOff x="0" y="4419720"/>
            <a:chExt cx="8839080" cy="2466360"/>
          </a:xfrm>
        </p:grpSpPr>
        <p:pic>
          <p:nvPicPr>
            <p:cNvPr id="221" name="0005" descr=""/>
            <p:cNvPicPr/>
            <p:nvPr/>
          </p:nvPicPr>
          <p:blipFill>
            <a:blip r:embed="rId3"/>
            <a:stretch/>
          </p:blipFill>
          <p:spPr>
            <a:xfrm>
              <a:off x="4191120" y="4419720"/>
              <a:ext cx="285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757760"/>
              <a:ext cx="883908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9900ff"/>
                  </a:solidFill>
                  <a:latin typeface="Tahoma"/>
                </a:rPr>
                <a:t>1</a:t>
              </a: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）建设社会主义精神文明必须立足于中国特色社会主义实践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9900ff"/>
                  </a:solidFill>
                  <a:latin typeface="Tahoma"/>
                </a:rPr>
                <a:t>2</a:t>
              </a: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）人民群众是精神文明创建活动的主体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9900ff"/>
                  </a:solidFill>
                  <a:latin typeface="Tahoma"/>
                </a:rPr>
                <a:t>3</a:t>
              </a: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）人民群众参与精神文明创建活动的意义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（</a:t>
              </a:r>
              <a:r>
                <a:rPr b="1" lang="en-US" sz="2400" spc="-1" strike="noStrike">
                  <a:solidFill>
                    <a:srgbClr val="9900ff"/>
                  </a:solidFill>
                  <a:latin typeface="Tahoma"/>
                </a:rPr>
                <a:t>4</a:t>
              </a:r>
              <a:r>
                <a:rPr b="1" lang="zh-CN" sz="2400" spc="-1" strike="noStrike">
                  <a:solidFill>
                    <a:srgbClr val="9900ff"/>
                  </a:solidFill>
                  <a:latin typeface="Tahoma"/>
                </a:rPr>
                <a:t>）投身于社会主义精神文明建设的伟大实践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23" name="0005" descr=""/>
            <p:cNvPicPr/>
            <p:nvPr/>
          </p:nvPicPr>
          <p:blipFill>
            <a:blip r:embed="rId4"/>
            <a:stretch/>
          </p:blipFill>
          <p:spPr>
            <a:xfrm>
              <a:off x="6781680" y="6400800"/>
              <a:ext cx="28584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ndex_r2_c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85440" y="685800"/>
            <a:ext cx="52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）在当代中国，发展先进文化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就是建设社会主义精神文明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251460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一忆：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90920" y="2514600"/>
            <a:ext cx="5333400" cy="838080"/>
            <a:chOff x="2590920" y="2514600"/>
            <a:chExt cx="5333400" cy="838080"/>
          </a:xfrm>
        </p:grpSpPr>
        <p:sp>
          <p:nvSpPr>
            <p:cNvPr id="228" name=""/>
            <p:cNvSpPr txBox="1"/>
            <p:nvPr/>
          </p:nvSpPr>
          <p:spPr>
            <a:xfrm>
              <a:off x="2590920" y="2514600"/>
              <a:ext cx="43430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ff33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社会主义有哪三个文明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29" name="0009" descr=""/>
            <p:cNvPicPr/>
            <p:nvPr/>
          </p:nvPicPr>
          <p:blipFill>
            <a:blip r:embed="rId2"/>
            <a:stretch/>
          </p:blipFill>
          <p:spPr>
            <a:xfrm>
              <a:off x="7162560" y="2590920"/>
              <a:ext cx="76176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2666880" y="3733920"/>
            <a:ext cx="4800600" cy="761760"/>
            <a:chOff x="2666880" y="3733920"/>
            <a:chExt cx="4800600" cy="761760"/>
          </a:xfrm>
        </p:grpSpPr>
        <p:sp>
          <p:nvSpPr>
            <p:cNvPr id="231" name=""/>
            <p:cNvSpPr txBox="1"/>
            <p:nvPr/>
          </p:nvSpPr>
          <p:spPr>
            <a:xfrm>
              <a:off x="2666880" y="3733920"/>
              <a:ext cx="39243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它们的关系怎样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32" name="0009" descr=""/>
            <p:cNvPicPr/>
            <p:nvPr/>
          </p:nvPicPr>
          <p:blipFill>
            <a:blip r:embed="rId3"/>
            <a:stretch/>
          </p:blipFill>
          <p:spPr>
            <a:xfrm>
              <a:off x="6705360" y="3733920"/>
              <a:ext cx="7621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1332000" y="4959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index_r2_c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61760" y="685800"/>
            <a:ext cx="52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）在当代中国，发展先进文化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就是建设社会主义精神文明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2209680"/>
            <a:ext cx="3733920" cy="990720"/>
            <a:chOff x="1066680" y="2209680"/>
            <a:chExt cx="3733920" cy="990720"/>
          </a:xfrm>
        </p:grpSpPr>
        <p:sp>
          <p:nvSpPr>
            <p:cNvPr id="237" name=""/>
            <p:cNvSpPr/>
            <p:nvPr/>
          </p:nvSpPr>
          <p:spPr>
            <a:xfrm>
              <a:off x="1066680" y="2209680"/>
              <a:ext cx="1828800" cy="990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895480" y="2361960"/>
              <a:ext cx="12193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66ff33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为什么</a:t>
              </a:r>
              <a:endPara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39" name="0007" descr=""/>
            <p:cNvPicPr/>
            <p:nvPr/>
          </p:nvPicPr>
          <p:blipFill>
            <a:blip r:embed="rId2"/>
            <a:stretch/>
          </p:blipFill>
          <p:spPr>
            <a:xfrm>
              <a:off x="4190760" y="2361960"/>
              <a:ext cx="60984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457200" y="358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精神文明建设搞好了，人心凝聚，精神振奋，各项事业就会全面兴盛。精神文明建设搞不好，人心涣散，精神颓废，各项事业都难以搞好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阅读下列两则材料，你从中能得到什么启示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1066680"/>
            <a:ext cx="8610480" cy="1905120"/>
            <a:chOff x="304920" y="1066680"/>
            <a:chExt cx="8610480" cy="1905120"/>
          </a:xfrm>
        </p:grpSpPr>
        <p:pic>
          <p:nvPicPr>
            <p:cNvPr id="243" name="images%5B8%5D" descr=""/>
            <p:cNvPicPr/>
            <p:nvPr/>
          </p:nvPicPr>
          <p:blipFill>
            <a:blip r:embed="rId1"/>
            <a:stretch/>
          </p:blipFill>
          <p:spPr>
            <a:xfrm>
              <a:off x="304920" y="1066680"/>
              <a:ext cx="2438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895840" y="1066680"/>
              <a:ext cx="601956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ahoma"/>
                </a:rPr>
                <a:t>材料一：某村是改革开放初期有名的“万元户”村，家家户户都过上了充裕的物质生活。不久，打牌赌博现象出现，并愈演愈烈。于是人们无心经营；家庭矛盾上升。没过几年，原来远近闻名的“万元户”村变成了贫困村。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3276720"/>
            <a:ext cx="8534520" cy="1980720"/>
            <a:chOff x="380880" y="3276720"/>
            <a:chExt cx="8534520" cy="1980720"/>
          </a:xfrm>
        </p:grpSpPr>
        <p:grpSp>
          <p:nvGrpSpPr>
            <p:cNvPr id="246" name=""/>
            <p:cNvGrpSpPr/>
            <p:nvPr/>
          </p:nvGrpSpPr>
          <p:grpSpPr>
            <a:xfrm>
              <a:off x="380880" y="3276720"/>
              <a:ext cx="2361960" cy="1980720"/>
              <a:chOff x="380880" y="3276720"/>
              <a:chExt cx="2361960" cy="1980720"/>
            </a:xfrm>
          </p:grpSpPr>
          <p:pic>
            <p:nvPicPr>
              <p:cNvPr id="247" name="images%5B45%5D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4200840"/>
                <a:ext cx="2361960" cy="10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images%5B35%5D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276720"/>
                <a:ext cx="2361960" cy="112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9" name=""/>
            <p:cNvSpPr/>
            <p:nvPr/>
          </p:nvSpPr>
          <p:spPr>
            <a:xfrm>
              <a:off x="2895480" y="3276720"/>
              <a:ext cx="601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材料二：以前，浙江温州是假冒伪劣的代名词。痛定思痛，温州人竖起“质量立市”大旗。从</a:t>
              </a: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2002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年起，每年的</a:t>
              </a: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8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月</a:t>
              </a: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8</a:t>
              </a:r>
              <a:r>
                <a:rPr b="1" lang="zh-CN" sz="2400" spc="-1" strike="noStrike">
                  <a:solidFill>
                    <a:srgbClr val="ff3300"/>
                  </a:solidFill>
                  <a:latin typeface="Tahoma"/>
                </a:rPr>
                <a:t>日为温州的“诚信日”。经过几年努力，如今的温州已成为了名副其实的“中国鞋都”。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0" y="5334120"/>
            <a:ext cx="91440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启示：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我国社会主义，必须重视社会主义精神文明建设。社会主义精神文明是社会主义的重要特征，它会为社会主义物质文明建设提供强大的精神动力和智力支持。精神文明建设搞好了，人心凝聚，精神振奋，各项事业就会全面兴盛。精神文明建设搞不好，人心涣散，精神颓废，各项事业都难以搞好。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四有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2819520" cy="2667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43200" y="609480"/>
            <a:ext cx="6095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建设社会主义精神文明的根本任务（发展先进文化的根本目标）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971800" y="2590920"/>
            <a:ext cx="4800600" cy="761760"/>
            <a:chOff x="2971800" y="2590920"/>
            <a:chExt cx="4800600" cy="761760"/>
          </a:xfrm>
        </p:grpSpPr>
        <p:sp>
          <p:nvSpPr>
            <p:cNvPr id="254" name=""/>
            <p:cNvSpPr/>
            <p:nvPr/>
          </p:nvSpPr>
          <p:spPr>
            <a:xfrm>
              <a:off x="2971800" y="2590920"/>
              <a:ext cx="1905120" cy="761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648320" y="2666880"/>
              <a:ext cx="18669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是什么</a:t>
              </a:r>
              <a:endParaRPr b="1" i="1" lang="en-US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56" name="0006" descr=""/>
            <p:cNvPicPr/>
            <p:nvPr/>
          </p:nvPicPr>
          <p:blipFill>
            <a:blip r:embed="rId2"/>
            <a:stretch/>
          </p:blipFill>
          <p:spPr>
            <a:xfrm>
              <a:off x="6705720" y="2666880"/>
              <a:ext cx="106668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2362320" y="3657600"/>
            <a:ext cx="6400800" cy="2590920"/>
            <a:chOff x="2362320" y="3657600"/>
            <a:chExt cx="6400800" cy="2590920"/>
          </a:xfrm>
        </p:grpSpPr>
        <p:sp>
          <p:nvSpPr>
            <p:cNvPr id="258" name=""/>
            <p:cNvSpPr txBox="1"/>
            <p:nvPr/>
          </p:nvSpPr>
          <p:spPr>
            <a:xfrm>
              <a:off x="2995560" y="3657600"/>
              <a:ext cx="569772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宋体"/>
                </a:rPr>
                <a:t>培养有理想、有道德、有文化、有纪律的公民</a:t>
              </a:r>
              <a:endParaRPr b="1" lang="en-US" sz="24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362320" y="4432320"/>
              <a:ext cx="63309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宋体"/>
                </a:rPr>
                <a:t>提高整个中华民族的思想道德素质</a:t>
              </a:r>
              <a:endParaRPr b="1" lang="en-US" sz="24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2362320" y="5130720"/>
              <a:ext cx="64008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宋体"/>
                </a:rPr>
                <a:t>和科学文化素质，以适应社会主义</a:t>
              </a:r>
              <a:endParaRPr b="1" lang="en-US" sz="24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432160" y="5829480"/>
              <a:ext cx="33768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宋体"/>
                </a:rPr>
                <a:t>现代化建设的需要。</a:t>
              </a:r>
              <a:endParaRPr b="1" lang="en-US" sz="24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971800" y="4191120"/>
            <a:ext cx="5638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" y="3429000"/>
            <a:ext cx="1981080" cy="3200400"/>
            <a:chOff x="228600" y="3429000"/>
            <a:chExt cx="1981080" cy="3200400"/>
          </a:xfrm>
        </p:grpSpPr>
        <p:sp>
          <p:nvSpPr>
            <p:cNvPr id="264" name=""/>
            <p:cNvSpPr/>
            <p:nvPr/>
          </p:nvSpPr>
          <p:spPr>
            <a:xfrm>
              <a:off x="228600" y="3429000"/>
              <a:ext cx="1981080" cy="3200400"/>
            </a:xfrm>
            <a:prstGeom prst="verticalScroll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5400000">
              <a:off x="423360" y="4833720"/>
              <a:ext cx="2362320" cy="314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何为“四有”，</a:t>
              </a:r>
              <a:endParaRPr b="1" lang="en-US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5400000">
              <a:off x="13680" y="4786200"/>
              <a:ext cx="1962000" cy="314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其关系怎样？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152280"/>
            <a:ext cx="8534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有理想就是要有共产主义理想；有道德就是要有社会主义和共产主义道德；有文化是指通过学习，掌握现代科学文化知识，具备一定的智力的技术水平等；有纪律是指增强社会主义公民意识和法纪观念，自觉遵纪守法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四有这四个方面的内容相互联系、相互渗透、相互相成、相互促进，是一个缺一不可的有机整体。理想、道德、文化、纪律四个方面相互支持，共同构成社会主义公民的必备素质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4267080"/>
            <a:ext cx="7467480" cy="2590920"/>
            <a:chOff x="0" y="4267080"/>
            <a:chExt cx="7467480" cy="2590920"/>
          </a:xfrm>
        </p:grpSpPr>
        <p:pic>
          <p:nvPicPr>
            <p:cNvPr id="269" name="邓小平" descr=""/>
            <p:cNvPicPr/>
            <p:nvPr/>
          </p:nvPicPr>
          <p:blipFill>
            <a:blip r:embed="rId1"/>
            <a:stretch/>
          </p:blipFill>
          <p:spPr>
            <a:xfrm>
              <a:off x="0" y="4267080"/>
              <a:ext cx="28195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 txBox="1"/>
            <p:nvPr/>
          </p:nvSpPr>
          <p:spPr>
            <a:xfrm>
              <a:off x="2743200" y="4495680"/>
              <a:ext cx="4724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邓小平最强调的是</a:t>
              </a: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,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257800" y="5410080"/>
            <a:ext cx="3638520" cy="1200240"/>
            <a:chOff x="5257800" y="5410080"/>
            <a:chExt cx="3638520" cy="1200240"/>
          </a:xfrm>
        </p:grpSpPr>
        <p:sp>
          <p:nvSpPr>
            <p:cNvPr id="272" name=""/>
            <p:cNvSpPr txBox="1"/>
            <p:nvPr/>
          </p:nvSpPr>
          <p:spPr>
            <a:xfrm>
              <a:off x="5257800" y="5410080"/>
              <a:ext cx="32004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有理想</a:t>
              </a:r>
              <a:endPara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73" name="0005" descr=""/>
            <p:cNvPicPr/>
            <p:nvPr/>
          </p:nvPicPr>
          <p:blipFill>
            <a:blip r:embed="rId2"/>
            <a:stretch/>
          </p:blipFill>
          <p:spPr>
            <a:xfrm>
              <a:off x="8610480" y="6324480"/>
              <a:ext cx="28584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）建设社会主义精神文明，必须大力发展教育事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48120" y="3200400"/>
            <a:ext cx="5790960" cy="2742120"/>
            <a:chOff x="3048120" y="3200400"/>
            <a:chExt cx="5790960" cy="2742120"/>
          </a:xfrm>
        </p:grpSpPr>
        <p:grpSp>
          <p:nvGrpSpPr>
            <p:cNvPr id="276" name=""/>
            <p:cNvGrpSpPr/>
            <p:nvPr/>
          </p:nvGrpSpPr>
          <p:grpSpPr>
            <a:xfrm>
              <a:off x="3051000" y="3216960"/>
              <a:ext cx="5784480" cy="2707920"/>
              <a:chOff x="3051000" y="3216960"/>
              <a:chExt cx="5784480" cy="270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051000" y="3216960"/>
                <a:ext cx="5784480" cy="2707920"/>
              </a:xfrm>
              <a:prstGeom prst="rect">
                <a:avLst/>
              </a:prstGeom>
              <a:solidFill>
                <a:srgbClr val="fffb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3051000" y="3216960"/>
                <a:ext cx="5784480" cy="2706840"/>
                <a:chOff x="3051000" y="3216960"/>
                <a:chExt cx="5784480" cy="2706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051000" y="3216960"/>
                  <a:ext cx="5784480" cy="2706840"/>
                </a:xfrm>
                <a:prstGeom prst="rect">
                  <a:avLst/>
                </a:prstGeom>
                <a:solidFill>
                  <a:srgbClr val="fff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693e38"/>
                      </a:solidFill>
                      <a:latin typeface="宋体"/>
                    </a:rPr>
                    <a:t>教育是发展科学技术和培养人才的基础，在现代化建设中具有先导性全局性作用，必须摆在优先发展的战略地位。全面贯彻党的教育方针，坚持教育为社会主义现代化建设服务，为人民服务，与生产劳动和社会实践相结合，培养德智体美全面发展的社会主义建设者和接班人。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51000" y="3216960"/>
                  <a:ext cx="5784480" cy="2706840"/>
                </a:xfrm>
                <a:prstGeom prst="rect">
                  <a:avLst/>
                </a:prstGeom>
                <a:noFill/>
                <a:ln w="0">
                  <a:solidFill>
                    <a:srgbClr val="fffbf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3048120" y="3200400"/>
              <a:ext cx="5790960" cy="2742120"/>
            </a:xfrm>
            <a:prstGeom prst="rect">
              <a:avLst/>
            </a:prstGeom>
            <a:noFill/>
            <a:ln w="9360">
              <a:solidFill>
                <a:srgbClr val="db33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28600" y="1752480"/>
            <a:ext cx="5105520" cy="4191120"/>
            <a:chOff x="228600" y="1752480"/>
            <a:chExt cx="5105520" cy="4191120"/>
          </a:xfrm>
        </p:grpSpPr>
        <p:pic>
          <p:nvPicPr>
            <p:cNvPr id="283" name="images%5B48%5D" descr="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266688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"/>
            <p:cNvGrpSpPr/>
            <p:nvPr/>
          </p:nvGrpSpPr>
          <p:grpSpPr>
            <a:xfrm>
              <a:off x="914400" y="1752480"/>
              <a:ext cx="4419720" cy="1066680"/>
              <a:chOff x="914400" y="1752480"/>
              <a:chExt cx="4419720" cy="1066680"/>
            </a:xfrm>
          </p:grpSpPr>
          <p:sp>
            <p:nvSpPr>
              <p:cNvPr id="285" name=""/>
              <p:cNvSpPr/>
              <p:nvPr/>
            </p:nvSpPr>
            <p:spPr>
              <a:xfrm>
                <a:off x="914400" y="1752480"/>
                <a:ext cx="4267080" cy="1066680"/>
              </a:xfrm>
              <a:prstGeom prst="cloudCallout">
                <a:avLst>
                  <a:gd name="adj1" fmla="val 54240"/>
                  <a:gd name="adj2" fmla="val 70388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600200" y="1828800"/>
                <a:ext cx="3733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ahoma"/>
                  </a:rPr>
                  <a:t>江泽民在党的十六大报告中指出：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791320" y="1676520"/>
            <a:ext cx="2476440" cy="1371600"/>
            <a:chOff x="5791320" y="1676520"/>
            <a:chExt cx="2476440" cy="1371600"/>
          </a:xfrm>
        </p:grpSpPr>
        <p:sp>
          <p:nvSpPr>
            <p:cNvPr id="288" name=""/>
            <p:cNvSpPr/>
            <p:nvPr/>
          </p:nvSpPr>
          <p:spPr>
            <a:xfrm>
              <a:off x="5791320" y="1676520"/>
              <a:ext cx="304920" cy="13716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6400800" y="1676520"/>
              <a:ext cx="1866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为什么？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400800" y="2514600"/>
              <a:ext cx="1866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怎么样？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7000" y="6219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81240" y="3048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971800" y="2971800"/>
            <a:ext cx="5867280" cy="2361240"/>
            <a:chOff x="2971800" y="2971800"/>
            <a:chExt cx="5867280" cy="2361240"/>
          </a:xfrm>
        </p:grpSpPr>
        <p:grpSp>
          <p:nvGrpSpPr>
            <p:cNvPr id="294" name=""/>
            <p:cNvGrpSpPr/>
            <p:nvPr/>
          </p:nvGrpSpPr>
          <p:grpSpPr>
            <a:xfrm>
              <a:off x="2974680" y="2985840"/>
              <a:ext cx="5860800" cy="2331720"/>
              <a:chOff x="2974680" y="2985840"/>
              <a:chExt cx="5860800" cy="2331720"/>
            </a:xfrm>
          </p:grpSpPr>
          <p:sp>
            <p:nvSpPr>
              <p:cNvPr id="295" name=""/>
              <p:cNvSpPr/>
              <p:nvPr/>
            </p:nvSpPr>
            <p:spPr>
              <a:xfrm>
                <a:off x="2974680" y="2985840"/>
                <a:ext cx="5860800" cy="2331720"/>
              </a:xfrm>
              <a:prstGeom prst="rect">
                <a:avLst/>
              </a:prstGeom>
              <a:solidFill>
                <a:srgbClr val="fffb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2974680" y="2985840"/>
                <a:ext cx="5860800" cy="2330640"/>
                <a:chOff x="2974680" y="2985840"/>
                <a:chExt cx="5860800" cy="2330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74680" y="2985840"/>
                  <a:ext cx="5860800" cy="2330640"/>
                </a:xfrm>
                <a:prstGeom prst="rect">
                  <a:avLst/>
                </a:prstGeom>
                <a:solidFill>
                  <a:srgbClr val="fff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693e38"/>
                      </a:solidFill>
                      <a:latin typeface="宋体"/>
                    </a:rPr>
                    <a:t>制定科学和技术长远发展规划。加强科学基础设施建设。普及科学知识，弘扬科学精神。坚持社会科学和自然科学并重，充分发挥哲学社会科学在经济和社会发展中的重要作用。在全社会形成崇尚科学、鼓励创新、反对迷信和伪科学的良好氛围。</a:t>
                  </a:r>
                  <a:r>
                    <a:rPr b="1" lang="en-US" sz="2000" spc="-1" strike="noStrike">
                      <a:solidFill>
                        <a:srgbClr val="693e38"/>
                      </a:solidFill>
                      <a:latin typeface="宋体"/>
                    </a:rPr>
                    <a:t> 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74680" y="2985840"/>
                  <a:ext cx="5860800" cy="2330640"/>
                </a:xfrm>
                <a:prstGeom prst="rect">
                  <a:avLst/>
                </a:prstGeom>
                <a:noFill/>
                <a:ln w="0">
                  <a:solidFill>
                    <a:srgbClr val="fffbf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9" name=""/>
            <p:cNvSpPr/>
            <p:nvPr/>
          </p:nvSpPr>
          <p:spPr>
            <a:xfrm>
              <a:off x="2971800" y="2971800"/>
              <a:ext cx="5867280" cy="2361240"/>
            </a:xfrm>
            <a:prstGeom prst="rect">
              <a:avLst/>
            </a:prstGeom>
            <a:noFill/>
            <a:ln w="9360">
              <a:solidFill>
                <a:srgbClr val="db33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3352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）建设社会主义精神文明，必须大力发展科学事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1600200"/>
            <a:ext cx="5105520" cy="3809880"/>
            <a:chOff x="228600" y="1600200"/>
            <a:chExt cx="5105520" cy="3809880"/>
          </a:xfrm>
        </p:grpSpPr>
        <p:sp>
          <p:nvSpPr>
            <p:cNvPr id="302" name=""/>
            <p:cNvSpPr/>
            <p:nvPr/>
          </p:nvSpPr>
          <p:spPr>
            <a:xfrm>
              <a:off x="762120" y="1600200"/>
              <a:ext cx="4419360" cy="1066680"/>
            </a:xfrm>
            <a:prstGeom prst="cloudCallout">
              <a:avLst>
                <a:gd name="adj1" fmla="val 50648"/>
                <a:gd name="adj2" fmla="val 84671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167652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ahoma"/>
                </a:rPr>
                <a:t>江泽民在党的十六大报告中指出：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4" name="8020,15ab747,fa0,1%5B1%5D" descr=""/>
            <p:cNvPicPr/>
            <p:nvPr/>
          </p:nvPicPr>
          <p:blipFill>
            <a:blip r:embed="rId1"/>
            <a:stretch/>
          </p:blipFill>
          <p:spPr>
            <a:xfrm>
              <a:off x="228600" y="2971800"/>
              <a:ext cx="259092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380880" y="5638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请同学们看书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102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，有观点一和观点二，你是如何看待这两种观点的？在你看来，哲学社会科学具有哪些重要作用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2:52:04Z</dcterms:created>
  <dc:creator>An</dc:creator>
  <dc:description/>
  <dc:language>en-US</dc:language>
  <cp:lastModifiedBy/>
  <dcterms:modified xsi:type="dcterms:W3CDTF">2015-07-11T14:26:3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