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5459-CD9F-4CE6-879F-DA00EB3C5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BF4F-47F5-420A-923A-6CA3EFFB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5BC4-40EA-4D2F-AB4D-95090F8D1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0168-34B9-4BD9-8AFE-3A1C8F3A9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307A-AB65-44F3-83F8-54F85627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5C99-F3C1-4C8E-A365-4EE3C373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82D2-2AE1-466A-B134-BEE592D1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CAA7-939E-4AFB-91E5-476502DD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3C3B-500B-4107-B9EF-2C324777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6063-AE5A-4CFC-9690-49DC11D9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71A6-B807-46AC-8FC1-83DE59D8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9508-8D35-4330-B262-C2161BC3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1C15-40C5-4F8A-AF86-9EFCA93E15B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127E-26AB-4A76-8876-CB52C756237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D:\office 2010\PPT\素材管理\PPT图表\PPT图表研究院\作业\小人.png"/>
          <p:cNvPicPr/>
          <p:nvPr/>
        </p:nvPicPr>
        <p:blipFill>
          <a:blip r:embed="rId2"/>
          <a:stretch/>
        </p:blipFill>
        <p:spPr>
          <a:xfrm>
            <a:off x="6516720" y="4092480"/>
            <a:ext cx="797040" cy="1279800"/>
          </a:xfrm>
          <a:prstGeom prst="rect">
            <a:avLst/>
          </a:prstGeom>
          <a:ln w="0">
            <a:noFill/>
          </a:ln>
        </p:spPr>
      </p:pic>
      <p:grpSp>
        <p:nvGrpSpPr>
          <p:cNvPr id="44" name="组合 147"/>
          <p:cNvGrpSpPr/>
          <p:nvPr/>
        </p:nvGrpSpPr>
        <p:grpSpPr>
          <a:xfrm>
            <a:off x="2851200" y="2383920"/>
            <a:ext cx="4960800" cy="3278880"/>
            <a:chOff x="2851200" y="2383920"/>
            <a:chExt cx="4960800" cy="3278880"/>
          </a:xfrm>
        </p:grpSpPr>
        <p:grpSp>
          <p:nvGrpSpPr>
            <p:cNvPr id="45" name="组合 148"/>
            <p:cNvGrpSpPr/>
            <p:nvPr/>
          </p:nvGrpSpPr>
          <p:grpSpPr>
            <a:xfrm>
              <a:off x="3562200" y="2383920"/>
              <a:ext cx="3263760" cy="3278880"/>
              <a:chOff x="3562200" y="2383920"/>
              <a:chExt cx="3263760" cy="3278880"/>
            </a:xfrm>
          </p:grpSpPr>
          <p:grpSp>
            <p:nvGrpSpPr>
              <p:cNvPr id="46" name="组合 150"/>
              <p:cNvGrpSpPr/>
              <p:nvPr/>
            </p:nvGrpSpPr>
            <p:grpSpPr>
              <a:xfrm>
                <a:off x="3804120" y="2383920"/>
                <a:ext cx="2865960" cy="2243160"/>
                <a:chOff x="3804120" y="2383920"/>
                <a:chExt cx="2865960" cy="2243160"/>
              </a:xfrm>
            </p:grpSpPr>
            <p:sp>
              <p:nvSpPr>
                <p:cNvPr id="47" name="下弧形箭头 1"/>
                <p:cNvSpPr/>
                <p:nvPr/>
              </p:nvSpPr>
              <p:spPr>
                <a:xfrm flipH="1" rot="21306000">
                  <a:off x="4209840" y="2812320"/>
                  <a:ext cx="2389680" cy="17154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93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等腰三角形 35"/>
                <p:cNvSpPr/>
                <p:nvPr/>
              </p:nvSpPr>
              <p:spPr>
                <a:xfrm rot="20163600">
                  <a:off x="3902040" y="2511000"/>
                  <a:ext cx="763560" cy="6447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531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矩形 165"/>
                <p:cNvSpPr/>
                <p:nvPr/>
              </p:nvSpPr>
              <p:spPr>
                <a:xfrm rot="1993800">
                  <a:off x="4105080" y="2647440"/>
                  <a:ext cx="741240" cy="112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058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下弧形箭头 1"/>
                <p:cNvSpPr/>
                <p:nvPr/>
              </p:nvSpPr>
              <p:spPr>
                <a:xfrm flipH="1" rot="301800">
                  <a:off x="4518000" y="3076920"/>
                  <a:ext cx="2100960" cy="12438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128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椭圆 41"/>
                <p:cNvSpPr/>
                <p:nvPr/>
              </p:nvSpPr>
              <p:spPr>
                <a:xfrm rot="373200">
                  <a:off x="4106160" y="2589840"/>
                  <a:ext cx="659160" cy="5029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" name="组合 151"/>
              <p:cNvGrpSpPr/>
              <p:nvPr/>
            </p:nvGrpSpPr>
            <p:grpSpPr>
              <a:xfrm>
                <a:off x="5157000" y="2917080"/>
                <a:ext cx="1668960" cy="1502280"/>
                <a:chOff x="5157000" y="2917080"/>
                <a:chExt cx="1668960" cy="1502280"/>
              </a:xfrm>
            </p:grpSpPr>
            <p:sp>
              <p:nvSpPr>
                <p:cNvPr id="53" name="下弧形箭头 1"/>
                <p:cNvSpPr/>
                <p:nvPr/>
              </p:nvSpPr>
              <p:spPr>
                <a:xfrm flipH="1" rot="415800">
                  <a:off x="5288040" y="3284640"/>
                  <a:ext cx="1472400" cy="10494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01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矩形 159"/>
                <p:cNvSpPr/>
                <p:nvPr/>
              </p:nvSpPr>
              <p:spPr>
                <a:xfrm rot="2760000">
                  <a:off x="5341320" y="3079440"/>
                  <a:ext cx="471240" cy="68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124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下弧形箭头 1"/>
                <p:cNvSpPr/>
                <p:nvPr/>
              </p:nvSpPr>
              <p:spPr>
                <a:xfrm flipH="1" rot="1011000">
                  <a:off x="5443200" y="3465000"/>
                  <a:ext cx="1301040" cy="7563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81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等腰三角形 14"/>
                <p:cNvSpPr/>
                <p:nvPr/>
              </p:nvSpPr>
              <p:spPr>
                <a:xfrm rot="20872200">
                  <a:off x="5193360" y="2963160"/>
                  <a:ext cx="483480" cy="3996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612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椭圆 44"/>
                <p:cNvSpPr/>
                <p:nvPr/>
              </p:nvSpPr>
              <p:spPr>
                <a:xfrm>
                  <a:off x="5341320" y="2971440"/>
                  <a:ext cx="375480" cy="3891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" name="组合 152"/>
              <p:cNvGrpSpPr/>
              <p:nvPr/>
            </p:nvGrpSpPr>
            <p:grpSpPr>
              <a:xfrm>
                <a:off x="3562200" y="3098880"/>
                <a:ext cx="3116520" cy="2563920"/>
                <a:chOff x="3562200" y="3098880"/>
                <a:chExt cx="3116520" cy="2563920"/>
              </a:xfrm>
            </p:grpSpPr>
            <p:sp>
              <p:nvSpPr>
                <p:cNvPr id="59" name="下弧形箭头 1"/>
                <p:cNvSpPr/>
                <p:nvPr/>
              </p:nvSpPr>
              <p:spPr>
                <a:xfrm flipH="1" rot="19552800">
                  <a:off x="4193280" y="3588480"/>
                  <a:ext cx="2233080" cy="15843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13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等腰三角形 35"/>
                <p:cNvSpPr/>
                <p:nvPr/>
              </p:nvSpPr>
              <p:spPr>
                <a:xfrm rot="18409800">
                  <a:off x="3657240" y="3909600"/>
                  <a:ext cx="713520" cy="5954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531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矩形 155"/>
                <p:cNvSpPr/>
                <p:nvPr/>
              </p:nvSpPr>
              <p:spPr>
                <a:xfrm rot="240000">
                  <a:off x="3765240" y="3963600"/>
                  <a:ext cx="692640" cy="1040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918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下弧形箭头 1"/>
                <p:cNvSpPr/>
                <p:nvPr/>
              </p:nvSpPr>
              <p:spPr>
                <a:xfrm flipH="1" rot="20148600">
                  <a:off x="4473720" y="3746520"/>
                  <a:ext cx="1959480" cy="11559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728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下弧形箭头 1"/>
                <p:cNvSpPr/>
                <p:nvPr/>
              </p:nvSpPr>
              <p:spPr>
                <a:xfrm flipH="1" rot="20148600">
                  <a:off x="4478400" y="3746520"/>
                  <a:ext cx="1959480" cy="11559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728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" name="椭圆 149"/>
            <p:cNvSpPr/>
            <p:nvPr/>
          </p:nvSpPr>
          <p:spPr>
            <a:xfrm>
              <a:off x="2851200" y="4782960"/>
              <a:ext cx="4960800" cy="288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组合 168"/>
          <p:cNvGrpSpPr/>
          <p:nvPr/>
        </p:nvGrpSpPr>
        <p:grpSpPr>
          <a:xfrm>
            <a:off x="988920" y="1671480"/>
            <a:ext cx="1661400" cy="379440"/>
            <a:chOff x="988920" y="1671480"/>
            <a:chExt cx="1661400" cy="379440"/>
          </a:xfrm>
        </p:grpSpPr>
        <p:grpSp>
          <p:nvGrpSpPr>
            <p:cNvPr id="66" name="组合 169"/>
            <p:cNvGrpSpPr/>
            <p:nvPr/>
          </p:nvGrpSpPr>
          <p:grpSpPr>
            <a:xfrm>
              <a:off x="988920" y="1671480"/>
              <a:ext cx="257040" cy="379440"/>
              <a:chOff x="988920" y="1671480"/>
              <a:chExt cx="257040" cy="379440"/>
            </a:xfrm>
          </p:grpSpPr>
          <p:sp>
            <p:nvSpPr>
              <p:cNvPr id="67" name="Freeform 11"/>
              <p:cNvSpPr/>
              <p:nvPr/>
            </p:nvSpPr>
            <p:spPr>
              <a:xfrm>
                <a:off x="1063800" y="2010240"/>
                <a:ext cx="111600" cy="40680"/>
              </a:xfrm>
              <a:prstGeom prst="pi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12"/>
              <p:cNvSpPr/>
              <p:nvPr/>
            </p:nvSpPr>
            <p:spPr>
              <a:xfrm>
                <a:off x="1063800" y="1984320"/>
                <a:ext cx="111600" cy="14760"/>
              </a:xfrm>
              <a:prstGeom prst="pi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13"/>
              <p:cNvSpPr/>
              <p:nvPr/>
            </p:nvSpPr>
            <p:spPr>
              <a:xfrm>
                <a:off x="1018800" y="1752840"/>
                <a:ext cx="201240" cy="217800"/>
              </a:xfrm>
              <a:prstGeom prst="pi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14"/>
              <p:cNvSpPr/>
              <p:nvPr/>
            </p:nvSpPr>
            <p:spPr>
              <a:xfrm>
                <a:off x="988920" y="1710720"/>
                <a:ext cx="61200" cy="56880"/>
              </a:xfrm>
              <a:prstGeom prst="pi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15"/>
              <p:cNvSpPr/>
              <p:nvPr/>
            </p:nvSpPr>
            <p:spPr>
              <a:xfrm>
                <a:off x="1189080" y="1710720"/>
                <a:ext cx="56880" cy="56880"/>
              </a:xfrm>
              <a:prstGeom prst="pi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16"/>
              <p:cNvSpPr/>
              <p:nvPr/>
            </p:nvSpPr>
            <p:spPr>
              <a:xfrm>
                <a:off x="1104480" y="1671480"/>
                <a:ext cx="25560" cy="68040"/>
              </a:xfrm>
              <a:prstGeom prst="pi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TextBox 170"/>
            <p:cNvSpPr/>
            <p:nvPr/>
          </p:nvSpPr>
          <p:spPr>
            <a:xfrm>
              <a:off x="1646640" y="16765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" name="直接箭头连接符 171"/>
            <p:cNvCxnSpPr/>
            <p:nvPr/>
          </p:nvCxnSpPr>
          <p:spPr>
            <a:xfrm flipV="1">
              <a:off x="1349640" y="1688040"/>
              <a:ext cx="1080" cy="346320"/>
            </a:xfrm>
            <a:prstGeom prst="straightConnector1">
              <a:avLst/>
            </a:prstGeom>
            <a:ln w="12600">
              <a:solidFill>
                <a:srgbClr val="7f7f7f"/>
              </a:solidFill>
              <a:miter/>
            </a:ln>
          </p:spPr>
        </p:cxnSp>
      </p:grpSp>
      <p:sp>
        <p:nvSpPr>
          <p:cNvPr id="75" name="矩形 1"/>
          <p:cNvSpPr/>
          <p:nvPr/>
        </p:nvSpPr>
        <p:spPr>
          <a:xfrm>
            <a:off x="511200" y="2016000"/>
            <a:ext cx="28972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一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模板网，是中国第一家精品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免费下载网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"/>
          <p:cNvSpPr/>
          <p:nvPr/>
        </p:nvSpPr>
        <p:spPr>
          <a:xfrm>
            <a:off x="506520" y="3733920"/>
            <a:ext cx="28969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一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模板网，是中国第一家精品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免费下载网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"/>
          <p:cNvSpPr/>
          <p:nvPr/>
        </p:nvSpPr>
        <p:spPr>
          <a:xfrm>
            <a:off x="5724360" y="2003400"/>
            <a:ext cx="28958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一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模板网，是中国第一家精品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素材免费下载网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组合 181"/>
          <p:cNvGrpSpPr/>
          <p:nvPr/>
        </p:nvGrpSpPr>
        <p:grpSpPr>
          <a:xfrm>
            <a:off x="6137280" y="1674720"/>
            <a:ext cx="1786680" cy="368280"/>
            <a:chOff x="6137280" y="1674720"/>
            <a:chExt cx="1786680" cy="368280"/>
          </a:xfrm>
        </p:grpSpPr>
        <p:grpSp>
          <p:nvGrpSpPr>
            <p:cNvPr id="79" name="组合 182"/>
            <p:cNvGrpSpPr/>
            <p:nvPr/>
          </p:nvGrpSpPr>
          <p:grpSpPr>
            <a:xfrm>
              <a:off x="6137280" y="1706040"/>
              <a:ext cx="398880" cy="307080"/>
              <a:chOff x="6137280" y="1706040"/>
              <a:chExt cx="398880" cy="307080"/>
            </a:xfrm>
          </p:grpSpPr>
          <p:sp>
            <p:nvSpPr>
              <p:cNvPr id="80" name="Freeform 6"/>
              <p:cNvSpPr/>
              <p:nvPr/>
            </p:nvSpPr>
            <p:spPr>
              <a:xfrm>
                <a:off x="6318360" y="1764720"/>
                <a:ext cx="85680" cy="132480"/>
              </a:xfrm>
              <a:prstGeom prst="pi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7"/>
              <p:cNvSpPr/>
              <p:nvPr/>
            </p:nvSpPr>
            <p:spPr>
              <a:xfrm>
                <a:off x="6137280" y="1706040"/>
                <a:ext cx="398880" cy="307080"/>
              </a:xfrm>
              <a:prstGeom prst="pi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TextBox 183"/>
            <p:cNvSpPr/>
            <p:nvPr/>
          </p:nvSpPr>
          <p:spPr>
            <a:xfrm>
              <a:off x="6920280" y="16747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3" name="直接箭头连接符 184"/>
            <p:cNvCxnSpPr/>
            <p:nvPr/>
          </p:nvCxnSpPr>
          <p:spPr>
            <a:xfrm flipV="1">
              <a:off x="6626880" y="1685520"/>
              <a:ext cx="1080" cy="347400"/>
            </a:xfrm>
            <a:prstGeom prst="straightConnector1">
              <a:avLst/>
            </a:prstGeom>
            <a:ln w="12600">
              <a:solidFill>
                <a:srgbClr val="7f7f7f"/>
              </a:solidFill>
              <a:miter/>
            </a:ln>
          </p:spPr>
        </p:cxnSp>
      </p:grpSp>
      <p:grpSp>
        <p:nvGrpSpPr>
          <p:cNvPr id="84" name="组合 187"/>
          <p:cNvGrpSpPr/>
          <p:nvPr/>
        </p:nvGrpSpPr>
        <p:grpSpPr>
          <a:xfrm>
            <a:off x="947880" y="3409920"/>
            <a:ext cx="1731600" cy="368280"/>
            <a:chOff x="947880" y="3409920"/>
            <a:chExt cx="1731600" cy="368280"/>
          </a:xfrm>
        </p:grpSpPr>
        <p:grpSp>
          <p:nvGrpSpPr>
            <p:cNvPr id="85" name="组合 188"/>
            <p:cNvGrpSpPr/>
            <p:nvPr/>
          </p:nvGrpSpPr>
          <p:grpSpPr>
            <a:xfrm>
              <a:off x="947880" y="3431880"/>
              <a:ext cx="322560" cy="326160"/>
              <a:chOff x="947880" y="3431880"/>
              <a:chExt cx="322560" cy="326160"/>
            </a:xfrm>
          </p:grpSpPr>
          <p:sp>
            <p:nvSpPr>
              <p:cNvPr id="86" name="Oval 17"/>
              <p:cNvSpPr/>
              <p:nvPr/>
            </p:nvSpPr>
            <p:spPr>
              <a:xfrm>
                <a:off x="1157400" y="3519000"/>
                <a:ext cx="47520" cy="5184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18"/>
              <p:cNvSpPr/>
              <p:nvPr/>
            </p:nvSpPr>
            <p:spPr>
              <a:xfrm>
                <a:off x="1131480" y="3580560"/>
                <a:ext cx="99360" cy="17748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19"/>
              <p:cNvSpPr/>
              <p:nvPr/>
            </p:nvSpPr>
            <p:spPr>
              <a:xfrm>
                <a:off x="947880" y="3460320"/>
                <a:ext cx="167400" cy="29772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20"/>
              <p:cNvSpPr/>
              <p:nvPr/>
            </p:nvSpPr>
            <p:spPr>
              <a:xfrm>
                <a:off x="1112400" y="3431880"/>
                <a:ext cx="158040" cy="284040"/>
              </a:xfrm>
              <a:prstGeom prst="pie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TextBox 189"/>
            <p:cNvSpPr/>
            <p:nvPr/>
          </p:nvSpPr>
          <p:spPr>
            <a:xfrm>
              <a:off x="1675800" y="34099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1" name="直接箭头连接符 190"/>
            <p:cNvCxnSpPr/>
            <p:nvPr/>
          </p:nvCxnSpPr>
          <p:spPr>
            <a:xfrm flipV="1">
              <a:off x="1380240" y="3420720"/>
              <a:ext cx="1080" cy="347400"/>
            </a:xfrm>
            <a:prstGeom prst="straightConnector1">
              <a:avLst/>
            </a:prstGeom>
            <a:ln w="12600">
              <a:solidFill>
                <a:srgbClr val="7f7f7f"/>
              </a:solidFill>
              <a:miter/>
            </a:ln>
          </p:spPr>
        </p:cxnSp>
      </p:grpSp>
      <p:sp>
        <p:nvSpPr>
          <p:cNvPr id="92" name=""/>
          <p:cNvSpPr/>
          <p:nvPr/>
        </p:nvSpPr>
        <p:spPr>
          <a:xfrm>
            <a:off x="1044720" y="1197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5840" y="404640"/>
            <a:ext cx="397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箭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B652-6DED-49C3-9FF8-657C0AACBA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www.1ppt.com</dc:creator>
  <dc:description/>
  <cp:keywords>第一PPT www.1ppt.com</cp:keywords>
  <dc:language>en-US</dc:language>
  <cp:lastModifiedBy>lenovo</cp:lastModifiedBy>
  <dcterms:modified xsi:type="dcterms:W3CDTF">2015-07-11T15:41:07Z</dcterms:modified>
  <cp:revision>977</cp:revision>
  <dc:subject/>
  <dc:title>第一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