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3CD-6BBD-4200-84FE-70B44ABB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FCF-F180-428D-BC1E-D3BE2C6C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B70-7E18-4D05-A008-45C84F4E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5D8-F03A-4D13-968D-16E926D8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0AD-461A-4A25-98D5-3DD56B53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7B3-1330-4CDA-8494-F9B185FD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DB6-48BD-49AE-B375-16A6D3DA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8CD-1C08-44D1-A01D-06446CA5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5412-21BE-4783-A4A1-E1FA7CB4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895-981C-4B9E-A5B0-9EDA7A6E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CBF-887B-4673-BB54-B183CC56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B53-5085-4837-9CF2-F56B6EBC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E9CE-D807-42FC-BAB3-AC47496B93B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39CC-1B00-4873-B7FB-A7E9D8EE6E0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2"/>
          <p:cNvGrpSpPr/>
          <p:nvPr/>
        </p:nvGrpSpPr>
        <p:grpSpPr>
          <a:xfrm>
            <a:off x="190080" y="825840"/>
            <a:ext cx="5750640" cy="3282480"/>
            <a:chOff x="190080" y="825840"/>
            <a:chExt cx="5750640" cy="3282480"/>
          </a:xfrm>
        </p:grpSpPr>
        <p:sp>
          <p:nvSpPr>
            <p:cNvPr id="44" name="Text Box 2"/>
            <p:cNvSpPr/>
            <p:nvPr/>
          </p:nvSpPr>
          <p:spPr>
            <a:xfrm>
              <a:off x="2927160" y="2823840"/>
              <a:ext cx="1537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5"/>
            <p:cNvSpPr/>
            <p:nvPr/>
          </p:nvSpPr>
          <p:spPr>
            <a:xfrm>
              <a:off x="1983240" y="861840"/>
              <a:ext cx="1667160" cy="3138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91"/>
            <p:cNvSpPr/>
            <p:nvPr/>
          </p:nvSpPr>
          <p:spPr>
            <a:xfrm>
              <a:off x="2817720" y="2495520"/>
              <a:ext cx="307800" cy="10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右箭头 1"/>
            <p:cNvSpPr/>
            <p:nvPr/>
          </p:nvSpPr>
          <p:spPr>
            <a:xfrm rot="20832600">
              <a:off x="360360" y="1431360"/>
              <a:ext cx="5219640" cy="212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156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任意多边形 93"/>
            <p:cNvSpPr/>
            <p:nvPr/>
          </p:nvSpPr>
          <p:spPr>
            <a:xfrm rot="20832600">
              <a:off x="3784320" y="1015920"/>
              <a:ext cx="1838160" cy="1063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16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94"/>
            <p:cNvSpPr/>
            <p:nvPr/>
          </p:nvSpPr>
          <p:spPr>
            <a:xfrm rot="20832600">
              <a:off x="4056120" y="2025360"/>
              <a:ext cx="1787400" cy="1076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16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95"/>
            <p:cNvSpPr/>
            <p:nvPr/>
          </p:nvSpPr>
          <p:spPr>
            <a:xfrm>
              <a:off x="1748160" y="861840"/>
              <a:ext cx="258840" cy="3144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1"/>
            <p:cNvSpPr/>
            <p:nvPr/>
          </p:nvSpPr>
          <p:spPr>
            <a:xfrm flipH="1" rot="20856000">
              <a:off x="3577320" y="1960200"/>
              <a:ext cx="16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未来计划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15"/>
          <p:cNvGrpSpPr/>
          <p:nvPr/>
        </p:nvGrpSpPr>
        <p:grpSpPr>
          <a:xfrm>
            <a:off x="5181480" y="2400480"/>
            <a:ext cx="4102560" cy="4485960"/>
            <a:chOff x="5181480" y="2400480"/>
            <a:chExt cx="4102560" cy="4485960"/>
          </a:xfrm>
        </p:grpSpPr>
        <p:sp>
          <p:nvSpPr>
            <p:cNvPr id="53" name="任意多边形 103"/>
            <p:cNvSpPr/>
            <p:nvPr/>
          </p:nvSpPr>
          <p:spPr>
            <a:xfrm>
              <a:off x="5181480" y="3305160"/>
              <a:ext cx="1141560" cy="266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下箭头 3"/>
            <p:cNvSpPr/>
            <p:nvPr/>
          </p:nvSpPr>
          <p:spPr>
            <a:xfrm rot="20239200">
              <a:off x="6255720" y="2708280"/>
              <a:ext cx="2372040" cy="387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762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下箭头 3"/>
            <p:cNvSpPr/>
            <p:nvPr/>
          </p:nvSpPr>
          <p:spPr>
            <a:xfrm rot="20239200">
              <a:off x="6399000" y="2728440"/>
              <a:ext cx="2237040" cy="3808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762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755640" y="364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160" y="249228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箭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76E-8EF9-401D-AF1C-8F9A83C503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lenovo</cp:lastModifiedBy>
  <dcterms:modified xsi:type="dcterms:W3CDTF">2015-07-11T15:40:33Z</dcterms:modified>
  <cp:revision>1022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