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7"/>
          <p:cNvGrpSpPr/>
          <p:nvPr/>
        </p:nvGrpSpPr>
        <p:grpSpPr>
          <a:xfrm>
            <a:off x="863640" y="1817640"/>
            <a:ext cx="6662160" cy="3843360"/>
            <a:chOff x="863640" y="1817640"/>
            <a:chExt cx="6662160" cy="3843360"/>
          </a:xfrm>
        </p:grpSpPr>
        <p:grpSp>
          <p:nvGrpSpPr>
            <p:cNvPr id="75" name="Group 8"/>
            <p:cNvGrpSpPr/>
            <p:nvPr/>
          </p:nvGrpSpPr>
          <p:grpSpPr>
            <a:xfrm>
              <a:off x="3126960" y="2609640"/>
              <a:ext cx="1733400" cy="1834920"/>
              <a:chOff x="3126960" y="2609640"/>
              <a:chExt cx="1733400" cy="1834920"/>
            </a:xfrm>
          </p:grpSpPr>
          <p:sp>
            <p:nvSpPr>
              <p:cNvPr id="76" name="Freeform 9"/>
              <p:cNvSpPr/>
              <p:nvPr/>
            </p:nvSpPr>
            <p:spPr>
              <a:xfrm>
                <a:off x="3126960" y="2609640"/>
                <a:ext cx="1733400" cy="1222920"/>
              </a:xfrm>
              <a:custGeom>
                <a:avLst/>
                <a:gdLst>
                  <a:gd name="textAreaLeft" fmla="*/ 0 w 1733400"/>
                  <a:gd name="textAreaRight" fmla="*/ 1733760 w 1733400"/>
                  <a:gd name="textAreaTop" fmla="*/ 0 h 1222920"/>
                  <a:gd name="textAreaBottom" fmla="*/ 1223280 h 1222920"/>
                </a:gdLst>
                <a:ahLst/>
                <a:rect l="textAreaLeft" t="textAreaTop" r="textAreaRight" b="textAreaBottom"/>
                <a:pathLst>
                  <a:path w="1186" h="837">
                    <a:moveTo>
                      <a:pt x="0" y="246"/>
                    </a:moveTo>
                    <a:lnTo>
                      <a:pt x="0" y="246"/>
                    </a:lnTo>
                    <a:lnTo>
                      <a:pt x="58" y="218"/>
                    </a:lnTo>
                    <a:lnTo>
                      <a:pt x="120" y="192"/>
                    </a:lnTo>
                    <a:lnTo>
                      <a:pt x="182" y="167"/>
                    </a:lnTo>
                    <a:lnTo>
                      <a:pt x="248" y="144"/>
                    </a:lnTo>
                    <a:lnTo>
                      <a:pt x="316" y="121"/>
                    </a:lnTo>
                    <a:lnTo>
                      <a:pt x="386" y="101"/>
                    </a:lnTo>
                    <a:lnTo>
                      <a:pt x="459" y="82"/>
                    </a:lnTo>
                    <a:lnTo>
                      <a:pt x="533" y="65"/>
                    </a:lnTo>
                    <a:lnTo>
                      <a:pt x="610" y="51"/>
                    </a:lnTo>
                    <a:lnTo>
                      <a:pt x="687" y="38"/>
                    </a:lnTo>
                    <a:lnTo>
                      <a:pt x="767" y="27"/>
                    </a:lnTo>
                    <a:lnTo>
                      <a:pt x="848" y="17"/>
                    </a:lnTo>
                    <a:lnTo>
                      <a:pt x="930" y="10"/>
                    </a:lnTo>
                    <a:lnTo>
                      <a:pt x="1015" y="4"/>
                    </a:lnTo>
                    <a:lnTo>
                      <a:pt x="1099" y="1"/>
                    </a:lnTo>
                    <a:lnTo>
                      <a:pt x="1186" y="0"/>
                    </a:lnTo>
                    <a:lnTo>
                      <a:pt x="1186" y="837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" name="Freeform 10"/>
              <p:cNvSpPr/>
              <p:nvPr/>
            </p:nvSpPr>
            <p:spPr>
              <a:xfrm>
                <a:off x="3126960" y="2968920"/>
                <a:ext cx="1733400" cy="1475640"/>
              </a:xfrm>
              <a:custGeom>
                <a:avLst/>
                <a:gdLst>
                  <a:gd name="textAreaLeft" fmla="*/ 0 w 1733400"/>
                  <a:gd name="textAreaRight" fmla="*/ 1733760 w 1733400"/>
                  <a:gd name="textAreaTop" fmla="*/ 0 h 1475640"/>
                  <a:gd name="textAreaBottom" fmla="*/ 1476000 h 1475640"/>
                </a:gdLst>
                <a:ahLst/>
                <a:rect l="textAreaLeft" t="textAreaTop" r="textAreaRight" b="textAreaBottom"/>
                <a:pathLst>
                  <a:path w="1186" h="1010">
                    <a:moveTo>
                      <a:pt x="1186" y="591"/>
                    </a:moveTo>
                    <a:lnTo>
                      <a:pt x="0" y="0"/>
                    </a:lnTo>
                    <a:lnTo>
                      <a:pt x="0" y="419"/>
                    </a:lnTo>
                    <a:lnTo>
                      <a:pt x="1186" y="1010"/>
                    </a:lnTo>
                    <a:lnTo>
                      <a:pt x="1186" y="59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8" name="Group 11"/>
            <p:cNvGrpSpPr/>
            <p:nvPr/>
          </p:nvGrpSpPr>
          <p:grpSpPr>
            <a:xfrm>
              <a:off x="4860720" y="2763720"/>
              <a:ext cx="1733040" cy="1680840"/>
              <a:chOff x="4860720" y="2763720"/>
              <a:chExt cx="1733040" cy="1680840"/>
            </a:xfrm>
          </p:grpSpPr>
          <p:sp>
            <p:nvSpPr>
              <p:cNvPr id="79" name="Freeform 12"/>
              <p:cNvSpPr/>
              <p:nvPr/>
            </p:nvSpPr>
            <p:spPr>
              <a:xfrm>
                <a:off x="4860720" y="2763720"/>
                <a:ext cx="1733040" cy="1223640"/>
              </a:xfrm>
              <a:custGeom>
                <a:avLst/>
                <a:gdLst>
                  <a:gd name="textAreaLeft" fmla="*/ 0 w 1733040"/>
                  <a:gd name="textAreaRight" fmla="*/ 1733400 w 1733040"/>
                  <a:gd name="textAreaTop" fmla="*/ 0 h 1223640"/>
                  <a:gd name="textAreaBottom" fmla="*/ 1224000 h 1223640"/>
                </a:gdLst>
                <a:ahLst/>
                <a:rect l="textAreaLeft" t="textAreaTop" r="textAreaRight" b="textAreaBottom"/>
                <a:pathLst>
                  <a:path w="1185" h="838">
                    <a:moveTo>
                      <a:pt x="1185" y="245"/>
                    </a:moveTo>
                    <a:lnTo>
                      <a:pt x="1185" y="245"/>
                    </a:lnTo>
                    <a:lnTo>
                      <a:pt x="1127" y="218"/>
                    </a:lnTo>
                    <a:lnTo>
                      <a:pt x="1065" y="191"/>
                    </a:lnTo>
                    <a:lnTo>
                      <a:pt x="1003" y="167"/>
                    </a:lnTo>
                    <a:lnTo>
                      <a:pt x="937" y="143"/>
                    </a:lnTo>
                    <a:lnTo>
                      <a:pt x="869" y="121"/>
                    </a:lnTo>
                    <a:lnTo>
                      <a:pt x="799" y="101"/>
                    </a:lnTo>
                    <a:lnTo>
                      <a:pt x="726" y="83"/>
                    </a:lnTo>
                    <a:lnTo>
                      <a:pt x="652" y="66"/>
                    </a:lnTo>
                    <a:lnTo>
                      <a:pt x="575" y="50"/>
                    </a:lnTo>
                    <a:lnTo>
                      <a:pt x="498" y="37"/>
                    </a:lnTo>
                    <a:lnTo>
                      <a:pt x="418" y="26"/>
                    </a:lnTo>
                    <a:lnTo>
                      <a:pt x="337" y="17"/>
                    </a:lnTo>
                    <a:lnTo>
                      <a:pt x="255" y="10"/>
                    </a:lnTo>
                    <a:lnTo>
                      <a:pt x="170" y="5"/>
                    </a:lnTo>
                    <a:lnTo>
                      <a:pt x="86" y="2"/>
                    </a:lnTo>
                    <a:lnTo>
                      <a:pt x="0" y="0"/>
                    </a:lnTo>
                    <a:lnTo>
                      <a:pt x="0" y="838"/>
                    </a:lnTo>
                    <a:lnTo>
                      <a:pt x="1185" y="245"/>
                    </a:lnTo>
                    <a:close/>
                  </a:path>
                </a:pathLst>
              </a:custGeom>
              <a:solidFill>
                <a:srgbClr val="ff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" name="Freeform 13"/>
              <p:cNvSpPr/>
              <p:nvPr/>
            </p:nvSpPr>
            <p:spPr>
              <a:xfrm>
                <a:off x="4860720" y="3121200"/>
                <a:ext cx="1733040" cy="1323360"/>
              </a:xfrm>
              <a:custGeom>
                <a:avLst/>
                <a:gdLst>
                  <a:gd name="textAreaLeft" fmla="*/ 0 w 1733040"/>
                  <a:gd name="textAreaRight" fmla="*/ 1733400 w 1733040"/>
                  <a:gd name="textAreaTop" fmla="*/ 0 h 1323360"/>
                  <a:gd name="textAreaBottom" fmla="*/ 1323720 h 1323360"/>
                </a:gdLst>
                <a:ahLst/>
                <a:rect l="textAreaLeft" t="textAreaTop" r="textAreaRight" b="textAreaBottom"/>
                <a:pathLst>
                  <a:path w="1185" h="906">
                    <a:moveTo>
                      <a:pt x="0" y="593"/>
                    </a:moveTo>
                    <a:lnTo>
                      <a:pt x="1185" y="0"/>
                    </a:lnTo>
                    <a:lnTo>
                      <a:pt x="1185" y="315"/>
                    </a:lnTo>
                    <a:lnTo>
                      <a:pt x="0" y="906"/>
                    </a:lnTo>
                    <a:lnTo>
                      <a:pt x="0" y="593"/>
                    </a:lnTo>
                    <a:close/>
                  </a:path>
                </a:pathLst>
              </a:custGeom>
              <a:solidFill>
                <a:srgbClr val="b0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1" name="Group 14"/>
            <p:cNvGrpSpPr/>
            <p:nvPr/>
          </p:nvGrpSpPr>
          <p:grpSpPr>
            <a:xfrm>
              <a:off x="2408040" y="2814480"/>
              <a:ext cx="2450520" cy="1628640"/>
              <a:chOff x="2408040" y="2814480"/>
              <a:chExt cx="2450520" cy="1628640"/>
            </a:xfrm>
          </p:grpSpPr>
          <p:sp>
            <p:nvSpPr>
              <p:cNvPr id="82" name="Freeform 15"/>
              <p:cNvSpPr/>
              <p:nvPr/>
            </p:nvSpPr>
            <p:spPr>
              <a:xfrm>
                <a:off x="2408040" y="2814480"/>
                <a:ext cx="2450520" cy="864720"/>
              </a:xfrm>
              <a:custGeom>
                <a:avLst/>
                <a:gdLst>
                  <a:gd name="textAreaLeft" fmla="*/ 0 w 2450520"/>
                  <a:gd name="textAreaRight" fmla="*/ 2450880 w 2450520"/>
                  <a:gd name="textAreaTop" fmla="*/ 0 h 864720"/>
                  <a:gd name="textAreaBottom" fmla="*/ 865080 h 864720"/>
                </a:gdLst>
                <a:ahLst/>
                <a:rect l="textAreaLeft" t="textAreaTop" r="textAreaRight" b="textAreaBottom"/>
                <a:pathLst>
                  <a:path w="1676" h="592">
                    <a:moveTo>
                      <a:pt x="1676" y="592"/>
                    </a:moveTo>
                    <a:lnTo>
                      <a:pt x="490" y="0"/>
                    </a:lnTo>
                    <a:lnTo>
                      <a:pt x="436" y="28"/>
                    </a:lnTo>
                    <a:lnTo>
                      <a:pt x="383" y="60"/>
                    </a:lnTo>
                    <a:lnTo>
                      <a:pt x="333" y="91"/>
                    </a:lnTo>
                    <a:lnTo>
                      <a:pt x="286" y="124"/>
                    </a:lnTo>
                    <a:lnTo>
                      <a:pt x="242" y="158"/>
                    </a:lnTo>
                    <a:lnTo>
                      <a:pt x="202" y="194"/>
                    </a:lnTo>
                    <a:lnTo>
                      <a:pt x="165" y="229"/>
                    </a:lnTo>
                    <a:lnTo>
                      <a:pt x="131" y="266"/>
                    </a:lnTo>
                    <a:lnTo>
                      <a:pt x="101" y="305"/>
                    </a:lnTo>
                    <a:lnTo>
                      <a:pt x="88" y="323"/>
                    </a:lnTo>
                    <a:lnTo>
                      <a:pt x="75" y="343"/>
                    </a:lnTo>
                    <a:lnTo>
                      <a:pt x="64" y="363"/>
                    </a:lnTo>
                    <a:lnTo>
                      <a:pt x="53" y="383"/>
                    </a:lnTo>
                    <a:lnTo>
                      <a:pt x="43" y="403"/>
                    </a:lnTo>
                    <a:lnTo>
                      <a:pt x="34" y="423"/>
                    </a:lnTo>
                    <a:lnTo>
                      <a:pt x="25" y="444"/>
                    </a:lnTo>
                    <a:lnTo>
                      <a:pt x="20" y="464"/>
                    </a:lnTo>
                    <a:lnTo>
                      <a:pt x="13" y="486"/>
                    </a:lnTo>
                    <a:lnTo>
                      <a:pt x="8" y="507"/>
                    </a:lnTo>
                    <a:lnTo>
                      <a:pt x="4" y="528"/>
                    </a:lnTo>
                    <a:lnTo>
                      <a:pt x="3" y="550"/>
                    </a:lnTo>
                    <a:lnTo>
                      <a:pt x="0" y="571"/>
                    </a:lnTo>
                    <a:lnTo>
                      <a:pt x="0" y="592"/>
                    </a:lnTo>
                    <a:lnTo>
                      <a:pt x="1676" y="59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" name="Rectangle 16"/>
              <p:cNvSpPr/>
              <p:nvPr/>
            </p:nvSpPr>
            <p:spPr>
              <a:xfrm>
                <a:off x="2408040" y="3679200"/>
                <a:ext cx="2450520" cy="763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" name="Group 17"/>
            <p:cNvGrpSpPr/>
            <p:nvPr/>
          </p:nvGrpSpPr>
          <p:grpSpPr>
            <a:xfrm>
              <a:off x="4860720" y="3276720"/>
              <a:ext cx="2449080" cy="1168200"/>
              <a:chOff x="4860720" y="3276720"/>
              <a:chExt cx="2449080" cy="1168200"/>
            </a:xfrm>
          </p:grpSpPr>
          <p:sp>
            <p:nvSpPr>
              <p:cNvPr id="85" name="Freeform 18"/>
              <p:cNvSpPr/>
              <p:nvPr/>
            </p:nvSpPr>
            <p:spPr>
              <a:xfrm>
                <a:off x="4860720" y="3276720"/>
                <a:ext cx="2449080" cy="862920"/>
              </a:xfrm>
              <a:custGeom>
                <a:avLst/>
                <a:gdLst>
                  <a:gd name="textAreaLeft" fmla="*/ 0 w 2449080"/>
                  <a:gd name="textAreaRight" fmla="*/ 2449440 w 2449080"/>
                  <a:gd name="textAreaTop" fmla="*/ 0 h 862920"/>
                  <a:gd name="textAreaBottom" fmla="*/ 863280 h 862920"/>
                </a:gdLst>
                <a:ahLst/>
                <a:rect l="textAreaLeft" t="textAreaTop" r="textAreaRight" b="textAreaBottom"/>
                <a:pathLst>
                  <a:path w="1675" h="591">
                    <a:moveTo>
                      <a:pt x="0" y="591"/>
                    </a:moveTo>
                    <a:lnTo>
                      <a:pt x="1185" y="0"/>
                    </a:lnTo>
                    <a:lnTo>
                      <a:pt x="1239" y="28"/>
                    </a:lnTo>
                    <a:lnTo>
                      <a:pt x="1292" y="58"/>
                    </a:lnTo>
                    <a:lnTo>
                      <a:pt x="1342" y="89"/>
                    </a:lnTo>
                    <a:lnTo>
                      <a:pt x="1389" y="124"/>
                    </a:lnTo>
                    <a:lnTo>
                      <a:pt x="1433" y="156"/>
                    </a:lnTo>
                    <a:lnTo>
                      <a:pt x="1473" y="192"/>
                    </a:lnTo>
                    <a:lnTo>
                      <a:pt x="1510" y="228"/>
                    </a:lnTo>
                    <a:lnTo>
                      <a:pt x="1544" y="265"/>
                    </a:lnTo>
                    <a:lnTo>
                      <a:pt x="1574" y="303"/>
                    </a:lnTo>
                    <a:lnTo>
                      <a:pt x="1587" y="323"/>
                    </a:lnTo>
                    <a:lnTo>
                      <a:pt x="1600" y="342"/>
                    </a:lnTo>
                    <a:lnTo>
                      <a:pt x="1611" y="361"/>
                    </a:lnTo>
                    <a:lnTo>
                      <a:pt x="1622" y="381"/>
                    </a:lnTo>
                    <a:lnTo>
                      <a:pt x="1632" y="401"/>
                    </a:lnTo>
                    <a:lnTo>
                      <a:pt x="1641" y="423"/>
                    </a:lnTo>
                    <a:lnTo>
                      <a:pt x="1650" y="443"/>
                    </a:lnTo>
                    <a:lnTo>
                      <a:pt x="1655" y="464"/>
                    </a:lnTo>
                    <a:lnTo>
                      <a:pt x="1662" y="484"/>
                    </a:lnTo>
                    <a:lnTo>
                      <a:pt x="1667" y="505"/>
                    </a:lnTo>
                    <a:lnTo>
                      <a:pt x="1671" y="527"/>
                    </a:lnTo>
                    <a:lnTo>
                      <a:pt x="1672" y="548"/>
                    </a:lnTo>
                    <a:lnTo>
                      <a:pt x="1675" y="569"/>
                    </a:lnTo>
                    <a:lnTo>
                      <a:pt x="1675" y="591"/>
                    </a:lnTo>
                    <a:lnTo>
                      <a:pt x="0" y="5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" name="Rectangle 19"/>
              <p:cNvSpPr/>
              <p:nvPr/>
            </p:nvSpPr>
            <p:spPr>
              <a:xfrm>
                <a:off x="4860720" y="4139640"/>
                <a:ext cx="2449080" cy="30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7" name="Group 20"/>
            <p:cNvGrpSpPr/>
            <p:nvPr/>
          </p:nvGrpSpPr>
          <p:grpSpPr>
            <a:xfrm>
              <a:off x="1871280" y="3527280"/>
              <a:ext cx="2449080" cy="1782720"/>
              <a:chOff x="1871280" y="3527280"/>
              <a:chExt cx="2449080" cy="1782720"/>
            </a:xfrm>
          </p:grpSpPr>
          <p:sp>
            <p:nvSpPr>
              <p:cNvPr id="88" name="Freeform 21"/>
              <p:cNvSpPr/>
              <p:nvPr/>
            </p:nvSpPr>
            <p:spPr>
              <a:xfrm>
                <a:off x="1871280" y="3527280"/>
                <a:ext cx="2449080" cy="865800"/>
              </a:xfrm>
              <a:custGeom>
                <a:avLst/>
                <a:gdLst>
                  <a:gd name="textAreaLeft" fmla="*/ 0 w 2449080"/>
                  <a:gd name="textAreaRight" fmla="*/ 2449440 w 2449080"/>
                  <a:gd name="textAreaTop" fmla="*/ 0 h 865800"/>
                  <a:gd name="textAreaBottom" fmla="*/ 866160 h 865800"/>
                </a:gdLst>
                <a:ahLst/>
                <a:rect l="textAreaLeft" t="textAreaTop" r="textAreaRight" b="textAreaBottom"/>
                <a:pathLst>
                  <a:path w="1676" h="593">
                    <a:moveTo>
                      <a:pt x="1676" y="0"/>
                    </a:moveTo>
                    <a:lnTo>
                      <a:pt x="490" y="593"/>
                    </a:lnTo>
                    <a:lnTo>
                      <a:pt x="436" y="564"/>
                    </a:lnTo>
                    <a:lnTo>
                      <a:pt x="383" y="533"/>
                    </a:lnTo>
                    <a:lnTo>
                      <a:pt x="333" y="501"/>
                    </a:lnTo>
                    <a:lnTo>
                      <a:pt x="286" y="469"/>
                    </a:lnTo>
                    <a:lnTo>
                      <a:pt x="242" y="434"/>
                    </a:lnTo>
                    <a:lnTo>
                      <a:pt x="202" y="400"/>
                    </a:lnTo>
                    <a:lnTo>
                      <a:pt x="165" y="363"/>
                    </a:lnTo>
                    <a:lnTo>
                      <a:pt x="131" y="326"/>
                    </a:lnTo>
                    <a:lnTo>
                      <a:pt x="101" y="288"/>
                    </a:lnTo>
                    <a:lnTo>
                      <a:pt x="88" y="269"/>
                    </a:lnTo>
                    <a:lnTo>
                      <a:pt x="75" y="249"/>
                    </a:lnTo>
                    <a:lnTo>
                      <a:pt x="64" y="229"/>
                    </a:lnTo>
                    <a:lnTo>
                      <a:pt x="53" y="209"/>
                    </a:lnTo>
                    <a:lnTo>
                      <a:pt x="43" y="189"/>
                    </a:lnTo>
                    <a:lnTo>
                      <a:pt x="34" y="170"/>
                    </a:lnTo>
                    <a:lnTo>
                      <a:pt x="25" y="148"/>
                    </a:lnTo>
                    <a:lnTo>
                      <a:pt x="20" y="128"/>
                    </a:lnTo>
                    <a:lnTo>
                      <a:pt x="13" y="107"/>
                    </a:lnTo>
                    <a:lnTo>
                      <a:pt x="8" y="85"/>
                    </a:lnTo>
                    <a:lnTo>
                      <a:pt x="4" y="66"/>
                    </a:lnTo>
                    <a:lnTo>
                      <a:pt x="3" y="44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6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" name="Freeform 22"/>
              <p:cNvSpPr/>
              <p:nvPr/>
            </p:nvSpPr>
            <p:spPr>
              <a:xfrm>
                <a:off x="1871280" y="3527280"/>
                <a:ext cx="716040" cy="1782720"/>
              </a:xfrm>
              <a:custGeom>
                <a:avLst/>
                <a:gdLst>
                  <a:gd name="textAreaLeft" fmla="*/ 0 w 716040"/>
                  <a:gd name="textAreaRight" fmla="*/ 716400 w 716040"/>
                  <a:gd name="textAreaTop" fmla="*/ 0 h 1782720"/>
                  <a:gd name="textAreaBottom" fmla="*/ 1783080 h 1782720"/>
                </a:gdLst>
                <a:ahLst/>
                <a:rect l="textAreaLeft" t="textAreaTop" r="textAreaRight" b="textAreaBottom"/>
                <a:pathLst>
                  <a:path w="490" h="1221">
                    <a:moveTo>
                      <a:pt x="490" y="593"/>
                    </a:moveTo>
                    <a:lnTo>
                      <a:pt x="490" y="593"/>
                    </a:lnTo>
                    <a:lnTo>
                      <a:pt x="436" y="564"/>
                    </a:lnTo>
                    <a:lnTo>
                      <a:pt x="383" y="533"/>
                    </a:lnTo>
                    <a:lnTo>
                      <a:pt x="333" y="501"/>
                    </a:lnTo>
                    <a:lnTo>
                      <a:pt x="286" y="469"/>
                    </a:lnTo>
                    <a:lnTo>
                      <a:pt x="242" y="434"/>
                    </a:lnTo>
                    <a:lnTo>
                      <a:pt x="202" y="400"/>
                    </a:lnTo>
                    <a:lnTo>
                      <a:pt x="165" y="363"/>
                    </a:lnTo>
                    <a:lnTo>
                      <a:pt x="131" y="326"/>
                    </a:lnTo>
                    <a:lnTo>
                      <a:pt x="101" y="288"/>
                    </a:lnTo>
                    <a:lnTo>
                      <a:pt x="88" y="269"/>
                    </a:lnTo>
                    <a:lnTo>
                      <a:pt x="75" y="249"/>
                    </a:lnTo>
                    <a:lnTo>
                      <a:pt x="64" y="229"/>
                    </a:lnTo>
                    <a:lnTo>
                      <a:pt x="53" y="209"/>
                    </a:lnTo>
                    <a:lnTo>
                      <a:pt x="43" y="189"/>
                    </a:lnTo>
                    <a:lnTo>
                      <a:pt x="34" y="170"/>
                    </a:lnTo>
                    <a:lnTo>
                      <a:pt x="25" y="148"/>
                    </a:lnTo>
                    <a:lnTo>
                      <a:pt x="20" y="128"/>
                    </a:lnTo>
                    <a:lnTo>
                      <a:pt x="13" y="107"/>
                    </a:lnTo>
                    <a:lnTo>
                      <a:pt x="8" y="85"/>
                    </a:lnTo>
                    <a:lnTo>
                      <a:pt x="4" y="66"/>
                    </a:lnTo>
                    <a:lnTo>
                      <a:pt x="3" y="44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628"/>
                    </a:lnTo>
                    <a:lnTo>
                      <a:pt x="0" y="650"/>
                    </a:lnTo>
                    <a:lnTo>
                      <a:pt x="3" y="672"/>
                    </a:lnTo>
                    <a:lnTo>
                      <a:pt x="4" y="694"/>
                    </a:lnTo>
                    <a:lnTo>
                      <a:pt x="8" y="714"/>
                    </a:lnTo>
                    <a:lnTo>
                      <a:pt x="13" y="735"/>
                    </a:lnTo>
                    <a:lnTo>
                      <a:pt x="20" y="756"/>
                    </a:lnTo>
                    <a:lnTo>
                      <a:pt x="25" y="776"/>
                    </a:lnTo>
                    <a:lnTo>
                      <a:pt x="34" y="798"/>
                    </a:lnTo>
                    <a:lnTo>
                      <a:pt x="43" y="818"/>
                    </a:lnTo>
                    <a:lnTo>
                      <a:pt x="53" y="838"/>
                    </a:lnTo>
                    <a:lnTo>
                      <a:pt x="64" y="858"/>
                    </a:lnTo>
                    <a:lnTo>
                      <a:pt x="75" y="877"/>
                    </a:lnTo>
                    <a:lnTo>
                      <a:pt x="88" y="897"/>
                    </a:lnTo>
                    <a:lnTo>
                      <a:pt x="101" y="916"/>
                    </a:lnTo>
                    <a:lnTo>
                      <a:pt x="131" y="954"/>
                    </a:lnTo>
                    <a:lnTo>
                      <a:pt x="165" y="991"/>
                    </a:lnTo>
                    <a:lnTo>
                      <a:pt x="202" y="1028"/>
                    </a:lnTo>
                    <a:lnTo>
                      <a:pt x="242" y="1063"/>
                    </a:lnTo>
                    <a:lnTo>
                      <a:pt x="286" y="1097"/>
                    </a:lnTo>
                    <a:lnTo>
                      <a:pt x="333" y="1130"/>
                    </a:lnTo>
                    <a:lnTo>
                      <a:pt x="383" y="1161"/>
                    </a:lnTo>
                    <a:lnTo>
                      <a:pt x="436" y="1192"/>
                    </a:lnTo>
                    <a:lnTo>
                      <a:pt x="490" y="1221"/>
                    </a:lnTo>
                    <a:lnTo>
                      <a:pt x="490" y="59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" name="Freeform 23"/>
              <p:cNvSpPr/>
              <p:nvPr/>
            </p:nvSpPr>
            <p:spPr>
              <a:xfrm>
                <a:off x="2587320" y="3527280"/>
                <a:ext cx="1732680" cy="1782720"/>
              </a:xfrm>
              <a:custGeom>
                <a:avLst/>
                <a:gdLst>
                  <a:gd name="textAreaLeft" fmla="*/ 0 w 1732680"/>
                  <a:gd name="textAreaRight" fmla="*/ 1733040 w 1732680"/>
                  <a:gd name="textAreaTop" fmla="*/ 0 h 1782720"/>
                  <a:gd name="textAreaBottom" fmla="*/ 1783080 h 1782720"/>
                </a:gdLst>
                <a:ahLst/>
                <a:rect l="textAreaLeft" t="textAreaTop" r="textAreaRight" b="textAreaBottom"/>
                <a:pathLst>
                  <a:path w="1186" h="1221">
                    <a:moveTo>
                      <a:pt x="1186" y="628"/>
                    </a:moveTo>
                    <a:lnTo>
                      <a:pt x="0" y="1221"/>
                    </a:lnTo>
                    <a:lnTo>
                      <a:pt x="0" y="593"/>
                    </a:lnTo>
                    <a:lnTo>
                      <a:pt x="1186" y="0"/>
                    </a:lnTo>
                    <a:lnTo>
                      <a:pt x="1186" y="62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1" name="Group 24"/>
            <p:cNvGrpSpPr/>
            <p:nvPr/>
          </p:nvGrpSpPr>
          <p:grpSpPr>
            <a:xfrm>
              <a:off x="4860720" y="4292640"/>
              <a:ext cx="2449080" cy="1017360"/>
              <a:chOff x="4860720" y="4292640"/>
              <a:chExt cx="2449080" cy="1017360"/>
            </a:xfrm>
          </p:grpSpPr>
          <p:sp>
            <p:nvSpPr>
              <p:cNvPr id="92" name="Freeform 25"/>
              <p:cNvSpPr/>
              <p:nvPr/>
            </p:nvSpPr>
            <p:spPr>
              <a:xfrm>
                <a:off x="4860720" y="4292640"/>
                <a:ext cx="2449080" cy="865440"/>
              </a:xfrm>
              <a:custGeom>
                <a:avLst/>
                <a:gdLst>
                  <a:gd name="textAreaLeft" fmla="*/ 0 w 2449080"/>
                  <a:gd name="textAreaRight" fmla="*/ 2449440 w 2449080"/>
                  <a:gd name="textAreaTop" fmla="*/ 0 h 865440"/>
                  <a:gd name="textAreaBottom" fmla="*/ 865800 h 865440"/>
                </a:gdLst>
                <a:ahLst/>
                <a:rect l="textAreaLeft" t="textAreaTop" r="textAreaRight" b="textAreaBottom"/>
                <a:pathLst>
                  <a:path w="1675" h="593">
                    <a:moveTo>
                      <a:pt x="0" y="0"/>
                    </a:moveTo>
                    <a:lnTo>
                      <a:pt x="1185" y="593"/>
                    </a:lnTo>
                    <a:lnTo>
                      <a:pt x="1239" y="563"/>
                    </a:lnTo>
                    <a:lnTo>
                      <a:pt x="1292" y="533"/>
                    </a:lnTo>
                    <a:lnTo>
                      <a:pt x="1342" y="502"/>
                    </a:lnTo>
                    <a:lnTo>
                      <a:pt x="1389" y="469"/>
                    </a:lnTo>
                    <a:lnTo>
                      <a:pt x="1433" y="435"/>
                    </a:lnTo>
                    <a:lnTo>
                      <a:pt x="1473" y="399"/>
                    </a:lnTo>
                    <a:lnTo>
                      <a:pt x="1510" y="363"/>
                    </a:lnTo>
                    <a:lnTo>
                      <a:pt x="1544" y="326"/>
                    </a:lnTo>
                    <a:lnTo>
                      <a:pt x="1574" y="288"/>
                    </a:lnTo>
                    <a:lnTo>
                      <a:pt x="1587" y="268"/>
                    </a:lnTo>
                    <a:lnTo>
                      <a:pt x="1600" y="249"/>
                    </a:lnTo>
                    <a:lnTo>
                      <a:pt x="1611" y="230"/>
                    </a:lnTo>
                    <a:lnTo>
                      <a:pt x="1622" y="210"/>
                    </a:lnTo>
                    <a:lnTo>
                      <a:pt x="1632" y="190"/>
                    </a:lnTo>
                    <a:lnTo>
                      <a:pt x="1641" y="168"/>
                    </a:lnTo>
                    <a:lnTo>
                      <a:pt x="1650" y="148"/>
                    </a:lnTo>
                    <a:lnTo>
                      <a:pt x="1655" y="127"/>
                    </a:lnTo>
                    <a:lnTo>
                      <a:pt x="1662" y="107"/>
                    </a:lnTo>
                    <a:lnTo>
                      <a:pt x="1667" y="86"/>
                    </a:lnTo>
                    <a:lnTo>
                      <a:pt x="1671" y="64"/>
                    </a:lnTo>
                    <a:lnTo>
                      <a:pt x="1672" y="43"/>
                    </a:lnTo>
                    <a:lnTo>
                      <a:pt x="1675" y="22"/>
                    </a:lnTo>
                    <a:lnTo>
                      <a:pt x="16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" name="Freeform 26"/>
              <p:cNvSpPr/>
              <p:nvPr/>
            </p:nvSpPr>
            <p:spPr>
              <a:xfrm>
                <a:off x="6593400" y="4292640"/>
                <a:ext cx="716040" cy="1017360"/>
              </a:xfrm>
              <a:custGeom>
                <a:avLst/>
                <a:gdLst>
                  <a:gd name="textAreaLeft" fmla="*/ 0 w 716040"/>
                  <a:gd name="textAreaRight" fmla="*/ 716400 w 716040"/>
                  <a:gd name="textAreaTop" fmla="*/ 0 h 1017360"/>
                  <a:gd name="textAreaBottom" fmla="*/ 1017720 h 1017360"/>
                </a:gdLst>
                <a:ahLst/>
                <a:rect l="textAreaLeft" t="textAreaTop" r="textAreaRight" b="textAreaBottom"/>
                <a:pathLst>
                  <a:path w="490" h="697">
                    <a:moveTo>
                      <a:pt x="0" y="593"/>
                    </a:moveTo>
                    <a:lnTo>
                      <a:pt x="0" y="593"/>
                    </a:lnTo>
                    <a:lnTo>
                      <a:pt x="54" y="563"/>
                    </a:lnTo>
                    <a:lnTo>
                      <a:pt x="107" y="533"/>
                    </a:lnTo>
                    <a:lnTo>
                      <a:pt x="157" y="502"/>
                    </a:lnTo>
                    <a:lnTo>
                      <a:pt x="204" y="469"/>
                    </a:lnTo>
                    <a:lnTo>
                      <a:pt x="248" y="435"/>
                    </a:lnTo>
                    <a:lnTo>
                      <a:pt x="288" y="399"/>
                    </a:lnTo>
                    <a:lnTo>
                      <a:pt x="325" y="363"/>
                    </a:lnTo>
                    <a:lnTo>
                      <a:pt x="359" y="326"/>
                    </a:lnTo>
                    <a:lnTo>
                      <a:pt x="389" y="288"/>
                    </a:lnTo>
                    <a:lnTo>
                      <a:pt x="402" y="268"/>
                    </a:lnTo>
                    <a:lnTo>
                      <a:pt x="415" y="249"/>
                    </a:lnTo>
                    <a:lnTo>
                      <a:pt x="426" y="230"/>
                    </a:lnTo>
                    <a:lnTo>
                      <a:pt x="437" y="210"/>
                    </a:lnTo>
                    <a:lnTo>
                      <a:pt x="447" y="190"/>
                    </a:lnTo>
                    <a:lnTo>
                      <a:pt x="456" y="168"/>
                    </a:lnTo>
                    <a:lnTo>
                      <a:pt x="465" y="148"/>
                    </a:lnTo>
                    <a:lnTo>
                      <a:pt x="470" y="127"/>
                    </a:lnTo>
                    <a:lnTo>
                      <a:pt x="477" y="107"/>
                    </a:lnTo>
                    <a:lnTo>
                      <a:pt x="482" y="86"/>
                    </a:lnTo>
                    <a:lnTo>
                      <a:pt x="486" y="64"/>
                    </a:lnTo>
                    <a:lnTo>
                      <a:pt x="487" y="43"/>
                    </a:lnTo>
                    <a:lnTo>
                      <a:pt x="490" y="22"/>
                    </a:lnTo>
                    <a:lnTo>
                      <a:pt x="490" y="0"/>
                    </a:lnTo>
                    <a:lnTo>
                      <a:pt x="490" y="104"/>
                    </a:lnTo>
                    <a:lnTo>
                      <a:pt x="490" y="126"/>
                    </a:lnTo>
                    <a:lnTo>
                      <a:pt x="487" y="148"/>
                    </a:lnTo>
                    <a:lnTo>
                      <a:pt x="486" y="170"/>
                    </a:lnTo>
                    <a:lnTo>
                      <a:pt x="482" y="190"/>
                    </a:lnTo>
                    <a:lnTo>
                      <a:pt x="477" y="211"/>
                    </a:lnTo>
                    <a:lnTo>
                      <a:pt x="470" y="232"/>
                    </a:lnTo>
                    <a:lnTo>
                      <a:pt x="465" y="252"/>
                    </a:lnTo>
                    <a:lnTo>
                      <a:pt x="456" y="274"/>
                    </a:lnTo>
                    <a:lnTo>
                      <a:pt x="447" y="294"/>
                    </a:lnTo>
                    <a:lnTo>
                      <a:pt x="437" y="314"/>
                    </a:lnTo>
                    <a:lnTo>
                      <a:pt x="426" y="334"/>
                    </a:lnTo>
                    <a:lnTo>
                      <a:pt x="415" y="353"/>
                    </a:lnTo>
                    <a:lnTo>
                      <a:pt x="402" y="373"/>
                    </a:lnTo>
                    <a:lnTo>
                      <a:pt x="389" y="392"/>
                    </a:lnTo>
                    <a:lnTo>
                      <a:pt x="359" y="430"/>
                    </a:lnTo>
                    <a:lnTo>
                      <a:pt x="325" y="467"/>
                    </a:lnTo>
                    <a:lnTo>
                      <a:pt x="288" y="504"/>
                    </a:lnTo>
                    <a:lnTo>
                      <a:pt x="248" y="539"/>
                    </a:lnTo>
                    <a:lnTo>
                      <a:pt x="204" y="573"/>
                    </a:lnTo>
                    <a:lnTo>
                      <a:pt x="157" y="606"/>
                    </a:lnTo>
                    <a:lnTo>
                      <a:pt x="107" y="637"/>
                    </a:lnTo>
                    <a:lnTo>
                      <a:pt x="54" y="668"/>
                    </a:lnTo>
                    <a:lnTo>
                      <a:pt x="0" y="697"/>
                    </a:lnTo>
                    <a:lnTo>
                      <a:pt x="0" y="5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77777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>
                <a:off x="4860720" y="4292640"/>
                <a:ext cx="1732680" cy="1017360"/>
              </a:xfrm>
              <a:custGeom>
                <a:avLst/>
                <a:gdLst>
                  <a:gd name="textAreaLeft" fmla="*/ 0 w 1732680"/>
                  <a:gd name="textAreaRight" fmla="*/ 1733040 w 1732680"/>
                  <a:gd name="textAreaTop" fmla="*/ 0 h 1017360"/>
                  <a:gd name="textAreaBottom" fmla="*/ 1017720 h 1017360"/>
                </a:gdLst>
                <a:ahLst/>
                <a:rect l="textAreaLeft" t="textAreaTop" r="textAreaRight" b="textAreaBottom"/>
                <a:pathLst>
                  <a:path w="1185" h="697">
                    <a:moveTo>
                      <a:pt x="0" y="104"/>
                    </a:moveTo>
                    <a:lnTo>
                      <a:pt x="1185" y="697"/>
                    </a:lnTo>
                    <a:lnTo>
                      <a:pt x="1185" y="593"/>
                    </a:lnTo>
                    <a:lnTo>
                      <a:pt x="0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5" name="Arc 28"/>
            <p:cNvSpPr/>
            <p:nvPr/>
          </p:nvSpPr>
          <p:spPr>
            <a:xfrm>
              <a:off x="4393800" y="2033640"/>
              <a:ext cx="1098360" cy="592200"/>
            </a:xfrm>
            <a:custGeom>
              <a:avLst/>
              <a:gdLst>
                <a:gd name="textAreaLeft" fmla="*/ 0 w 1098360"/>
                <a:gd name="textAreaRight" fmla="*/ 1098360 w 10983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fill="none" w="40011" h="21600">
                  <a:moveTo>
                    <a:pt x="0" y="10366"/>
                  </a:moveTo>
                  <a:cubicBezTo>
                    <a:pt x="3920" y="3928"/>
                    <a:pt x="10912" y="-1"/>
                    <a:pt x="18449" y="0"/>
                  </a:cubicBezTo>
                  <a:cubicBezTo>
                    <a:pt x="29878" y="0"/>
                    <a:pt x="39329" y="8903"/>
                    <a:pt x="40010" y="20313"/>
                  </a:cubicBezTo>
                </a:path>
                <a:path stroke="0" w="40011" h="21600">
                  <a:moveTo>
                    <a:pt x="0" y="10366"/>
                  </a:moveTo>
                  <a:cubicBezTo>
                    <a:pt x="3920" y="3928"/>
                    <a:pt x="10912" y="-1"/>
                    <a:pt x="18449" y="0"/>
                  </a:cubicBezTo>
                  <a:cubicBezTo>
                    <a:pt x="29878" y="0"/>
                    <a:pt x="39329" y="8903"/>
                    <a:pt x="40010" y="20313"/>
                  </a:cubicBezTo>
                  <a:lnTo>
                    <a:pt x="18449" y="21600"/>
                  </a:lnTo>
                  <a:close/>
                </a:path>
              </a:pathLst>
            </a:custGeom>
            <a:noFill/>
            <a:ln cap="rnd" w="31680">
              <a:solidFill>
                <a:srgbClr val="fffff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" name="Arc 29"/>
            <p:cNvSpPr/>
            <p:nvPr/>
          </p:nvSpPr>
          <p:spPr>
            <a:xfrm>
              <a:off x="6287760" y="2504880"/>
              <a:ext cx="948960" cy="83988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839880"/>
                <a:gd name="textAreaBottom" fmla="*/ 840240 h 839880"/>
              </a:gdLst>
              <a:ahLst/>
              <a:rect l="textAreaLeft" t="textAreaTop" r="textAreaRight" b="textAreaBottom"/>
              <a:pathLst>
                <a:path fill="none" w="36840" h="32562">
                  <a:moveTo>
                    <a:pt x="0" y="6293"/>
                  </a:moveTo>
                  <a:cubicBezTo>
                    <a:pt x="4048" y="2262"/>
                    <a:pt x="9527" y="-1"/>
                    <a:pt x="15240" y="0"/>
                  </a:cubicBezTo>
                  <a:cubicBezTo>
                    <a:pt x="27169" y="0"/>
                    <a:pt x="36840" y="9670"/>
                    <a:pt x="36840" y="21600"/>
                  </a:cubicBezTo>
                  <a:cubicBezTo>
                    <a:pt x="36840" y="25455"/>
                    <a:pt x="35808" y="29240"/>
                    <a:pt x="33851" y="32562"/>
                  </a:cubicBezTo>
                </a:path>
                <a:path stroke="0" w="36840" h="32562">
                  <a:moveTo>
                    <a:pt x="0" y="6293"/>
                  </a:moveTo>
                  <a:cubicBezTo>
                    <a:pt x="4048" y="2262"/>
                    <a:pt x="9527" y="-1"/>
                    <a:pt x="15240" y="0"/>
                  </a:cubicBezTo>
                  <a:cubicBezTo>
                    <a:pt x="27169" y="0"/>
                    <a:pt x="36840" y="9670"/>
                    <a:pt x="36840" y="21600"/>
                  </a:cubicBezTo>
                  <a:cubicBezTo>
                    <a:pt x="36840" y="25455"/>
                    <a:pt x="35808" y="29240"/>
                    <a:pt x="33851" y="32562"/>
                  </a:cubicBezTo>
                  <a:lnTo>
                    <a:pt x="15240" y="21600"/>
                  </a:lnTo>
                  <a:close/>
                </a:path>
              </a:pathLst>
            </a:custGeom>
            <a:noFill/>
            <a:ln cap="rnd" w="31680">
              <a:solidFill>
                <a:srgbClr val="fffff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" name="Text Box 30"/>
            <p:cNvSpPr/>
            <p:nvPr/>
          </p:nvSpPr>
          <p:spPr>
            <a:xfrm>
              <a:off x="5906880" y="4375080"/>
              <a:ext cx="129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Manufacturing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" name="Text Box 31"/>
            <p:cNvSpPr/>
            <p:nvPr/>
          </p:nvSpPr>
          <p:spPr>
            <a:xfrm>
              <a:off x="5762160" y="3798720"/>
              <a:ext cx="143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Premium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2055600" y="3600360"/>
              <a:ext cx="169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Financial Institutions and Insuranc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Text Box 33"/>
            <p:cNvSpPr/>
            <p:nvPr/>
          </p:nvSpPr>
          <p:spPr>
            <a:xfrm>
              <a:off x="3493800" y="2833560"/>
              <a:ext cx="143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Subtle Touch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Text Box 34"/>
            <p:cNvSpPr/>
            <p:nvPr/>
          </p:nvSpPr>
          <p:spPr>
            <a:xfrm>
              <a:off x="2558880" y="3222720"/>
              <a:ext cx="11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Simplicit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" name="Text Box 35"/>
            <p:cNvSpPr/>
            <p:nvPr/>
          </p:nvSpPr>
          <p:spPr>
            <a:xfrm>
              <a:off x="4898880" y="3014640"/>
              <a:ext cx="129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Constructio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" name="Text Box 36"/>
            <p:cNvSpPr/>
            <p:nvPr/>
          </p:nvSpPr>
          <p:spPr>
            <a:xfrm>
              <a:off x="863640" y="1817640"/>
              <a:ext cx="3387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b400"/>
                  </a:solidFill>
                  <a:latin typeface="Arial Black"/>
                </a:rPr>
                <a:t>Easy Search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"/>
                </a:rPr>
                <a:t>Our easy to use and functional search engine helps you locate the right templates quickly saving you tim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" name="Text Box 37"/>
            <p:cNvSpPr/>
            <p:nvPr/>
          </p:nvSpPr>
          <p:spPr>
            <a:xfrm>
              <a:off x="6121080" y="1843200"/>
              <a:ext cx="140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e9e9e"/>
                  </a:solidFill>
                  <a:latin typeface="Arial Black"/>
                </a:rPr>
                <a:t>Service for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e9e9e"/>
                  </a:solidFill>
                  <a:latin typeface="Arial Black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" name="Text Box 38"/>
            <p:cNvSpPr/>
            <p:nvPr/>
          </p:nvSpPr>
          <p:spPr>
            <a:xfrm>
              <a:off x="3384360" y="4746600"/>
              <a:ext cx="2447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24000" y="1378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"/>
          <p:cNvSpPr/>
          <p:nvPr/>
        </p:nvSpPr>
        <p:spPr>
          <a:xfrm>
            <a:off x="731160" y="441360"/>
            <a:ext cx="27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阶梯形</a:t>
            </a:r>
            <a:r>
              <a:rPr b="0" lang="en-US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3"/>
          <p:cNvSpPr txBox="1"/>
          <p:nvPr/>
        </p:nvSpPr>
        <p:spPr>
          <a:xfrm>
            <a:off x="1908000" y="441360"/>
            <a:ext cx="532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957b59"/>
                </a:solidFill>
                <a:latin typeface="Times New Roman"/>
              </a:rPr>
              <a:t>CLICK TO TYPE SLIDE TITLE</a:t>
            </a:r>
            <a:endParaRPr b="1" lang="en-US" sz="1800" spc="-1" strike="noStrike">
              <a:ln w="0">
                <a:noFill/>
              </a:ln>
              <a:solidFill>
                <a:srgbClr val="957b59"/>
              </a:solidFill>
              <a:latin typeface="Times New Roman"/>
              <a:ea typeface="Times New Roman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863640" y="1817640"/>
            <a:ext cx="6662160" cy="3843360"/>
            <a:chOff x="863640" y="1817640"/>
            <a:chExt cx="6662160" cy="3843360"/>
          </a:xfrm>
        </p:grpSpPr>
        <p:grpSp>
          <p:nvGrpSpPr>
            <p:cNvPr id="110" name="Group 8"/>
            <p:cNvGrpSpPr/>
            <p:nvPr/>
          </p:nvGrpSpPr>
          <p:grpSpPr>
            <a:xfrm>
              <a:off x="3126960" y="2609640"/>
              <a:ext cx="1733400" cy="1834920"/>
              <a:chOff x="3126960" y="2609640"/>
              <a:chExt cx="1733400" cy="1834920"/>
            </a:xfrm>
          </p:grpSpPr>
          <p:sp>
            <p:nvSpPr>
              <p:cNvPr id="111" name="Freeform 9"/>
              <p:cNvSpPr/>
              <p:nvPr/>
            </p:nvSpPr>
            <p:spPr>
              <a:xfrm>
                <a:off x="3126960" y="2609640"/>
                <a:ext cx="1733400" cy="1222920"/>
              </a:xfrm>
              <a:custGeom>
                <a:avLst/>
                <a:gdLst>
                  <a:gd name="textAreaLeft" fmla="*/ 0 w 1733400"/>
                  <a:gd name="textAreaRight" fmla="*/ 1733760 w 1733400"/>
                  <a:gd name="textAreaTop" fmla="*/ 0 h 1222920"/>
                  <a:gd name="textAreaBottom" fmla="*/ 1223280 h 1222920"/>
                </a:gdLst>
                <a:ahLst/>
                <a:rect l="textAreaLeft" t="textAreaTop" r="textAreaRight" b="textAreaBottom"/>
                <a:pathLst>
                  <a:path w="1186" h="837">
                    <a:moveTo>
                      <a:pt x="0" y="246"/>
                    </a:moveTo>
                    <a:lnTo>
                      <a:pt x="0" y="246"/>
                    </a:lnTo>
                    <a:lnTo>
                      <a:pt x="58" y="218"/>
                    </a:lnTo>
                    <a:lnTo>
                      <a:pt x="120" y="192"/>
                    </a:lnTo>
                    <a:lnTo>
                      <a:pt x="182" y="167"/>
                    </a:lnTo>
                    <a:lnTo>
                      <a:pt x="248" y="144"/>
                    </a:lnTo>
                    <a:lnTo>
                      <a:pt x="316" y="121"/>
                    </a:lnTo>
                    <a:lnTo>
                      <a:pt x="386" y="101"/>
                    </a:lnTo>
                    <a:lnTo>
                      <a:pt x="459" y="82"/>
                    </a:lnTo>
                    <a:lnTo>
                      <a:pt x="533" y="65"/>
                    </a:lnTo>
                    <a:lnTo>
                      <a:pt x="610" y="51"/>
                    </a:lnTo>
                    <a:lnTo>
                      <a:pt x="687" y="38"/>
                    </a:lnTo>
                    <a:lnTo>
                      <a:pt x="767" y="27"/>
                    </a:lnTo>
                    <a:lnTo>
                      <a:pt x="848" y="17"/>
                    </a:lnTo>
                    <a:lnTo>
                      <a:pt x="930" y="10"/>
                    </a:lnTo>
                    <a:lnTo>
                      <a:pt x="1015" y="4"/>
                    </a:lnTo>
                    <a:lnTo>
                      <a:pt x="1099" y="1"/>
                    </a:lnTo>
                    <a:lnTo>
                      <a:pt x="1186" y="0"/>
                    </a:lnTo>
                    <a:lnTo>
                      <a:pt x="1186" y="837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3126960" y="2968920"/>
                <a:ext cx="1733400" cy="1475640"/>
              </a:xfrm>
              <a:custGeom>
                <a:avLst/>
                <a:gdLst>
                  <a:gd name="textAreaLeft" fmla="*/ 0 w 1733400"/>
                  <a:gd name="textAreaRight" fmla="*/ 1733760 w 1733400"/>
                  <a:gd name="textAreaTop" fmla="*/ 0 h 1475640"/>
                  <a:gd name="textAreaBottom" fmla="*/ 1476000 h 1475640"/>
                </a:gdLst>
                <a:ahLst/>
                <a:rect l="textAreaLeft" t="textAreaTop" r="textAreaRight" b="textAreaBottom"/>
                <a:pathLst>
                  <a:path w="1186" h="1010">
                    <a:moveTo>
                      <a:pt x="1186" y="591"/>
                    </a:moveTo>
                    <a:lnTo>
                      <a:pt x="0" y="0"/>
                    </a:lnTo>
                    <a:lnTo>
                      <a:pt x="0" y="419"/>
                    </a:lnTo>
                    <a:lnTo>
                      <a:pt x="1186" y="1010"/>
                    </a:lnTo>
                    <a:lnTo>
                      <a:pt x="1186" y="59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3" name="Group 11"/>
            <p:cNvGrpSpPr/>
            <p:nvPr/>
          </p:nvGrpSpPr>
          <p:grpSpPr>
            <a:xfrm>
              <a:off x="4860720" y="2763720"/>
              <a:ext cx="1733040" cy="1680840"/>
              <a:chOff x="4860720" y="2763720"/>
              <a:chExt cx="1733040" cy="1680840"/>
            </a:xfrm>
          </p:grpSpPr>
          <p:sp>
            <p:nvSpPr>
              <p:cNvPr id="114" name="Freeform 12"/>
              <p:cNvSpPr/>
              <p:nvPr/>
            </p:nvSpPr>
            <p:spPr>
              <a:xfrm>
                <a:off x="4860720" y="2763720"/>
                <a:ext cx="1733040" cy="1223640"/>
              </a:xfrm>
              <a:custGeom>
                <a:avLst/>
                <a:gdLst>
                  <a:gd name="textAreaLeft" fmla="*/ 0 w 1733040"/>
                  <a:gd name="textAreaRight" fmla="*/ 1733400 w 1733040"/>
                  <a:gd name="textAreaTop" fmla="*/ 0 h 1223640"/>
                  <a:gd name="textAreaBottom" fmla="*/ 1224000 h 1223640"/>
                </a:gdLst>
                <a:ahLst/>
                <a:rect l="textAreaLeft" t="textAreaTop" r="textAreaRight" b="textAreaBottom"/>
                <a:pathLst>
                  <a:path w="1185" h="838">
                    <a:moveTo>
                      <a:pt x="1185" y="245"/>
                    </a:moveTo>
                    <a:lnTo>
                      <a:pt x="1185" y="245"/>
                    </a:lnTo>
                    <a:lnTo>
                      <a:pt x="1127" y="218"/>
                    </a:lnTo>
                    <a:lnTo>
                      <a:pt x="1065" y="191"/>
                    </a:lnTo>
                    <a:lnTo>
                      <a:pt x="1003" y="167"/>
                    </a:lnTo>
                    <a:lnTo>
                      <a:pt x="937" y="143"/>
                    </a:lnTo>
                    <a:lnTo>
                      <a:pt x="869" y="121"/>
                    </a:lnTo>
                    <a:lnTo>
                      <a:pt x="799" y="101"/>
                    </a:lnTo>
                    <a:lnTo>
                      <a:pt x="726" y="83"/>
                    </a:lnTo>
                    <a:lnTo>
                      <a:pt x="652" y="66"/>
                    </a:lnTo>
                    <a:lnTo>
                      <a:pt x="575" y="50"/>
                    </a:lnTo>
                    <a:lnTo>
                      <a:pt x="498" y="37"/>
                    </a:lnTo>
                    <a:lnTo>
                      <a:pt x="418" y="26"/>
                    </a:lnTo>
                    <a:lnTo>
                      <a:pt x="337" y="17"/>
                    </a:lnTo>
                    <a:lnTo>
                      <a:pt x="255" y="10"/>
                    </a:lnTo>
                    <a:lnTo>
                      <a:pt x="170" y="5"/>
                    </a:lnTo>
                    <a:lnTo>
                      <a:pt x="86" y="2"/>
                    </a:lnTo>
                    <a:lnTo>
                      <a:pt x="0" y="0"/>
                    </a:lnTo>
                    <a:lnTo>
                      <a:pt x="0" y="838"/>
                    </a:lnTo>
                    <a:lnTo>
                      <a:pt x="1185" y="245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4860720" y="3121200"/>
                <a:ext cx="1733040" cy="1323360"/>
              </a:xfrm>
              <a:custGeom>
                <a:avLst/>
                <a:gdLst>
                  <a:gd name="textAreaLeft" fmla="*/ 0 w 1733040"/>
                  <a:gd name="textAreaRight" fmla="*/ 1733400 w 1733040"/>
                  <a:gd name="textAreaTop" fmla="*/ 0 h 1323360"/>
                  <a:gd name="textAreaBottom" fmla="*/ 1323720 h 1323360"/>
                </a:gdLst>
                <a:ahLst/>
                <a:rect l="textAreaLeft" t="textAreaTop" r="textAreaRight" b="textAreaBottom"/>
                <a:pathLst>
                  <a:path w="1185" h="906">
                    <a:moveTo>
                      <a:pt x="0" y="593"/>
                    </a:moveTo>
                    <a:lnTo>
                      <a:pt x="1185" y="0"/>
                    </a:lnTo>
                    <a:lnTo>
                      <a:pt x="1185" y="315"/>
                    </a:lnTo>
                    <a:lnTo>
                      <a:pt x="0" y="906"/>
                    </a:lnTo>
                    <a:lnTo>
                      <a:pt x="0" y="593"/>
                    </a:lnTo>
                    <a:close/>
                  </a:path>
                </a:pathLst>
              </a:custGeom>
              <a:solidFill>
                <a:srgbClr val="004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6" name="Group 14"/>
            <p:cNvGrpSpPr/>
            <p:nvPr/>
          </p:nvGrpSpPr>
          <p:grpSpPr>
            <a:xfrm>
              <a:off x="2408040" y="2814480"/>
              <a:ext cx="2450520" cy="1628640"/>
              <a:chOff x="2408040" y="2814480"/>
              <a:chExt cx="2450520" cy="1628640"/>
            </a:xfrm>
          </p:grpSpPr>
          <p:sp>
            <p:nvSpPr>
              <p:cNvPr id="117" name="Freeform 15"/>
              <p:cNvSpPr/>
              <p:nvPr/>
            </p:nvSpPr>
            <p:spPr>
              <a:xfrm>
                <a:off x="2408040" y="2814480"/>
                <a:ext cx="2450520" cy="864720"/>
              </a:xfrm>
              <a:custGeom>
                <a:avLst/>
                <a:gdLst>
                  <a:gd name="textAreaLeft" fmla="*/ 0 w 2450520"/>
                  <a:gd name="textAreaRight" fmla="*/ 2450880 w 2450520"/>
                  <a:gd name="textAreaTop" fmla="*/ 0 h 864720"/>
                  <a:gd name="textAreaBottom" fmla="*/ 865080 h 864720"/>
                </a:gdLst>
                <a:ahLst/>
                <a:rect l="textAreaLeft" t="textAreaTop" r="textAreaRight" b="textAreaBottom"/>
                <a:pathLst>
                  <a:path w="1676" h="592">
                    <a:moveTo>
                      <a:pt x="1676" y="592"/>
                    </a:moveTo>
                    <a:lnTo>
                      <a:pt x="490" y="0"/>
                    </a:lnTo>
                    <a:lnTo>
                      <a:pt x="436" y="28"/>
                    </a:lnTo>
                    <a:lnTo>
                      <a:pt x="383" y="60"/>
                    </a:lnTo>
                    <a:lnTo>
                      <a:pt x="333" y="91"/>
                    </a:lnTo>
                    <a:lnTo>
                      <a:pt x="286" y="124"/>
                    </a:lnTo>
                    <a:lnTo>
                      <a:pt x="242" y="158"/>
                    </a:lnTo>
                    <a:lnTo>
                      <a:pt x="202" y="194"/>
                    </a:lnTo>
                    <a:lnTo>
                      <a:pt x="165" y="229"/>
                    </a:lnTo>
                    <a:lnTo>
                      <a:pt x="131" y="266"/>
                    </a:lnTo>
                    <a:lnTo>
                      <a:pt x="101" y="305"/>
                    </a:lnTo>
                    <a:lnTo>
                      <a:pt x="88" y="323"/>
                    </a:lnTo>
                    <a:lnTo>
                      <a:pt x="75" y="343"/>
                    </a:lnTo>
                    <a:lnTo>
                      <a:pt x="64" y="363"/>
                    </a:lnTo>
                    <a:lnTo>
                      <a:pt x="53" y="383"/>
                    </a:lnTo>
                    <a:lnTo>
                      <a:pt x="43" y="403"/>
                    </a:lnTo>
                    <a:lnTo>
                      <a:pt x="34" y="423"/>
                    </a:lnTo>
                    <a:lnTo>
                      <a:pt x="25" y="444"/>
                    </a:lnTo>
                    <a:lnTo>
                      <a:pt x="20" y="464"/>
                    </a:lnTo>
                    <a:lnTo>
                      <a:pt x="13" y="486"/>
                    </a:lnTo>
                    <a:lnTo>
                      <a:pt x="8" y="507"/>
                    </a:lnTo>
                    <a:lnTo>
                      <a:pt x="4" y="528"/>
                    </a:lnTo>
                    <a:lnTo>
                      <a:pt x="3" y="550"/>
                    </a:lnTo>
                    <a:lnTo>
                      <a:pt x="0" y="571"/>
                    </a:lnTo>
                    <a:lnTo>
                      <a:pt x="0" y="592"/>
                    </a:lnTo>
                    <a:lnTo>
                      <a:pt x="1676" y="5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2408040" y="3679200"/>
                <a:ext cx="2450520" cy="763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9" name="Group 17"/>
            <p:cNvGrpSpPr/>
            <p:nvPr/>
          </p:nvGrpSpPr>
          <p:grpSpPr>
            <a:xfrm>
              <a:off x="4860720" y="3276720"/>
              <a:ext cx="2449080" cy="1168200"/>
              <a:chOff x="4860720" y="3276720"/>
              <a:chExt cx="2449080" cy="1168200"/>
            </a:xfrm>
          </p:grpSpPr>
          <p:sp>
            <p:nvSpPr>
              <p:cNvPr id="120" name="Freeform 18"/>
              <p:cNvSpPr/>
              <p:nvPr/>
            </p:nvSpPr>
            <p:spPr>
              <a:xfrm>
                <a:off x="4860720" y="3276720"/>
                <a:ext cx="2449080" cy="862920"/>
              </a:xfrm>
              <a:custGeom>
                <a:avLst/>
                <a:gdLst>
                  <a:gd name="textAreaLeft" fmla="*/ 0 w 2449080"/>
                  <a:gd name="textAreaRight" fmla="*/ 2449440 w 2449080"/>
                  <a:gd name="textAreaTop" fmla="*/ 0 h 862920"/>
                  <a:gd name="textAreaBottom" fmla="*/ 863280 h 862920"/>
                </a:gdLst>
                <a:ahLst/>
                <a:rect l="textAreaLeft" t="textAreaTop" r="textAreaRight" b="textAreaBottom"/>
                <a:pathLst>
                  <a:path w="1675" h="591">
                    <a:moveTo>
                      <a:pt x="0" y="591"/>
                    </a:moveTo>
                    <a:lnTo>
                      <a:pt x="1185" y="0"/>
                    </a:lnTo>
                    <a:lnTo>
                      <a:pt x="1239" y="28"/>
                    </a:lnTo>
                    <a:lnTo>
                      <a:pt x="1292" y="58"/>
                    </a:lnTo>
                    <a:lnTo>
                      <a:pt x="1342" y="89"/>
                    </a:lnTo>
                    <a:lnTo>
                      <a:pt x="1389" y="124"/>
                    </a:lnTo>
                    <a:lnTo>
                      <a:pt x="1433" y="156"/>
                    </a:lnTo>
                    <a:lnTo>
                      <a:pt x="1473" y="192"/>
                    </a:lnTo>
                    <a:lnTo>
                      <a:pt x="1510" y="228"/>
                    </a:lnTo>
                    <a:lnTo>
                      <a:pt x="1544" y="265"/>
                    </a:lnTo>
                    <a:lnTo>
                      <a:pt x="1574" y="303"/>
                    </a:lnTo>
                    <a:lnTo>
                      <a:pt x="1587" y="323"/>
                    </a:lnTo>
                    <a:lnTo>
                      <a:pt x="1600" y="342"/>
                    </a:lnTo>
                    <a:lnTo>
                      <a:pt x="1611" y="361"/>
                    </a:lnTo>
                    <a:lnTo>
                      <a:pt x="1622" y="381"/>
                    </a:lnTo>
                    <a:lnTo>
                      <a:pt x="1632" y="401"/>
                    </a:lnTo>
                    <a:lnTo>
                      <a:pt x="1641" y="423"/>
                    </a:lnTo>
                    <a:lnTo>
                      <a:pt x="1650" y="443"/>
                    </a:lnTo>
                    <a:lnTo>
                      <a:pt x="1655" y="464"/>
                    </a:lnTo>
                    <a:lnTo>
                      <a:pt x="1662" y="484"/>
                    </a:lnTo>
                    <a:lnTo>
                      <a:pt x="1667" y="505"/>
                    </a:lnTo>
                    <a:lnTo>
                      <a:pt x="1671" y="527"/>
                    </a:lnTo>
                    <a:lnTo>
                      <a:pt x="1672" y="548"/>
                    </a:lnTo>
                    <a:lnTo>
                      <a:pt x="1675" y="569"/>
                    </a:lnTo>
                    <a:lnTo>
                      <a:pt x="1675" y="591"/>
                    </a:lnTo>
                    <a:lnTo>
                      <a:pt x="0" y="5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4860720" y="4139640"/>
                <a:ext cx="2449080" cy="305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2" name="Group 20"/>
            <p:cNvGrpSpPr/>
            <p:nvPr/>
          </p:nvGrpSpPr>
          <p:grpSpPr>
            <a:xfrm>
              <a:off x="1871280" y="3527280"/>
              <a:ext cx="2449080" cy="1782720"/>
              <a:chOff x="1871280" y="3527280"/>
              <a:chExt cx="2449080" cy="1782720"/>
            </a:xfrm>
          </p:grpSpPr>
          <p:sp>
            <p:nvSpPr>
              <p:cNvPr id="123" name="Freeform 21"/>
              <p:cNvSpPr/>
              <p:nvPr/>
            </p:nvSpPr>
            <p:spPr>
              <a:xfrm>
                <a:off x="1871280" y="3527280"/>
                <a:ext cx="2449080" cy="865800"/>
              </a:xfrm>
              <a:custGeom>
                <a:avLst/>
                <a:gdLst>
                  <a:gd name="textAreaLeft" fmla="*/ 0 w 2449080"/>
                  <a:gd name="textAreaRight" fmla="*/ 2449440 w 2449080"/>
                  <a:gd name="textAreaTop" fmla="*/ 0 h 865800"/>
                  <a:gd name="textAreaBottom" fmla="*/ 866160 h 865800"/>
                </a:gdLst>
                <a:ahLst/>
                <a:rect l="textAreaLeft" t="textAreaTop" r="textAreaRight" b="textAreaBottom"/>
                <a:pathLst>
                  <a:path w="1676" h="593">
                    <a:moveTo>
                      <a:pt x="1676" y="0"/>
                    </a:moveTo>
                    <a:lnTo>
                      <a:pt x="490" y="593"/>
                    </a:lnTo>
                    <a:lnTo>
                      <a:pt x="436" y="564"/>
                    </a:lnTo>
                    <a:lnTo>
                      <a:pt x="383" y="533"/>
                    </a:lnTo>
                    <a:lnTo>
                      <a:pt x="333" y="501"/>
                    </a:lnTo>
                    <a:lnTo>
                      <a:pt x="286" y="469"/>
                    </a:lnTo>
                    <a:lnTo>
                      <a:pt x="242" y="434"/>
                    </a:lnTo>
                    <a:lnTo>
                      <a:pt x="202" y="400"/>
                    </a:lnTo>
                    <a:lnTo>
                      <a:pt x="165" y="363"/>
                    </a:lnTo>
                    <a:lnTo>
                      <a:pt x="131" y="326"/>
                    </a:lnTo>
                    <a:lnTo>
                      <a:pt x="101" y="288"/>
                    </a:lnTo>
                    <a:lnTo>
                      <a:pt x="88" y="269"/>
                    </a:lnTo>
                    <a:lnTo>
                      <a:pt x="75" y="249"/>
                    </a:lnTo>
                    <a:lnTo>
                      <a:pt x="64" y="229"/>
                    </a:lnTo>
                    <a:lnTo>
                      <a:pt x="53" y="209"/>
                    </a:lnTo>
                    <a:lnTo>
                      <a:pt x="43" y="189"/>
                    </a:lnTo>
                    <a:lnTo>
                      <a:pt x="34" y="170"/>
                    </a:lnTo>
                    <a:lnTo>
                      <a:pt x="25" y="148"/>
                    </a:lnTo>
                    <a:lnTo>
                      <a:pt x="20" y="128"/>
                    </a:lnTo>
                    <a:lnTo>
                      <a:pt x="13" y="107"/>
                    </a:lnTo>
                    <a:lnTo>
                      <a:pt x="8" y="85"/>
                    </a:lnTo>
                    <a:lnTo>
                      <a:pt x="4" y="66"/>
                    </a:lnTo>
                    <a:lnTo>
                      <a:pt x="3" y="44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6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" name="Freeform 22"/>
              <p:cNvSpPr/>
              <p:nvPr/>
            </p:nvSpPr>
            <p:spPr>
              <a:xfrm>
                <a:off x="1871280" y="3527280"/>
                <a:ext cx="716040" cy="1782720"/>
              </a:xfrm>
              <a:custGeom>
                <a:avLst/>
                <a:gdLst>
                  <a:gd name="textAreaLeft" fmla="*/ 0 w 716040"/>
                  <a:gd name="textAreaRight" fmla="*/ 716400 w 716040"/>
                  <a:gd name="textAreaTop" fmla="*/ 0 h 1782720"/>
                  <a:gd name="textAreaBottom" fmla="*/ 1783080 h 1782720"/>
                </a:gdLst>
                <a:ahLst/>
                <a:rect l="textAreaLeft" t="textAreaTop" r="textAreaRight" b="textAreaBottom"/>
                <a:pathLst>
                  <a:path w="490" h="1221">
                    <a:moveTo>
                      <a:pt x="490" y="593"/>
                    </a:moveTo>
                    <a:lnTo>
                      <a:pt x="490" y="593"/>
                    </a:lnTo>
                    <a:lnTo>
                      <a:pt x="436" y="564"/>
                    </a:lnTo>
                    <a:lnTo>
                      <a:pt x="383" y="533"/>
                    </a:lnTo>
                    <a:lnTo>
                      <a:pt x="333" y="501"/>
                    </a:lnTo>
                    <a:lnTo>
                      <a:pt x="286" y="469"/>
                    </a:lnTo>
                    <a:lnTo>
                      <a:pt x="242" y="434"/>
                    </a:lnTo>
                    <a:lnTo>
                      <a:pt x="202" y="400"/>
                    </a:lnTo>
                    <a:lnTo>
                      <a:pt x="165" y="363"/>
                    </a:lnTo>
                    <a:lnTo>
                      <a:pt x="131" y="326"/>
                    </a:lnTo>
                    <a:lnTo>
                      <a:pt x="101" y="288"/>
                    </a:lnTo>
                    <a:lnTo>
                      <a:pt x="88" y="269"/>
                    </a:lnTo>
                    <a:lnTo>
                      <a:pt x="75" y="249"/>
                    </a:lnTo>
                    <a:lnTo>
                      <a:pt x="64" y="229"/>
                    </a:lnTo>
                    <a:lnTo>
                      <a:pt x="53" y="209"/>
                    </a:lnTo>
                    <a:lnTo>
                      <a:pt x="43" y="189"/>
                    </a:lnTo>
                    <a:lnTo>
                      <a:pt x="34" y="170"/>
                    </a:lnTo>
                    <a:lnTo>
                      <a:pt x="25" y="148"/>
                    </a:lnTo>
                    <a:lnTo>
                      <a:pt x="20" y="128"/>
                    </a:lnTo>
                    <a:lnTo>
                      <a:pt x="13" y="107"/>
                    </a:lnTo>
                    <a:lnTo>
                      <a:pt x="8" y="85"/>
                    </a:lnTo>
                    <a:lnTo>
                      <a:pt x="4" y="66"/>
                    </a:lnTo>
                    <a:lnTo>
                      <a:pt x="3" y="44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628"/>
                    </a:lnTo>
                    <a:lnTo>
                      <a:pt x="0" y="650"/>
                    </a:lnTo>
                    <a:lnTo>
                      <a:pt x="3" y="672"/>
                    </a:lnTo>
                    <a:lnTo>
                      <a:pt x="4" y="694"/>
                    </a:lnTo>
                    <a:lnTo>
                      <a:pt x="8" y="714"/>
                    </a:lnTo>
                    <a:lnTo>
                      <a:pt x="13" y="735"/>
                    </a:lnTo>
                    <a:lnTo>
                      <a:pt x="20" y="756"/>
                    </a:lnTo>
                    <a:lnTo>
                      <a:pt x="25" y="776"/>
                    </a:lnTo>
                    <a:lnTo>
                      <a:pt x="34" y="798"/>
                    </a:lnTo>
                    <a:lnTo>
                      <a:pt x="43" y="818"/>
                    </a:lnTo>
                    <a:lnTo>
                      <a:pt x="53" y="838"/>
                    </a:lnTo>
                    <a:lnTo>
                      <a:pt x="64" y="858"/>
                    </a:lnTo>
                    <a:lnTo>
                      <a:pt x="75" y="877"/>
                    </a:lnTo>
                    <a:lnTo>
                      <a:pt x="88" y="897"/>
                    </a:lnTo>
                    <a:lnTo>
                      <a:pt x="101" y="916"/>
                    </a:lnTo>
                    <a:lnTo>
                      <a:pt x="131" y="954"/>
                    </a:lnTo>
                    <a:lnTo>
                      <a:pt x="165" y="991"/>
                    </a:lnTo>
                    <a:lnTo>
                      <a:pt x="202" y="1028"/>
                    </a:lnTo>
                    <a:lnTo>
                      <a:pt x="242" y="1063"/>
                    </a:lnTo>
                    <a:lnTo>
                      <a:pt x="286" y="1097"/>
                    </a:lnTo>
                    <a:lnTo>
                      <a:pt x="333" y="1130"/>
                    </a:lnTo>
                    <a:lnTo>
                      <a:pt x="383" y="1161"/>
                    </a:lnTo>
                    <a:lnTo>
                      <a:pt x="436" y="1192"/>
                    </a:lnTo>
                    <a:lnTo>
                      <a:pt x="490" y="1221"/>
                    </a:lnTo>
                    <a:lnTo>
                      <a:pt x="490" y="59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" name="Freeform 23"/>
              <p:cNvSpPr/>
              <p:nvPr/>
            </p:nvSpPr>
            <p:spPr>
              <a:xfrm>
                <a:off x="2587320" y="3527280"/>
                <a:ext cx="1732680" cy="1782720"/>
              </a:xfrm>
              <a:custGeom>
                <a:avLst/>
                <a:gdLst>
                  <a:gd name="textAreaLeft" fmla="*/ 0 w 1732680"/>
                  <a:gd name="textAreaRight" fmla="*/ 1733040 w 1732680"/>
                  <a:gd name="textAreaTop" fmla="*/ 0 h 1782720"/>
                  <a:gd name="textAreaBottom" fmla="*/ 1783080 h 1782720"/>
                </a:gdLst>
                <a:ahLst/>
                <a:rect l="textAreaLeft" t="textAreaTop" r="textAreaRight" b="textAreaBottom"/>
                <a:pathLst>
                  <a:path w="1186" h="1221">
                    <a:moveTo>
                      <a:pt x="1186" y="628"/>
                    </a:moveTo>
                    <a:lnTo>
                      <a:pt x="0" y="1221"/>
                    </a:lnTo>
                    <a:lnTo>
                      <a:pt x="0" y="593"/>
                    </a:lnTo>
                    <a:lnTo>
                      <a:pt x="1186" y="0"/>
                    </a:lnTo>
                    <a:lnTo>
                      <a:pt x="1186" y="62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6" name="Group 24"/>
            <p:cNvGrpSpPr/>
            <p:nvPr/>
          </p:nvGrpSpPr>
          <p:grpSpPr>
            <a:xfrm>
              <a:off x="4860720" y="4292640"/>
              <a:ext cx="2449080" cy="1017360"/>
              <a:chOff x="4860720" y="4292640"/>
              <a:chExt cx="2449080" cy="1017360"/>
            </a:xfrm>
          </p:grpSpPr>
          <p:sp>
            <p:nvSpPr>
              <p:cNvPr id="127" name="Freeform 25"/>
              <p:cNvSpPr/>
              <p:nvPr/>
            </p:nvSpPr>
            <p:spPr>
              <a:xfrm>
                <a:off x="4860720" y="4292640"/>
                <a:ext cx="2449080" cy="865440"/>
              </a:xfrm>
              <a:custGeom>
                <a:avLst/>
                <a:gdLst>
                  <a:gd name="textAreaLeft" fmla="*/ 0 w 2449080"/>
                  <a:gd name="textAreaRight" fmla="*/ 2449440 w 2449080"/>
                  <a:gd name="textAreaTop" fmla="*/ 0 h 865440"/>
                  <a:gd name="textAreaBottom" fmla="*/ 865800 h 865440"/>
                </a:gdLst>
                <a:ahLst/>
                <a:rect l="textAreaLeft" t="textAreaTop" r="textAreaRight" b="textAreaBottom"/>
                <a:pathLst>
                  <a:path w="1675" h="593">
                    <a:moveTo>
                      <a:pt x="0" y="0"/>
                    </a:moveTo>
                    <a:lnTo>
                      <a:pt x="1185" y="593"/>
                    </a:lnTo>
                    <a:lnTo>
                      <a:pt x="1239" y="563"/>
                    </a:lnTo>
                    <a:lnTo>
                      <a:pt x="1292" y="533"/>
                    </a:lnTo>
                    <a:lnTo>
                      <a:pt x="1342" y="502"/>
                    </a:lnTo>
                    <a:lnTo>
                      <a:pt x="1389" y="469"/>
                    </a:lnTo>
                    <a:lnTo>
                      <a:pt x="1433" y="435"/>
                    </a:lnTo>
                    <a:lnTo>
                      <a:pt x="1473" y="399"/>
                    </a:lnTo>
                    <a:lnTo>
                      <a:pt x="1510" y="363"/>
                    </a:lnTo>
                    <a:lnTo>
                      <a:pt x="1544" y="326"/>
                    </a:lnTo>
                    <a:lnTo>
                      <a:pt x="1574" y="288"/>
                    </a:lnTo>
                    <a:lnTo>
                      <a:pt x="1587" y="268"/>
                    </a:lnTo>
                    <a:lnTo>
                      <a:pt x="1600" y="249"/>
                    </a:lnTo>
                    <a:lnTo>
                      <a:pt x="1611" y="230"/>
                    </a:lnTo>
                    <a:lnTo>
                      <a:pt x="1622" y="210"/>
                    </a:lnTo>
                    <a:lnTo>
                      <a:pt x="1632" y="190"/>
                    </a:lnTo>
                    <a:lnTo>
                      <a:pt x="1641" y="168"/>
                    </a:lnTo>
                    <a:lnTo>
                      <a:pt x="1650" y="148"/>
                    </a:lnTo>
                    <a:lnTo>
                      <a:pt x="1655" y="127"/>
                    </a:lnTo>
                    <a:lnTo>
                      <a:pt x="1662" y="107"/>
                    </a:lnTo>
                    <a:lnTo>
                      <a:pt x="1667" y="86"/>
                    </a:lnTo>
                    <a:lnTo>
                      <a:pt x="1671" y="64"/>
                    </a:lnTo>
                    <a:lnTo>
                      <a:pt x="1672" y="43"/>
                    </a:lnTo>
                    <a:lnTo>
                      <a:pt x="1675" y="22"/>
                    </a:lnTo>
                    <a:lnTo>
                      <a:pt x="16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" name="Freeform 26"/>
              <p:cNvSpPr/>
              <p:nvPr/>
            </p:nvSpPr>
            <p:spPr>
              <a:xfrm>
                <a:off x="6593400" y="4292640"/>
                <a:ext cx="716040" cy="1017360"/>
              </a:xfrm>
              <a:custGeom>
                <a:avLst/>
                <a:gdLst>
                  <a:gd name="textAreaLeft" fmla="*/ 0 w 716040"/>
                  <a:gd name="textAreaRight" fmla="*/ 716400 w 716040"/>
                  <a:gd name="textAreaTop" fmla="*/ 0 h 1017360"/>
                  <a:gd name="textAreaBottom" fmla="*/ 1017720 h 1017360"/>
                </a:gdLst>
                <a:ahLst/>
                <a:rect l="textAreaLeft" t="textAreaTop" r="textAreaRight" b="textAreaBottom"/>
                <a:pathLst>
                  <a:path w="490" h="697">
                    <a:moveTo>
                      <a:pt x="0" y="593"/>
                    </a:moveTo>
                    <a:lnTo>
                      <a:pt x="0" y="593"/>
                    </a:lnTo>
                    <a:lnTo>
                      <a:pt x="54" y="563"/>
                    </a:lnTo>
                    <a:lnTo>
                      <a:pt x="107" y="533"/>
                    </a:lnTo>
                    <a:lnTo>
                      <a:pt x="157" y="502"/>
                    </a:lnTo>
                    <a:lnTo>
                      <a:pt x="204" y="469"/>
                    </a:lnTo>
                    <a:lnTo>
                      <a:pt x="248" y="435"/>
                    </a:lnTo>
                    <a:lnTo>
                      <a:pt x="288" y="399"/>
                    </a:lnTo>
                    <a:lnTo>
                      <a:pt x="325" y="363"/>
                    </a:lnTo>
                    <a:lnTo>
                      <a:pt x="359" y="326"/>
                    </a:lnTo>
                    <a:lnTo>
                      <a:pt x="389" y="288"/>
                    </a:lnTo>
                    <a:lnTo>
                      <a:pt x="402" y="268"/>
                    </a:lnTo>
                    <a:lnTo>
                      <a:pt x="415" y="249"/>
                    </a:lnTo>
                    <a:lnTo>
                      <a:pt x="426" y="230"/>
                    </a:lnTo>
                    <a:lnTo>
                      <a:pt x="437" y="210"/>
                    </a:lnTo>
                    <a:lnTo>
                      <a:pt x="447" y="190"/>
                    </a:lnTo>
                    <a:lnTo>
                      <a:pt x="456" y="168"/>
                    </a:lnTo>
                    <a:lnTo>
                      <a:pt x="465" y="148"/>
                    </a:lnTo>
                    <a:lnTo>
                      <a:pt x="470" y="127"/>
                    </a:lnTo>
                    <a:lnTo>
                      <a:pt x="477" y="107"/>
                    </a:lnTo>
                    <a:lnTo>
                      <a:pt x="482" y="86"/>
                    </a:lnTo>
                    <a:lnTo>
                      <a:pt x="486" y="64"/>
                    </a:lnTo>
                    <a:lnTo>
                      <a:pt x="487" y="43"/>
                    </a:lnTo>
                    <a:lnTo>
                      <a:pt x="490" y="22"/>
                    </a:lnTo>
                    <a:lnTo>
                      <a:pt x="490" y="0"/>
                    </a:lnTo>
                    <a:lnTo>
                      <a:pt x="490" y="104"/>
                    </a:lnTo>
                    <a:lnTo>
                      <a:pt x="490" y="126"/>
                    </a:lnTo>
                    <a:lnTo>
                      <a:pt x="487" y="148"/>
                    </a:lnTo>
                    <a:lnTo>
                      <a:pt x="486" y="170"/>
                    </a:lnTo>
                    <a:lnTo>
                      <a:pt x="482" y="190"/>
                    </a:lnTo>
                    <a:lnTo>
                      <a:pt x="477" y="211"/>
                    </a:lnTo>
                    <a:lnTo>
                      <a:pt x="470" y="232"/>
                    </a:lnTo>
                    <a:lnTo>
                      <a:pt x="465" y="252"/>
                    </a:lnTo>
                    <a:lnTo>
                      <a:pt x="456" y="274"/>
                    </a:lnTo>
                    <a:lnTo>
                      <a:pt x="447" y="294"/>
                    </a:lnTo>
                    <a:lnTo>
                      <a:pt x="437" y="314"/>
                    </a:lnTo>
                    <a:lnTo>
                      <a:pt x="426" y="334"/>
                    </a:lnTo>
                    <a:lnTo>
                      <a:pt x="415" y="353"/>
                    </a:lnTo>
                    <a:lnTo>
                      <a:pt x="402" y="373"/>
                    </a:lnTo>
                    <a:lnTo>
                      <a:pt x="389" y="392"/>
                    </a:lnTo>
                    <a:lnTo>
                      <a:pt x="359" y="430"/>
                    </a:lnTo>
                    <a:lnTo>
                      <a:pt x="325" y="467"/>
                    </a:lnTo>
                    <a:lnTo>
                      <a:pt x="288" y="504"/>
                    </a:lnTo>
                    <a:lnTo>
                      <a:pt x="248" y="539"/>
                    </a:lnTo>
                    <a:lnTo>
                      <a:pt x="204" y="573"/>
                    </a:lnTo>
                    <a:lnTo>
                      <a:pt x="157" y="606"/>
                    </a:lnTo>
                    <a:lnTo>
                      <a:pt x="107" y="637"/>
                    </a:lnTo>
                    <a:lnTo>
                      <a:pt x="54" y="668"/>
                    </a:lnTo>
                    <a:lnTo>
                      <a:pt x="0" y="697"/>
                    </a:lnTo>
                    <a:lnTo>
                      <a:pt x="0" y="593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" name="Freeform 27"/>
              <p:cNvSpPr/>
              <p:nvPr/>
            </p:nvSpPr>
            <p:spPr>
              <a:xfrm>
                <a:off x="4860720" y="4292640"/>
                <a:ext cx="1732680" cy="1017360"/>
              </a:xfrm>
              <a:custGeom>
                <a:avLst/>
                <a:gdLst>
                  <a:gd name="textAreaLeft" fmla="*/ 0 w 1732680"/>
                  <a:gd name="textAreaRight" fmla="*/ 1733040 w 1732680"/>
                  <a:gd name="textAreaTop" fmla="*/ 0 h 1017360"/>
                  <a:gd name="textAreaBottom" fmla="*/ 1017720 h 1017360"/>
                </a:gdLst>
                <a:ahLst/>
                <a:rect l="textAreaLeft" t="textAreaTop" r="textAreaRight" b="textAreaBottom"/>
                <a:pathLst>
                  <a:path w="1185" h="697">
                    <a:moveTo>
                      <a:pt x="0" y="104"/>
                    </a:moveTo>
                    <a:lnTo>
                      <a:pt x="1185" y="697"/>
                    </a:lnTo>
                    <a:lnTo>
                      <a:pt x="1185" y="593"/>
                    </a:lnTo>
                    <a:lnTo>
                      <a:pt x="0" y="0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0" name="Arc 28"/>
            <p:cNvSpPr/>
            <p:nvPr/>
          </p:nvSpPr>
          <p:spPr>
            <a:xfrm>
              <a:off x="4393800" y="2033640"/>
              <a:ext cx="1098360" cy="592200"/>
            </a:xfrm>
            <a:custGeom>
              <a:avLst/>
              <a:gdLst>
                <a:gd name="textAreaLeft" fmla="*/ 0 w 1098360"/>
                <a:gd name="textAreaRight" fmla="*/ 1098360 w 109836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fill="none" w="40011" h="21600">
                  <a:moveTo>
                    <a:pt x="0" y="10366"/>
                  </a:moveTo>
                  <a:cubicBezTo>
                    <a:pt x="3920" y="3928"/>
                    <a:pt x="10912" y="-1"/>
                    <a:pt x="18449" y="0"/>
                  </a:cubicBezTo>
                  <a:cubicBezTo>
                    <a:pt x="29878" y="0"/>
                    <a:pt x="39329" y="8903"/>
                    <a:pt x="40010" y="20313"/>
                  </a:cubicBezTo>
                </a:path>
                <a:path stroke="0" w="40011" h="21600">
                  <a:moveTo>
                    <a:pt x="0" y="10366"/>
                  </a:moveTo>
                  <a:cubicBezTo>
                    <a:pt x="3920" y="3928"/>
                    <a:pt x="10912" y="-1"/>
                    <a:pt x="18449" y="0"/>
                  </a:cubicBezTo>
                  <a:cubicBezTo>
                    <a:pt x="29878" y="0"/>
                    <a:pt x="39329" y="8903"/>
                    <a:pt x="40010" y="20313"/>
                  </a:cubicBezTo>
                  <a:lnTo>
                    <a:pt x="18449" y="21600"/>
                  </a:lnTo>
                  <a:close/>
                </a:path>
              </a:pathLst>
            </a:custGeom>
            <a:noFill/>
            <a:ln cap="rnd" w="31680">
              <a:solidFill>
                <a:srgbClr val="969696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Arc 29"/>
            <p:cNvSpPr/>
            <p:nvPr/>
          </p:nvSpPr>
          <p:spPr>
            <a:xfrm>
              <a:off x="6287760" y="2504880"/>
              <a:ext cx="948960" cy="83988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839880"/>
                <a:gd name="textAreaBottom" fmla="*/ 840240 h 839880"/>
              </a:gdLst>
              <a:ahLst/>
              <a:rect l="textAreaLeft" t="textAreaTop" r="textAreaRight" b="textAreaBottom"/>
              <a:pathLst>
                <a:path fill="none" w="36840" h="32562">
                  <a:moveTo>
                    <a:pt x="0" y="6293"/>
                  </a:moveTo>
                  <a:cubicBezTo>
                    <a:pt x="4048" y="2262"/>
                    <a:pt x="9527" y="-1"/>
                    <a:pt x="15240" y="0"/>
                  </a:cubicBezTo>
                  <a:cubicBezTo>
                    <a:pt x="27169" y="0"/>
                    <a:pt x="36840" y="9670"/>
                    <a:pt x="36840" y="21600"/>
                  </a:cubicBezTo>
                  <a:cubicBezTo>
                    <a:pt x="36840" y="25455"/>
                    <a:pt x="35808" y="29240"/>
                    <a:pt x="33851" y="32562"/>
                  </a:cubicBezTo>
                </a:path>
                <a:path stroke="0" w="36840" h="32562">
                  <a:moveTo>
                    <a:pt x="0" y="6293"/>
                  </a:moveTo>
                  <a:cubicBezTo>
                    <a:pt x="4048" y="2262"/>
                    <a:pt x="9527" y="-1"/>
                    <a:pt x="15240" y="0"/>
                  </a:cubicBezTo>
                  <a:cubicBezTo>
                    <a:pt x="27169" y="0"/>
                    <a:pt x="36840" y="9670"/>
                    <a:pt x="36840" y="21600"/>
                  </a:cubicBezTo>
                  <a:cubicBezTo>
                    <a:pt x="36840" y="25455"/>
                    <a:pt x="35808" y="29240"/>
                    <a:pt x="33851" y="32562"/>
                  </a:cubicBezTo>
                  <a:lnTo>
                    <a:pt x="15240" y="21600"/>
                  </a:lnTo>
                  <a:close/>
                </a:path>
              </a:pathLst>
            </a:custGeom>
            <a:noFill/>
            <a:ln cap="rnd" w="31680">
              <a:solidFill>
                <a:srgbClr val="969696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" name="Text Box 30"/>
            <p:cNvSpPr/>
            <p:nvPr/>
          </p:nvSpPr>
          <p:spPr>
            <a:xfrm>
              <a:off x="5906880" y="4375080"/>
              <a:ext cx="129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Manufacturing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5762160" y="3798720"/>
              <a:ext cx="143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Premium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2055600" y="3600360"/>
              <a:ext cx="169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Financial Institutions and Insuranc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" name="Text Box 33"/>
            <p:cNvSpPr/>
            <p:nvPr/>
          </p:nvSpPr>
          <p:spPr>
            <a:xfrm>
              <a:off x="3493800" y="2833560"/>
              <a:ext cx="143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Subtle Touch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" name="Text Box 34"/>
            <p:cNvSpPr/>
            <p:nvPr/>
          </p:nvSpPr>
          <p:spPr>
            <a:xfrm>
              <a:off x="2558880" y="3222720"/>
              <a:ext cx="111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Text Box 35"/>
            <p:cNvSpPr/>
            <p:nvPr/>
          </p:nvSpPr>
          <p:spPr>
            <a:xfrm>
              <a:off x="4898880" y="3014640"/>
              <a:ext cx="129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Constructio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" name="Text Box 36"/>
            <p:cNvSpPr/>
            <p:nvPr/>
          </p:nvSpPr>
          <p:spPr>
            <a:xfrm>
              <a:off x="863640" y="1817640"/>
              <a:ext cx="3387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4ff"/>
                  </a:solidFill>
                  <a:latin typeface="Arial Black"/>
                </a:rPr>
                <a:t>Easy Search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"/>
                </a:rPr>
                <a:t>Our easy to use and functional search engine helps you locate the right templates quickly saving you tim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Text Box 37"/>
            <p:cNvSpPr/>
            <p:nvPr/>
          </p:nvSpPr>
          <p:spPr>
            <a:xfrm>
              <a:off x="6121080" y="1843200"/>
              <a:ext cx="140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e9e9e"/>
                  </a:solidFill>
                  <a:latin typeface="Arial Black"/>
                </a:rPr>
                <a:t>Service for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e9e9e"/>
                  </a:solidFill>
                  <a:latin typeface="Arial Black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" name="Text Box 38"/>
            <p:cNvSpPr/>
            <p:nvPr/>
          </p:nvSpPr>
          <p:spPr>
            <a:xfrm>
              <a:off x="3384360" y="4746600"/>
              <a:ext cx="2447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7:05:37Z</dcterms:created>
  <dc:creator/>
  <dc:description/>
  <dc:language>en-US</dc:language>
  <cp:lastModifiedBy/>
  <dcterms:modified xsi:type="dcterms:W3CDTF">2015-07-11T15:43:1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