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gif" ContentType="image/gi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2E2-8EDB-49A8-B529-993FD0E9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B10-95B5-4A98-B489-1238F75B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2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B4C-A80F-44AC-B4A1-A514B682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032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5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032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5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993-822C-4163-A461-F4CCCA2C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AF51-F601-4C22-984B-BC3811A9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CB2D-88A9-41B9-8A0F-9F780EC4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3C5B-CE14-42C4-BB41-E638EFDE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3943-EAB3-4759-AF9B-AE2941EC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2CA3-4824-4869-BD00-61B44D5B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8297-A4A1-4F3E-B8E0-6713D018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C65D-EF30-4967-8437-42027222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489-22E7-4D83-978B-8B8CEBF2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2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EAE9-6961-486D-B4FC-9E357E80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24C5-8319-4339-B203-CCC1FB04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9F4C-5D97-4D1A-8148-C06B4C51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2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087A-4961-455E-84D0-69F45767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2032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5360" y="19810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2032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5360" y="41306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3621-B666-458B-8305-03470C07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FE2-6D96-4659-B800-392BFFF5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940-CA69-4AA4-A3C5-7D1B9F46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478-599D-47CA-8987-267FAA06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467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6E4-09D0-4F00-9C14-018054A0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880-EBA1-49A0-A747-1AEA5F22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2080" y="41306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FB67-4312-4B77-B2E9-EAF3915A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2080" y="19810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835-F411-40F1-9321-4A453F61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FBDA-E46C-4990-B3B4-831851595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muldoon3" descr=""/>
          <p:cNvPicPr/>
          <p:nvPr/>
        </p:nvPicPr>
        <p:blipFill>
          <a:blip r:embed="rId10"/>
          <a:stretch/>
        </p:blipFill>
        <p:spPr>
          <a:xfrm>
            <a:off x="0" y="3794040"/>
            <a:ext cx="1897200" cy="306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00240" y="83772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6C42-E7DC-4C9F-9F91-8AE8209C3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2971800"/>
            <a:ext cx="3581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00240" y="83772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卡通人物警察</a:t>
            </a: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87640" y="2997360"/>
            <a:ext cx="381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Impact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Impact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Your Titl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Point 1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muldoon_bi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609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1T20:14:46Z</dcterms:created>
  <dc:creator>eclipse</dc:creator>
  <dc:description/>
  <dc:language>en-US</dc:language>
  <cp:lastModifiedBy>微软用户</cp:lastModifiedBy>
  <dcterms:modified xsi:type="dcterms:W3CDTF">2015-07-05T06:13:2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