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5B3-2EAE-4677-9FF3-0AE0971B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C96-97E1-4FA0-979A-D126C49C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E7F-B0B0-443B-A389-9A1CB0C1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BFE-82F6-4512-A4DE-B59BB1E5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46B-04D8-477D-965F-C8C61D7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2A4-7D7C-4645-BF91-E889ECD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F11-A516-461B-9BE2-26EC3C05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7D1-92F1-4923-BFF4-92D4F946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58-23A9-4C80-9ADF-E79F3361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C71-3129-4C78-A7AA-1233960B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F32-9236-4D07-B3C1-77D8EFB6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30A-5D69-4531-9C70-B96392D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765-F534-432C-9A2F-CA333B0B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1058760"/>
            <a:ext cx="49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M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风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693720"/>
            <a:ext cx="91314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984-94A8-4829-9921-7803ED002B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6:09:40Z</dcterms:created>
  <dc:creator>Administrator</dc:creator>
  <dc:description/>
  <dc:language>en-US</dc:language>
  <cp:lastModifiedBy>微软用户</cp:lastModifiedBy>
  <dcterms:modified xsi:type="dcterms:W3CDTF">2015-07-11T14:39:3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