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711-5FC9-42C5-B22D-F2F6CF59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893-C164-4D70-9C99-04680DC9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36C-0615-43C5-8606-08370830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18C-8DA4-4F6D-BF55-EB5BFC15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7C03-D36E-4DD2-924B-48A3BCC2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5DA-50F8-43EE-A7CD-8E97330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BD65-40C7-423D-896B-21319CFB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CA64-6345-4626-AE5E-A7224019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E7A1-F366-43AC-9B33-8E39B821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1510-9DC3-4F7D-98C2-D207F4EB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4F4B-871F-4100-B539-82271A9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C51-8768-4D27-B53F-04A950CC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1EF-59EE-4366-9527-F365E55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A968-0292-4DE0-A00B-99F6466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37C-8795-4793-A73E-522E724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180-5BBF-4E83-AE4F-6A21612B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BC9A-12AC-49AB-AAFC-40F93395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F6A-E704-49A7-AE52-8B7BD040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BD0-56E3-4914-B29A-2D29194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7AA-6258-4144-871F-8F2FFA19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FD0-94E4-4AEA-B4F1-0E4EBAE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25E-5F6D-4E70-83DF-F8ADC84C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8F1-0B0E-4A7E-BDD2-4F525F0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307-2565-427F-B68E-568067C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73EC-1D1D-41EF-A641-05864CBA4099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A53-AC84-439A-9C34-F3CD62B5E70B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3430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老师卡通形象</a:t>
            </a:r>
            <a:r>
              <a:rPr b="1" lang="zh-CN" sz="6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PPT</a:t>
            </a:r>
            <a:r>
              <a:rPr b="1" lang="zh-CN" sz="6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9903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91404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5:47:30Z</dcterms:created>
  <dc:creator>eclipse</dc:creator>
  <dc:description/>
  <dc:language>en-US</dc:language>
  <cp:lastModifiedBy>微软用户</cp:lastModifiedBy>
  <dcterms:modified xsi:type="dcterms:W3CDTF">2015-07-05T06:14:49Z</dcterms:modified>
  <cp:revision>2</cp:revision>
  <dc:subject/>
  <dc:title>TURN YOUR MI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