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  <p:custShowLst>
    <p:custShow name="自定义放映1" id="0">
      <p:sldLst>
        <p:sld r:id="rId13"/>
        <p:sld r:id="rId14"/>
        <p:sld r:id="rId15"/>
        <p:sld r:id="rId1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B800-CEEC-4213-917C-C50A30699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AFA3-1F25-49B6-BB6B-5CD63737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803-A2E7-4F98-8883-AEF440D1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E8D-EC03-45B0-AD61-022EC6328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305-10EC-4787-BB71-C6B1F2B1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6497-C8B2-457C-90BB-F613DBA1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F542-3A52-424B-8458-E9244C39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648-487F-41AE-B0A4-1926DF880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2C93-CAD8-4205-BF33-F75EBB8C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A69-92AE-4884-A5F9-D76D1082B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4EC1-A01F-42BF-B99D-58BE04E36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BC35-A550-47DD-8C2D-67F71B47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DCBF8-EF89-43D7-ACB9-7AE9620BB9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2" name="一" descr=""/>
          <p:cNvPicPr/>
          <p:nvPr/>
        </p:nvPicPr>
        <p:blipFill>
          <a:blip r:embed="rId2"/>
          <a:stretch/>
        </p:blipFill>
        <p:spPr>
          <a:xfrm>
            <a:off x="2286000" y="31680"/>
            <a:ext cx="6858000" cy="6794640"/>
          </a:xfrm>
          <a:prstGeom prst="rect">
            <a:avLst/>
          </a:prstGeom>
          <a:ln w="0">
            <a:noFill/>
          </a:ln>
        </p:spPr>
      </p:pic>
      <p:pic>
        <p:nvPicPr>
          <p:cNvPr id="43" name="二" descr=""/>
          <p:cNvPicPr/>
          <p:nvPr/>
        </p:nvPicPr>
        <p:blipFill>
          <a:blip r:embed="rId3"/>
          <a:stretch/>
        </p:blipFill>
        <p:spPr>
          <a:xfrm>
            <a:off x="1295280" y="533520"/>
            <a:ext cx="3089520" cy="5333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35640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776840" y="2438280"/>
            <a:ext cx="14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老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P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5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什么是墓志铭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251424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墓志铭就是刻在墓碑上的文字，内容大多是对死者加以悼念、赞美和安慰。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宋体"/>
                <a:ea typeface="隶书"/>
              </a:rPr>
              <a:t>牛顿的墓志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自然及其法则在黑夜中隐藏，上帝说，要有牛顿，于是一切顿成光明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    ——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亚历山大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·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隶书"/>
              </a:rPr>
              <a:t>蒲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金庸的墓志铭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这里躺着一个人，在二十世纪、二十一世纪，他写过几十部武侠小说，这些小说为几亿人喜欢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           ——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金庸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雪莱的墓志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他并没有消失什么，不过感受了一次海水的变幻，他成了富丽珍奇的瑰宝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      ——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莎士比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408-8E3B-43EB-8BA9-8596C62EAD7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司汤达的墓志铭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2895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活过，写过，爱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 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司汤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308" descr=""/>
          <p:cNvPicPr/>
          <p:nvPr/>
        </p:nvPicPr>
        <p:blipFill>
          <a:blip r:embed="rId2"/>
          <a:stretch/>
        </p:blipFill>
        <p:spPr>
          <a:xfrm>
            <a:off x="838080" y="1143000"/>
            <a:ext cx="7315200" cy="52578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066680" y="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4d4d4d"/>
                </a:solidFill>
                <a:latin typeface="Times New Roman"/>
                <a:ea typeface="隶书"/>
              </a:rPr>
              <a:t>好人一生平安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62120" y="5943600"/>
            <a:ext cx="746748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71640" y="609300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6400800" y="45720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老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horz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457200"/>
            <a:ext cx="3352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作者简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3551400" cy="40384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760" y="609120"/>
            <a:ext cx="464796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杨绛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原名杨季康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生于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191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年，江苏无锡人。作家、文学翻译家。主要作品《洗澡》、 《干校六记》、 《我们仨》、《堂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·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吉诃德》（译著）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733920" y="1752480"/>
            <a:ext cx="5162400" cy="4334040"/>
          </a:xfrm>
          <a:prstGeom prst="rect">
            <a:avLst/>
          </a:prstGeom>
          <a:ln w="0">
            <a:noFill/>
          </a:ln>
        </p:spPr>
      </p:pic>
      <p:pic>
        <p:nvPicPr>
          <p:cNvPr id="53" name="我们仨3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3051360" cy="43434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6633"/>
                </a:solidFill>
                <a:latin typeface="Times New Roman"/>
                <a:ea typeface="隶书"/>
              </a:rPr>
              <a:t>我们仨：杨绛、钱钟书</a:t>
            </a:r>
            <a:r>
              <a:rPr b="0" lang="en-US" sz="4800" spc="-1" strike="noStrike">
                <a:solidFill>
                  <a:srgbClr val="996633"/>
                </a:solidFill>
                <a:latin typeface="Times New Roman"/>
                <a:ea typeface="隶书"/>
              </a:rPr>
              <a:t>(</a:t>
            </a:r>
            <a:r>
              <a:rPr b="0" lang="en-US" sz="4800" spc="-1" strike="noStrike">
                <a:solidFill>
                  <a:srgbClr val="996633"/>
                </a:solidFill>
                <a:latin typeface="Times New Roman"/>
                <a:ea typeface="隶书"/>
              </a:rPr>
              <a:t>默存</a:t>
            </a:r>
            <a:r>
              <a:rPr b="0" lang="en-US" sz="4800" spc="-1" strike="noStrike">
                <a:solidFill>
                  <a:srgbClr val="996633"/>
                </a:solidFill>
                <a:latin typeface="Times New Roman"/>
                <a:ea typeface="隶书"/>
              </a:rPr>
              <a:t>)</a:t>
            </a:r>
            <a:r>
              <a:rPr b="0" lang="en-US" sz="4800" spc="-1" strike="noStrike">
                <a:solidFill>
                  <a:srgbClr val="996633"/>
                </a:solidFill>
                <a:latin typeface="Times New Roman"/>
                <a:ea typeface="隶书"/>
              </a:rPr>
              <a:t>和女儿钱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142640" y="1219320"/>
            <a:ext cx="62485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感受《老王》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8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0000"/>
                </a:solidFill>
                <a:latin typeface="隶书"/>
                <a:ea typeface="隶书"/>
              </a:rPr>
              <a:t>请小声读课文；给每个自然段标上序号；并画出生字词，查字典或向同学请教。读完课文后请检查一下自己是否完成上述要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2361960"/>
            <a:ext cx="81532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塌败   骷髅  干校   凑合  伛  翳  滞笨 愧怍  攥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066680"/>
            <a:ext cx="3733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读一读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6237360"/>
            <a:ext cx="202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121896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认识老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514600"/>
            <a:ext cx="68580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老王是个怎样的人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en-US" sz="4000" spc="-1" strike="noStrike">
                <a:solidFill>
                  <a:srgbClr val="800000"/>
                </a:solidFill>
                <a:latin typeface="隶书"/>
                <a:ea typeface="隶书"/>
              </a:rPr>
              <a:t>注意从老王的职业、身体状况、生活条件、为人等方面做较为全面的介绍。</a:t>
            </a:r>
            <a:r>
              <a:rPr b="1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560" y="1218960"/>
            <a:ext cx="464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说说老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666520"/>
            <a:ext cx="701064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你心目中的老王是一个怎样的人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60912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隶书"/>
              </a:rPr>
              <a:t>纪念老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假如有一天，我们找到了老王的墓，打算为老王立一块墓碑，你打算在上面刻什么字？请为黄土之下的老王写墓志铭。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8T13:01:52Z</dcterms:created>
  <dc:creator>An</dc:creator>
  <dc:description/>
  <dc:language>en-US</dc:language>
  <cp:lastModifiedBy/>
  <dcterms:modified xsi:type="dcterms:W3CDTF">2015-07-11T07:59:20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