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1B45-6C69-4A1D-9EE5-5D3E3A463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C360-6F15-4E3A-87DA-2FC8AD003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F10E-9885-4DD0-8C13-D265ED8AF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97ED-6534-4A8C-86A5-D0C258656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EFEF-C226-4B1A-9232-52B652F38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2199-391F-4DA5-B8D0-7408FEAAD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AFD5-CE28-4678-9590-3922D0077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BE21-66A5-4FD3-88B3-B34465FF1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06D1-6442-47F9-8C14-E6AE4AD36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9F26-3F05-4777-B555-83299A20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B9AC-65B0-454C-A432-4746CBF0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A9AB-E558-49C5-98C9-D56555B7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7FC48-56C1-41DE-8287-CB8F2D46C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413,14,&#24187;&#28783;&#29255; 14" TargetMode="External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413,14,&#24187;&#28783;&#29255; 14" TargetMode="External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413,14,&#24187;&#28783;&#29255; 14" TargetMode="External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-252360" y="-603360"/>
            <a:ext cx="9752040" cy="8123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443640" y="6453360"/>
            <a:ext cx="242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81080" y="4292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84360" y="1413000"/>
            <a:ext cx="2305080" cy="41432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708360" y="1628640"/>
            <a:ext cx="54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5300"/>
                </a:solidFill>
                <a:latin typeface="Arial"/>
                <a:ea typeface="黑体"/>
              </a:rPr>
              <a:t>小组内大声朗读纠错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08360" y="2997360"/>
            <a:ext cx="49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5300"/>
                </a:solidFill>
                <a:latin typeface="Arial"/>
                <a:ea typeface="黑体"/>
              </a:rPr>
              <a:t>学生朗读打分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780000" y="4292640"/>
            <a:ext cx="49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5300"/>
                </a:solidFill>
                <a:latin typeface="Arial"/>
                <a:ea typeface="黑体"/>
              </a:rPr>
              <a:t>全班齐读成诵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84360" y="1413000"/>
            <a:ext cx="2305080" cy="41432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564000" y="1413000"/>
            <a:ext cx="51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5300"/>
                </a:solidFill>
                <a:latin typeface="Arial"/>
                <a:ea typeface="黑体"/>
              </a:rPr>
              <a:t>以小组为单位进行第一二章文意疏通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讨论重点词，进行文句口译，标示出不清楚的地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64000" y="3500280"/>
            <a:ext cx="52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5300"/>
                </a:solidFill>
                <a:latin typeface="Arial"/>
                <a:ea typeface="黑体"/>
              </a:rPr>
              <a:t>共同解决解释和翻译中的疑难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64000" y="486900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5300"/>
                </a:solidFill>
                <a:latin typeface="Arial"/>
                <a:ea typeface="黑体"/>
              </a:rPr>
              <a:t>老师提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0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0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41760" y="1484280"/>
            <a:ext cx="735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   </a:t>
            </a:r>
            <a:r>
              <a:rPr b="1" lang="zh-CN" sz="4400" spc="-1" strike="noStrike">
                <a:solidFill>
                  <a:srgbClr val="009999"/>
                </a:solidFill>
                <a:latin typeface="Times New Roman"/>
                <a:ea typeface="隶书"/>
              </a:rPr>
              <a:t>子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曰：“学而</a:t>
            </a:r>
            <a:r>
              <a:rPr b="1" lang="zh-CN" sz="4400" spc="-1" strike="noStrike">
                <a:solidFill>
                  <a:srgbClr val="009999"/>
                </a:solidFill>
                <a:latin typeface="Times New Roman"/>
                <a:ea typeface="隶书"/>
              </a:rPr>
              <a:t>时   习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之，</a:t>
            </a:r>
            <a:r>
              <a:rPr b="1" lang="zh-CN" sz="4400" spc="-1" strike="noStrike">
                <a:solidFill>
                  <a:srgbClr val="009999"/>
                </a:solidFill>
                <a:latin typeface="Times New Roman"/>
                <a:ea typeface="隶书"/>
              </a:rPr>
              <a:t>不亦说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乎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76600" y="3038400"/>
            <a:ext cx="520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有</a:t>
            </a:r>
            <a:r>
              <a:rPr b="1" lang="zh-CN" sz="4400" spc="-1" strike="noStrike">
                <a:solidFill>
                  <a:srgbClr val="009999"/>
                </a:solidFill>
                <a:latin typeface="Times New Roman"/>
                <a:ea typeface="隶书"/>
              </a:rPr>
              <a:t>朋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自远方来，不亦乐</a:t>
            </a:r>
            <a:r>
              <a:rPr b="1" lang="zh-CN" sz="4400" spc="-1" strike="noStrike">
                <a:solidFill>
                  <a:srgbClr val="009999"/>
                </a:solidFill>
                <a:latin typeface="Times New Roman"/>
                <a:ea typeface="隶书"/>
              </a:rPr>
              <a:t>乎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？人不</a:t>
            </a:r>
            <a:r>
              <a:rPr b="1" lang="zh-CN" sz="4400" spc="-1" strike="noStrike">
                <a:solidFill>
                  <a:srgbClr val="009999"/>
                </a:solidFill>
                <a:latin typeface="Times New Roman"/>
                <a:ea typeface="隶书"/>
              </a:rPr>
              <a:t>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70720" y="4695840"/>
            <a:ext cx="386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Times New Roman"/>
                <a:ea typeface="隶书"/>
              </a:rPr>
              <a:t>而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不</a:t>
            </a:r>
            <a:r>
              <a:rPr b="1" lang="zh-CN" sz="4400" spc="-1" strike="noStrike">
                <a:solidFill>
                  <a:srgbClr val="009999"/>
                </a:solidFill>
                <a:latin typeface="Times New Roman"/>
                <a:ea typeface="隶书"/>
              </a:rPr>
              <a:t>愠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，</a:t>
            </a:r>
            <a:r>
              <a:rPr b="1" lang="zh-CN" sz="4400" spc="-1" strike="noStrike">
                <a:solidFill>
                  <a:srgbClr val="009999"/>
                </a:solidFill>
                <a:latin typeface="Times New Roman"/>
                <a:ea typeface="隶书"/>
              </a:rPr>
              <a:t>不亦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君子</a:t>
            </a:r>
            <a:r>
              <a:rPr b="1" lang="zh-CN" sz="4400" spc="-1" strike="noStrike">
                <a:solidFill>
                  <a:srgbClr val="009999"/>
                </a:solidFill>
                <a:latin typeface="Times New Roman"/>
                <a:ea typeface="隶书"/>
              </a:rPr>
              <a:t>乎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？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419640" y="76500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常，经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46920" y="2205000"/>
            <a:ext cx="30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通“悦”，愉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800840" y="375912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了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711760" y="383076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3200" y="52704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气，发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39760" y="590400"/>
            <a:ext cx="30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《学而》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85200" y="5950080"/>
            <a:ext cx="630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Times New Roman"/>
                <a:ea typeface="黑体"/>
              </a:rPr>
              <a:t>固定句式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:“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不亦……乎？”译作“不也是……吗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39760" y="361476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朋友，志同道合的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5400" y="52671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487760" y="217476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复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213372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先生，指孔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227640" y="8366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也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39640" y="1916280"/>
            <a:ext cx="82090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孔子说：“学习了（知识），然后按一定的时间温习它，不也是很高兴的（一件事）吗？有志同道合的人从远方（到这里）来，不也是很快乐的（一件事）吗？ 别人不了解我，我却不怨恨（他），（我）不也是君子吗？”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468360" y="692280"/>
            <a:ext cx="1942920" cy="8604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68360" y="76500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文句翻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95280" y="54936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《学而》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5640" y="1773360"/>
            <a:ext cx="838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隶书"/>
                <a:ea typeface="隶书"/>
              </a:rPr>
              <a:t>  </a:t>
            </a:r>
            <a:r>
              <a:rPr b="1" lang="zh-CN" sz="4400" spc="-1" strike="noStrike">
                <a:solidFill>
                  <a:srgbClr val="333399"/>
                </a:solidFill>
                <a:latin typeface="隶书"/>
                <a:ea typeface="隶书"/>
              </a:rPr>
              <a:t>曾子曰：“</a:t>
            </a:r>
            <a:r>
              <a:rPr b="1" lang="zh-CN" sz="4400" spc="-1" strike="noStrike">
                <a:solidFill>
                  <a:srgbClr val="009999"/>
                </a:solidFill>
                <a:latin typeface="隶书"/>
                <a:ea typeface="隶书"/>
              </a:rPr>
              <a:t>吾 日 三 省 </a:t>
            </a:r>
            <a:r>
              <a:rPr b="1" lang="zh-CN" sz="4400" spc="-1" strike="noStrike">
                <a:solidFill>
                  <a:srgbClr val="333399"/>
                </a:solidFill>
                <a:latin typeface="隶书"/>
                <a:ea typeface="隶书"/>
              </a:rPr>
              <a:t>吾 </a:t>
            </a:r>
            <a:r>
              <a:rPr b="1" lang="zh-CN" sz="4400" spc="-1" strike="noStrike">
                <a:solidFill>
                  <a:srgbClr val="009999"/>
                </a:solidFill>
                <a:latin typeface="隶书"/>
                <a:ea typeface="隶书"/>
              </a:rPr>
              <a:t>身</a:t>
            </a:r>
            <a:r>
              <a:rPr b="1" lang="zh-CN" sz="4400" spc="-1" strike="noStrike">
                <a:solidFill>
                  <a:srgbClr val="333399"/>
                </a:solidFill>
                <a:latin typeface="隶书"/>
                <a:ea typeface="隶书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2997360"/>
            <a:ext cx="838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隶书"/>
                <a:ea typeface="隶书"/>
              </a:rPr>
              <a:t>为 </a:t>
            </a:r>
            <a:r>
              <a:rPr b="1" lang="zh-CN" sz="4400" spc="-1" strike="noStrike">
                <a:solidFill>
                  <a:srgbClr val="333399"/>
                </a:solidFill>
                <a:latin typeface="隶书"/>
                <a:ea typeface="隶书"/>
              </a:rPr>
              <a:t>人谋而不 </a:t>
            </a:r>
            <a:r>
              <a:rPr b="1" lang="zh-CN" sz="4400" spc="-1" strike="noStrike">
                <a:solidFill>
                  <a:srgbClr val="009999"/>
                </a:solidFill>
                <a:latin typeface="隶书"/>
                <a:ea typeface="隶书"/>
              </a:rPr>
              <a:t>忠 </a:t>
            </a:r>
            <a:r>
              <a:rPr b="1" lang="zh-CN" sz="4400" spc="-1" strike="noStrike">
                <a:solidFill>
                  <a:srgbClr val="333399"/>
                </a:solidFill>
                <a:latin typeface="隶书"/>
                <a:ea typeface="隶书"/>
              </a:rPr>
              <a:t>乎？与朋友交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5640" y="4365720"/>
            <a:ext cx="79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隶书"/>
                <a:ea typeface="隶书"/>
              </a:rPr>
              <a:t>不 </a:t>
            </a:r>
            <a:r>
              <a:rPr b="1" lang="zh-CN" sz="4400" spc="-1" strike="noStrike">
                <a:solidFill>
                  <a:srgbClr val="009999"/>
                </a:solidFill>
                <a:latin typeface="隶书"/>
                <a:ea typeface="隶书"/>
              </a:rPr>
              <a:t>信 </a:t>
            </a:r>
            <a:r>
              <a:rPr b="1" lang="zh-CN" sz="4400" spc="-1" strike="noStrike">
                <a:solidFill>
                  <a:srgbClr val="333399"/>
                </a:solidFill>
                <a:latin typeface="隶书"/>
                <a:ea typeface="隶书"/>
              </a:rPr>
              <a:t>乎？</a:t>
            </a:r>
            <a:r>
              <a:rPr b="1" lang="zh-CN" sz="4400" spc="-1" strike="noStrike">
                <a:solidFill>
                  <a:srgbClr val="009999"/>
                </a:solidFill>
                <a:latin typeface="隶书"/>
                <a:ea typeface="隶书"/>
              </a:rPr>
              <a:t>传 </a:t>
            </a:r>
            <a:r>
              <a:rPr b="1" lang="zh-CN" sz="4400" spc="-1" strike="noStrike">
                <a:solidFill>
                  <a:srgbClr val="333399"/>
                </a:solidFill>
                <a:latin typeface="隶书"/>
                <a:ea typeface="隶书"/>
              </a:rPr>
              <a:t>不 </a:t>
            </a:r>
            <a:r>
              <a:rPr b="1" lang="zh-CN" sz="4400" spc="-1" strike="noStrike">
                <a:solidFill>
                  <a:srgbClr val="009999"/>
                </a:solidFill>
                <a:latin typeface="隶书"/>
                <a:ea typeface="隶书"/>
              </a:rPr>
              <a:t>习 </a:t>
            </a:r>
            <a:r>
              <a:rPr b="1" lang="zh-CN" sz="4400" spc="-1" strike="noStrike">
                <a:solidFill>
                  <a:srgbClr val="333399"/>
                </a:solidFill>
                <a:latin typeface="隶书"/>
                <a:ea typeface="隶书"/>
              </a:rPr>
              <a:t>乎？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47640" y="126828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称代词，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0" y="90792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虚指，泛指多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12000" y="249228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检查，反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0920" y="249228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èi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替，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59280" y="371628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尽心竭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378936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真诚，诚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08000" y="5229360"/>
            <a:ext cx="47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uá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老师传授的知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00720" y="242100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每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991640" y="126828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219640" y="371628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复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908000" y="0"/>
            <a:ext cx="512136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27600" y="1628640"/>
            <a:ext cx="78984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说文解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说文解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826920" y="1268280"/>
            <a:ext cx="7272360" cy="500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11280" y="2205000"/>
            <a:ext cx="820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曾子说：“我每天多次反省自己——给人家谋划做事是不是尽心竭力呢？和朋友交往是不是诚实呢？老师传授的知识是不是复习过呢？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468360" y="692280"/>
            <a:ext cx="1942920" cy="8604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68360" y="76500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文句翻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684360" y="1413000"/>
            <a:ext cx="2305080" cy="41432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64000" y="1773360"/>
            <a:ext cx="49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5300"/>
                </a:solidFill>
                <a:latin typeface="Arial"/>
                <a:ea typeface="黑体"/>
              </a:rPr>
              <a:t>同学进行文句翻译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64000" y="3141720"/>
            <a:ext cx="49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5300"/>
                </a:solidFill>
                <a:latin typeface="Arial"/>
                <a:ea typeface="黑体"/>
              </a:rPr>
              <a:t>同样方法学习第三</a:t>
            </a:r>
            <a:r>
              <a:rPr b="1" lang="en-US" sz="4000" spc="-1" strike="noStrike">
                <a:solidFill>
                  <a:srgbClr val="cc5300"/>
                </a:solidFill>
                <a:latin typeface="Arial"/>
                <a:ea typeface="黑体"/>
              </a:rPr>
              <a:t>-</a:t>
            </a:r>
            <a:r>
              <a:rPr b="1" lang="zh-CN" sz="4000" spc="-1" strike="noStrike">
                <a:solidFill>
                  <a:srgbClr val="cc5300"/>
                </a:solidFill>
                <a:latin typeface="Arial"/>
                <a:ea typeface="黑体"/>
              </a:rPr>
              <a:t>五章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2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3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50920" y="620640"/>
            <a:ext cx="30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《为政》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40000" y="141300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通“又”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再如“尔来二十有一年矣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314172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站立，站的住。能独立做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148360" y="270828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志于做学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4360" y="450864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迷惑，疑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4360" y="2133720"/>
            <a:ext cx="828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      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子曰：“吾十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有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 五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志于学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，三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而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立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，四十而不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惑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，五十而知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天命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，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437000"/>
            <a:ext cx="41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指不能为人力所支配的事情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比如：上天的旨意、自然的禀性与天性、人生的道义和职责等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9640" y="1628640"/>
            <a:ext cx="820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孔子</a:t>
            </a:r>
            <a:r>
              <a:rPr b="1" lang="zh-CN" sz="2800" spc="-1" strike="noStrike">
                <a:solidFill>
                  <a:srgbClr val="00060c"/>
                </a:solidFill>
                <a:latin typeface="Times New Roman"/>
              </a:rPr>
              <a:t>（前</a:t>
            </a:r>
            <a:r>
              <a:rPr b="1" lang="zh-CN" sz="2800" spc="-1" strike="noStrike">
                <a:solidFill>
                  <a:srgbClr val="00060c"/>
                </a:solidFill>
                <a:latin typeface="Times New Roman"/>
              </a:rPr>
              <a:t>551~</a:t>
            </a:r>
            <a:r>
              <a:rPr b="1" lang="zh-CN" sz="2800" spc="-1" strike="noStrike">
                <a:solidFill>
                  <a:srgbClr val="00060c"/>
                </a:solidFill>
                <a:latin typeface="Times New Roman"/>
              </a:rPr>
              <a:t>前</a:t>
            </a:r>
            <a:r>
              <a:rPr b="1" lang="zh-CN" sz="2800" spc="-1" strike="noStrike">
                <a:solidFill>
                  <a:srgbClr val="00060c"/>
                </a:solidFill>
                <a:latin typeface="Times New Roman"/>
              </a:rPr>
              <a:t>479</a:t>
            </a:r>
            <a:r>
              <a:rPr b="1" lang="zh-CN" sz="2800" spc="-1" strike="noStrike">
                <a:solidFill>
                  <a:srgbClr val="00060c"/>
                </a:solidFill>
                <a:latin typeface="Times New Roman"/>
              </a:rPr>
              <a:t>），中国古代著名思想家、政治家、教育家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儒家</a:t>
            </a:r>
            <a:r>
              <a:rPr b="1" lang="zh-CN" sz="2800" spc="-1" strike="noStrike">
                <a:solidFill>
                  <a:srgbClr val="00060c"/>
                </a:solidFill>
                <a:latin typeface="Times New Roman"/>
              </a:rPr>
              <a:t>的创始人。名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丘</a:t>
            </a:r>
            <a:r>
              <a:rPr b="1" lang="zh-CN" sz="2800" spc="-1" strike="noStrike">
                <a:solidFill>
                  <a:srgbClr val="00060c"/>
                </a:solidFill>
                <a:latin typeface="Times New Roman"/>
              </a:rPr>
              <a:t>，字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仲尼</a:t>
            </a:r>
            <a:r>
              <a:rPr b="1" lang="zh-CN" sz="2800" spc="-1" strike="noStrike">
                <a:solidFill>
                  <a:srgbClr val="00060c"/>
                </a:solidFill>
                <a:latin typeface="Times New Roman"/>
              </a:rPr>
              <a:t>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春秋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</a:rPr>
              <a:t>末期</a:t>
            </a:r>
            <a:r>
              <a:rPr b="1" lang="zh-CN" sz="2800" spc="-1" strike="noStrike">
                <a:solidFill>
                  <a:srgbClr val="00060c"/>
                </a:solidFill>
                <a:latin typeface="Times New Roman"/>
              </a:rPr>
              <a:t>鲁国人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被尊称为“大成至圣”，联合国教科文组织把他列为世界十大名人之一。相传曾修《诗》《书》，订《礼》《乐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y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序《周易》，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zh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n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《春秋》。孔子曾任鲁国司寇，治理鲁国三个月，便使强大的齐国畏惧。因身处乱世，他所主张的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仁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没有施展的空间，后携弟子周游列国。入东周拜老子为师。最终返回鲁国，专心执教。孔子开创私人讲学之风，弟子多达三千，贤弟子七十二人（“弟子三千，七十二贤人”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468360" y="692280"/>
            <a:ext cx="1727280" cy="765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11280" y="836640"/>
            <a:ext cx="14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有关孔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11280" y="2133720"/>
            <a:ext cx="828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六十而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耳顺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，七十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从心所欲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，不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逾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矩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。” 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71640" y="1341360"/>
            <a:ext cx="41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能听得进不同意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716360" y="285264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能随心所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696000" y="1413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越过，超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9640" y="45813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规矩，规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505560" y="6022800"/>
            <a:ext cx="23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39640" y="1916280"/>
            <a:ext cx="820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孔子说：“我十五岁就有志于做学问；三十岁能自立于世；四十岁（能通达事理，不为（外物）迷惑；五十岁的时候我知道哪些是不能为人力所支配的事情；六十岁时能听得进各种意见；七十岁能随心所欲，而不会逾越规矩。”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468360" y="692280"/>
            <a:ext cx="1942920" cy="8604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68360" y="76500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文句翻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164360" y="4292640"/>
            <a:ext cx="1979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68360" y="620640"/>
            <a:ext cx="30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《为政》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816200" y="1916280"/>
            <a:ext cx="729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 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子曰：“温  </a:t>
            </a:r>
            <a:r>
              <a:rPr b="1" lang="zh-CN" sz="4400" spc="-1" strike="noStrike">
                <a:solidFill>
                  <a:srgbClr val="009999"/>
                </a:solidFill>
                <a:latin typeface="Times New Roman"/>
                <a:ea typeface="隶书"/>
              </a:rPr>
              <a:t>故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  而   </a:t>
            </a:r>
            <a:r>
              <a:rPr b="1" lang="zh-CN" sz="4400" spc="-1" strike="noStrike">
                <a:solidFill>
                  <a:srgbClr val="009999"/>
                </a:solidFill>
                <a:latin typeface="Times New Roman"/>
                <a:ea typeface="隶书"/>
              </a:rPr>
              <a:t>知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   新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429000"/>
            <a:ext cx="575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Times New Roman"/>
                <a:ea typeface="隶书"/>
              </a:rPr>
              <a:t>可 以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  </a:t>
            </a:r>
            <a:r>
              <a:rPr b="1" lang="zh-CN" sz="4400" spc="-1" strike="noStrike">
                <a:solidFill>
                  <a:srgbClr val="009999"/>
                </a:solidFill>
                <a:latin typeface="Times New Roman"/>
                <a:ea typeface="隶书"/>
              </a:rPr>
              <a:t>为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  师  </a:t>
            </a:r>
            <a:r>
              <a:rPr b="1" lang="zh-CN" sz="4400" spc="-1" strike="noStrike">
                <a:solidFill>
                  <a:srgbClr val="009999"/>
                </a:solidFill>
                <a:latin typeface="Times New Roman"/>
                <a:ea typeface="隶书"/>
              </a:rPr>
              <a:t>矣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43280" y="263700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旧的，学过的知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87280" y="42210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éi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做，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88000" y="76500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了解，意译为“领悟，获得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284720" y="422100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9640" y="278136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可以凭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11280" y="213372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孔子说：“温习学过的知识后，能有新理解、新体会，就可以凭借（它）做老师了 。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468360" y="692280"/>
            <a:ext cx="1942920" cy="8604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68360" y="76500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文句翻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68360" y="620640"/>
            <a:ext cx="30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《为政》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22280" y="2090880"/>
            <a:ext cx="588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子曰：“学 </a:t>
            </a:r>
            <a:r>
              <a:rPr b="1" lang="zh-CN" sz="4400" spc="-1" strike="noStrike">
                <a:solidFill>
                  <a:srgbClr val="009999"/>
                </a:solidFill>
                <a:latin typeface="Times New Roman"/>
                <a:ea typeface="隶书"/>
              </a:rPr>
              <a:t>而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不思  </a:t>
            </a:r>
            <a:r>
              <a:rPr b="1" lang="zh-CN" sz="4400" spc="-1" strike="noStrike">
                <a:solidFill>
                  <a:srgbClr val="009999"/>
                </a:solidFill>
                <a:latin typeface="Times New Roman"/>
                <a:ea typeface="隶书"/>
              </a:rPr>
              <a:t>则   罔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576800" y="3573360"/>
            <a:ext cx="28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思而不学则</a:t>
            </a:r>
            <a:r>
              <a:rPr b="1" lang="zh-CN" sz="4400" spc="-1" strike="noStrike">
                <a:solidFill>
                  <a:srgbClr val="009999"/>
                </a:solidFill>
                <a:latin typeface="Times New Roman"/>
                <a:ea typeface="隶书"/>
              </a:rPr>
              <a:t>殆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90920" y="436572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81800" y="270828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迷惑，即感到迷茫而无所适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24360" y="141300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但，可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43640" y="141300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11280" y="220500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孔子说：“（只是）读书而不开动脑筋，就会（被知识表象）所迷惑；（而）只是空想却不读书，就会有害。”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468360" y="692280"/>
            <a:ext cx="1942920" cy="8604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68360" y="76500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文句翻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236000" y="2492280"/>
            <a:ext cx="19080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684360" y="1413000"/>
            <a:ext cx="2305080" cy="41432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564000" y="1773360"/>
            <a:ext cx="49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5300"/>
                </a:solidFill>
                <a:latin typeface="Arial"/>
                <a:ea typeface="黑体"/>
              </a:rPr>
              <a:t>学习第六、七章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35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50920" y="692280"/>
            <a:ext cx="30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《雍也》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9640" y="1844640"/>
            <a:ext cx="80517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       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子曰：“贤哉，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回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也！一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箪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食，一瓢饮，在陋巷，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人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 不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堪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其忧，回也不改其乐。贤哉，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也！ ”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76720" y="119700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指孔子的弟子颜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356000" y="3860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别人，人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716360" y="256536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古代盛饭用的竹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80360" y="3860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忍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11280" y="220500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孔子说：“（多么有）贤德啊，颜回！一竹篮子饭，一瓢水，住在简陋的小巷子里别人都受不了那穷困的忧愁，颜回却依然自得其乐。（多么有）贤德啊，颜回！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468360" y="692280"/>
            <a:ext cx="1942920" cy="8604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68360" y="76500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文句翻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539640" y="2205000"/>
            <a:ext cx="8209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       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子 曰：“知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之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    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者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    不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好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  之者，好之者不如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乐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 之者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63640" y="148428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代词，它。这里指学问和事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12000" y="292428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4437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喜欢，爱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9280" y="62064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《雍也》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64000" y="4437000"/>
            <a:ext cx="32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以……为乐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468360" y="692280"/>
            <a:ext cx="1727280" cy="765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39640" y="1628640"/>
            <a:ext cx="8209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60c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60c"/>
                </a:solidFill>
                <a:latin typeface="Times New Roman"/>
              </a:rPr>
              <a:t>公元前</a:t>
            </a:r>
            <a:r>
              <a:rPr b="1" lang="en-US" sz="3200" spc="-1" strike="noStrike">
                <a:solidFill>
                  <a:srgbClr val="00060c"/>
                </a:solidFill>
                <a:latin typeface="Times New Roman"/>
              </a:rPr>
              <a:t>522</a:t>
            </a:r>
            <a:r>
              <a:rPr b="1" lang="zh-CN" sz="3200" spc="-1" strike="noStrike">
                <a:solidFill>
                  <a:srgbClr val="00060c"/>
                </a:solidFill>
                <a:latin typeface="Times New Roman"/>
              </a:rPr>
              <a:t>年，孔子开始收徒讲学。主张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有教无类</a:t>
            </a:r>
            <a:r>
              <a:rPr b="1" lang="en-US" sz="3200" spc="-1" strike="noStrike">
                <a:solidFill>
                  <a:srgbClr val="00060c"/>
                </a:solidFill>
                <a:latin typeface="Times New Roman"/>
              </a:rPr>
              <a:t>”：不分贫富，不分贵贱，不分老少，不分国籍，四方弟子云集。庄子的一则寓言里说，孔子每到一处就在杏林里讲学，休息的时候，就坐在杏坛之上。后来人们就把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杏坛</a:t>
            </a:r>
            <a:r>
              <a:rPr b="1" lang="en-US" sz="3200" spc="-1" strike="noStrike">
                <a:solidFill>
                  <a:srgbClr val="00060c"/>
                </a:solidFill>
                <a:latin typeface="Times New Roman"/>
              </a:rPr>
              <a:t>”称作孔子讲学的地方，也代指教育。关于“杏”有两个不同说法，一指杏红飘香；一指银杏，“多果，象征着弟子满天下。树杆挺拔直立，绝不旁逸斜出，象征弟子们正直的品格。果仁既可食用，又可入药治病，象征弟子们学成后可以有利于社稷民生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836640"/>
            <a:ext cx="14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有关孔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11280" y="220500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孔子说：“（对于学习），知道怎么学习的人，不如爱好学习的人；爱好学习的人，不如以学习为乐的人。”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468360" y="692280"/>
            <a:ext cx="1942920" cy="8604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68360" y="76500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文句翻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84360" y="1413000"/>
            <a:ext cx="2305080" cy="41432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564000" y="1773360"/>
            <a:ext cx="49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5300"/>
                </a:solidFill>
                <a:latin typeface="Arial"/>
                <a:ea typeface="黑体"/>
              </a:rPr>
              <a:t>学习第八、九章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86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24000" y="549360"/>
            <a:ext cx="30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《述而》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5640" y="1484280"/>
            <a:ext cx="76629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        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子曰：“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饭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疏食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  饮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水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曲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肱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  而枕之，乐亦在其中矣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不义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  而富且贵，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于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 我如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云。”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708360" y="76500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788000" y="76500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粗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43280" y="2133720"/>
            <a:ext cx="43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冷水。“汤”，热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476360" y="213372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胳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9640" y="357336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用）不正当的（手段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932360" y="49417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对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11280" y="220500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孔子说：“吃粗粮，喝冷水，弯着胳膊当枕头，乐趣也就在其中了。用不正当的手段得来的富贵，对于我来讲就像是天上的浮云一样。”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468360" y="692280"/>
            <a:ext cx="1942920" cy="860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468360" y="76500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文句翻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24000" y="549360"/>
            <a:ext cx="30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《述而》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55640" y="1700280"/>
            <a:ext cx="76629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        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子曰：“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三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  人行，必有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师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焉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 ；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择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  其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善者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  而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之，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其不善者而改之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。”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76720" y="98100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虚指，几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26920" y="249228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于此，意思是“在其中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56000" y="371628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选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371628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优点，长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659640" y="24210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学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26920" y="515772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们的缺点（如果自己也有）就改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11280" y="220500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孔子说：“几个人在一块儿，在其中一定有我的老师，我要选择他们的长处来学习，他们的缺点（如果自己也有）就改正。”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468360" y="692280"/>
            <a:ext cx="1942920" cy="8604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68360" y="76500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文句翻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684360" y="1413000"/>
            <a:ext cx="2305080" cy="41432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3564000" y="1773360"/>
            <a:ext cx="49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5300"/>
                </a:solidFill>
                <a:latin typeface="Arial"/>
                <a:ea typeface="黑体"/>
              </a:rPr>
              <a:t>学习最后三章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5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24000" y="549360"/>
            <a:ext cx="30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《子罕》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55640" y="1916280"/>
            <a:ext cx="76629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        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子在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川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  上曰：“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逝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  者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斯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夫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，不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舍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  昼夜。”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556000" y="119700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河，河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96000" y="11970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流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26920" y="256536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26920" y="414972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放在句尾表示感叹、议论。无实在意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419640" y="26370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舍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611280" y="220500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孔子对着滔滔江水，（感慨地）说：“时光就像这流去的江水一样，日夜不停呀！”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468360" y="692280"/>
            <a:ext cx="1942920" cy="860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468360" y="76500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文句翻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24000" y="549360"/>
            <a:ext cx="30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《子罕》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55640" y="1916280"/>
            <a:ext cx="76629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        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子曰：“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三军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  可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夺   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也，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匹夫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  不可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夺志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  也。”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916360" y="126828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军队的通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940360" y="1268280"/>
            <a:ext cx="21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改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908000" y="2637000"/>
            <a:ext cx="44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普通的人，男子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427640" y="407664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改变志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9640" y="1773360"/>
            <a:ext cx="8209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孔子重视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因材施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注重“学”、“思”结合，其理论从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修身齐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到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治国平天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政治、经济、军事、伦理、教育，几乎无所不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孔子还创立了以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”为核心的道德学说 。他认为做人应该善良、富有同情心、乐于助人、待人真诚、宽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孔子被尊称为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至圣先师，万世师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468360" y="692280"/>
            <a:ext cx="1727280" cy="765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11280" y="836640"/>
            <a:ext cx="14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有关孔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611280" y="220500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孔子说：“军队可以改变主帅，（但哪怕是一个）普通的人，也不可以改变志气。”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468360" y="692280"/>
            <a:ext cx="1942920" cy="8604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468360" y="76500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文句翻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24000" y="549360"/>
            <a:ext cx="30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《子张》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5640" y="1700280"/>
            <a:ext cx="76629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        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子夏曰：“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博学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   而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笃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志，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切问而近思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，仁在其中矣。”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940360" y="234936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忠实，坚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627280" y="3860640"/>
            <a:ext cx="62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恳切地提问，多考虑当前的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98100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广泛地学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611280" y="220500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夏说：“广泛地学习而且能坚守自己的志向，恳切地提问并且能多考虑当前的事情，仁德就在其中了。”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468360" y="692280"/>
            <a:ext cx="1942920" cy="8604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468360" y="76500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文句翻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068240" y="623736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684360" y="1413000"/>
            <a:ext cx="2305080" cy="41432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3564000" y="1773360"/>
            <a:ext cx="49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5300"/>
                </a:solidFill>
                <a:latin typeface="Arial"/>
                <a:ea typeface="黑体"/>
              </a:rPr>
              <a:t>齐读、试背全文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635280" y="3357720"/>
            <a:ext cx="49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5300"/>
                </a:solidFill>
                <a:latin typeface="Arial"/>
                <a:ea typeface="黑体"/>
              </a:rPr>
              <a:t>重点词总结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30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35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609480" y="457200"/>
            <a:ext cx="716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文言文词语学习方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50920" y="1557360"/>
            <a:ext cx="86104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、“单”变“双”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学——             朋——             温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乐——             师——             知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思——             见——             改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择——             逝——             舍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698480" y="23194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学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778640" y="23954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朋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598160" y="23954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温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959480" y="32338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快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778640" y="32338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老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524720" y="3213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知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959480" y="40719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思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4960" y="40719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看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674480" y="40719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改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948320" y="4869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选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854960" y="4834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流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709400" y="4869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舍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914400" y="457200"/>
            <a:ext cx="408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隶书"/>
                <a:ea typeface="隶书"/>
              </a:rPr>
              <a:t>2</a:t>
            </a:r>
            <a:r>
              <a:rPr b="0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、通假字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826920" y="1863720"/>
            <a:ext cx="6874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说：通“悦”，高兴，愉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188000" y="314172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有：通“又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501336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通假字的读音和所通的字应该一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457200" y="506520"/>
            <a:ext cx="670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隶书"/>
                <a:ea typeface="隶书"/>
              </a:rPr>
              <a:t>3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、古今异义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9960" y="1295280"/>
            <a:ext cx="793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时：常常，经常。按一定的时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040400" y="2133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：多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84360" y="2997360"/>
            <a:ext cx="36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可以：可以凭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726440" y="2133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水：冷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84360" y="3860640"/>
            <a:ext cx="397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善者：优点，长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180440" y="46656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善者：缺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619280" y="551664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这类词要多比较，留心，记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457200" y="506520"/>
            <a:ext cx="670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隶书"/>
                <a:ea typeface="隶书"/>
              </a:rPr>
              <a:t>3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、词类活用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69960" y="1584360"/>
            <a:ext cx="793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温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故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而知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84360" y="3789360"/>
            <a:ext cx="36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饭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疏食饮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84360" y="458136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名词活用为动词。吃，吃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619280" y="566100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这类词要多领会，留心，记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69960" y="2422440"/>
            <a:ext cx="786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均为形容词活用为名词。故，旧的知识。新，新的知识，新的理解和体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898560" y="517680"/>
            <a:ext cx="374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隶书"/>
                <a:ea typeface="隶书"/>
              </a:rPr>
              <a:t>5</a:t>
            </a: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、语气词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066680" y="1371600"/>
            <a:ext cx="177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916360" y="1341360"/>
            <a:ext cx="29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相当于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吗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159920" y="2254320"/>
            <a:ext cx="13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矣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311280" y="2276640"/>
            <a:ext cx="168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相当于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了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159920" y="3016080"/>
            <a:ext cx="13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也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957120" y="2997360"/>
            <a:ext cx="360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有时相当于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了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”，有时无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159920" y="3854520"/>
            <a:ext cx="13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焉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916360" y="37162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有时是“了”，有时无义，文中是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在里面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90440" y="5445000"/>
            <a:ext cx="511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这类词多读多体会，就会明白，无须死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826920" y="692280"/>
            <a:ext cx="374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隶书"/>
                <a:ea typeface="隶书"/>
              </a:rPr>
              <a:t>6</a:t>
            </a: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、虚词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26920" y="1916280"/>
            <a:ext cx="8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隶书"/>
                <a:ea typeface="隶书"/>
              </a:rPr>
              <a:t>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763640" y="191628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Times New Roman"/>
                <a:ea typeface="隶书"/>
              </a:rPr>
              <a:t>它，它们。他，他们。（分别指代不同的对象。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763640" y="328464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学而时习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知之者不如好之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曲肱而枕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择其善者而从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9640" y="1773360"/>
            <a:ext cx="820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孔子的弟子和再传弟子，把孔子及其弟子的言行记录下来，作成《论语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《论语》是儒家学派的经典著作之一，由孔子的弟子及其再传弟子编撰而成。它以语录体和对话文体为主，记录了孔子及其弟子言行，集中体现了孔子的政治主张、伦理思想、道德观念及教育原则等。与《孟子》《大学》《中庸》并称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四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”，（《诗经》《尚书》《礼记》《易经》《春秋》并称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五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”）。通行本《论语》共二十篇。北宋宰相赵普赞曰：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半部论语治天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”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60c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468360" y="692280"/>
            <a:ext cx="1942920" cy="860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95280" y="836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《论语》简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539640" y="1268280"/>
            <a:ext cx="9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隶书"/>
                <a:ea typeface="隶书"/>
              </a:rPr>
              <a:t>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692360" y="126828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Times New Roman"/>
                <a:ea typeface="隶书"/>
              </a:rPr>
              <a:t>1</a:t>
            </a:r>
            <a:r>
              <a:rPr b="1" lang="zh-CN" sz="3600" spc="-1" strike="noStrike">
                <a:solidFill>
                  <a:srgbClr val="009999"/>
                </a:solidFill>
                <a:latin typeface="Times New Roman"/>
                <a:ea typeface="隶书"/>
              </a:rPr>
              <a:t>、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692360" y="2133720"/>
            <a:ext cx="43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吾十有五而志于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763640" y="299736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Times New Roman"/>
                <a:ea typeface="隶书"/>
              </a:rPr>
              <a:t>2</a:t>
            </a:r>
            <a:r>
              <a:rPr b="1" lang="zh-CN" sz="3600" spc="-1" strike="noStrike">
                <a:solidFill>
                  <a:srgbClr val="009999"/>
                </a:solidFill>
                <a:latin typeface="Times New Roman"/>
                <a:ea typeface="隶书"/>
              </a:rPr>
              <a:t>、对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619280" y="3933720"/>
            <a:ext cx="28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于我如浮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608360" y="4724280"/>
            <a:ext cx="21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606920" y="566100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己所不欲，勿施于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539640" y="907920"/>
            <a:ext cx="9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隶书"/>
                <a:ea typeface="隶书"/>
              </a:rPr>
              <a:t>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187280" y="1773360"/>
            <a:ext cx="7201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而”字的用法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表转接</a:t>
            </a:r>
            <a:r>
              <a:rPr b="1" lang="zh-CN" sz="3600" spc="-1" strike="noStrike">
                <a:solidFill>
                  <a:srgbClr val="009999"/>
                </a:solidFill>
                <a:latin typeface="Times New Roman"/>
                <a:ea typeface="隶书"/>
              </a:rPr>
              <a:t>（转折）（可是，但是，却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表顺接</a:t>
            </a:r>
            <a:r>
              <a:rPr b="1" lang="zh-CN" sz="3600" spc="-1" strike="noStrike">
                <a:solidFill>
                  <a:srgbClr val="009999"/>
                </a:solidFill>
                <a:latin typeface="Times New Roman"/>
                <a:ea typeface="隶书"/>
              </a:rPr>
              <a:t>：表并列、表承接（顺承）、表修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539640" y="1700280"/>
            <a:ext cx="8209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时习之，不亦说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人不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愠，不亦君子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生于忧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死于安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面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68360" y="835200"/>
            <a:ext cx="9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隶书"/>
                <a:ea typeface="隶书"/>
              </a:rPr>
              <a:t>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940360" y="220500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承接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然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427640" y="3716280"/>
            <a:ext cx="47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转折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可是，但是，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156360" y="422100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并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156360" y="515772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修饰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539640" y="692280"/>
            <a:ext cx="820908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判断下列句中“而”字的用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人不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为人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忠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与朋友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信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吾十有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志于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三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立，四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惑，五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知天命，六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耳顺，七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从心所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716360" y="126828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转折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788000" y="213372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转折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788000" y="299736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转折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788000" y="386064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承接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724360" y="5229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承接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5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0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3" dur="5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6" dur="500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9" dur="500"/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2" dur="500"/>
                                        <p:tgtEl>
                                          <p:spTgt spid="3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7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539640" y="1341360"/>
            <a:ext cx="8209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学而不思则罔，思而不学则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曲肱而枕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不义而富且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择其善者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从之，其不善者而改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博学而笃志，切问而近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732720" y="134136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转折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804000" y="2133720"/>
            <a:ext cx="18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修饰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04000" y="29988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承接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804000" y="3862440"/>
            <a:ext cx="18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承接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804000" y="472608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并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84360" y="1413000"/>
            <a:ext cx="2305080" cy="414324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3564000" y="1773360"/>
            <a:ext cx="49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5300"/>
                </a:solidFill>
                <a:latin typeface="Arial"/>
                <a:ea typeface="黑体"/>
              </a:rPr>
              <a:t>完成“研讨与练习”二、三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96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源于本文的常用成语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8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亦乐乎        三省吾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十而立        四十不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温故知新        博学笃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切问近思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择善而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人行，必有我师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219640" y="4221000"/>
            <a:ext cx="3529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己所不欲，勿施于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事俱备，只欠东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醉翁之意不在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3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8" dur="5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3" dur="5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684360" y="1413000"/>
            <a:ext cx="2305080" cy="41432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4140360" y="1773360"/>
            <a:ext cx="39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5300"/>
                </a:solidFill>
                <a:latin typeface="Arial"/>
                <a:ea typeface="黑体"/>
              </a:rPr>
              <a:t>大声齐背课文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050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533520" y="765000"/>
            <a:ext cx="8610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方正舒体"/>
                <a:ea typeface="方正舒体"/>
              </a:rPr>
              <a:t>全文主要内容包括三个方面</a:t>
            </a:r>
            <a:r>
              <a:rPr b="0" lang="zh-CN" sz="4800" spc="-1" strike="noStrike">
                <a:solidFill>
                  <a:srgbClr val="0000cc"/>
                </a:solidFill>
                <a:latin typeface="方正舒体"/>
                <a:ea typeface="方正舒体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763640" y="1916280"/>
            <a:ext cx="480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①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学习方法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793880" y="3352680"/>
            <a:ext cx="4876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②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学习态度</a:t>
            </a:r>
            <a:r>
              <a:rPr b="1" lang="en-US" sz="6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793880" y="4648320"/>
            <a:ext cx="5334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③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修身做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2250720" y="1015920"/>
            <a:ext cx="469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隶书"/>
              </a:rPr>
              <a:t>子曰：“温故而知新，可以为师矣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463760" y="2565360"/>
            <a:ext cx="2619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姚体"/>
                <a:ea typeface="方正姚体"/>
              </a:rPr>
              <a:t>正确的</a:t>
            </a:r>
            <a:r>
              <a:rPr b="1" lang="zh-CN" sz="4000" spc="-1" strike="noStrike">
                <a:solidFill>
                  <a:srgbClr val="0000cc"/>
                </a:solidFill>
                <a:latin typeface="方正姚体"/>
                <a:ea typeface="方正姚体"/>
              </a:rPr>
              <a:t>学习方法</a:t>
            </a:r>
            <a:r>
              <a:rPr b="1" lang="zh-CN" sz="40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方正姚体"/>
                <a:ea typeface="方正姚体"/>
              </a:rPr>
              <a:t>复习旧知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方正姚体"/>
                <a:ea typeface="方正姚体"/>
              </a:rPr>
              <a:t>触类旁通，举一反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2"/>
          <a:srcRect l="0" t="43001" r="0" b="4998"/>
          <a:stretch/>
        </p:blipFill>
        <p:spPr>
          <a:xfrm>
            <a:off x="5867280" y="2492280"/>
            <a:ext cx="291492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84360" y="1413000"/>
            <a:ext cx="2305080" cy="4143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995640" y="1916280"/>
            <a:ext cx="453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5300"/>
                </a:solidFill>
                <a:latin typeface="Arial"/>
                <a:ea typeface="黑体"/>
              </a:rPr>
              <a:t>老师示范朗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851120" y="1014480"/>
            <a:ext cx="565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隶书"/>
                <a:ea typeface="隶书"/>
              </a:rPr>
              <a:t>    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隶书"/>
              </a:rPr>
              <a:t>子曰：“三人行，必有我师焉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隶书"/>
              </a:rPr>
              <a:t>择其善者而从之，其不善者而改之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292760" y="3429000"/>
            <a:ext cx="264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正确的</a:t>
            </a:r>
            <a:r>
              <a:rPr b="1" lang="zh-CN" sz="3600" spc="-1" strike="noStrike">
                <a:solidFill>
                  <a:srgbClr val="0000cc"/>
                </a:solidFill>
                <a:latin typeface="方正姚体"/>
                <a:ea typeface="方正姚体"/>
              </a:rPr>
              <a:t>学习态度</a:t>
            </a: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方正姚体"/>
                <a:ea typeface="方正姚体"/>
              </a:rPr>
              <a:t>虚心求教，取长补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2"/>
          <a:srcRect l="0" t="43001" r="0" b="4998"/>
          <a:stretch/>
        </p:blipFill>
        <p:spPr>
          <a:xfrm>
            <a:off x="5867280" y="2492280"/>
            <a:ext cx="291492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4" dur="indefinite" restart="never" nodeType="tmRoot">
          <p:childTnLst>
            <p:seq>
              <p:cTn id="1085" dur="indefinite" nodeType="mainSeq">
                <p:childTnLst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1703160" y="78588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隶书"/>
              </a:rPr>
              <a:t>人不知而不愠，不亦君子乎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148400" y="2708280"/>
            <a:ext cx="264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高尚的</a:t>
            </a:r>
            <a:r>
              <a:rPr b="1" lang="zh-CN" sz="3600" spc="-1" strike="noStrike">
                <a:solidFill>
                  <a:srgbClr val="0000cc"/>
                </a:solidFill>
                <a:latin typeface="方正姚体"/>
                <a:ea typeface="方正姚体"/>
              </a:rPr>
              <a:t>个人修养</a:t>
            </a:r>
            <a:r>
              <a:rPr b="1" lang="en-US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800000"/>
                </a:solidFill>
                <a:uFillTx/>
                <a:latin typeface="方正姚体"/>
                <a:ea typeface="方正姚体"/>
              </a:rPr>
              <a:t>自求长进，提高修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rcRect l="0" t="43001" r="0" b="4998"/>
          <a:stretch/>
        </p:blipFill>
        <p:spPr>
          <a:xfrm>
            <a:off x="5940360" y="2637000"/>
            <a:ext cx="2914560" cy="350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1" dur="indefinite" restart="never" nodeType="tmRoot">
          <p:childTnLst>
            <p:seq>
              <p:cTn id="1092" dur="indefinite" nodeType="mainSeq">
                <p:childTnLst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684360" y="1413000"/>
            <a:ext cx="2305080" cy="414324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3635280" y="1628640"/>
            <a:ext cx="468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5300"/>
                </a:solidFill>
                <a:latin typeface="Arial"/>
                <a:ea typeface="黑体"/>
              </a:rPr>
              <a:t>小组讨论，然后请用不同的符号标示出三方面有关的句子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104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611280" y="826920"/>
            <a:ext cx="8137440" cy="531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2"/>
              </a:rPr>
              <a:t>学习方法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温故而知新，可以为师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学而时习之，不亦说乎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学而不思则罔，思而不学则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博学而笃志，切问而近思，仁在其中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292720" y="765000"/>
            <a:ext cx="3352680" cy="792360"/>
          </a:xfrm>
          <a:prstGeom prst="wedgeRoundRectCallout">
            <a:avLst>
              <a:gd name="adj1" fmla="val -76847"/>
              <a:gd name="adj2" fmla="val 32162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—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788000" y="227664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学习了以后一定要花时间进行巩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132000" y="3429000"/>
            <a:ext cx="54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阐述学习和思考的辩证关系，认为一定要学思结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187280" y="414972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既要广博地学习，又要有坚定的志向，既要多提问题，又要多想与自己的实际情况密切相关的事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96600" y="638172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0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8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250920" y="620640"/>
            <a:ext cx="853272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"/>
              </a:rPr>
              <a:t>学习态度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人行，必有我师焉。择其善者而从之，其不善者而改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知之者不如好之者，好之者不如乐之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在川上曰：“逝者如斯夫，不舍昼夜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076720" y="620640"/>
            <a:ext cx="3353040" cy="792360"/>
          </a:xfrm>
          <a:prstGeom prst="wedgeRoundRectCallout">
            <a:avLst>
              <a:gd name="adj1" fmla="val -78740"/>
              <a:gd name="adj2" fmla="val 32763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～ ～ 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284720" y="2565360"/>
            <a:ext cx="45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兴趣对于学习的重要性。“兴趣是最好的老师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067280" y="522936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对时光流逝的慨叹，实际上是劝人们要珍惜时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8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6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7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501480" y="476280"/>
            <a:ext cx="864252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"/>
              </a:rPr>
              <a:t>修身做人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不知而不愠，不亦君子乎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朋自远方来，不亦乐乎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吾日三省吾身：为人谋而不忠乎？与朋友交而不信乎？传不习乎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076720" y="549360"/>
            <a:ext cx="3353040" cy="792000"/>
          </a:xfrm>
          <a:prstGeom prst="wedgeRoundRectCallout">
            <a:avLst>
              <a:gd name="adj1" fmla="val -79120"/>
              <a:gd name="adj2" fmla="val 12925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〔                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84360" y="5229360"/>
            <a:ext cx="777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古人治学非常重视品德的修养，“德才兼备”，每天自我反省——是否尽心尽力做事；是否以真诚交友；是否认真复习功课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300720" y="299736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学习的乐趣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9" dur="indefinite" restart="never" nodeType="tmRoot">
          <p:childTnLst>
            <p:seq>
              <p:cTn id="1200" dur="indefinite" nodeType="mainSeq">
                <p:childTnLst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6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7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4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395280" y="981000"/>
            <a:ext cx="8569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饭疏食饮水，曲肱而枕之，乐亦在其中矣。不义而富且贵，于我如浮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贤哉，回也！一箪食，一瓢饮，在陋巷，人不堪其忧，回也不改其乐。贤哉，回也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军可夺帅也，匹夫不可夺志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268360" y="3789360"/>
            <a:ext cx="59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高度赞扬颜回安贫乐道、淡泊名利、不与世俗同流合污的高贵品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835280" y="227664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孔子极力提倡“安贫乐道”的思想，认为真正有道德、有理想的君子，不会为物质享受而奔波忙碌。并且认为不凭道义而获得的富贵，就像虚幻的浮云一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971640" y="3429000"/>
            <a:ext cx="74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人一定要有志气、品格。在任何时候、任何情况下都不能改变自己的心志，应该坚定信念、矢志不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7" dur="indefinite" restart="never" nodeType="tmRoot">
          <p:childTnLst>
            <p:seq>
              <p:cTn id="1238" dur="indefinite" nodeType="mainSeq">
                <p:childTnLst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9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0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5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7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8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5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684360" y="1413000"/>
            <a:ext cx="2305080" cy="414324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3635280" y="836640"/>
            <a:ext cx="46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5300"/>
                </a:solidFill>
                <a:latin typeface="Arial"/>
                <a:ea typeface="黑体"/>
              </a:rPr>
              <a:t>再次齐背课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635280" y="170028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3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cc5300"/>
                </a:solidFill>
                <a:latin typeface="Arial"/>
                <a:ea typeface="黑体"/>
              </a:rPr>
              <a:t>研讨与练习一”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本文论述的学习方法和学习态度中，你认为最有价值的是哪一点？为什么？ 在学习生活中，你在哪一方面做得最不够，今后有何打算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492360" y="5013360"/>
            <a:ext cx="46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3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cc5300"/>
                </a:solidFill>
                <a:latin typeface="Arial"/>
                <a:ea typeface="黑体"/>
              </a:rPr>
              <a:t>研讨与练习四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8" dur="indefinite" restart="never" nodeType="tmRoot">
          <p:childTnLst>
            <p:seq>
              <p:cTn id="1289" dur="indefinite" nodeType="mainSeq">
                <p:childTnLst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294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299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304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2"/>
          <p:cNvSpPr/>
          <p:nvPr/>
        </p:nvSpPr>
        <p:spPr>
          <a:xfrm>
            <a:off x="468360" y="1557360"/>
            <a:ext cx="8209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子曰：“ 知之为知之，不知为不知，是知也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子贡问曰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孔文子何以谓之文也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?”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子曰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敏而好学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不耻下问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是以谓之文也。”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子曰：“默而识之，学而不厌，诲人不倦，何有于我哉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子曰：“吾尝终日不食，终夜不寝，以思，无益，不如学也。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子贡问曰：“有一言而可以终身行之者乎？”子曰：“其恕乎？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己所不欲，勿施于人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曾子曰：“士不可以不弘毅，任重而道远。仁以为己任，不亦重乎？死而后已，不亦远乎？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39600" y="6206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课外拓展阅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55640" y="26028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68360" y="765000"/>
            <a:ext cx="82072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它是指：自己不想要的东西，切勿强加给别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己所不欲，勿施于人”是儒家思想的精华，所揭晓的是处理人际关系的重要原则，也是中华民族根深蒂固的信条。孔子所强调的是，人应该有宽广的胸怀，待人处事之时切勿心胸狭窄，而应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尊重他人，平等待人，宽宏大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倘若自己所讨厌的事物，硬推给他人，不仅会破坏与他人的关系，也会将事情弄得僵持而不可收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5" dur="indefinite" restart="never" nodeType="tmRoot">
          <p:childTnLst>
            <p:seq>
              <p:cTn id="1306" dur="indefinite" nodeType="mainSeq">
                <p:childTnLst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1" dur="1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2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8" dur="10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9" dur="1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1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5" dur="10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1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2" dur="10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3" dur="10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10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9" dur="1000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0" dur="10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10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5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6" dur="1000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7" dur="10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10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623600" y="312480"/>
            <a:ext cx="7007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曾子杀彘（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hì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939600" y="6206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课外拓展阅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360" y="170028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曾子之妻之市，其子随之而泣。其母曰：“女还，顾反为女杀彘。”妻适市来，曾子欲捕彘杀之。妻止之曰：“特与婴儿戏耳。”曾子曰：“婴儿非与戏之也。婴儿非有知也，待父母而学者也，听父母之教。今子欺之，是教子欺也。母欺子，子而不信其母，非所以成教也。”遂烹彘也。 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      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选自《韩非子》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90000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317080" y="6237360"/>
            <a:ext cx="287280" cy="216000"/>
          </a:xfrm>
          <a:custGeom>
            <a:avLst/>
            <a:gdLst>
              <a:gd name="textAreaLeft" fmla="*/ 13320 w 287280"/>
              <a:gd name="textAreaRight" fmla="*/ 273960 w 287280"/>
              <a:gd name="textAreaTop" fmla="*/ 13320 h 216000"/>
              <a:gd name="textAreaBottom" fmla="*/ 20268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66" y="1350"/>
                </a:lnTo>
                <a:lnTo>
                  <a:pt x="1350" y="135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66" y="20250"/>
                </a:lnTo>
                <a:lnTo>
                  <a:pt x="27366" y="135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7366" y="2025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8716" h="21600">
                <a:moveTo>
                  <a:pt x="7314" y="3756"/>
                </a:moveTo>
                <a:lnTo>
                  <a:pt x="21402" y="10800"/>
                </a:lnTo>
                <a:lnTo>
                  <a:pt x="7314" y="1784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03A4-ECFC-49EF-B3D5-FE2AEB065C3D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395280" y="1628640"/>
            <a:ext cx="85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曾子的夫人到集市上去赶集，她的孩子哭着也要跟着去。母亲就对他说：“你先回家待着，待会儿我回来杀猪给你吃。”曾子的夫人从集市上回来，就看见曾子要捉猪去杀。她就劝阻他说：“我只不过是跟孩子开玩笑罢了。”曾子说：“（夫人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可不能开玩笑啊！孩子不知道（你）在和他开玩笑。孩子没有思考和判断能力，要向父母亲学习，听从父母亲给予的正确的教导。现在你在欺骗他，这就是教育孩子骗人啊！母亲欺骗孩子，孩子就不会再相信自己的母亲了，这不是教育孩子的正确方法啊。”于是曾子把猪给杀了，煮了之后把猪给孩子吃掉了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468360" y="692280"/>
            <a:ext cx="1942920" cy="86040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826920" y="76500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翻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684360" y="1413000"/>
            <a:ext cx="2305080" cy="414324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3635280" y="1268280"/>
            <a:ext cx="46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5300"/>
                </a:solidFill>
                <a:latin typeface="Arial"/>
                <a:ea typeface="黑体"/>
              </a:rPr>
              <a:t>课后作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140360" y="213372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背诵默写全文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140360" y="2924280"/>
            <a:ext cx="46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完成学案“课时反馈”部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140360" y="4149720"/>
            <a:ext cx="46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完成 “文科”练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140360" y="5013360"/>
            <a:ext cx="46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预习新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050920" y="6381720"/>
            <a:ext cx="676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9" dur="indefinite" restart="never" nodeType="tmRoot">
          <p:childTnLst>
            <p:seq>
              <p:cTn id="1360" dur="indefinite" nodeType="mainSeq">
                <p:childTnLst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365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370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375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380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385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95280" y="620640"/>
            <a:ext cx="2736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ff99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检查预习</a:t>
            </a:r>
            <a:endParaRPr b="0" lang="en-US" sz="1800" spc="1" strike="noStrike">
              <a:ln w="19080">
                <a:solidFill>
                  <a:srgbClr val="ffff99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60" name=""/>
          <p:cNvSpPr/>
          <p:nvPr/>
        </p:nvSpPr>
        <p:spPr>
          <a:xfrm>
            <a:off x="1044720" y="126828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论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42920" y="227664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861080" y="1341360"/>
            <a:ext cx="71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59280" y="220500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42920" y="398772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2360" y="391464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42920" y="479736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32360" y="479736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56000" y="12682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ú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12000" y="134136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yu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56000" y="220500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yù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56360" y="2205000"/>
            <a:ext cx="16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ǐ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84360" y="400536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ǎ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84360" y="479736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ā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56360" y="391464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à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56360" y="484992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ō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932360" y="558972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陬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300720" y="558972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Zōuy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42920" y="558972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84360" y="558972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42920" y="3141720"/>
            <a:ext cx="18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逾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59280" y="307008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56000" y="314172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yúj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56360" y="2997360"/>
            <a:ext cx="16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95280" y="620640"/>
            <a:ext cx="2736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ff99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检查预习</a:t>
            </a:r>
            <a:endParaRPr b="0" lang="en-US" sz="1800" spc="1" strike="noStrike">
              <a:ln w="19080">
                <a:solidFill>
                  <a:srgbClr val="ffff99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85" name=""/>
          <p:cNvSpPr/>
          <p:nvPr/>
        </p:nvSpPr>
        <p:spPr>
          <a:xfrm>
            <a:off x="1044720" y="1501920"/>
            <a:ext cx="47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为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人谋而不忠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42920" y="2509920"/>
            <a:ext cx="48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吾十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五而志于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42920" y="4221000"/>
            <a:ext cx="39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逝者如斯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516720" y="141300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è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372360" y="242100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yò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588000" y="328464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à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588000" y="4221000"/>
            <a:ext cx="16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42920" y="3375000"/>
            <a:ext cx="51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知之者不如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好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之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0T13:24:23Z</dcterms:created>
  <dc:creator>An</dc:creator>
  <dc:description/>
  <dc:language>en-US</dc:language>
  <cp:lastModifiedBy/>
  <dcterms:modified xsi:type="dcterms:W3CDTF">2015-07-11T08:12:43Z</dcterms:modified>
  <cp:revision>1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办公室">
    <vt:lpwstr>中小学教育教育资源</vt:lpwstr>
  </property>
  <property fmtid="{D5CDD505-2E9C-101B-9397-08002B2CF9AE}" pid="4" name="编辑">
    <vt:lpwstr>中小学教育教育资源</vt:lpwstr>
  </property>
  <property fmtid="{D5CDD505-2E9C-101B-9397-08002B2CF9AE}" pid="5" name="部门">
    <vt:lpwstr>www.edudown.net</vt:lpwstr>
  </property>
</Properties>
</file>