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620-E75D-4B89-BE27-7C8899E1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56C-28C8-4C15-8EB3-EDD5AFE3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099-9151-4525-80B4-C734190D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4CF-FCD8-4FFD-8735-EE53A7B5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5F8-2DEB-4435-AEFE-0B761CFB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110-1C85-47F3-9B89-0AA343BB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156-7735-4D09-914B-1E7BE8D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E32-063D-4A09-8884-F082C5F8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A0F-1E07-4F03-B97F-72C95AC9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769-23AB-428B-A1EE-C4F8051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1A7-218E-428E-99A4-43B3E96A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6A3-5D1B-41E9-916D-FF45035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4F8B-547E-4F90-9A8D-3F46BB0434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DB9C-C9DC-4C28-8CED-7D212C22F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iStock_000005493081Small.jpg"/>
          <p:cNvPicPr/>
          <p:nvPr/>
        </p:nvPicPr>
        <p:blipFill>
          <a:blip r:embed="rId1"/>
          <a:srcRect l="0" t="0" r="25" b="39"/>
          <a:stretch/>
        </p:blipFill>
        <p:spPr>
          <a:xfrm>
            <a:off x="1444680" y="2840040"/>
            <a:ext cx="7696080" cy="40496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158760"/>
            <a:ext cx="9144000" cy="3124080"/>
            <a:chOff x="0" y="158760"/>
            <a:chExt cx="9144000" cy="3124080"/>
          </a:xfrm>
        </p:grpSpPr>
        <p:sp>
          <p:nvSpPr>
            <p:cNvPr id="44" name="Rectangle 23"/>
            <p:cNvSpPr/>
            <p:nvPr/>
          </p:nvSpPr>
          <p:spPr>
            <a:xfrm>
              <a:off x="0" y="2503440"/>
              <a:ext cx="9144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3"/>
            <p:cNvSpPr/>
            <p:nvPr/>
          </p:nvSpPr>
          <p:spPr>
            <a:xfrm>
              <a:off x="963360" y="158760"/>
              <a:ext cx="68580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0" spc="-1" strike="noStrike">
                  <a:solidFill>
                    <a:srgbClr val="808080"/>
                  </a:solidFill>
                  <a:latin typeface="Arial Narrow"/>
                </a:rPr>
                <a:t>6.4%</a:t>
              </a:r>
              <a:r>
                <a:rPr b="1" lang="es-ES" sz="96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r>
                <a:rPr b="1" lang="es-ES" sz="4000" spc="-1" strike="noStrike">
                  <a:solidFill>
                    <a:srgbClr val="808080"/>
                  </a:solidFill>
                  <a:latin typeface="Arial Narrow"/>
                </a:rPr>
                <a:t>(2%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790560" y="2840040"/>
            <a:ext cx="49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女货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3718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06T14:15:5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