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AFE-B330-48A4-9A03-16C07EEC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B397-1E1B-4B4C-91AF-8B946762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E214-2550-4E38-9293-C96D14C9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54D-F73C-4123-9119-41F0DA3E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254-3B49-4206-9B9C-5E1B90EA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E490-40D6-49A9-83DE-43964895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A0D-6228-461E-A35C-E95F509B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1F76-A990-4101-99BA-E3968011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2B1-8DCE-458F-825F-111043CA2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F47-2FB0-41D2-9D63-EC638059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63C-F5D7-4957-933C-2D4E0EC5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33EB-61B9-47A1-AF9D-254EBE79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757E-245A-496E-A480-D81E93D3B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6320" y="137160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600" y="617364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676520"/>
            <a:ext cx="460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18000" y="533520"/>
            <a:ext cx="32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跑进家来的松鼠课件 鲁教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685800"/>
            <a:ext cx="653256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828800" y="762120"/>
            <a:ext cx="6324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动脑筋，想一想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819520"/>
            <a:ext cx="75232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c0c"/>
                </a:solidFill>
                <a:latin typeface="Arial"/>
                <a:ea typeface="华文仿宋"/>
              </a:rPr>
              <a:t>“</a:t>
            </a:r>
            <a:r>
              <a:rPr b="1" lang="zh-CN" sz="4400" spc="-1" strike="noStrike">
                <a:solidFill>
                  <a:srgbClr val="fc0c0c"/>
                </a:solidFill>
                <a:latin typeface="Arial"/>
                <a:ea typeface="华文仿宋"/>
              </a:rPr>
              <a:t>我们一家人”对松鼠干的“坏事”是什么态度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0c0c"/>
                </a:solidFill>
                <a:latin typeface="Arial"/>
                <a:ea typeface="华文仿宋"/>
              </a:rPr>
              <a:t>从课文中找到相关的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1517760" cy="1805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600" y="617364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838080"/>
            <a:ext cx="712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爸爸哈哈大笑，说：“我怎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没想到这一点呢！咱们家的松鼠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在储备冬粮呢。森林里的松鼠到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秋天，就要开始储备冬粮。这是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鼠的天性，咱们的松鼠自然也不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落后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295280"/>
            <a:ext cx="712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爸爸</a:t>
            </a:r>
            <a:r>
              <a:rPr b="1" lang="zh-CN" sz="3600" spc="-1" strike="noStrike">
                <a:solidFill>
                  <a:srgbClr val="fc0c0c"/>
                </a:solidFill>
                <a:latin typeface="Comic Sans MS"/>
              </a:rPr>
              <a:t>哈哈大笑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说：“我怎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没想到这一点呢！</a:t>
            </a:r>
            <a:r>
              <a:rPr b="1" lang="zh-CN" sz="3600" spc="-1" strike="noStrike">
                <a:solidFill>
                  <a:srgbClr val="fc0c0c"/>
                </a:solidFill>
                <a:latin typeface="Comic Sans MS"/>
              </a:rPr>
              <a:t>咱们家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的松鼠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在储备冬粮呢。森林里的松鼠到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秋天，就要开始储备冬粮。这是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鼠的天性，</a:t>
            </a:r>
            <a:r>
              <a:rPr b="1" lang="zh-CN" sz="3600" spc="-1" strike="noStrike">
                <a:solidFill>
                  <a:srgbClr val="fc0c0c"/>
                </a:solidFill>
                <a:latin typeface="Comic Sans MS"/>
              </a:rPr>
              <a:t>咱们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的松鼠自然也不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落后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3000" y="1676520"/>
            <a:ext cx="68580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有一天，它干脆失踪了，哪儿也找不到。也许它跑到花园或森林里去了吧？我们心里空落落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600" y="617364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758B-E107-41D2-8E50-68983916E5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1676520"/>
            <a:ext cx="68580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有一天，它干脆失踪了，哪儿也找不到。也许它跑到花园或森林里去了吧？我们心里</a:t>
            </a:r>
            <a:r>
              <a:rPr b="1" lang="zh-CN" sz="4000" spc="-1" strike="noStrike">
                <a:solidFill>
                  <a:srgbClr val="fc0c0c"/>
                </a:solidFill>
                <a:latin typeface="Comic Sans MS"/>
              </a:rPr>
              <a:t>空落落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14600" y="1066680"/>
            <a:ext cx="558972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ff"/>
                </a:solidFill>
                <a:latin typeface="Arial"/>
                <a:ea typeface="华文中宋"/>
              </a:rPr>
              <a:t>作文训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66688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借鉴本文的写法，完成作文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《＿＿＿与＿＿＿的故事》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（可以是我与动物，也可以是别人与动物之间发生的真情故事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1798560" cy="1807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84120" y="636444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53341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62520" y="2970360"/>
            <a:ext cx="5181480" cy="3887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838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橱柜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放置餐具的柜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5238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储备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储存起来准备必要时用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2096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哭笑不得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形容处境尴尬，不知如何是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2819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蹿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或向前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276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垫窝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fc0c0c"/>
                </a:solidFill>
                <a:latin typeface="Arial"/>
                <a:ea typeface="楷体_GB2312"/>
              </a:rPr>
              <a:t>文中指松鼠把手套、头巾等铺在自己的窝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14400" y="2209680"/>
            <a:ext cx="7086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c0c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c0c0c"/>
                </a:solidFill>
                <a:latin typeface="黑体"/>
                <a:ea typeface="黑体"/>
              </a:rPr>
              <a:t>默读课文，说说松鼠在“我”家做了哪些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19520" y="609480"/>
            <a:ext cx="32828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中宋"/>
              </a:rPr>
              <a:t>整体把握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62720" y="4419720"/>
            <a:ext cx="179856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1689120" cy="1600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666880" y="838080"/>
            <a:ext cx="4038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8000"/>
                </a:solidFill>
                <a:latin typeface="Arial"/>
              </a:rPr>
              <a:t>主要内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133720"/>
            <a:ext cx="820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松鼠千方百计地“贮存冬粮”，把糖、面包皮、骨头等藏到大柜顶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我们采来的一篮子鲜蘑菇，松鼠忙活了一个早晨，把它们全晾上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天冷了，松鼠把手套、头巾等东西叼到烟囱里，给自己垫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00" y="617364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>
            <a:lum bright="18000"/>
          </a:blip>
          <a:srcRect l="1998" t="2678" r="1002" b="6331"/>
          <a:stretch/>
        </p:blipFill>
        <p:spPr>
          <a:xfrm>
            <a:off x="0" y="9144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87280" y="1773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它整天满屋乱跑，在橱柜和架子上跳来跳去，动作灵活得惊人，从来没有碰掉过一样东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87280" y="1773360"/>
            <a:ext cx="69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它整天</a:t>
            </a:r>
            <a:r>
              <a:rPr b="1" lang="zh-CN" sz="5400" spc="-1" strike="noStrike">
                <a:solidFill>
                  <a:srgbClr val="fc0c0c"/>
                </a:solidFill>
                <a:latin typeface="Comic Sans MS"/>
              </a:rPr>
              <a:t>满屋乱跑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，在橱柜和架子上</a:t>
            </a:r>
            <a:r>
              <a:rPr b="1" lang="zh-CN" sz="5400" spc="-1" strike="noStrike">
                <a:solidFill>
                  <a:srgbClr val="fc0c0c"/>
                </a:solidFill>
                <a:latin typeface="Comic Sans MS"/>
              </a:rPr>
              <a:t>跳来跳去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，动作</a:t>
            </a:r>
            <a:r>
              <a:rPr b="1" lang="zh-CN" sz="5400" spc="-1" strike="noStrike">
                <a:solidFill>
                  <a:srgbClr val="fc0c0c"/>
                </a:solidFill>
                <a:latin typeface="Comic Sans MS"/>
              </a:rPr>
              <a:t>灵活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得</a:t>
            </a:r>
            <a:r>
              <a:rPr b="1" lang="zh-CN" sz="5400" spc="-1" strike="noStrike">
                <a:solidFill>
                  <a:srgbClr val="fc0c0c"/>
                </a:solidFill>
                <a:latin typeface="Comic Sans MS"/>
              </a:rPr>
              <a:t>惊人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1" lang="zh-CN" sz="5400" spc="-1" strike="noStrike">
                <a:solidFill>
                  <a:srgbClr val="fc0c0c"/>
                </a:solidFill>
                <a:latin typeface="Comic Sans MS"/>
              </a:rPr>
              <a:t>从来没有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碰掉过一样东西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8080" y="83808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时，松鼠跳到我的肩上，用小嘴蹭我的脸，还轻轻咬我的耳朵，我想它是又想吃糖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6934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8380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时，松鼠</a:t>
            </a:r>
            <a:r>
              <a:rPr b="1" lang="zh-CN" sz="3600" spc="-1" strike="noStrike">
                <a:solidFill>
                  <a:srgbClr val="fc0c0c"/>
                </a:solidFill>
                <a:latin typeface="Arial"/>
              </a:rPr>
              <a:t>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我的肩上，用小嘴</a:t>
            </a:r>
            <a:r>
              <a:rPr b="1" lang="zh-CN" sz="3600" spc="-1" strike="noStrike">
                <a:solidFill>
                  <a:srgbClr val="fc0c0c"/>
                </a:solidFill>
                <a:latin typeface="Arial"/>
              </a:rPr>
              <a:t>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的脸，还轻轻</a:t>
            </a:r>
            <a:r>
              <a:rPr b="1" lang="zh-CN" sz="3600" spc="-1" strike="noStrike">
                <a:solidFill>
                  <a:srgbClr val="fc0c0c"/>
                </a:solidFill>
                <a:latin typeface="Arial"/>
              </a:rPr>
              <a:t>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的耳朵，我想它是又想吃糖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90920" y="2743200"/>
            <a:ext cx="624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11:51:43Z</dcterms:created>
  <dc:creator/>
  <dc:description> </dc:description>
  <dc:language>en-US</dc:language>
  <cp:lastModifiedBy/>
  <dcterms:modified xsi:type="dcterms:W3CDTF">2015-07-11T08:15:17Z</dcterms:modified>
  <cp:revision>0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