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4A5-F89B-4A1C-8FD9-F09940BC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35B-A1E8-45DC-8675-BA13B35E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003-A4DB-4DB1-9BFE-56DA73A8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0EF-EB1D-403E-9B0E-A06042E9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421-3DA4-486B-BB14-AC8E3E27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8D8-9408-4CD8-8E57-85E21325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200-1B0A-40A9-89C8-13A736EB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529-BB1E-4CF1-8EF8-A93B2314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78A-C42D-495B-9B96-7EBC5FE9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FE1-1CBF-46EC-BBB4-F9EC31B8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F6E-07C6-4A77-AA15-941F33B9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691-3857-4C70-86DA-1ADDDA66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90E4-A053-4FFC-B060-8CB1A56DBDA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1BD4-8472-486A-B2D2-596034D5F9D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765000"/>
            <a:ext cx="9191520" cy="537228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241280" y="2158920"/>
            <a:ext cx="6643800" cy="3359160"/>
            <a:chOff x="1241280" y="2158920"/>
            <a:chExt cx="6643800" cy="3359160"/>
          </a:xfrm>
        </p:grpSpPr>
        <p:sp>
          <p:nvSpPr>
            <p:cNvPr id="44" name=""/>
            <p:cNvSpPr/>
            <p:nvPr/>
          </p:nvSpPr>
          <p:spPr>
            <a:xfrm>
              <a:off x="1241280" y="2158920"/>
              <a:ext cx="3357720" cy="3359160"/>
            </a:xfrm>
            <a:custGeom>
              <a:avLst/>
              <a:gdLst>
                <a:gd name="textAreaLeft" fmla="*/ 0 w 3357720"/>
                <a:gd name="textAreaRight" fmla="*/ 3358080 w 3357720"/>
                <a:gd name="textAreaTop" fmla="*/ 0 h 3359160"/>
                <a:gd name="textAreaBottom" fmla="*/ 3359520 h 3359160"/>
              </a:gdLst>
              <a:ahLst/>
              <a:rect l="textAreaLeft" t="textAreaTop" r="textAreaRight" b="textAreaBottom"/>
              <a:pathLst>
                <a:path w="3357586" h="3357586">
                  <a:moveTo>
                    <a:pt x="1678793" y="3357586"/>
                  </a:moveTo>
                  <a:lnTo>
                    <a:pt x="1678793" y="3357586"/>
                  </a:lnTo>
                  <a:arcTo wR="1678793" hR="1678793" stAng="5400000" swAng="10800000"/>
                  <a:lnTo>
                    <a:pt x="1678793" y="16787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19960" y="2158920"/>
              <a:ext cx="4965120" cy="33591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bc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19960" y="215892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28800" y="3166560"/>
              <a:ext cx="2182320" cy="2183400"/>
            </a:xfrm>
            <a:custGeom>
              <a:avLst/>
              <a:gdLst>
                <a:gd name="textAreaLeft" fmla="*/ 0 w 2182320"/>
                <a:gd name="textAreaRight" fmla="*/ 2182680 w 218232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2182428" h="2182428">
                  <a:moveTo>
                    <a:pt x="1091214" y="2182428"/>
                  </a:moveTo>
                  <a:lnTo>
                    <a:pt x="1091214" y="2182428"/>
                  </a:lnTo>
                  <a:arcTo wR="1091214" hR="1091214" stAng="5400000" swAng="10800000"/>
                  <a:lnTo>
                    <a:pt x="1091214" y="10912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19960" y="3166560"/>
              <a:ext cx="4965120" cy="218340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82d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19960" y="316656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16320" y="4174560"/>
              <a:ext cx="1007280" cy="1007640"/>
            </a:xfrm>
            <a:custGeom>
              <a:avLst/>
              <a:gdLst>
                <a:gd name="textAreaLeft" fmla="*/ 0 w 1007280"/>
                <a:gd name="textAreaRight" fmla="*/ 1007640 w 100728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1007274" h="1007274">
                  <a:moveTo>
                    <a:pt x="503637" y="1007274"/>
                  </a:moveTo>
                  <a:lnTo>
                    <a:pt x="503637" y="1007274"/>
                  </a:lnTo>
                  <a:arcTo wR="503637" hR="503637" stAng="5400000" swAng="10800000"/>
                  <a:lnTo>
                    <a:pt x="503637" y="5036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19960" y="4174560"/>
              <a:ext cx="4965120" cy="100764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19960" y="417456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… 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02520" y="215892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02520" y="215892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87480" bIns="8748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 </a:t>
              </a:r>
              <a:r>
                <a:rPr b="0" lang="zh-CN" sz="23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02520" y="316656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02520" y="316656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87480" bIns="8748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02520" y="417456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02520" y="417456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87480" bIns="8748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矩形 46"/>
          <p:cNvSpPr/>
          <p:nvPr/>
        </p:nvSpPr>
        <p:spPr>
          <a:xfrm>
            <a:off x="598320" y="1020600"/>
            <a:ext cx="50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95008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3080" y="1773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240" y="1054080"/>
            <a:ext cx="44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包含关系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D18-7A83-42DE-B72D-9A999D88A7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An</dc:creator>
  <dc:description/>
  <dc:language>en-US</dc:language>
  <cp:lastModifiedBy/>
  <dcterms:modified xsi:type="dcterms:W3CDTF">2015-07-10T00:55:40Z</dcterms:modified>
  <cp:revision>9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